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7.gif" ContentType="image/gif"/>
  <Override PartName="/ppt/media/image16.jpeg" ContentType="image/jpeg"/>
  <Override PartName="/ppt/media/image1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D76A-41C9-4F99-8576-F2DBBC57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9CE6-6698-453B-8A90-C24D5FE5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CEB4-F9B8-41DC-BE79-3F0F94662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ED31-E5D9-43BF-882B-EE34FD1FF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571A-91C8-4F3D-BDE3-6FD4EBCF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14F5-67FF-432E-B255-48C90435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23BE-1CFC-496E-8AF8-6AB4DAF5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825E-87D3-4FBB-96EC-562BB276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16FB-87C1-4003-B4CC-1AE3FBC2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ECA1-0BEB-46F5-940D-B54DC0A1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5CC5-5A67-494B-9FB8-0B95C48F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C2F6-063C-43D5-9E20-F10A7FDE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7A5D-052C-40E2-86D6-9560002F35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5" descr=""/>
          <p:cNvPicPr/>
          <p:nvPr/>
        </p:nvPicPr>
        <p:blipFill>
          <a:blip r:embed="rId2"/>
          <a:stretch/>
        </p:blipFill>
        <p:spPr>
          <a:xfrm>
            <a:off x="2639880" y="596880"/>
            <a:ext cx="7253280" cy="1530360"/>
          </a:xfrm>
          <a:prstGeom prst="rect">
            <a:avLst/>
          </a:prstGeom>
          <a:ln w="0">
            <a:noFill/>
          </a:ln>
        </p:spPr>
      </p:pic>
      <p:sp>
        <p:nvSpPr>
          <p:cNvPr id="43" name="TextBox 6"/>
          <p:cNvSpPr/>
          <p:nvPr/>
        </p:nvSpPr>
        <p:spPr>
          <a:xfrm>
            <a:off x="0" y="5054760"/>
            <a:ext cx="120157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MÔN TNXH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BÀI 15: PHÒNG TRÁNH CONG VẸO CỘT SỐNG (TIẾT 1)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Xuân Mai ♫ Bé Tập Thể Dục Buổi Sáng ♫ Nhạc Thiếu Nhi Bé Xuân Mai.mp4" descr=""/>
          <p:cNvPicPr/>
          <p:nvPr/>
        </p:nvPicPr>
        <p:blipFill>
          <a:blip r:embed="rId1"/>
          <a:stretch/>
        </p:blipFill>
        <p:spPr>
          <a:xfrm>
            <a:off x="822240" y="420840"/>
            <a:ext cx="10425240" cy="59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https://lh6.googleusercontent.com/nRFXqN83e_8hUVfvoxnZyTMcIQbL8MxbGwAA3sRw9W2XxbqGu01Nl93zrt-nQQrLcfgzohgsMNp2N8OrMwxy0ZwmjIcI0weLUWNlQQ8SCkBWEV8v1PQGRMh_BFAYHU7152INLzg"/>
          <p:cNvPicPr/>
          <p:nvPr/>
        </p:nvPicPr>
        <p:blipFill>
          <a:blip r:embed="rId2"/>
          <a:srcRect l="14528" t="5203" r="2475" b="29404"/>
          <a:stretch/>
        </p:blipFill>
        <p:spPr>
          <a:xfrm>
            <a:off x="549360" y="274680"/>
            <a:ext cx="1130148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https://lh6.googleusercontent.com/nRFXqN83e_8hUVfvoxnZyTMcIQbL8MxbGwAA3sRw9W2XxbqGu01Nl93zrt-nQQrLcfgzohgsMNp2N8OrMwxy0ZwmjIcI0weLUWNlQQ8SCkBWEV8v1PQGRMh_BFAYHU7152INLzg"/>
          <p:cNvPicPr/>
          <p:nvPr/>
        </p:nvPicPr>
        <p:blipFill>
          <a:blip r:embed="rId2"/>
          <a:srcRect l="17274" t="81681" r="0" b="5424"/>
          <a:stretch/>
        </p:blipFill>
        <p:spPr>
          <a:xfrm>
            <a:off x="476280" y="219240"/>
            <a:ext cx="1150632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2"/>
          <a:stretch/>
        </p:blipFill>
        <p:spPr>
          <a:xfrm>
            <a:off x="2550960" y="619200"/>
            <a:ext cx="6864480" cy="4371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3"/>
          <a:stretch/>
        </p:blipFill>
        <p:spPr>
          <a:xfrm>
            <a:off x="0" y="5684760"/>
            <a:ext cx="12192120" cy="1173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13"/>
          <p:cNvSpPr/>
          <p:nvPr/>
        </p:nvSpPr>
        <p:spPr>
          <a:xfrm>
            <a:off x="3724200" y="2141640"/>
            <a:ext cx="5410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85723"/>
                </a:solidFill>
                <a:latin typeface="HP-102"/>
              </a:rPr>
              <a:t>CỦNG CỐ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Xuân Mai ♫ Bé Tập Thể Dục Buổi Sáng ♫ Nhạc Thiếu Nhi Bé Xuân Mai.mp4" descr=""/>
          <p:cNvPicPr/>
          <p:nvPr/>
        </p:nvPicPr>
        <p:blipFill>
          <a:blip r:embed="rId1"/>
          <a:stretch/>
        </p:blipFill>
        <p:spPr>
          <a:xfrm>
            <a:off x="822240" y="420840"/>
            <a:ext cx="10425240" cy="59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1395360" y="3579840"/>
            <a:ext cx="2981520" cy="2468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3"/>
          <a:stretch/>
        </p:blipFill>
        <p:spPr>
          <a:xfrm>
            <a:off x="2981160" y="758880"/>
            <a:ext cx="7253280" cy="36320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9" descr=""/>
          <p:cNvPicPr/>
          <p:nvPr/>
        </p:nvPicPr>
        <p:blipFill>
          <a:blip r:embed="rId4"/>
          <a:stretch/>
        </p:blipFill>
        <p:spPr>
          <a:xfrm>
            <a:off x="4876920" y="1560600"/>
            <a:ext cx="376056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560600" y="189000"/>
            <a:ext cx="957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Ủ TỊCH HĐTQ TỔ CHỨC LỚP CHƠI TRÒ CHƠI “TẬP LÀM NGƯỜI MẪU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https://lh6.googleusercontent.com/5QghE1t6Y25f9tfXQWo0tdQ0PCWZQWvYcqlYceKAxFsiuNm09YY0XHZmsv9cydmtfZE8UWvTRSpap8ZuTGTKBjX3KZL3-6aEtNIH8gegAqp6mhv8r5XaXs7441KKyUub0YtTEc8"/>
          <p:cNvPicPr/>
          <p:nvPr/>
        </p:nvPicPr>
        <p:blipFill>
          <a:blip r:embed="rId1"/>
          <a:srcRect l="16254" t="41480" r="2851" b="11435"/>
          <a:stretch/>
        </p:blipFill>
        <p:spPr>
          <a:xfrm>
            <a:off x="274680" y="1554120"/>
            <a:ext cx="11539440" cy="5008680"/>
          </a:xfrm>
          <a:prstGeom prst="rect">
            <a:avLst/>
          </a:prstGeom>
          <a:ln w="0">
            <a:noFill/>
          </a:ln>
        </p:spPr>
      </p:pic>
      <p:pic>
        <p:nvPicPr>
          <p:cNvPr id="50" name="Vui Đến Trường - Nhóm Hoa Tay - Nhạc Thiếu Nhi Sôi Động Remix.mp4" descr=""/>
          <p:cNvPicPr/>
          <p:nvPr/>
        </p:nvPicPr>
        <p:blipFill>
          <a:blip r:embed="rId2"/>
          <a:stretch/>
        </p:blipFill>
        <p:spPr>
          <a:xfrm>
            <a:off x="8994600" y="1755720"/>
            <a:ext cx="252108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1395360" y="3579840"/>
            <a:ext cx="2981520" cy="2468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3009960" y="739800"/>
            <a:ext cx="7253280" cy="363204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4" descr=""/>
          <p:cNvPicPr/>
          <p:nvPr/>
        </p:nvPicPr>
        <p:blipFill>
          <a:blip r:embed="rId4"/>
          <a:stretch/>
        </p:blipFill>
        <p:spPr>
          <a:xfrm>
            <a:off x="4529160" y="1914480"/>
            <a:ext cx="451800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https://lh6.googleusercontent.com/mZsoDwa-mhBOvc6RASoshbE94Smlp1BEcPosrGG0usVBjcg-h2asgvTk1L1P52owzALkz05QJU5h5szh8NNxfNmuwkPsug2saRguMYqheo1u6pry85yxQPs0hfS5u8-3W1bhxbw"/>
          <p:cNvPicPr/>
          <p:nvPr/>
        </p:nvPicPr>
        <p:blipFill>
          <a:blip r:embed="rId2"/>
          <a:srcRect l="15691" t="16868" r="66774" b="55253"/>
          <a:stretch/>
        </p:blipFill>
        <p:spPr>
          <a:xfrm>
            <a:off x="274680" y="438120"/>
            <a:ext cx="2797200" cy="585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https://lh6.googleusercontent.com/mZsoDwa-mhBOvc6RASoshbE94Smlp1BEcPosrGG0usVBjcg-h2asgvTk1L1P52owzALkz05QJU5h5szh8NNxfNmuwkPsug2saRguMYqheo1u6pry85yxQPs0hfS5u8-3W1bhxbw"/>
          <p:cNvPicPr/>
          <p:nvPr/>
        </p:nvPicPr>
        <p:blipFill>
          <a:blip r:embed="rId3"/>
          <a:srcRect l="33716" t="15815" r="47595" b="55957"/>
          <a:stretch/>
        </p:blipFill>
        <p:spPr>
          <a:xfrm>
            <a:off x="2816280" y="328680"/>
            <a:ext cx="2743200" cy="5964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https://lh6.googleusercontent.com/mZsoDwa-mhBOvc6RASoshbE94Smlp1BEcPosrGG0usVBjcg-h2asgvTk1L1P52owzALkz05QJU5h5szh8NNxfNmuwkPsug2saRguMYqheo1u6pry85yxQPs0hfS5u8-3W1bhxbw"/>
          <p:cNvPicPr/>
          <p:nvPr/>
        </p:nvPicPr>
        <p:blipFill>
          <a:blip r:embed="rId4"/>
          <a:srcRect l="14541" t="5657" r="34998" b="84713"/>
          <a:stretch/>
        </p:blipFill>
        <p:spPr>
          <a:xfrm>
            <a:off x="5084640" y="712800"/>
            <a:ext cx="6912000" cy="3236760"/>
          </a:xfrm>
          <a:prstGeom prst="rect">
            <a:avLst/>
          </a:prstGeom>
          <a:ln w="0">
            <a:noFill/>
          </a:ln>
        </p:spPr>
      </p:pic>
      <p:sp>
        <p:nvSpPr>
          <p:cNvPr id="59" name="Straight Connector 2"/>
          <p:cNvSpPr/>
          <p:nvPr/>
        </p:nvSpPr>
        <p:spPr>
          <a:xfrm>
            <a:off x="1407960" y="1773360"/>
            <a:ext cx="0" cy="13716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traight Connector 4"/>
          <p:cNvSpPr/>
          <p:nvPr/>
        </p:nvSpPr>
        <p:spPr>
          <a:xfrm>
            <a:off x="950760" y="1773360"/>
            <a:ext cx="102420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reeform 7"/>
          <p:cNvSpPr/>
          <p:nvPr/>
        </p:nvSpPr>
        <p:spPr>
          <a:xfrm>
            <a:off x="3913200" y="1828800"/>
            <a:ext cx="185760" cy="1407960"/>
          </a:xfrm>
          <a:custGeom>
            <a:avLst/>
            <a:gdLst/>
            <a:ahLst/>
            <a:rect l="l" t="t" r="r" b="b"/>
            <a:pathLst>
              <a:path w="185661" h="1408176">
                <a:moveTo>
                  <a:pt x="128016" y="0"/>
                </a:moveTo>
                <a:cubicBezTo>
                  <a:pt x="114052" y="181526"/>
                  <a:pt x="127028" y="186338"/>
                  <a:pt x="91440" y="310896"/>
                </a:cubicBezTo>
                <a:cubicBezTo>
                  <a:pt x="86144" y="329432"/>
                  <a:pt x="81129" y="348211"/>
                  <a:pt x="73152" y="365760"/>
                </a:cubicBezTo>
                <a:cubicBezTo>
                  <a:pt x="50590" y="415397"/>
                  <a:pt x="0" y="512064"/>
                  <a:pt x="0" y="512064"/>
                </a:cubicBezTo>
                <a:cubicBezTo>
                  <a:pt x="6096" y="579120"/>
                  <a:pt x="8766" y="646576"/>
                  <a:pt x="18288" y="713232"/>
                </a:cubicBezTo>
                <a:cubicBezTo>
                  <a:pt x="21014" y="732315"/>
                  <a:pt x="31280" y="749560"/>
                  <a:pt x="36576" y="768096"/>
                </a:cubicBezTo>
                <a:cubicBezTo>
                  <a:pt x="43481" y="792263"/>
                  <a:pt x="47959" y="817081"/>
                  <a:pt x="54864" y="841248"/>
                </a:cubicBezTo>
                <a:cubicBezTo>
                  <a:pt x="60160" y="859784"/>
                  <a:pt x="67856" y="877576"/>
                  <a:pt x="73152" y="896112"/>
                </a:cubicBezTo>
                <a:cubicBezTo>
                  <a:pt x="80057" y="920279"/>
                  <a:pt x="85988" y="944728"/>
                  <a:pt x="91440" y="969264"/>
                </a:cubicBezTo>
                <a:cubicBezTo>
                  <a:pt x="98183" y="999607"/>
                  <a:pt x="98814" y="1031599"/>
                  <a:pt x="109728" y="1060704"/>
                </a:cubicBezTo>
                <a:cubicBezTo>
                  <a:pt x="117445" y="1081284"/>
                  <a:pt x="136474" y="1095909"/>
                  <a:pt x="146304" y="1115568"/>
                </a:cubicBezTo>
                <a:cubicBezTo>
                  <a:pt x="154925" y="1132810"/>
                  <a:pt x="159296" y="1151896"/>
                  <a:pt x="164592" y="1170432"/>
                </a:cubicBezTo>
                <a:cubicBezTo>
                  <a:pt x="196186" y="1281013"/>
                  <a:pt x="182880" y="1252932"/>
                  <a:pt x="182880" y="1408176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traight Connector 9"/>
          <p:cNvSpPr/>
          <p:nvPr/>
        </p:nvSpPr>
        <p:spPr>
          <a:xfrm>
            <a:off x="3548160" y="1828800"/>
            <a:ext cx="1243080" cy="0"/>
          </a:xfrm>
          <a:prstGeom prst="line">
            <a:avLst/>
          </a:prstGeom>
          <a:ln w="7632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s://lh6.googleusercontent.com/mZsoDwa-mhBOvc6RASoshbE94Smlp1BEcPosrGG0usVBjcg-h2asgvTk1L1P52owzALkz05QJU5h5szh8NNxfNmuwkPsug2saRguMYqheo1u6pry85yxQPs0hfS5u8-3W1bhxbw"/>
          <p:cNvPicPr/>
          <p:nvPr/>
        </p:nvPicPr>
        <p:blipFill>
          <a:blip r:embed="rId2"/>
          <a:srcRect l="10176" t="15991" r="12284" b="37367"/>
          <a:stretch/>
        </p:blipFill>
        <p:spPr>
          <a:xfrm>
            <a:off x="785880" y="328680"/>
            <a:ext cx="10863360" cy="6110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ttps://lh6.googleusercontent.com/mZsoDwa-mhBOvc6RASoshbE94Smlp1BEcPosrGG0usVBjcg-h2asgvTk1L1P52owzALkz05QJU5h5szh8NNxfNmuwkPsug2saRguMYqheo1u6pry85yxQPs0hfS5u8-3W1bhxbw"/>
          <p:cNvPicPr/>
          <p:nvPr/>
        </p:nvPicPr>
        <p:blipFill>
          <a:blip r:embed="rId3"/>
          <a:srcRect l="63526" t="25438" r="26816" b="49434"/>
          <a:stretch/>
        </p:blipFill>
        <p:spPr>
          <a:xfrm>
            <a:off x="8412120" y="1554120"/>
            <a:ext cx="1354320" cy="3292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ttps://lh6.googleusercontent.com/mZsoDwa-mhBOvc6RASoshbE94Smlp1BEcPosrGG0usVBjcg-h2asgvTk1L1P52owzALkz05QJU5h5szh8NNxfNmuwkPsug2saRguMYqheo1u6pry85yxQPs0hfS5u8-3W1bhxbw"/>
          <p:cNvPicPr/>
          <p:nvPr/>
        </p:nvPicPr>
        <p:blipFill>
          <a:blip r:embed="rId4"/>
          <a:srcRect l="75537" t="23902" r="13374" b="49154"/>
          <a:stretch/>
        </p:blipFill>
        <p:spPr>
          <a:xfrm>
            <a:off x="10094760" y="1298520"/>
            <a:ext cx="1554480" cy="35290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4627440" y="512640"/>
            <a:ext cx="3071880" cy="384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ttps://lh6.googleusercontent.com/mZsoDwa-mhBOvc6RASoshbE94Smlp1BEcPosrGG0usVBjcg-h2asgvTk1L1P52owzALkz05QJU5h5szh8NNxfNmuwkPsug2saRguMYqheo1u6pry85yxQPs0hfS5u8-3W1bhxbw"/>
          <p:cNvPicPr/>
          <p:nvPr/>
        </p:nvPicPr>
        <p:blipFill>
          <a:blip r:embed="rId2"/>
          <a:srcRect l="7873" t="62457" r="14823" b="7562"/>
          <a:stretch/>
        </p:blipFill>
        <p:spPr>
          <a:xfrm>
            <a:off x="212760" y="384120"/>
            <a:ext cx="11485440" cy="61801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2084400" y="2048040"/>
            <a:ext cx="6164280" cy="41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https://lh6.googleusercontent.com/mZsoDwa-mhBOvc6RASoshbE94Smlp1BEcPosrGG0usVBjcg-h2asgvTk1L1P52owzALkz05QJU5h5szh8NNxfNmuwkPsug2saRguMYqheo1u6pry85yxQPs0hfS5u8-3W1bhxbw"/>
          <p:cNvPicPr/>
          <p:nvPr/>
        </p:nvPicPr>
        <p:blipFill>
          <a:blip r:embed="rId3"/>
          <a:srcRect l="23218" t="69792" r="59801" b="9979"/>
          <a:stretch/>
        </p:blipFill>
        <p:spPr>
          <a:xfrm>
            <a:off x="2084400" y="1736640"/>
            <a:ext cx="616428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https://lh6.googleusercontent.com/mZsoDwa-mhBOvc6RASoshbE94Smlp1BEcPosrGG0usVBjcg-h2asgvTk1L1P52owzALkz05QJU5h5szh8NNxfNmuwkPsug2saRguMYqheo1u6pry85yxQPs0hfS5u8-3W1bhxbw"/>
          <p:cNvPicPr/>
          <p:nvPr/>
        </p:nvPicPr>
        <p:blipFill>
          <a:blip r:embed="rId2"/>
          <a:srcRect l="7873" t="62457" r="14823" b="7562"/>
          <a:stretch/>
        </p:blipFill>
        <p:spPr>
          <a:xfrm>
            <a:off x="212760" y="384120"/>
            <a:ext cx="11485440" cy="61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https://lh6.googleusercontent.com/mZsoDwa-mhBOvc6RASoshbE94Smlp1BEcPosrGG0usVBjcg-h2asgvTk1L1P52owzALkz05QJU5h5szh8NNxfNmuwkPsug2saRguMYqheo1u6pry85yxQPs0hfS5u8-3W1bhxbw"/>
          <p:cNvPicPr/>
          <p:nvPr/>
        </p:nvPicPr>
        <p:blipFill>
          <a:blip r:embed="rId2"/>
          <a:srcRect l="7873" t="62457" r="14823" b="7562"/>
          <a:stretch/>
        </p:blipFill>
        <p:spPr>
          <a:xfrm>
            <a:off x="212760" y="384120"/>
            <a:ext cx="11485440" cy="61801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212760" y="1920960"/>
            <a:ext cx="8218440" cy="46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https://lh6.googleusercontent.com/mZsoDwa-mhBOvc6RASoshbE94Smlp1BEcPosrGG0usVBjcg-h2asgvTk1L1P52owzALkz05QJU5h5szh8NNxfNmuwkPsug2saRguMYqheo1u6pry85yxQPs0hfS5u8-3W1bhxbw"/>
          <p:cNvPicPr/>
          <p:nvPr/>
        </p:nvPicPr>
        <p:blipFill>
          <a:blip r:embed="rId3"/>
          <a:srcRect l="41971" t="69971" r="40185" b="15304"/>
          <a:stretch/>
        </p:blipFill>
        <p:spPr>
          <a:xfrm>
            <a:off x="622440" y="2084400"/>
            <a:ext cx="762624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7-25T04:07:20Z</dcterms:created>
  <dc:creator>Admin</dc:creator>
  <dc:description/>
  <dc:language>en-US</dc:language>
  <cp:lastModifiedBy>Windows User</cp:lastModifiedBy>
  <dcterms:modified xsi:type="dcterms:W3CDTF">2021-08-15T14:51:22Z</dcterms:modified>
  <cp:revision>27</cp:revision>
  <dc:subject/>
  <dc:title>PowerPoint Presentation</dc:title>
</cp:coreProperties>
</file>