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577-6984-434C-A6E2-DF8BD963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32D-A4FD-4153-B0F6-E16A2507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F69-FA48-4489-8A57-E6333475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FD4-1164-4064-BFDE-5B56CBAE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232-B71F-45DD-8C9F-8C2D7AB8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D44-E604-41A7-AB89-51A09B6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A87-AD7A-4CF2-9AB5-1786E649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6B4-9CA8-4BAA-A71B-65800BED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BD5-699D-4294-BFCD-E70BD9C0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E52-1BDE-4D66-92E7-F14E4C3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A2B-79AD-44CA-8B11-C6328EF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288-0F29-45B7-8A63-BFB3C5F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EADD-5D28-4653-B1F8-6E47075E4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639880" y="596880"/>
            <a:ext cx="7253280" cy="1530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1809720" y="5054760"/>
            <a:ext cx="983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MÔN TNX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BÀI 14: CƠ QUAN VẬN ĐỘNG (TIẾT 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0" t="6641" r="4225" b="42175"/>
          <a:stretch/>
        </p:blipFill>
        <p:spPr>
          <a:xfrm>
            <a:off x="193680" y="73080"/>
            <a:ext cx="6719760" cy="6199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5834160" y="622440"/>
            <a:ext cx="6218280" cy="445140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000" spc="-1" strike="noStrike">
                <a:solidFill>
                  <a:srgbClr val="ff0000"/>
                </a:solidFill>
                <a:latin typeface="Times New Roman"/>
              </a:rPr>
              <a:t>Chúng ta có thể biểu lộ các cảm xúc trên khuôn mặt nhờ bộ phận cơ  mặt cùng xương đầu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2550960" y="619200"/>
            <a:ext cx="6864480" cy="437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3"/>
          <a:stretch/>
        </p:blipFill>
        <p:spPr>
          <a:xfrm>
            <a:off x="0" y="5684760"/>
            <a:ext cx="12192120" cy="1173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3"/>
          <p:cNvSpPr/>
          <p:nvPr/>
        </p:nvSpPr>
        <p:spPr>
          <a:xfrm>
            <a:off x="3724200" y="2141640"/>
            <a:ext cx="541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85723"/>
                </a:solidFill>
                <a:latin typeface="HP-102"/>
              </a:rPr>
              <a:t>CỦNG C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328680" y="987480"/>
            <a:ext cx="11650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ệ cơ cùng với  bộ xương giúp cơ thể vận động được và tạo ra cho mỗi người một hình dáng riêng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07880" y="3481560"/>
            <a:ext cx="11650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ãy nhớ chăm sóc, bảo vệ cơ quan vận động và phòng tránh gãy xương các bạn nhé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2981160" y="75888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/>
          <p:cNvPicPr/>
          <p:nvPr/>
        </p:nvPicPr>
        <p:blipFill>
          <a:blip r:embed="rId4"/>
          <a:stretch/>
        </p:blipFill>
        <p:spPr>
          <a:xfrm>
            <a:off x="4876920" y="1560600"/>
            <a:ext cx="3760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560600" y="189000"/>
            <a:ext cx="91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Ủ TỊCH HĐTQ TỔ CHỨC LỚP HÁT BÀ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VUI ĐẾN TRƯỜ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Vui Đến Trường - Nhóm Hoa Tay - Nhạc Thiếu Nhi Sôi Động Remix.mp4" descr=""/>
          <p:cNvPicPr/>
          <p:nvPr/>
        </p:nvPicPr>
        <p:blipFill>
          <a:blip r:embed="rId1"/>
          <a:stretch/>
        </p:blipFill>
        <p:spPr>
          <a:xfrm>
            <a:off x="512640" y="1143000"/>
            <a:ext cx="10936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009960" y="73980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4"/>
          <a:stretch/>
        </p:blipFill>
        <p:spPr>
          <a:xfrm>
            <a:off x="4578480" y="1914480"/>
            <a:ext cx="4419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2"/>
          <a:srcRect l="6948" t="30998" r="3737" b="6880"/>
          <a:stretch/>
        </p:blipFill>
        <p:spPr>
          <a:xfrm>
            <a:off x="676440" y="182520"/>
            <a:ext cx="11191680" cy="643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3"/>
          <a:srcRect l="8654" t="39058" r="64645" b="33766"/>
          <a:stretch/>
        </p:blipFill>
        <p:spPr>
          <a:xfrm>
            <a:off x="1042920" y="1170000"/>
            <a:ext cx="3346560" cy="281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4"/>
          <a:srcRect l="36530" t="39058" r="4955" b="35354"/>
          <a:stretch/>
        </p:blipFill>
        <p:spPr>
          <a:xfrm>
            <a:off x="4389480" y="1079640"/>
            <a:ext cx="7332480" cy="265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5"/>
          <a:srcRect l="8654" t="66238" r="63475" b="6880"/>
          <a:stretch/>
        </p:blipFill>
        <p:spPr>
          <a:xfrm>
            <a:off x="1042920" y="3986280"/>
            <a:ext cx="349272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6"/>
          <a:srcRect l="36530" t="66238" r="3737" b="6880"/>
          <a:stretch/>
        </p:blipFill>
        <p:spPr>
          <a:xfrm>
            <a:off x="4535640" y="3986280"/>
            <a:ext cx="74847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15925" t="12646" r="56149" b="68221"/>
          <a:stretch/>
        </p:blipFill>
        <p:spPr>
          <a:xfrm>
            <a:off x="384120" y="95400"/>
            <a:ext cx="11668320" cy="6397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4973760" y="5430960"/>
            <a:ext cx="30733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u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48095" t="13021" r="25952" b="68006"/>
          <a:stretch/>
        </p:blipFill>
        <p:spPr>
          <a:xfrm>
            <a:off x="109440" y="55440"/>
            <a:ext cx="11960280" cy="6674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4095720" y="5467320"/>
            <a:ext cx="473724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ồ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16122" t="34866" r="52993" b="45522"/>
          <a:stretch/>
        </p:blipFill>
        <p:spPr>
          <a:xfrm>
            <a:off x="476280" y="122400"/>
            <a:ext cx="11466360" cy="6534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243320" y="5578560"/>
            <a:ext cx="387684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ạc nhiê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48095" t="35184" r="25947" b="45822"/>
          <a:stretch/>
        </p:blipFill>
        <p:spPr>
          <a:xfrm>
            <a:off x="291960" y="101520"/>
            <a:ext cx="11576160" cy="6410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4846680" y="5394240"/>
            <a:ext cx="387648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ức giậ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5T04:07:20Z</dcterms:created>
  <dc:creator>Admin</dc:creator>
  <dc:description/>
  <dc:language>en-US</dc:language>
  <cp:lastModifiedBy>Windows User</cp:lastModifiedBy>
  <dcterms:modified xsi:type="dcterms:W3CDTF">2021-08-15T13:32:02Z</dcterms:modified>
  <cp:revision>22</cp:revision>
  <dc:subject/>
  <dc:title>PowerPoint Presentation</dc:title>
</cp:coreProperties>
</file>