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wmf" ContentType="image/x-wmf"/>
  <Override PartName="/ppt/media/image195.wmf" ContentType="image/x-wmf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9.wmf" ContentType="image/x-wmf"/>
  <Override PartName="/ppt/media/image187.wmf" ContentType="image/x-wmf"/>
  <Override PartName="/ppt/media/image118.wmf" ContentType="image/x-wmf"/>
  <Override PartName="/ppt/media/image186.wmf" ContentType="image/x-wmf"/>
  <Override PartName="/ppt/media/image117.wmf" ContentType="image/x-wmf"/>
  <Override PartName="/ppt/media/image185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48.png" ContentType="image/png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45.png" ContentType="image/png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92.wmf" ContentType="image/x-wmf"/>
  <Override PartName="/ppt/media/image24.wmf" ContentType="image/x-wmf"/>
  <Override PartName="/ppt/media/image70.wmf" ContentType="image/x-wmf"/>
  <Override PartName="/ppt/media/image167.wmf" ContentType="image/x-wmf"/>
  <Override PartName="/ppt/media/image51.wmf" ContentType="image/x-wmf"/>
  <Override PartName="/ppt/media/image148.wmf" ContentType="image/x-wmf"/>
  <Override PartName="/ppt/media/image50.wmf" ContentType="image/x-wmf"/>
  <Override PartName="/ppt/media/image147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59.wmf" ContentType="image/x-wmf"/>
  <Override PartName="/ppt/media/image110.wmf" ContentType="image/x-wmf"/>
  <Override PartName="/ppt/media/image34.wmf" ContentType="image/x-wmf"/>
  <Override PartName="/ppt/media/image32.wmf" ContentType="image/x-wmf"/>
  <Override PartName="/ppt/media/image196.wmf" ContentType="image/x-wmf"/>
  <Override PartName="/ppt/media/image128.wmf" ContentType="image/x-wmf"/>
  <Override PartName="/ppt/media/image130.png" ContentType="image/png"/>
  <Override PartName="/ppt/media/image198.wmf" ContentType="image/x-wmf"/>
  <Override PartName="/ppt/media/image36.wmf" ContentType="image/x-wmf"/>
  <Override PartName="/ppt/media/image135.wmf" ContentType="image/x-wmf"/>
  <Override PartName="/ppt/media/image178.png" ContentType="image/png"/>
  <Override PartName="/ppt/media/image4.png" ContentType="image/png"/>
  <Override PartName="/ppt/media/image136.wmf" ContentType="image/x-wmf"/>
  <Override PartName="/ppt/media/image137.wmf" ContentType="image/x-wmf"/>
  <Override PartName="/ppt/media/image40.wmf" ContentType="image/x-wmf"/>
  <Override PartName="/ppt/media/image138.wmf" ContentType="image/x-wmf"/>
  <Override PartName="/ppt/media/image41.wmf" ContentType="image/x-wmf"/>
  <Override PartName="/ppt/media/image54.wmf" ContentType="image/x-wmf"/>
  <Override PartName="/ppt/media/image140.wmf" ContentType="image/x-wmf"/>
  <Override PartName="/ppt/media/image21.png" ContentType="image/png"/>
  <Override PartName="/ppt/media/image89.wmf" ContentType="image/x-wmf"/>
  <Override PartName="/ppt/media/image55.wmf" ContentType="image/x-wmf"/>
  <Override PartName="/ppt/media/image141.wmf" ContentType="image/x-wmf"/>
  <Override PartName="/ppt/media/image22.png" ContentType="image/png"/>
  <Override PartName="/ppt/media/image43.wmf" ContentType="image/x-wmf"/>
  <Override PartName="/ppt/media/image166.wmf" ContentType="image/x-wmf"/>
  <Override PartName="/ppt/media/image131.wmf" ContentType="image/x-wmf"/>
  <Override PartName="/ppt/media/image168.wmf" ContentType="image/x-wmf"/>
  <Override PartName="/ppt/media/image46.wmf" ContentType="image/x-wmf"/>
  <Override PartName="/ppt/media/image132.wmf" ContentType="image/x-wmf"/>
  <Override PartName="/ppt/media/image1.png" ContentType="image/png"/>
  <Override PartName="/ppt/media/image169.wmf" ContentType="image/x-wmf"/>
  <Override PartName="/ppt/media/image133.wmf" ContentType="image/x-wmf"/>
  <Override PartName="/ppt/media/image172.png" ContentType="image/png"/>
  <Override PartName="/ppt/media/image155.wmf" ContentType="image/x-wmf"/>
  <Override PartName="/ppt/media/image134.wmf" ContentType="image/x-wmf"/>
  <Override PartName="/ppt/media/image3.png" ContentType="image/png"/>
  <Override PartName="/ppt/media/image173.png" ContentType="image/png"/>
  <Override PartName="/ppt/media/image156.wmf" ContentType="image/x-wmf"/>
  <Override PartName="/ppt/media/image44.wmf" ContentType="image/x-wmf"/>
  <Override PartName="/ppt/media/image56.wmf" ContentType="image/x-wmf"/>
  <Override PartName="/ppt/media/image139.png" ContentType="image/png"/>
  <Override PartName="/ppt/media/image161.wmf" ContentType="image/x-wmf"/>
  <Override PartName="/ppt/media/image179.wmf" ContentType="image/x-wmf"/>
  <Override PartName="/ppt/media/image164.wmf" ContentType="image/x-wmf"/>
  <Override PartName="/ppt/media/image165.wmf" ContentType="image/x-wmf"/>
  <Override PartName="/ppt/media/image145.png" ContentType="image/png"/>
  <Override PartName="/ppt/media/image163.wmf" ContentType="image/x-wmf"/>
  <Override PartName="/ppt/media/image162.wmf" ContentType="image/x-wmf"/>
  <Override PartName="/ppt/media/image142.png" ContentType="image/png"/>
  <Override PartName="/ppt/media/image129.wmf" ContentType="image/x-wmf"/>
  <Override PartName="/ppt/media/image197.wmf" ContentType="image/x-wmf"/>
  <Override PartName="/ppt/media/image35.wmf" ContentType="image/x-wmf"/>
  <Override PartName="/ppt/media/image160.wmf" ContentType="image/x-wmf"/>
  <Override PartName="/ppt/media/image189.wmf" ContentType="image/x-wmf"/>
  <Override PartName="/ppt/media/image152.wmf" ContentType="image/x-wmf"/>
  <Override PartName="/ppt/media/image188.wmf" ContentType="image/x-wmf"/>
  <Override PartName="/ppt/media/image151.wmf" ContentType="image/x-wmf"/>
  <Override PartName="/ppt/media/image150.wmf" ContentType="image/x-wmf"/>
  <Override PartName="/ppt/media/image31.png" ContentType="image/png"/>
  <Override PartName="/ppt/media/image99.wmf" ContentType="image/x-wmf"/>
  <Override PartName="/ppt/media/image146.wmf" ContentType="image/x-wmf"/>
  <Override PartName="/ppt/media/image57.wmf" ContentType="image/x-wmf"/>
  <Override PartName="/ppt/media/image143.wmf" ContentType="image/x-wmf"/>
  <Override PartName="/ppt/media/image42.wmf" ContentType="image/x-wmf"/>
  <Override PartName="/ppt/media/image18.png" ContentType="image/png"/>
  <Override PartName="/ppt/media/image153.wmf" ContentType="image/x-wmf"/>
  <Override PartName="/ppt/media/image77.png" ContentType="image/png"/>
  <Override PartName="/ppt/media/image144.wmf" ContentType="image/x-wmf"/>
  <Override PartName="/ppt/media/image33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37.wmf" ContentType="image/x-wmf"/>
  <Override PartName="/ppt/media/image159.wmf" ContentType="image/x-wmf"/>
  <Override PartName="/ppt/media/image7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158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2.png" ContentType="image/png"/>
  <Override PartName="/ppt/media/image154.png" ContentType="image/png"/>
  <Override PartName="/ppt/media/image5.wmf" ContentType="image/x-wmf"/>
  <Override PartName="/ppt/media/image157.wmf" ContentType="image/x-wmf"/>
  <Override PartName="/ppt/media/image30.png" ContentType="image/png"/>
  <Override PartName="/ppt/media/image98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58.wmf" ContentType="image/x-wmf"/>
  <Override PartName="/ppt/media/image20.png" ContentType="image/png"/>
  <Override PartName="/ppt/media/image88.wmf" ContentType="image/x-wmf"/>
  <Override PartName="/ppt/media/image93.wmf" ContentType="image/x-wmf"/>
  <Override PartName="/ppt/media/image25.wmf" ContentType="image/x-wmf"/>
  <Override PartName="/ppt/media/image90.wmf" ContentType="image/x-wmf"/>
  <Override PartName="/ppt/media/image26.wmf" ContentType="image/x-wmf"/>
  <Override PartName="/ppt/media/image94.wmf" ContentType="image/x-wmf"/>
  <Override PartName="/ppt/media/image91.wmf" ContentType="image/x-wmf"/>
  <Override PartName="/ppt/media/image23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349C-8BAC-4CD2-A7B0-67C95C1A5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44D8-0F3C-4033-A80C-096D5B333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C31-BFE4-47C3-A9CD-8C6E0AE5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4F1-26BD-41D6-B11E-1AE7A1A8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C55-741D-44C6-B0AB-2446CA2B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862-1171-426F-BE33-A5C438E2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C4F-02CB-4D61-AC45-32A27AB8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756-4F16-4D80-B319-DFC60AD2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9A9-F194-486D-B81E-2B3B9FAE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AE7-9E9F-4885-A282-E1F18E08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AA1-D9A1-41B7-A408-3017B692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57A-35A3-46EC-9DBE-B08B19D2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992-8A27-4E35-B665-E049CAD6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9BF-7482-4EC9-AE8B-C6B83F60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52EB-B835-4207-B088-491DEF644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4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7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6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9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7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5.wmf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7.wmf"/><Relationship Id="rId1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5.wmf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9.wmf"/><Relationship Id="rId2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7.wmf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8.wmf"/><Relationship Id="rId3" Type="http://schemas.openxmlformats.org/officeDocument/2006/relationships/image" Target="../media/image13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1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4.wmf"/><Relationship Id="rId6" Type="http://schemas.openxmlformats.org/officeDocument/2006/relationships/image" Target="../media/image14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4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49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50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51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52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53.wmf"/><Relationship Id="rId2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6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5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62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63.wmf"/><Relationship Id="rId2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1.wmf"/><Relationship Id="rId1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7.wmf"/><Relationship Id="rId9" Type="http://schemas.openxmlformats.org/officeDocument/2006/relationships/image" Target="../media/image17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8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8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8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8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5.wmf"/><Relationship Id="rId2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0.wmf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6.wmf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8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9.wmf"/><Relationship Id="rId13" Type="http://schemas.openxmlformats.org/officeDocument/2006/relationships/image" Target="../media/image20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7.wmf"/><Relationship Id="rId20" Type="http://schemas.openxmlformats.org/officeDocument/2006/relationships/image" Target="../media/image21.png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28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29.wmf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Bài 3. HẰNG ĐẲNG THỨC ĐÁNG NHỚ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ẠT ĐỘNG KHỞI ĐỘ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àm tính nhân : ( x +y)(x +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í dụ trên là một hằng đẳng thứ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23920" y="3309840"/>
            <a:ext cx="61214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Hiệu của hai bình phươ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09480" y="6094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4191120"/>
            <a:ext cx="77724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ình a: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ình b:  (a+ b)( a-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7925040" cy="33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Object 1"/>
          <p:cNvGraphicFramePr/>
          <p:nvPr/>
        </p:nvGraphicFramePr>
        <p:xfrm>
          <a:off x="2200320" y="4419720"/>
          <a:ext cx="10000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0320" y="4419720"/>
                    <a:ext cx="1000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2"/>
          <p:cNvGraphicFramePr/>
          <p:nvPr/>
        </p:nvGraphicFramePr>
        <p:xfrm>
          <a:off x="1143000" y="5705640"/>
          <a:ext cx="5486400" cy="54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5705640"/>
                    <a:ext cx="54864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Hiệu của hai bình phươ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914040"/>
            <a:ext cx="81532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ới hai biểu thức tùy ý A và B, ta c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D 4: Viết các biểu thức sau thành đa thứ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                             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Đáp á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219320" y="1500120"/>
            <a:ext cx="3657600" cy="5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Object 4"/>
          <p:cNvGraphicFramePr/>
          <p:nvPr/>
        </p:nvGraphicFramePr>
        <p:xfrm>
          <a:off x="990720" y="2819520"/>
          <a:ext cx="174312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819520"/>
                    <a:ext cx="1743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5"/>
          <p:cNvGraphicFramePr/>
          <p:nvPr/>
        </p:nvGraphicFramePr>
        <p:xfrm>
          <a:off x="3352680" y="2819520"/>
          <a:ext cx="26002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2680" y="2819520"/>
                    <a:ext cx="2600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6"/>
          <p:cNvGraphicFramePr/>
          <p:nvPr/>
        </p:nvGraphicFramePr>
        <p:xfrm>
          <a:off x="6458040" y="2666880"/>
          <a:ext cx="2228760" cy="514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58040" y="2666880"/>
                    <a:ext cx="22287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7"/>
          <p:cNvGraphicFramePr/>
          <p:nvPr/>
        </p:nvGraphicFramePr>
        <p:xfrm>
          <a:off x="1133640" y="3886200"/>
          <a:ext cx="282888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0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33640" y="3886200"/>
                    <a:ext cx="28288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8"/>
          <p:cNvGraphicFramePr/>
          <p:nvPr/>
        </p:nvGraphicFramePr>
        <p:xfrm>
          <a:off x="1247760" y="4467240"/>
          <a:ext cx="6372360" cy="514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2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47760" y="4467240"/>
                    <a:ext cx="6372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9"/>
          <p:cNvGraphicFramePr/>
          <p:nvPr/>
        </p:nvGraphicFramePr>
        <p:xfrm>
          <a:off x="1276200" y="5029200"/>
          <a:ext cx="5200920" cy="514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4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76200" y="5029200"/>
                    <a:ext cx="52009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0880" y="380520"/>
            <a:ext cx="83059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D 5: Tính nhan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.53                    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áp á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4565520" y="1001880"/>
          <a:ext cx="168300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5520" y="1001880"/>
                    <a:ext cx="16830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3"/>
          <p:cNvGraphicFramePr/>
          <p:nvPr/>
        </p:nvGraphicFramePr>
        <p:xfrm>
          <a:off x="1143000" y="2209680"/>
          <a:ext cx="761508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209680"/>
                    <a:ext cx="76150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4"/>
          <p:cNvGraphicFramePr/>
          <p:nvPr/>
        </p:nvGraphicFramePr>
        <p:xfrm>
          <a:off x="955800" y="3327480"/>
          <a:ext cx="7045200" cy="5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5800" y="3327480"/>
                    <a:ext cx="70452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ực hành 4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ết các biểu thức sau thành đa thứ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Đáp á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457200" y="990720"/>
          <a:ext cx="24382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2438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5"/>
          <p:cNvGraphicFramePr/>
          <p:nvPr/>
        </p:nvGraphicFramePr>
        <p:xfrm>
          <a:off x="3276720" y="1143000"/>
          <a:ext cx="280008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143000"/>
                    <a:ext cx="28000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6"/>
          <p:cNvGraphicFramePr/>
          <p:nvPr/>
        </p:nvGraphicFramePr>
        <p:xfrm>
          <a:off x="4794120" y="2371680"/>
          <a:ext cx="114480" cy="1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4120" y="23716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6172200" y="1143000"/>
          <a:ext cx="2666880" cy="56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1143000"/>
                    <a:ext cx="26668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8"/>
          <p:cNvGraphicFramePr/>
          <p:nvPr/>
        </p:nvGraphicFramePr>
        <p:xfrm>
          <a:off x="1020600" y="2438280"/>
          <a:ext cx="378000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20600" y="2438280"/>
                    <a:ext cx="37800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4876920" y="2408400"/>
          <a:ext cx="1341360" cy="48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2408400"/>
                    <a:ext cx="134136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1170000" y="3276720"/>
          <a:ext cx="4773600" cy="533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70000" y="3276720"/>
                    <a:ext cx="47736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1"/>
          <p:cNvGraphicFramePr/>
          <p:nvPr/>
        </p:nvGraphicFramePr>
        <p:xfrm>
          <a:off x="6091200" y="3254400"/>
          <a:ext cx="1681200" cy="47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1200" y="3254400"/>
                    <a:ext cx="1681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2"/>
          <p:cNvGraphicFramePr/>
          <p:nvPr/>
        </p:nvGraphicFramePr>
        <p:xfrm>
          <a:off x="1143000" y="3962520"/>
          <a:ext cx="4282920" cy="56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1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3962520"/>
                    <a:ext cx="42829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13"/>
          <p:cNvGraphicFramePr/>
          <p:nvPr/>
        </p:nvGraphicFramePr>
        <p:xfrm>
          <a:off x="5549760" y="4033800"/>
          <a:ext cx="1308240" cy="461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3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49760" y="4033800"/>
                    <a:ext cx="13082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ực hành 5: Tính nhan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) 82 .78         b) 87. 93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Đáp á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) 82 .7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87. 9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Object 3"/>
          <p:cNvGraphicFramePr/>
          <p:nvPr/>
        </p:nvGraphicFramePr>
        <p:xfrm>
          <a:off x="4419720" y="838080"/>
          <a:ext cx="167616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838080"/>
                    <a:ext cx="16761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4"/>
          <p:cNvGraphicFramePr/>
          <p:nvPr/>
        </p:nvGraphicFramePr>
        <p:xfrm>
          <a:off x="2133720" y="2284560"/>
          <a:ext cx="2465280" cy="45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284560"/>
                    <a:ext cx="24652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5"/>
          <p:cNvGraphicFramePr/>
          <p:nvPr/>
        </p:nvGraphicFramePr>
        <p:xfrm>
          <a:off x="4648320" y="2209680"/>
          <a:ext cx="1433520" cy="4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209680"/>
                    <a:ext cx="143352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6"/>
          <p:cNvGraphicFramePr/>
          <p:nvPr/>
        </p:nvGraphicFramePr>
        <p:xfrm>
          <a:off x="6058080" y="2265480"/>
          <a:ext cx="2552400" cy="40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58080" y="2265480"/>
                    <a:ext cx="25524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8"/>
          <p:cNvGraphicFramePr/>
          <p:nvPr/>
        </p:nvGraphicFramePr>
        <p:xfrm>
          <a:off x="2224080" y="2894040"/>
          <a:ext cx="2436840" cy="45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24080" y="2894040"/>
                    <a:ext cx="24368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9"/>
          <p:cNvGraphicFramePr/>
          <p:nvPr/>
        </p:nvGraphicFramePr>
        <p:xfrm>
          <a:off x="4800600" y="2817720"/>
          <a:ext cx="1433520" cy="459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2817720"/>
                    <a:ext cx="143352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0"/>
          <p:cNvGraphicFramePr/>
          <p:nvPr/>
        </p:nvGraphicFramePr>
        <p:xfrm>
          <a:off x="6238800" y="2874960"/>
          <a:ext cx="2495520" cy="401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9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38800" y="2874960"/>
                    <a:ext cx="24955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11"/>
          <p:cNvGraphicFramePr/>
          <p:nvPr/>
        </p:nvGraphicFramePr>
        <p:xfrm>
          <a:off x="457200" y="3429000"/>
          <a:ext cx="1676520" cy="495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" y="3429000"/>
                    <a:ext cx="16765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13"/>
          <p:cNvGraphicFramePr/>
          <p:nvPr/>
        </p:nvGraphicFramePr>
        <p:xfrm>
          <a:off x="2114640" y="3503520"/>
          <a:ext cx="3066840" cy="459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3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14640" y="3503520"/>
                    <a:ext cx="30668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14"/>
          <p:cNvGraphicFramePr/>
          <p:nvPr/>
        </p:nvGraphicFramePr>
        <p:xfrm>
          <a:off x="5334120" y="3505320"/>
          <a:ext cx="2608200" cy="401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5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34120" y="3505320"/>
                    <a:ext cx="2608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ận dụng 2: Tính nhan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853920" y="762120"/>
            <a:ext cx="7680600" cy="432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Object 4"/>
          <p:cNvGraphicFramePr/>
          <p:nvPr/>
        </p:nvGraphicFramePr>
        <p:xfrm>
          <a:off x="1219320" y="5181480"/>
          <a:ext cx="6095880" cy="5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5181480"/>
                    <a:ext cx="6095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5"/>
          <p:cNvGraphicFramePr/>
          <p:nvPr/>
        </p:nvGraphicFramePr>
        <p:xfrm>
          <a:off x="1219320" y="5788080"/>
          <a:ext cx="6324480" cy="40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5788080"/>
                    <a:ext cx="63244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ập phương của một tổng, một hiệ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ĐKP 3. Hoàn thành các phép nhân đa thức sau và thu gọn kết quả nhận được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762120" y="2438280"/>
          <a:ext cx="358128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35812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800600" y="2438280"/>
          <a:ext cx="3809880" cy="168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438280"/>
                    <a:ext cx="3809880" cy="16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ết quả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Object 5"/>
          <p:cNvGraphicFramePr/>
          <p:nvPr/>
        </p:nvGraphicFramePr>
        <p:xfrm>
          <a:off x="533520" y="990720"/>
          <a:ext cx="403848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40384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6"/>
          <p:cNvGraphicFramePr/>
          <p:nvPr/>
        </p:nvGraphicFramePr>
        <p:xfrm>
          <a:off x="457200" y="2297160"/>
          <a:ext cx="544356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297160"/>
                    <a:ext cx="54435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7"/>
          <p:cNvGraphicFramePr/>
          <p:nvPr/>
        </p:nvGraphicFramePr>
        <p:xfrm>
          <a:off x="533520" y="2895480"/>
          <a:ext cx="5105160" cy="5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895480"/>
                    <a:ext cx="510516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8"/>
          <p:cNvGraphicFramePr/>
          <p:nvPr/>
        </p:nvGraphicFramePr>
        <p:xfrm>
          <a:off x="533520" y="3581280"/>
          <a:ext cx="4038480" cy="13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581280"/>
                    <a:ext cx="40384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9"/>
          <p:cNvGraphicFramePr/>
          <p:nvPr/>
        </p:nvGraphicFramePr>
        <p:xfrm>
          <a:off x="609480" y="4978440"/>
          <a:ext cx="53024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978440"/>
                    <a:ext cx="5302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10"/>
          <p:cNvGraphicFramePr/>
          <p:nvPr/>
        </p:nvGraphicFramePr>
        <p:xfrm>
          <a:off x="609480" y="5562720"/>
          <a:ext cx="349272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0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480" y="5562720"/>
                    <a:ext cx="34927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ới hai biểu thức tùy ý A và B, ta có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ực hành 6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ết các biểu thức sau thành đa thứ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Đáp 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3" name="Object 4"/>
          <p:cNvGraphicFramePr/>
          <p:nvPr/>
        </p:nvGraphicFramePr>
        <p:xfrm>
          <a:off x="2590920" y="914400"/>
          <a:ext cx="41148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914400"/>
                    <a:ext cx="41148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5"/>
          <p:cNvGraphicFramePr/>
          <p:nvPr/>
        </p:nvGraphicFramePr>
        <p:xfrm>
          <a:off x="1092240" y="2286000"/>
          <a:ext cx="15746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2240" y="2286000"/>
                    <a:ext cx="1574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6"/>
          <p:cNvGraphicFramePr/>
          <p:nvPr/>
        </p:nvGraphicFramePr>
        <p:xfrm>
          <a:off x="3733920" y="2286000"/>
          <a:ext cx="1676160" cy="66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2286000"/>
                    <a:ext cx="16761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8"/>
          <p:cNvGraphicFramePr/>
          <p:nvPr/>
        </p:nvGraphicFramePr>
        <p:xfrm>
          <a:off x="685800" y="3657600"/>
          <a:ext cx="541008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657600"/>
                    <a:ext cx="54100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9"/>
          <p:cNvGraphicFramePr/>
          <p:nvPr/>
        </p:nvGraphicFramePr>
        <p:xfrm>
          <a:off x="914400" y="4191120"/>
          <a:ext cx="4495680" cy="47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2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191120"/>
                    <a:ext cx="44956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1"/>
          <p:cNvGraphicFramePr/>
          <p:nvPr/>
        </p:nvGraphicFramePr>
        <p:xfrm>
          <a:off x="838080" y="4724280"/>
          <a:ext cx="157644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4724280"/>
                    <a:ext cx="1576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2"/>
          <p:cNvGraphicFramePr/>
          <p:nvPr/>
        </p:nvGraphicFramePr>
        <p:xfrm>
          <a:off x="2514600" y="4743360"/>
          <a:ext cx="36576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14600" y="4743360"/>
                    <a:ext cx="3657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3"/>
          <p:cNvGraphicFramePr/>
          <p:nvPr/>
        </p:nvGraphicFramePr>
        <p:xfrm>
          <a:off x="2209680" y="5257800"/>
          <a:ext cx="2743200" cy="449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8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09680" y="5257800"/>
                    <a:ext cx="27432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33520" y="3049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ận dụng 3. Một thùng chứa dạng hình lập phương có cạnh bằng x (cm). Phần võ bao gồm nắp có độ dày 3cm. Tính dng tích ( sức chứa) của thùng, viết kết quả dưới dạng đa thứ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Đáp á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Đa thức biểu thị dung tích của thù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traight Connector 7"/>
          <p:cNvSpPr/>
          <p:nvPr/>
        </p:nvSpPr>
        <p:spPr>
          <a:xfrm>
            <a:off x="7010280" y="487692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1" name="Object 10"/>
          <p:cNvGraphicFramePr/>
          <p:nvPr/>
        </p:nvGraphicFramePr>
        <p:xfrm>
          <a:off x="838080" y="3657600"/>
          <a:ext cx="54864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657600"/>
                    <a:ext cx="5486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1. Bình phươngcủa một tổng, một hiệ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oạt động khám phá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 bạn An, Mai và Bình ai trả lời đúng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Thực hiện phép nhân và rút gọn đa thức cảu bạn 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Biến đổi biểu thứ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9"/>
          <p:cNvGrpSpPr/>
          <p:nvPr/>
        </p:nvGrpSpPr>
        <p:grpSpPr>
          <a:xfrm>
            <a:off x="6477120" y="3809880"/>
            <a:ext cx="1447560" cy="1371600"/>
            <a:chOff x="6477120" y="3809880"/>
            <a:chExt cx="1447560" cy="1371600"/>
          </a:xfrm>
        </p:grpSpPr>
        <p:sp>
          <p:nvSpPr>
            <p:cNvPr id="54" name="Rectangle 3"/>
            <p:cNvSpPr/>
            <p:nvPr/>
          </p:nvSpPr>
          <p:spPr>
            <a:xfrm>
              <a:off x="6477120" y="3809880"/>
              <a:ext cx="936360" cy="9144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7413480" y="3809880"/>
              <a:ext cx="511200" cy="9144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6477120" y="4724280"/>
              <a:ext cx="936360" cy="4572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7413480" y="4724280"/>
              <a:ext cx="511200" cy="45720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ổng và hiệu của hai lập phươ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ĐKP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Sử dụng quy tắc chuyển về và các quy tắc của phép toán, hoàn thành các biến đổi sau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5" name="Object 4"/>
          <p:cNvGraphicFramePr/>
          <p:nvPr/>
        </p:nvGraphicFramePr>
        <p:xfrm>
          <a:off x="457200" y="2197080"/>
          <a:ext cx="39402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97080"/>
                    <a:ext cx="39402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5"/>
          <p:cNvGraphicFramePr/>
          <p:nvPr/>
        </p:nvGraphicFramePr>
        <p:xfrm>
          <a:off x="4724280" y="2286000"/>
          <a:ext cx="4038840" cy="24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286000"/>
                    <a:ext cx="403884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Đáp á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0" name="Object 3"/>
          <p:cNvGraphicFramePr/>
          <p:nvPr/>
        </p:nvGraphicFramePr>
        <p:xfrm>
          <a:off x="533520" y="838080"/>
          <a:ext cx="3504960" cy="13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35049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5"/>
          <p:cNvGraphicFramePr/>
          <p:nvPr/>
        </p:nvGraphicFramePr>
        <p:xfrm>
          <a:off x="1295280" y="2286000"/>
          <a:ext cx="241308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286000"/>
                    <a:ext cx="24130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1371600" y="2819520"/>
          <a:ext cx="2362320" cy="37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2819520"/>
                    <a:ext cx="236232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7"/>
          <p:cNvGraphicFramePr/>
          <p:nvPr/>
        </p:nvGraphicFramePr>
        <p:xfrm>
          <a:off x="1295280" y="3314880"/>
          <a:ext cx="251460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3314880"/>
                    <a:ext cx="2514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8"/>
          <p:cNvGraphicFramePr/>
          <p:nvPr/>
        </p:nvGraphicFramePr>
        <p:xfrm>
          <a:off x="4749840" y="838080"/>
          <a:ext cx="3936960" cy="1482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49840" y="838080"/>
                    <a:ext cx="393696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9"/>
          <p:cNvGraphicFramePr/>
          <p:nvPr/>
        </p:nvGraphicFramePr>
        <p:xfrm>
          <a:off x="5562720" y="2362320"/>
          <a:ext cx="3352680" cy="52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362320"/>
                    <a:ext cx="335268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10"/>
          <p:cNvGraphicFramePr/>
          <p:nvPr/>
        </p:nvGraphicFramePr>
        <p:xfrm>
          <a:off x="5587920" y="3048120"/>
          <a:ext cx="3403800" cy="43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87920" y="3048120"/>
                    <a:ext cx="3403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11"/>
          <p:cNvGraphicFramePr/>
          <p:nvPr/>
        </p:nvGraphicFramePr>
        <p:xfrm>
          <a:off x="5562720" y="3657600"/>
          <a:ext cx="2844720" cy="49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5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62720" y="3657600"/>
                    <a:ext cx="28447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Box 12"/>
          <p:cNvSpPr/>
          <p:nvPr/>
        </p:nvSpPr>
        <p:spPr>
          <a:xfrm>
            <a:off x="1295280" y="4495680"/>
            <a:ext cx="6782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ới hai biểu thức tùy ý A và B, ta c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7" name="Object 13"/>
          <p:cNvGraphicFramePr/>
          <p:nvPr/>
        </p:nvGraphicFramePr>
        <p:xfrm>
          <a:off x="1676520" y="4927680"/>
          <a:ext cx="3612960" cy="8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8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6520" y="4927680"/>
                    <a:ext cx="36129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D 7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ết các đa thức sau dưới dạng tí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Đáp á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Object 3"/>
          <p:cNvGraphicFramePr/>
          <p:nvPr/>
        </p:nvGraphicFramePr>
        <p:xfrm>
          <a:off x="914400" y="990720"/>
          <a:ext cx="129528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129528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4"/>
          <p:cNvGraphicFramePr/>
          <p:nvPr/>
        </p:nvGraphicFramePr>
        <p:xfrm>
          <a:off x="3429000" y="963720"/>
          <a:ext cx="1295280" cy="56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963720"/>
                    <a:ext cx="129528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5"/>
          <p:cNvGraphicFramePr/>
          <p:nvPr/>
        </p:nvGraphicFramePr>
        <p:xfrm>
          <a:off x="932040" y="2133720"/>
          <a:ext cx="2801880" cy="56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2040" y="2133720"/>
                    <a:ext cx="280188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6"/>
          <p:cNvGraphicFramePr/>
          <p:nvPr/>
        </p:nvGraphicFramePr>
        <p:xfrm>
          <a:off x="3801960" y="2112840"/>
          <a:ext cx="3818160" cy="63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1960" y="2112840"/>
                    <a:ext cx="38181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7"/>
          <p:cNvGraphicFramePr/>
          <p:nvPr/>
        </p:nvGraphicFramePr>
        <p:xfrm>
          <a:off x="3949560" y="2798640"/>
          <a:ext cx="3537000" cy="63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49560" y="2798640"/>
                    <a:ext cx="353700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8"/>
          <p:cNvGraphicFramePr/>
          <p:nvPr/>
        </p:nvGraphicFramePr>
        <p:xfrm>
          <a:off x="1009800" y="3859200"/>
          <a:ext cx="2800080" cy="560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2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09800" y="3859200"/>
                    <a:ext cx="28000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9"/>
          <p:cNvGraphicFramePr/>
          <p:nvPr/>
        </p:nvGraphicFramePr>
        <p:xfrm>
          <a:off x="3763800" y="3851280"/>
          <a:ext cx="3780000" cy="630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4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63800" y="3851280"/>
                    <a:ext cx="378000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10"/>
          <p:cNvGraphicFramePr/>
          <p:nvPr/>
        </p:nvGraphicFramePr>
        <p:xfrm>
          <a:off x="3687840" y="4475160"/>
          <a:ext cx="3779640" cy="63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6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87840" y="4475160"/>
                    <a:ext cx="377964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í dụ 8: Tín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Đáp á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ực hành 7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ết các đa thức sau dưới dạng tí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                     b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Đáp á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914400" y="838080"/>
          <a:ext cx="3292560" cy="6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32925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5"/>
          <p:cNvGraphicFramePr/>
          <p:nvPr/>
        </p:nvGraphicFramePr>
        <p:xfrm>
          <a:off x="5265720" y="762120"/>
          <a:ext cx="3116160" cy="63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5720" y="762120"/>
                    <a:ext cx="311616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6"/>
          <p:cNvGraphicFramePr/>
          <p:nvPr/>
        </p:nvGraphicFramePr>
        <p:xfrm>
          <a:off x="874800" y="2036880"/>
          <a:ext cx="4763880" cy="63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4800" y="2036880"/>
                    <a:ext cx="476388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7"/>
          <p:cNvGraphicFramePr/>
          <p:nvPr/>
        </p:nvGraphicFramePr>
        <p:xfrm>
          <a:off x="5645160" y="2030400"/>
          <a:ext cx="1365120" cy="56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45160" y="2030400"/>
                    <a:ext cx="1365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8"/>
          <p:cNvGraphicFramePr/>
          <p:nvPr/>
        </p:nvGraphicFramePr>
        <p:xfrm>
          <a:off x="1015920" y="2666880"/>
          <a:ext cx="4622760" cy="63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15920" y="2666880"/>
                    <a:ext cx="46227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9"/>
          <p:cNvGraphicFramePr/>
          <p:nvPr/>
        </p:nvGraphicFramePr>
        <p:xfrm>
          <a:off x="5575320" y="2646360"/>
          <a:ext cx="1646280" cy="63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75320" y="2646360"/>
                    <a:ext cx="16462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1"/>
          <p:cNvGraphicFramePr/>
          <p:nvPr/>
        </p:nvGraphicFramePr>
        <p:xfrm>
          <a:off x="914400" y="3733920"/>
          <a:ext cx="990720" cy="509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2" name="Object 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" y="3733920"/>
                    <a:ext cx="9907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3"/>
          <p:cNvGraphicFramePr/>
          <p:nvPr/>
        </p:nvGraphicFramePr>
        <p:xfrm>
          <a:off x="3105000" y="3757680"/>
          <a:ext cx="876600" cy="509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05000" y="3757680"/>
                    <a:ext cx="87660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5"/>
          <p:cNvGraphicFramePr/>
          <p:nvPr/>
        </p:nvGraphicFramePr>
        <p:xfrm>
          <a:off x="2095560" y="4937040"/>
          <a:ext cx="1562040" cy="493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6" name="Object 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95560" y="4937040"/>
                    <a:ext cx="156204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7"/>
          <p:cNvGraphicFramePr/>
          <p:nvPr/>
        </p:nvGraphicFramePr>
        <p:xfrm>
          <a:off x="3733920" y="4876920"/>
          <a:ext cx="2992320" cy="476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8" name="Object 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33920" y="4876920"/>
                    <a:ext cx="29923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8"/>
          <p:cNvGraphicFramePr/>
          <p:nvPr/>
        </p:nvGraphicFramePr>
        <p:xfrm>
          <a:off x="990720" y="4900680"/>
          <a:ext cx="990360" cy="509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0" name="Object 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90720" y="4900680"/>
                    <a:ext cx="99036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9"/>
          <p:cNvGraphicFramePr/>
          <p:nvPr/>
        </p:nvGraphicFramePr>
        <p:xfrm>
          <a:off x="990720" y="5562720"/>
          <a:ext cx="876240" cy="509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52" name="Object 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90720" y="5562720"/>
                    <a:ext cx="8762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10"/>
          <p:cNvGraphicFramePr/>
          <p:nvPr/>
        </p:nvGraphicFramePr>
        <p:xfrm>
          <a:off x="1784520" y="5562720"/>
          <a:ext cx="1271520" cy="509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54" name="Object 1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84520" y="5562720"/>
                    <a:ext cx="12715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11"/>
          <p:cNvGraphicFramePr/>
          <p:nvPr/>
        </p:nvGraphicFramePr>
        <p:xfrm>
          <a:off x="3311640" y="5619600"/>
          <a:ext cx="2727360" cy="476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56" name="Object 1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311640" y="5619600"/>
                    <a:ext cx="2727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ực hành 8. Tín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áp á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n dụng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Từ một khối lập phương có cạnh 2x + 1, ta cắt bỏ một khối lập phương có cạnh x + 1, tính thể tích khối lập phương còn lại, viết kết quả dưới dạng đa thứ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ể tích còn lại khối lập phươ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3962520" y="457200"/>
            <a:ext cx="2087280" cy="4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Object 3"/>
          <p:cNvGraphicFramePr/>
          <p:nvPr/>
        </p:nvGraphicFramePr>
        <p:xfrm>
          <a:off x="6095880" y="363600"/>
          <a:ext cx="2590920" cy="7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363600"/>
                    <a:ext cx="25909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4"/>
          <p:cNvGraphicFramePr/>
          <p:nvPr/>
        </p:nvGraphicFramePr>
        <p:xfrm>
          <a:off x="1098720" y="1447920"/>
          <a:ext cx="2178000" cy="47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98720" y="1447920"/>
                    <a:ext cx="217800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5"/>
          <p:cNvGraphicFramePr/>
          <p:nvPr/>
        </p:nvGraphicFramePr>
        <p:xfrm>
          <a:off x="3376440" y="1471680"/>
          <a:ext cx="2033640" cy="40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4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76440" y="1471680"/>
                    <a:ext cx="20336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6"/>
          <p:cNvGraphicFramePr/>
          <p:nvPr/>
        </p:nvGraphicFramePr>
        <p:xfrm>
          <a:off x="1027080" y="1886040"/>
          <a:ext cx="2363760" cy="704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6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27080" y="1886040"/>
                    <a:ext cx="23637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7"/>
          <p:cNvGraphicFramePr/>
          <p:nvPr/>
        </p:nvGraphicFramePr>
        <p:xfrm>
          <a:off x="3429000" y="1752480"/>
          <a:ext cx="1636560" cy="841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8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29000" y="1752480"/>
                    <a:ext cx="163656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8"/>
          <p:cNvGraphicFramePr/>
          <p:nvPr/>
        </p:nvGraphicFramePr>
        <p:xfrm>
          <a:off x="5103720" y="1886040"/>
          <a:ext cx="1068480" cy="704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70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03720" y="1886040"/>
                    <a:ext cx="1068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1" name="Group 12"/>
          <p:cNvGrpSpPr/>
          <p:nvPr/>
        </p:nvGrpSpPr>
        <p:grpSpPr>
          <a:xfrm>
            <a:off x="7162920" y="4114800"/>
            <a:ext cx="1143000" cy="1143000"/>
            <a:chOff x="7162920" y="4114800"/>
            <a:chExt cx="1143000" cy="1143000"/>
          </a:xfrm>
        </p:grpSpPr>
        <p:sp>
          <p:nvSpPr>
            <p:cNvPr id="372" name="Cube 9"/>
            <p:cNvSpPr/>
            <p:nvPr/>
          </p:nvSpPr>
          <p:spPr>
            <a:xfrm>
              <a:off x="7162920" y="41148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Cube 11"/>
            <p:cNvSpPr/>
            <p:nvPr/>
          </p:nvSpPr>
          <p:spPr>
            <a:xfrm flipV="1" rot="16200000">
              <a:off x="7681320" y="4251960"/>
              <a:ext cx="457200" cy="4874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374" name="Object 13"/>
          <p:cNvGraphicFramePr/>
          <p:nvPr/>
        </p:nvGraphicFramePr>
        <p:xfrm>
          <a:off x="457200" y="4876920"/>
          <a:ext cx="6296040" cy="1218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75" name="Object 1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7200" y="4876920"/>
                    <a:ext cx="62960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êu các hằng đẳng thứ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ình phương một tổng, một hiệ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ệu hai bình phương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ập phương một tổng, một hiệ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ổng, hiệu hai lập phương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8" name="Object 3"/>
          <p:cNvGraphicFramePr/>
          <p:nvPr/>
        </p:nvGraphicFramePr>
        <p:xfrm>
          <a:off x="4419720" y="1447920"/>
          <a:ext cx="297180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447920"/>
                    <a:ext cx="29718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4157640" y="2514600"/>
            <a:ext cx="3386160" cy="48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Object 5"/>
          <p:cNvGraphicFramePr/>
          <p:nvPr/>
        </p:nvGraphicFramePr>
        <p:xfrm>
          <a:off x="4235400" y="3429000"/>
          <a:ext cx="4535640" cy="99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35400" y="3429000"/>
                    <a:ext cx="453564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6"/>
          <p:cNvGraphicFramePr/>
          <p:nvPr/>
        </p:nvGraphicFramePr>
        <p:xfrm>
          <a:off x="4349880" y="5029200"/>
          <a:ext cx="4184640" cy="95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4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49880" y="5029200"/>
                    <a:ext cx="41846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UYỆN TẬ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ài tập 1. Viết các biểu sau thành đa thứ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Đáp 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ài tập 2. Viết các biểu thức sau thành bình phương một tổng, một hiệ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                       b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Đáp 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114300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7" name="Object 1"/>
          <p:cNvGraphicFramePr/>
          <p:nvPr/>
        </p:nvGraphicFramePr>
        <p:xfrm>
          <a:off x="838080" y="2438280"/>
          <a:ext cx="3275280" cy="4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8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438280"/>
                    <a:ext cx="3275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2"/>
          <p:cNvGraphicFramePr/>
          <p:nvPr/>
        </p:nvGraphicFramePr>
        <p:xfrm>
          <a:off x="2971800" y="1371600"/>
          <a:ext cx="1447920" cy="57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1800" y="1371600"/>
                    <a:ext cx="144792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Picture 4" descr=""/>
          <p:cNvPicPr/>
          <p:nvPr/>
        </p:nvPicPr>
        <p:blipFill>
          <a:blip r:embed="rId6"/>
          <a:stretch/>
        </p:blipFill>
        <p:spPr>
          <a:xfrm>
            <a:off x="4800600" y="2438280"/>
            <a:ext cx="3228840" cy="44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Object 3"/>
          <p:cNvGraphicFramePr/>
          <p:nvPr/>
        </p:nvGraphicFramePr>
        <p:xfrm>
          <a:off x="1066680" y="3886200"/>
          <a:ext cx="1447920" cy="43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3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3886200"/>
                    <a:ext cx="14479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4"/>
          <p:cNvGraphicFramePr/>
          <p:nvPr/>
        </p:nvGraphicFramePr>
        <p:xfrm>
          <a:off x="3352680" y="3962520"/>
          <a:ext cx="175284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3962520"/>
                    <a:ext cx="17528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5"/>
          <p:cNvGraphicFramePr/>
          <p:nvPr/>
        </p:nvGraphicFramePr>
        <p:xfrm>
          <a:off x="990720" y="4897440"/>
          <a:ext cx="1447560" cy="43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7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90720" y="4897440"/>
                    <a:ext cx="14475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6"/>
          <p:cNvGraphicFramePr/>
          <p:nvPr/>
        </p:nvGraphicFramePr>
        <p:xfrm>
          <a:off x="914400" y="5543640"/>
          <a:ext cx="1752480" cy="399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9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" y="5543640"/>
                    <a:ext cx="17524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7"/>
          <p:cNvGraphicFramePr/>
          <p:nvPr/>
        </p:nvGraphicFramePr>
        <p:xfrm>
          <a:off x="2678040" y="5568840"/>
          <a:ext cx="2503440" cy="451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1" name="Object 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78040" y="5568840"/>
                    <a:ext cx="250344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8"/>
          <p:cNvGraphicFramePr/>
          <p:nvPr/>
        </p:nvGraphicFramePr>
        <p:xfrm>
          <a:off x="5257800" y="5562720"/>
          <a:ext cx="1327320" cy="45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3" name="Object 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57800" y="5562720"/>
                    <a:ext cx="13273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9"/>
          <p:cNvGraphicFramePr/>
          <p:nvPr/>
        </p:nvGraphicFramePr>
        <p:xfrm>
          <a:off x="2495520" y="4876920"/>
          <a:ext cx="2076480" cy="436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05" name="Object 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495520" y="4876920"/>
                    <a:ext cx="207648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0"/>
          <p:cNvGraphicFramePr/>
          <p:nvPr/>
        </p:nvGraphicFramePr>
        <p:xfrm>
          <a:off x="4572000" y="4919760"/>
          <a:ext cx="1257480" cy="490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07" name="Object 1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72000" y="4919760"/>
                    <a:ext cx="125748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ài tập 3. Viết các biểu thức sau thành đa thứ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Đáp á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ài tập 6. Viết các biểu sau thành đa thứ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                        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Đáp á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914400" y="952560"/>
            <a:ext cx="1676520" cy="37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0" name="Object 4"/>
          <p:cNvGraphicFramePr/>
          <p:nvPr/>
        </p:nvGraphicFramePr>
        <p:xfrm>
          <a:off x="914400" y="2009880"/>
          <a:ext cx="1676520" cy="35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009880"/>
                    <a:ext cx="16765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5"/>
          <p:cNvGraphicFramePr/>
          <p:nvPr/>
        </p:nvGraphicFramePr>
        <p:xfrm>
          <a:off x="2682720" y="1981080"/>
          <a:ext cx="1279800" cy="397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3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82720" y="1981080"/>
                    <a:ext cx="127980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6"/>
          <p:cNvGraphicFramePr/>
          <p:nvPr/>
        </p:nvGraphicFramePr>
        <p:xfrm>
          <a:off x="4038480" y="1981080"/>
          <a:ext cx="1168560" cy="35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38480" y="1981080"/>
                    <a:ext cx="11685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8"/>
          <p:cNvGraphicFramePr/>
          <p:nvPr/>
        </p:nvGraphicFramePr>
        <p:xfrm>
          <a:off x="990720" y="2895480"/>
          <a:ext cx="1218960" cy="498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7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2895480"/>
                    <a:ext cx="12189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10"/>
          <p:cNvGraphicFramePr/>
          <p:nvPr/>
        </p:nvGraphicFramePr>
        <p:xfrm>
          <a:off x="3505320" y="2895480"/>
          <a:ext cx="1066680" cy="468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9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05320" y="2895480"/>
                    <a:ext cx="10666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Object 11"/>
          <p:cNvGraphicFramePr/>
          <p:nvPr/>
        </p:nvGraphicFramePr>
        <p:xfrm>
          <a:off x="1066680" y="3886200"/>
          <a:ext cx="1219320" cy="498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1" name="Object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66680" y="3886200"/>
                    <a:ext cx="121932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Object 13"/>
          <p:cNvGraphicFramePr/>
          <p:nvPr/>
        </p:nvGraphicFramePr>
        <p:xfrm>
          <a:off x="2362320" y="3948120"/>
          <a:ext cx="3429000" cy="395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23" name="Object 1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62320" y="3948120"/>
                    <a:ext cx="3429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14"/>
          <p:cNvGraphicFramePr/>
          <p:nvPr/>
        </p:nvGraphicFramePr>
        <p:xfrm>
          <a:off x="5867280" y="3962520"/>
          <a:ext cx="2505240" cy="350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25" name="Object 1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867280" y="3962520"/>
                    <a:ext cx="25052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15"/>
          <p:cNvGraphicFramePr/>
          <p:nvPr/>
        </p:nvGraphicFramePr>
        <p:xfrm>
          <a:off x="1143000" y="4484520"/>
          <a:ext cx="1066680" cy="468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27" name="Object 1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143000" y="4484520"/>
                    <a:ext cx="10666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16"/>
          <p:cNvGraphicFramePr/>
          <p:nvPr/>
        </p:nvGraphicFramePr>
        <p:xfrm>
          <a:off x="2209680" y="4484520"/>
          <a:ext cx="3851280" cy="4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29" name="Object 1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209680" y="4484520"/>
                    <a:ext cx="38512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17"/>
          <p:cNvGraphicFramePr/>
          <p:nvPr/>
        </p:nvGraphicFramePr>
        <p:xfrm>
          <a:off x="2209680" y="5119560"/>
          <a:ext cx="3357720" cy="4176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31" name="Object 1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209680" y="5119560"/>
                    <a:ext cx="33577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ài tập 7. Viết các biểu sau thành đa thứ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Đáp á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990720" y="914400"/>
          <a:ext cx="23875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14400"/>
                    <a:ext cx="2387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4"/>
          <p:cNvGraphicFramePr/>
          <p:nvPr/>
        </p:nvGraphicFramePr>
        <p:xfrm>
          <a:off x="4394160" y="236232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4160" y="23623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5"/>
          <p:cNvGraphicFramePr/>
          <p:nvPr/>
        </p:nvGraphicFramePr>
        <p:xfrm>
          <a:off x="4495680" y="914400"/>
          <a:ext cx="281952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914400"/>
                    <a:ext cx="2819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990720" y="2133720"/>
          <a:ext cx="23875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133720"/>
                    <a:ext cx="2387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8"/>
          <p:cNvGraphicFramePr/>
          <p:nvPr/>
        </p:nvGraphicFramePr>
        <p:xfrm>
          <a:off x="3581280" y="2055960"/>
          <a:ext cx="1371600" cy="53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2055960"/>
                    <a:ext cx="1371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9"/>
          <p:cNvGraphicFramePr/>
          <p:nvPr/>
        </p:nvGraphicFramePr>
        <p:xfrm>
          <a:off x="5108400" y="2044800"/>
          <a:ext cx="1673280" cy="54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08400" y="2044800"/>
                    <a:ext cx="1673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10"/>
          <p:cNvGraphicFramePr/>
          <p:nvPr/>
        </p:nvGraphicFramePr>
        <p:xfrm>
          <a:off x="1143000" y="2666880"/>
          <a:ext cx="2819520" cy="43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6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2666880"/>
                    <a:ext cx="2819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12"/>
          <p:cNvGraphicFramePr/>
          <p:nvPr/>
        </p:nvGraphicFramePr>
        <p:xfrm>
          <a:off x="4013280" y="2556000"/>
          <a:ext cx="2006640" cy="601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8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13280" y="2556000"/>
                    <a:ext cx="20066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13"/>
          <p:cNvGraphicFramePr/>
          <p:nvPr/>
        </p:nvGraphicFramePr>
        <p:xfrm>
          <a:off x="6093000" y="2598840"/>
          <a:ext cx="1706400" cy="601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0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93000" y="2598840"/>
                    <a:ext cx="17064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vận dụ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 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Viết biểu thức tính diện tích hình vuông có cạnh bằng 2x + 3 dưới dạng đa thức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Viết biểu thức tính thể tích khối lập phương có cạnh bằng 3x -2 dưới dạng đa thức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áp 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ện tích hình vuông có cạnh bằng 2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Thể tích khối lập phương có cạnh bằng 3x -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2925720" cy="4572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800280" y="5486400"/>
            <a:ext cx="46098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45684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Cả ba ban đều đú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6705720" y="1066680"/>
            <a:ext cx="1447560" cy="1371600"/>
            <a:chOff x="6705720" y="1066680"/>
            <a:chExt cx="1447560" cy="1371600"/>
          </a:xfrm>
        </p:grpSpPr>
        <p:sp>
          <p:nvSpPr>
            <p:cNvPr id="60" name="Rectangle 4"/>
            <p:cNvSpPr/>
            <p:nvPr/>
          </p:nvSpPr>
          <p:spPr>
            <a:xfrm>
              <a:off x="6705720" y="1066680"/>
              <a:ext cx="936360" cy="9144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7642080" y="1066680"/>
              <a:ext cx="511200" cy="9144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6"/>
            <p:cNvSpPr/>
            <p:nvPr/>
          </p:nvSpPr>
          <p:spPr>
            <a:xfrm>
              <a:off x="6705720" y="1981080"/>
              <a:ext cx="936360" cy="4572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7"/>
            <p:cNvSpPr/>
            <p:nvPr/>
          </p:nvSpPr>
          <p:spPr>
            <a:xfrm>
              <a:off x="7642080" y="1981080"/>
              <a:ext cx="511200" cy="45720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09480" y="1427040"/>
            <a:ext cx="4800600" cy="1667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932040" y="3129120"/>
            <a:ext cx="46306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ài 5./sgk. Tính nhan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d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áp á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ài tập 8. Viết các biểu thức sau thành đa thứ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áp án:  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990720" y="990720"/>
          <a:ext cx="685800" cy="32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90720"/>
                    <a:ext cx="68580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5"/>
          <p:cNvGraphicFramePr/>
          <p:nvPr/>
        </p:nvGraphicFramePr>
        <p:xfrm>
          <a:off x="2819520" y="914400"/>
          <a:ext cx="6094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914400"/>
                    <a:ext cx="6094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7"/>
          <p:cNvGraphicFramePr/>
          <p:nvPr/>
        </p:nvGraphicFramePr>
        <p:xfrm>
          <a:off x="4724280" y="914400"/>
          <a:ext cx="6098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914400"/>
                    <a:ext cx="609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8"/>
          <p:cNvGraphicFramePr/>
          <p:nvPr/>
        </p:nvGraphicFramePr>
        <p:xfrm>
          <a:off x="6489720" y="914400"/>
          <a:ext cx="1054080" cy="35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89720" y="914400"/>
                    <a:ext cx="105408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3" name="Picture 7" descr=""/>
          <p:cNvPicPr/>
          <p:nvPr/>
        </p:nvPicPr>
        <p:blipFill>
          <a:blip r:embed="rId9"/>
          <a:stretch/>
        </p:blipFill>
        <p:spPr>
          <a:xfrm>
            <a:off x="914400" y="1905120"/>
            <a:ext cx="621828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4" name="Object 9"/>
          <p:cNvGraphicFramePr/>
          <p:nvPr/>
        </p:nvGraphicFramePr>
        <p:xfrm>
          <a:off x="990720" y="2438280"/>
          <a:ext cx="5867280" cy="33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65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90720" y="2438280"/>
                    <a:ext cx="58672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11"/>
          <p:cNvGraphicFramePr/>
          <p:nvPr/>
        </p:nvGraphicFramePr>
        <p:xfrm>
          <a:off x="990720" y="2938320"/>
          <a:ext cx="5943600" cy="33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67" name="Object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90720" y="2938320"/>
                    <a:ext cx="594360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12"/>
          <p:cNvGraphicFramePr/>
          <p:nvPr/>
        </p:nvGraphicFramePr>
        <p:xfrm>
          <a:off x="990720" y="3429000"/>
          <a:ext cx="5562360" cy="444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69" name="Object 1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90720" y="3429000"/>
                    <a:ext cx="5562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4"/>
          <p:cNvGraphicFramePr/>
          <p:nvPr/>
        </p:nvGraphicFramePr>
        <p:xfrm>
          <a:off x="914400" y="4419720"/>
          <a:ext cx="2209680" cy="414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71" name="Object 1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400" y="4419720"/>
                    <a:ext cx="22096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15"/>
          <p:cNvGraphicFramePr/>
          <p:nvPr/>
        </p:nvGraphicFramePr>
        <p:xfrm>
          <a:off x="4114800" y="4449600"/>
          <a:ext cx="1905120" cy="381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73" name="Object 1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114800" y="4449600"/>
                    <a:ext cx="1905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16"/>
          <p:cNvGraphicFramePr/>
          <p:nvPr/>
        </p:nvGraphicFramePr>
        <p:xfrm>
          <a:off x="2209680" y="5029200"/>
          <a:ext cx="5545080" cy="380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75" name="Object 1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209680" y="5029200"/>
                    <a:ext cx="55450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17"/>
          <p:cNvGraphicFramePr/>
          <p:nvPr/>
        </p:nvGraphicFramePr>
        <p:xfrm>
          <a:off x="1054080" y="5486400"/>
          <a:ext cx="7156440" cy="990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77" name="Object 1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054080" y="5486400"/>
                    <a:ext cx="71564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9009000" cy="2210040"/>
          </a:xfrm>
          <a:prstGeom prst="rect">
            <a:avLst/>
          </a:prstGeom>
          <a:ln w="0">
            <a:noFill/>
          </a:ln>
        </p:spPr>
      </p:pic>
      <p:sp>
        <p:nvSpPr>
          <p:cNvPr id="479" name="TextBox 4"/>
          <p:cNvSpPr/>
          <p:nvPr/>
        </p:nvSpPr>
        <p:spPr>
          <a:xfrm>
            <a:off x="380880" y="2602080"/>
            <a:ext cx="807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Đáp 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0" name="Object 6"/>
          <p:cNvGraphicFramePr/>
          <p:nvPr/>
        </p:nvGraphicFramePr>
        <p:xfrm>
          <a:off x="762120" y="3124080"/>
          <a:ext cx="789444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124080"/>
                    <a:ext cx="78944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7"/>
          <p:cNvGraphicFramePr/>
          <p:nvPr/>
        </p:nvGraphicFramePr>
        <p:xfrm>
          <a:off x="762120" y="3581280"/>
          <a:ext cx="6019560" cy="86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581280"/>
                    <a:ext cx="60195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9"/>
          <p:cNvGraphicFramePr/>
          <p:nvPr/>
        </p:nvGraphicFramePr>
        <p:xfrm>
          <a:off x="838080" y="4419720"/>
          <a:ext cx="751860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5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4419720"/>
                    <a:ext cx="751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10"/>
          <p:cNvGraphicFramePr/>
          <p:nvPr/>
        </p:nvGraphicFramePr>
        <p:xfrm>
          <a:off x="533520" y="5029200"/>
          <a:ext cx="6476760" cy="96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7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5029200"/>
                    <a:ext cx="647676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Cho x + y = 5 và xy = 6. Tín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Đáp á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Cho x - y = 3 và xy = 40. Tín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Đáp á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9" name="Object 3"/>
          <p:cNvGraphicFramePr/>
          <p:nvPr/>
        </p:nvGraphicFramePr>
        <p:xfrm>
          <a:off x="5486400" y="304920"/>
          <a:ext cx="9144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04920"/>
                    <a:ext cx="914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5"/>
          <p:cNvGraphicFramePr/>
          <p:nvPr/>
        </p:nvGraphicFramePr>
        <p:xfrm>
          <a:off x="2057400" y="914400"/>
          <a:ext cx="398952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914400"/>
                    <a:ext cx="39895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Object 6"/>
          <p:cNvGraphicFramePr/>
          <p:nvPr/>
        </p:nvGraphicFramePr>
        <p:xfrm>
          <a:off x="685800" y="1447920"/>
          <a:ext cx="668196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447920"/>
                    <a:ext cx="6681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Object 7"/>
          <p:cNvGraphicFramePr/>
          <p:nvPr/>
        </p:nvGraphicFramePr>
        <p:xfrm>
          <a:off x="5867280" y="2590920"/>
          <a:ext cx="9144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2590920"/>
                    <a:ext cx="914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Object 8"/>
          <p:cNvGraphicFramePr/>
          <p:nvPr/>
        </p:nvGraphicFramePr>
        <p:xfrm>
          <a:off x="1981080" y="3200400"/>
          <a:ext cx="3733920" cy="46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3200400"/>
                    <a:ext cx="373392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10"/>
          <p:cNvGraphicFramePr/>
          <p:nvPr/>
        </p:nvGraphicFramePr>
        <p:xfrm>
          <a:off x="1905120" y="3809880"/>
          <a:ext cx="6705360" cy="8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0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5120" y="3809880"/>
                    <a:ext cx="67053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9" dur="indefinite" restart="never" nodeType="tmRoot">
          <p:childTnLst>
            <p:seq>
              <p:cTn id="1850" dur="indefinite" nodeType="mainSeq">
                <p:childTnLst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10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 hình hộp chữ nhật có chiều dài, chiều rộng , chiều cao đều bằng 5cm. Thể tích của hình hộp chữ nhật sẽ tăng bao nhiêu nế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hiều dài và chiều rộng tăng thêm a cm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hiều dài, chiều rộng và chiều cao tăng thêm a c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ả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ể tich hình hộp tăng thêm khi tăng chiều dài, chiều rộng a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ể tích hình hộp chữ nhật tă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2" name="Object 4"/>
          <p:cNvGraphicFramePr/>
          <p:nvPr/>
        </p:nvGraphicFramePr>
        <p:xfrm>
          <a:off x="1066680" y="4191120"/>
          <a:ext cx="35816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191120"/>
                    <a:ext cx="3581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5"/>
          <p:cNvGraphicFramePr/>
          <p:nvPr/>
        </p:nvGraphicFramePr>
        <p:xfrm>
          <a:off x="838080" y="5257800"/>
          <a:ext cx="7264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257800"/>
                    <a:ext cx="726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5" dur="indefinite" restart="never" nodeType="tmRoot">
          <p:childTnLst>
            <p:seq>
              <p:cTn id="1906" dur="indefinite" nodeType="mainSeq">
                <p:childTnLst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ƯỚNG DẪN VỀ NH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Ghi nhớ kiến thức trong bà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oàn thành các bài tập 1a, 2a, 3a, 6c  (SGK-tr 22)+ các bài tập trong S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huẩn bị bài mới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“ 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ài 4: Phân tích đa thức thành nhân tử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7" dur="indefinite" restart="never" nodeType="tmRoot">
          <p:childTnLst>
            <p:seq>
              <p:cTn id="1938" dur="indefinite" nodeType="mainSeq">
                <p:childTnLst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ới hai biểu thức tùy ý A, B , ta có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D 1: Viết các biểu thức sau thành đa thứ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1148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Object 3"/>
          <p:cNvGraphicFramePr/>
          <p:nvPr/>
        </p:nvGraphicFramePr>
        <p:xfrm>
          <a:off x="1066680" y="3048120"/>
          <a:ext cx="1854360" cy="61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3048120"/>
                    <a:ext cx="18543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4"/>
          <p:cNvGraphicFramePr/>
          <p:nvPr/>
        </p:nvGraphicFramePr>
        <p:xfrm>
          <a:off x="1143000" y="4343400"/>
          <a:ext cx="201456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4343400"/>
                    <a:ext cx="2014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5"/>
          <p:cNvGraphicFramePr/>
          <p:nvPr/>
        </p:nvGraphicFramePr>
        <p:xfrm>
          <a:off x="1231920" y="5638680"/>
          <a:ext cx="165096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31920" y="5638680"/>
                    <a:ext cx="1650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6"/>
          <p:cNvGraphicFramePr/>
          <p:nvPr/>
        </p:nvGraphicFramePr>
        <p:xfrm>
          <a:off x="1123920" y="3657600"/>
          <a:ext cx="6286680" cy="617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23920" y="3657600"/>
                    <a:ext cx="62866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7"/>
          <p:cNvGraphicFramePr/>
          <p:nvPr/>
        </p:nvGraphicFramePr>
        <p:xfrm>
          <a:off x="609480" y="5029200"/>
          <a:ext cx="7917120" cy="53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480" y="5029200"/>
                    <a:ext cx="7917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8"/>
          <p:cNvGraphicFramePr/>
          <p:nvPr/>
        </p:nvGraphicFramePr>
        <p:xfrm>
          <a:off x="2895480" y="5715000"/>
          <a:ext cx="3098880" cy="457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95480" y="5715000"/>
                    <a:ext cx="3098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9"/>
          <p:cNvGraphicFramePr/>
          <p:nvPr/>
        </p:nvGraphicFramePr>
        <p:xfrm>
          <a:off x="6222960" y="5715000"/>
          <a:ext cx="2311560" cy="457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2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222960" y="5715000"/>
                    <a:ext cx="2311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D 2. Viết biểu thức sau thành bình phương của một tổng, một hiệ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914400" y="1752480"/>
          <a:ext cx="297180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29718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4"/>
          <p:cNvGraphicFramePr/>
          <p:nvPr/>
        </p:nvGraphicFramePr>
        <p:xfrm>
          <a:off x="1219320" y="3276720"/>
          <a:ext cx="2176200" cy="107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276720"/>
                    <a:ext cx="217620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5"/>
          <p:cNvGraphicFramePr/>
          <p:nvPr/>
        </p:nvGraphicFramePr>
        <p:xfrm>
          <a:off x="808200" y="2502000"/>
          <a:ext cx="349092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8200" y="2502000"/>
                    <a:ext cx="34909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6"/>
          <p:cNvGraphicFramePr/>
          <p:nvPr/>
        </p:nvGraphicFramePr>
        <p:xfrm>
          <a:off x="4495680" y="2514600"/>
          <a:ext cx="1900440" cy="62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2514600"/>
                    <a:ext cx="19004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7"/>
          <p:cNvGraphicFramePr/>
          <p:nvPr/>
        </p:nvGraphicFramePr>
        <p:xfrm>
          <a:off x="571680" y="4159080"/>
          <a:ext cx="3384360" cy="12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680" y="4159080"/>
                    <a:ext cx="338436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"/>
          <p:cNvGraphicFramePr/>
          <p:nvPr/>
        </p:nvGraphicFramePr>
        <p:xfrm>
          <a:off x="4114800" y="4132440"/>
          <a:ext cx="2038320" cy="127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" name="Object 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4132440"/>
                    <a:ext cx="2038320" cy="12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ực hành 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ết các biểu thức thành đa thức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                 b)                    c)               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ả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                                     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                                       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990720" y="1150920"/>
            <a:ext cx="1371600" cy="601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5"/>
          <p:cNvGraphicFramePr/>
          <p:nvPr/>
        </p:nvGraphicFramePr>
        <p:xfrm>
          <a:off x="3048120" y="1143000"/>
          <a:ext cx="144756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1143000"/>
                    <a:ext cx="14475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Picture 7" descr=""/>
          <p:cNvPicPr/>
          <p:nvPr/>
        </p:nvPicPr>
        <p:blipFill>
          <a:blip r:embed="rId4"/>
          <a:stretch/>
        </p:blipFill>
        <p:spPr>
          <a:xfrm>
            <a:off x="5105520" y="1066680"/>
            <a:ext cx="1218960" cy="67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5"/>
          <a:stretch/>
        </p:blipFill>
        <p:spPr>
          <a:xfrm>
            <a:off x="6934320" y="1066680"/>
            <a:ext cx="1828800" cy="57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6"/>
          <a:stretch/>
        </p:blipFill>
        <p:spPr>
          <a:xfrm>
            <a:off x="990720" y="2362320"/>
            <a:ext cx="3047760" cy="82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Object 6"/>
          <p:cNvGraphicFramePr/>
          <p:nvPr/>
        </p:nvGraphicFramePr>
        <p:xfrm>
          <a:off x="4902120" y="2773440"/>
          <a:ext cx="34797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02120" y="2773440"/>
                    <a:ext cx="34797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7"/>
          <p:cNvGraphicFramePr/>
          <p:nvPr/>
        </p:nvGraphicFramePr>
        <p:xfrm>
          <a:off x="5105520" y="3459240"/>
          <a:ext cx="292248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5520" y="3459240"/>
                    <a:ext cx="2922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8"/>
          <p:cNvGraphicFramePr/>
          <p:nvPr/>
        </p:nvGraphicFramePr>
        <p:xfrm>
          <a:off x="5181480" y="2239920"/>
          <a:ext cx="1447920" cy="50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81480" y="2239920"/>
                    <a:ext cx="1447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7" descr=""/>
          <p:cNvPicPr/>
          <p:nvPr/>
        </p:nvPicPr>
        <p:blipFill>
          <a:blip r:embed="rId13"/>
          <a:stretch/>
        </p:blipFill>
        <p:spPr>
          <a:xfrm>
            <a:off x="1066680" y="4114800"/>
            <a:ext cx="1219320" cy="67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Object 10"/>
          <p:cNvGraphicFramePr/>
          <p:nvPr/>
        </p:nvGraphicFramePr>
        <p:xfrm>
          <a:off x="914400" y="4724280"/>
          <a:ext cx="2895480" cy="932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14400" y="4724280"/>
                    <a:ext cx="289548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1"/>
          <p:cNvGraphicFramePr/>
          <p:nvPr/>
        </p:nvGraphicFramePr>
        <p:xfrm>
          <a:off x="914400" y="5638680"/>
          <a:ext cx="2286000" cy="922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6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400" y="5638680"/>
                    <a:ext cx="22860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2"/>
          <p:cNvGraphicFramePr/>
          <p:nvPr/>
        </p:nvGraphicFramePr>
        <p:xfrm>
          <a:off x="6858000" y="4038480"/>
          <a:ext cx="1778040" cy="533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8" name="Object 1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858000" y="4038480"/>
                    <a:ext cx="17780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9" descr=""/>
          <p:cNvPicPr/>
          <p:nvPr/>
        </p:nvPicPr>
        <p:blipFill>
          <a:blip r:embed="rId20"/>
          <a:stretch/>
        </p:blipFill>
        <p:spPr>
          <a:xfrm>
            <a:off x="4952880" y="4038480"/>
            <a:ext cx="182880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13"/>
          <p:cNvGraphicFramePr/>
          <p:nvPr/>
        </p:nvGraphicFramePr>
        <p:xfrm>
          <a:off x="5010120" y="4876920"/>
          <a:ext cx="3524400" cy="571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1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10120" y="4876920"/>
                    <a:ext cx="35244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4"/>
          <p:cNvGraphicFramePr/>
          <p:nvPr/>
        </p:nvGraphicFramePr>
        <p:xfrm>
          <a:off x="5425920" y="5638680"/>
          <a:ext cx="2730600" cy="571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3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25920" y="5638680"/>
                    <a:ext cx="27306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ực hành 2 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ết biểu thức sau thành bình phương của một tổng, một hiệu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Đáp 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                                          b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2438280" cy="514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1971720" cy="57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Object 3"/>
          <p:cNvGraphicFramePr/>
          <p:nvPr/>
        </p:nvGraphicFramePr>
        <p:xfrm>
          <a:off x="990720" y="2743200"/>
          <a:ext cx="270036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743200"/>
                    <a:ext cx="2700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4"/>
          <p:cNvGraphicFramePr/>
          <p:nvPr/>
        </p:nvGraphicFramePr>
        <p:xfrm>
          <a:off x="690480" y="3395520"/>
          <a:ext cx="330048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0480" y="3395520"/>
                    <a:ext cx="33004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5"/>
          <p:cNvGraphicFramePr/>
          <p:nvPr/>
        </p:nvGraphicFramePr>
        <p:xfrm>
          <a:off x="1434960" y="4048200"/>
          <a:ext cx="180036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34960" y="4048200"/>
                    <a:ext cx="1800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6"/>
          <p:cNvGraphicFramePr/>
          <p:nvPr/>
        </p:nvGraphicFramePr>
        <p:xfrm>
          <a:off x="5435640" y="2716200"/>
          <a:ext cx="2031840" cy="56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5640" y="2716200"/>
                    <a:ext cx="203184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"/>
          <p:cNvGraphicFramePr/>
          <p:nvPr/>
        </p:nvGraphicFramePr>
        <p:xfrm>
          <a:off x="4876920" y="3429000"/>
          <a:ext cx="2347920" cy="560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7" name="Object 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3429000"/>
                    <a:ext cx="23479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3"/>
          <p:cNvGraphicFramePr/>
          <p:nvPr/>
        </p:nvGraphicFramePr>
        <p:xfrm>
          <a:off x="4884840" y="4129200"/>
          <a:ext cx="3398760" cy="630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84840" y="4129200"/>
                    <a:ext cx="339876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4"/>
          <p:cNvGraphicFramePr/>
          <p:nvPr/>
        </p:nvGraphicFramePr>
        <p:xfrm>
          <a:off x="4952880" y="4856040"/>
          <a:ext cx="1787760" cy="63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4856040"/>
                    <a:ext cx="17877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33520" y="228600"/>
            <a:ext cx="81532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ận dụng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ột mảnh vường hình vuông có cạnh 10m được mở rộng thêm cả hai cạnh x (m), Viết biểu thức biểu( dạng đa thức thu gọn) thị diện tích mảnh vườn sau khi được mở rộ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Đáp á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6400800" y="3505320"/>
            <a:ext cx="2057400" cy="1828800"/>
            <a:chOff x="6400800" y="3505320"/>
            <a:chExt cx="2057400" cy="1828800"/>
          </a:xfrm>
        </p:grpSpPr>
        <p:sp>
          <p:nvSpPr>
            <p:cNvPr id="144" name="Rectangle 3"/>
            <p:cNvSpPr/>
            <p:nvPr/>
          </p:nvSpPr>
          <p:spPr>
            <a:xfrm>
              <a:off x="6400800" y="3505320"/>
              <a:ext cx="2057400" cy="1828800"/>
            </a:xfrm>
            <a:prstGeom prst="rect">
              <a:avLst/>
            </a:prstGeom>
            <a:solidFill>
              <a:srgbClr val="8eb4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4"/>
            <p:cNvSpPr/>
            <p:nvPr/>
          </p:nvSpPr>
          <p:spPr>
            <a:xfrm>
              <a:off x="6400800" y="4496040"/>
              <a:ext cx="102852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46" name="Object 6"/>
          <p:cNvGraphicFramePr/>
          <p:nvPr/>
        </p:nvGraphicFramePr>
        <p:xfrm>
          <a:off x="965160" y="3505320"/>
          <a:ext cx="132084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3505320"/>
                    <a:ext cx="13208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7"/>
          <p:cNvGraphicFramePr/>
          <p:nvPr/>
        </p:nvGraphicFramePr>
        <p:xfrm>
          <a:off x="955800" y="4307040"/>
          <a:ext cx="270180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5800" y="4307040"/>
                    <a:ext cx="27018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8"/>
          <p:cNvGraphicFramePr/>
          <p:nvPr/>
        </p:nvGraphicFramePr>
        <p:xfrm>
          <a:off x="990720" y="4930920"/>
          <a:ext cx="2462040" cy="47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4930920"/>
                    <a:ext cx="246204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Một mảnh vườn hình vuông sau khi được mở rộng mỗi cạnh 5m thì được mảnh vườn hình vuông có cạnh x (m), Viết biểu thức biểu( dạng đa thức thu gọn) thị diện tích mảnh vườn trước khi mở rộ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áp á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Group 1"/>
          <p:cNvGrpSpPr/>
          <p:nvPr/>
        </p:nvGrpSpPr>
        <p:grpSpPr>
          <a:xfrm>
            <a:off x="6629400" y="3276720"/>
            <a:ext cx="1447920" cy="1295280"/>
            <a:chOff x="6629400" y="3276720"/>
            <a:chExt cx="1447920" cy="1295280"/>
          </a:xfrm>
        </p:grpSpPr>
        <p:sp>
          <p:nvSpPr>
            <p:cNvPr id="154" name="Rectangle 3"/>
            <p:cNvSpPr/>
            <p:nvPr/>
          </p:nvSpPr>
          <p:spPr>
            <a:xfrm>
              <a:off x="6629400" y="3276720"/>
              <a:ext cx="1447920" cy="1295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4"/>
            <p:cNvSpPr/>
            <p:nvPr/>
          </p:nvSpPr>
          <p:spPr>
            <a:xfrm>
              <a:off x="6629400" y="3924360"/>
              <a:ext cx="723960" cy="64764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56" name="Object 5"/>
          <p:cNvGraphicFramePr/>
          <p:nvPr/>
        </p:nvGraphicFramePr>
        <p:xfrm>
          <a:off x="762120" y="3581280"/>
          <a:ext cx="114300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581280"/>
                    <a:ext cx="11430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1996920" y="3581280"/>
          <a:ext cx="234648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96920" y="3581280"/>
                    <a:ext cx="23464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7"/>
          <p:cNvGraphicFramePr/>
          <p:nvPr/>
        </p:nvGraphicFramePr>
        <p:xfrm>
          <a:off x="2041560" y="4167360"/>
          <a:ext cx="222552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41560" y="4167360"/>
                    <a:ext cx="22255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19T01:19:27Z</dcterms:created>
  <dc:creator>Admin</dc:creator>
  <dc:description/>
  <dc:language>en-US</dc:language>
  <cp:lastModifiedBy>Admin</cp:lastModifiedBy>
  <dcterms:modified xsi:type="dcterms:W3CDTF">2023-06-26T10:56:39Z</dcterms:modified>
  <cp:revision>108</cp:revision>
  <dc:subject/>
  <dc:title>Bài 3. HẰNG ĐẲNG THỨC ĐÁNG NHỚ</dc:title>
</cp:coreProperties>
</file>