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1.jpeg" ContentType="image/jpeg"/>
  <Override PartName="/ppt/media/image9.png" ContentType="image/png"/>
  <Override PartName="/ppt/media/image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65E0-4CA2-4521-B8CB-8DF82E3B3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259D-C915-4015-B31F-F7F6EECE1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5A09-BD5B-4F1F-8E35-9F71C8D64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A3D2-8B41-4019-8C58-B79AD0119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BEEBF-8147-4ED6-934A-9656EE00C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C1E63-5737-4D34-B801-16C22D696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34E56-C1C6-4302-B952-53EF3CC68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F2B57-2D0D-48B3-9C77-9F1179F0F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1C04D-6259-4E5E-9ED5-02A827830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A5A95-26EC-45F4-B4BB-DF8C3C26F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79250-64B0-4598-95F3-FE725C08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71A5-23CB-4F84-A07F-4EB668E2F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2B064-8213-4FA9-9765-179DAA7F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70C66-6951-4D08-8F80-5FCCF284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F4D2E-4CEA-470A-B852-CD60B7C71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E28C3-69DE-43D1-AAE9-04ADA701E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2BC11-E1A5-4458-823D-A608E398B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965E-F635-4603-B2EE-C12BF45E3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866E-3874-4215-864B-BD1E7A6F4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3CD7-586B-4701-AB64-6642C2E53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37D6-3A34-4C2F-87DD-52005D8C9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0410-C009-44A7-8FAF-EEAD692C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1B9A-9A19-47CD-8352-6FC19F58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D04D-6593-4817-A971-1A5F63BB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8D4DD-5BDE-4980-84F4-4E6CEC3663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1CCBF-8C74-4E18-A590-BCAA3F6657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0" y="0"/>
          <a:ext cx="93726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372600" cy="6858000"/>
                  </a:xfrm>
                  <a:prstGeom prst="rect">
                    <a:avLst/>
                  </a:prstGeom>
                  <a:ln w="9360">
                    <a:solidFill>
                      <a:srgbClr val="66ff66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7" name=""/>
          <p:cNvSpPr txBox="1"/>
          <p:nvPr/>
        </p:nvSpPr>
        <p:spPr>
          <a:xfrm>
            <a:off x="228600" y="76320"/>
            <a:ext cx="83059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VNI-Duff"/>
              </a:rPr>
              <a:t>CHAØO MÖØNG CAÙC EM HOÏC SINH</a:t>
            </a:r>
            <a:endParaRPr b="0" lang="en-US" sz="24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VNI-Duff"/>
              <a:ea typeface="VNI-Duff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VNI-Duff"/>
              </a:rPr>
              <a:t> </a:t>
            </a:r>
            <a:r>
              <a: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VNI-Duff"/>
              </a:rPr>
              <a:t>ÑEÁN VÔÙI BUOÅI HOÏC HOÂM NAY.</a:t>
            </a:r>
            <a:endParaRPr b="0" lang="en-US" sz="24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VNI-Duff"/>
              <a:ea typeface="VNI-Duff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33520" y="4952880"/>
            <a:ext cx="792468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32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VNI-Duff"/>
              </a:rPr>
              <a:t>MOÂN  LÒCH  SÖÛ  7</a:t>
            </a:r>
            <a:endParaRPr b="0" lang="en-US" sz="24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VNI-Duff"/>
              <a:ea typeface="VNI-Duff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123920" y="3867120"/>
            <a:ext cx="2990880" cy="2751120"/>
          </a:xfrm>
          <a:custGeom>
            <a:avLst/>
            <a:gdLst/>
            <a:ahLst/>
            <a:rect l="l" t="t" r="r" b="b"/>
            <a:pathLst>
              <a:path w="1884" h="1733">
                <a:moveTo>
                  <a:pt x="0" y="0"/>
                </a:moveTo>
                <a:cubicBezTo>
                  <a:pt x="15" y="60"/>
                  <a:pt x="34" y="74"/>
                  <a:pt x="72" y="120"/>
                </a:cubicBezTo>
                <a:cubicBezTo>
                  <a:pt x="81" y="131"/>
                  <a:pt x="83" y="151"/>
                  <a:pt x="96" y="156"/>
                </a:cubicBezTo>
                <a:cubicBezTo>
                  <a:pt x="126" y="168"/>
                  <a:pt x="160" y="164"/>
                  <a:pt x="192" y="168"/>
                </a:cubicBezTo>
                <a:cubicBezTo>
                  <a:pt x="219" y="249"/>
                  <a:pt x="177" y="160"/>
                  <a:pt x="276" y="216"/>
                </a:cubicBezTo>
                <a:cubicBezTo>
                  <a:pt x="287" y="222"/>
                  <a:pt x="279" y="243"/>
                  <a:pt x="288" y="252"/>
                </a:cubicBezTo>
                <a:cubicBezTo>
                  <a:pt x="297" y="261"/>
                  <a:pt x="312" y="260"/>
                  <a:pt x="324" y="264"/>
                </a:cubicBezTo>
                <a:cubicBezTo>
                  <a:pt x="354" y="382"/>
                  <a:pt x="463" y="374"/>
                  <a:pt x="564" y="384"/>
                </a:cubicBezTo>
                <a:cubicBezTo>
                  <a:pt x="568" y="396"/>
                  <a:pt x="566" y="413"/>
                  <a:pt x="576" y="420"/>
                </a:cubicBezTo>
                <a:cubicBezTo>
                  <a:pt x="588" y="429"/>
                  <a:pt x="712" y="473"/>
                  <a:pt x="732" y="480"/>
                </a:cubicBezTo>
                <a:cubicBezTo>
                  <a:pt x="762" y="571"/>
                  <a:pt x="705" y="674"/>
                  <a:pt x="792" y="732"/>
                </a:cubicBezTo>
                <a:cubicBezTo>
                  <a:pt x="800" y="744"/>
                  <a:pt x="810" y="755"/>
                  <a:pt x="816" y="768"/>
                </a:cubicBezTo>
                <a:cubicBezTo>
                  <a:pt x="866" y="879"/>
                  <a:pt x="794" y="835"/>
                  <a:pt x="960" y="852"/>
                </a:cubicBezTo>
                <a:cubicBezTo>
                  <a:pt x="1044" y="880"/>
                  <a:pt x="1040" y="852"/>
                  <a:pt x="1020" y="912"/>
                </a:cubicBezTo>
                <a:cubicBezTo>
                  <a:pt x="1008" y="904"/>
                  <a:pt x="997" y="882"/>
                  <a:pt x="984" y="888"/>
                </a:cubicBezTo>
                <a:cubicBezTo>
                  <a:pt x="973" y="894"/>
                  <a:pt x="990" y="913"/>
                  <a:pt x="996" y="924"/>
                </a:cubicBezTo>
                <a:cubicBezTo>
                  <a:pt x="1010" y="949"/>
                  <a:pt x="1044" y="996"/>
                  <a:pt x="1044" y="996"/>
                </a:cubicBezTo>
                <a:cubicBezTo>
                  <a:pt x="1048" y="1040"/>
                  <a:pt x="1043" y="1086"/>
                  <a:pt x="1056" y="1128"/>
                </a:cubicBezTo>
                <a:cubicBezTo>
                  <a:pt x="1060" y="1142"/>
                  <a:pt x="1086" y="1139"/>
                  <a:pt x="1092" y="1152"/>
                </a:cubicBezTo>
                <a:cubicBezTo>
                  <a:pt x="1093" y="1154"/>
                  <a:pt x="1103" y="1244"/>
                  <a:pt x="1116" y="1260"/>
                </a:cubicBezTo>
                <a:cubicBezTo>
                  <a:pt x="1146" y="1297"/>
                  <a:pt x="1219" y="1300"/>
                  <a:pt x="1260" y="1308"/>
                </a:cubicBezTo>
                <a:cubicBezTo>
                  <a:pt x="1287" y="1402"/>
                  <a:pt x="1274" y="1433"/>
                  <a:pt x="1368" y="1464"/>
                </a:cubicBezTo>
                <a:cubicBezTo>
                  <a:pt x="1410" y="1506"/>
                  <a:pt x="1404" y="1528"/>
                  <a:pt x="1452" y="1560"/>
                </a:cubicBezTo>
                <a:cubicBezTo>
                  <a:pt x="1495" y="1688"/>
                  <a:pt x="1884" y="1733"/>
                  <a:pt x="1884" y="1572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09480" y="6248520"/>
            <a:ext cx="7925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2247840" y="-558720"/>
            <a:ext cx="9372600" cy="845820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228600" y="623556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VNI-Helve-Condense"/>
              </a:rPr>
              <a:t>LÖÔÏC ÑOÀ TAÂY SÔN KHÔÛI NGHÓA CHOÁNG CAÙC THEÁ LÖÏC PHONG KIEÁN VAØ CHOÁNG QUAÂN XAÂM LÖÔÏC NÖÔÙC NGOAØ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496200" y="36720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VNI-Helve-Condense"/>
              </a:rPr>
              <a:t>QUY NHÔ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562720" y="2838600"/>
            <a:ext cx="152280" cy="1332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791320" y="266688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VNI-Helve-Condense"/>
              </a:rPr>
              <a:t>PHUÙ XUAÂ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0" y="8827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VNI-Helve-Condense"/>
              </a:rPr>
              <a:t>THAÊNG LO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610160" y="1200240"/>
            <a:ext cx="228600" cy="1522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257800" y="5105520"/>
            <a:ext cx="152280" cy="759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724280" y="481320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VNI-Helve-Condense"/>
              </a:rPr>
              <a:t>GIA ÑÒN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0880" y="457200"/>
            <a:ext cx="198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VNI-Helve-Condense"/>
              </a:rPr>
              <a:t>Quaân Xieâm keùo         vaøo nöôùc 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1295280"/>
            <a:ext cx="512640" cy="401760"/>
          </a:xfrm>
          <a:custGeom>
            <a:avLst/>
            <a:gdLst/>
            <a:ahLst/>
            <a:rect l="l" t="t" r="r" b="b"/>
            <a:pathLst>
              <a:path w="323" h="253">
                <a:moveTo>
                  <a:pt x="65" y="25"/>
                </a:moveTo>
                <a:cubicBezTo>
                  <a:pt x="54" y="33"/>
                  <a:pt x="0" y="61"/>
                  <a:pt x="5" y="85"/>
                </a:cubicBezTo>
                <a:cubicBezTo>
                  <a:pt x="8" y="99"/>
                  <a:pt x="30" y="100"/>
                  <a:pt x="41" y="109"/>
                </a:cubicBezTo>
                <a:cubicBezTo>
                  <a:pt x="54" y="120"/>
                  <a:pt x="65" y="133"/>
                  <a:pt x="77" y="145"/>
                </a:cubicBezTo>
                <a:cubicBezTo>
                  <a:pt x="73" y="157"/>
                  <a:pt x="71" y="170"/>
                  <a:pt x="65" y="181"/>
                </a:cubicBezTo>
                <a:cubicBezTo>
                  <a:pt x="59" y="194"/>
                  <a:pt x="36" y="203"/>
                  <a:pt x="41" y="217"/>
                </a:cubicBezTo>
                <a:cubicBezTo>
                  <a:pt x="47" y="236"/>
                  <a:pt x="73" y="241"/>
                  <a:pt x="89" y="253"/>
                </a:cubicBezTo>
                <a:cubicBezTo>
                  <a:pt x="125" y="248"/>
                  <a:pt x="201" y="246"/>
                  <a:pt x="209" y="217"/>
                </a:cubicBezTo>
                <a:cubicBezTo>
                  <a:pt x="215" y="197"/>
                  <a:pt x="201" y="177"/>
                  <a:pt x="197" y="157"/>
                </a:cubicBezTo>
                <a:cubicBezTo>
                  <a:pt x="229" y="141"/>
                  <a:pt x="323" y="129"/>
                  <a:pt x="293" y="109"/>
                </a:cubicBezTo>
                <a:cubicBezTo>
                  <a:pt x="213" y="56"/>
                  <a:pt x="165" y="0"/>
                  <a:pt x="65" y="25"/>
                </a:cubicBezTo>
                <a:close/>
              </a:path>
            </a:pathLst>
          </a:custGeom>
          <a:solidFill>
            <a:srgbClr val="fa66da"/>
          </a:solidFill>
          <a:ln w="12600">
            <a:solidFill>
              <a:srgbClr val="fa66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57200" y="1295280"/>
            <a:ext cx="198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VNI-Helve-Condense"/>
              </a:rPr>
              <a:t>Vuøng bò quaân Xieâm chieá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419720" y="5410080"/>
            <a:ext cx="75960" cy="763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724280" y="5410080"/>
            <a:ext cx="76320" cy="763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181480" y="5257800"/>
            <a:ext cx="76320" cy="763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464160" y="3886200"/>
            <a:ext cx="190800" cy="763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30720" y="516888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VNI-Helve-Condense"/>
              </a:rPr>
              <a:t>MYÕ TH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902120" y="5202360"/>
            <a:ext cx="281160" cy="93600"/>
          </a:xfrm>
          <a:custGeom>
            <a:avLst/>
            <a:gdLst/>
            <a:ahLst/>
            <a:rect l="l" t="t" r="r" b="b"/>
            <a:pathLst>
              <a:path w="177" h="59">
                <a:moveTo>
                  <a:pt x="168" y="59"/>
                </a:moveTo>
                <a:cubicBezTo>
                  <a:pt x="148" y="0"/>
                  <a:pt x="177" y="59"/>
                  <a:pt x="136" y="43"/>
                </a:cubicBezTo>
                <a:cubicBezTo>
                  <a:pt x="127" y="39"/>
                  <a:pt x="125" y="27"/>
                  <a:pt x="120" y="19"/>
                </a:cubicBezTo>
                <a:cubicBezTo>
                  <a:pt x="115" y="27"/>
                  <a:pt x="114" y="42"/>
                  <a:pt x="104" y="43"/>
                </a:cubicBezTo>
                <a:cubicBezTo>
                  <a:pt x="87" y="45"/>
                  <a:pt x="56" y="27"/>
                  <a:pt x="56" y="27"/>
                </a:cubicBezTo>
                <a:cubicBezTo>
                  <a:pt x="4" y="44"/>
                  <a:pt x="20" y="31"/>
                  <a:pt x="0" y="51"/>
                </a:cubicBezTo>
              </a:path>
            </a:pathLst>
          </a:custGeom>
          <a:noFill/>
          <a:ln w="38160">
            <a:solidFill>
              <a:srgbClr val="008e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09880" y="5410080"/>
            <a:ext cx="9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VNI-Helve-Condense"/>
              </a:rPr>
              <a:t>RAÏCH GIA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72000" y="54100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VNI-Helve-Condense"/>
              </a:rPr>
              <a:t>CAÀN THÔ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971800" y="30481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VNI-Helve-Condense"/>
              </a:rPr>
              <a:t>XIEÂ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06440" y="21337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VNI-Helve-Condense"/>
              </a:rPr>
              <a:t>Ñöôøng tieán quaân cuûa Nguyeãn Hueä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6320" y="3048120"/>
            <a:ext cx="457200" cy="93600"/>
          </a:xfrm>
          <a:custGeom>
            <a:avLst/>
            <a:gdLst/>
            <a:ahLst/>
            <a:rect l="l" t="t" r="r" b="b"/>
            <a:pathLst>
              <a:path w="177" h="59">
                <a:moveTo>
                  <a:pt x="168" y="59"/>
                </a:moveTo>
                <a:cubicBezTo>
                  <a:pt x="148" y="0"/>
                  <a:pt x="177" y="59"/>
                  <a:pt x="136" y="43"/>
                </a:cubicBezTo>
                <a:cubicBezTo>
                  <a:pt x="127" y="39"/>
                  <a:pt x="125" y="27"/>
                  <a:pt x="120" y="19"/>
                </a:cubicBezTo>
                <a:cubicBezTo>
                  <a:pt x="115" y="27"/>
                  <a:pt x="114" y="42"/>
                  <a:pt x="104" y="43"/>
                </a:cubicBezTo>
                <a:cubicBezTo>
                  <a:pt x="87" y="45"/>
                  <a:pt x="56" y="27"/>
                  <a:pt x="56" y="27"/>
                </a:cubicBezTo>
                <a:cubicBezTo>
                  <a:pt x="4" y="44"/>
                  <a:pt x="20" y="31"/>
                  <a:pt x="0" y="51"/>
                </a:cubicBezTo>
              </a:path>
            </a:pathLst>
          </a:custGeom>
          <a:noFill/>
          <a:ln w="57240">
            <a:solidFill>
              <a:srgbClr val="008e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33520" y="2895480"/>
            <a:ext cx="167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VNI-Helve-Condense"/>
              </a:rPr>
              <a:t>Soâng Tieà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5260680" y="3784680"/>
            <a:ext cx="1490040" cy="1543320"/>
            <a:chOff x="5260680" y="3784680"/>
            <a:chExt cx="1490040" cy="1543320"/>
          </a:xfrm>
        </p:grpSpPr>
        <p:sp>
          <p:nvSpPr>
            <p:cNvPr id="302" name=""/>
            <p:cNvSpPr/>
            <p:nvPr/>
          </p:nvSpPr>
          <p:spPr>
            <a:xfrm>
              <a:off x="5564160" y="3784680"/>
              <a:ext cx="106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ff"/>
                  </a:solidFill>
                  <a:latin typeface="VNI-Helve-Condense"/>
                </a:rPr>
                <a:t>1/178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 rot="9168000">
              <a:off x="5244480" y="5020560"/>
              <a:ext cx="814320" cy="128160"/>
            </a:xfrm>
            <a:custGeom>
              <a:avLst/>
              <a:gdLst/>
              <a:ahLst/>
              <a:rect l="l" t="t" r="r" b="b"/>
              <a:pathLst>
                <a:path w="5052" h="1071">
                  <a:moveTo>
                    <a:pt x="665" y="722"/>
                  </a:moveTo>
                  <a:lnTo>
                    <a:pt x="777" y="503"/>
                  </a:lnTo>
                  <a:lnTo>
                    <a:pt x="2692" y="612"/>
                  </a:lnTo>
                  <a:lnTo>
                    <a:pt x="3386" y="810"/>
                  </a:lnTo>
                  <a:lnTo>
                    <a:pt x="4331" y="1071"/>
                  </a:lnTo>
                  <a:lnTo>
                    <a:pt x="3871" y="509"/>
                  </a:lnTo>
                  <a:lnTo>
                    <a:pt x="5052" y="263"/>
                  </a:lnTo>
                  <a:lnTo>
                    <a:pt x="3442" y="109"/>
                  </a:lnTo>
                  <a:lnTo>
                    <a:pt x="2692" y="88"/>
                  </a:lnTo>
                  <a:lnTo>
                    <a:pt x="860" y="263"/>
                  </a:lnTo>
                  <a:lnTo>
                    <a:pt x="638" y="0"/>
                  </a:lnTo>
                  <a:lnTo>
                    <a:pt x="0" y="438"/>
                  </a:lnTo>
                  <a:lnTo>
                    <a:pt x="638" y="70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 rot="7865400">
              <a:off x="5802120" y="4343760"/>
              <a:ext cx="1072800" cy="156600"/>
            </a:xfrm>
            <a:custGeom>
              <a:avLst/>
              <a:gdLst/>
              <a:ahLst/>
              <a:rect l="l" t="t" r="r" b="b"/>
              <a:pathLst>
                <a:path w="5052" h="1071">
                  <a:moveTo>
                    <a:pt x="665" y="722"/>
                  </a:moveTo>
                  <a:lnTo>
                    <a:pt x="777" y="503"/>
                  </a:lnTo>
                  <a:lnTo>
                    <a:pt x="2692" y="612"/>
                  </a:lnTo>
                  <a:lnTo>
                    <a:pt x="3386" y="810"/>
                  </a:lnTo>
                  <a:lnTo>
                    <a:pt x="4331" y="1071"/>
                  </a:lnTo>
                  <a:lnTo>
                    <a:pt x="3871" y="509"/>
                  </a:lnTo>
                  <a:lnTo>
                    <a:pt x="5052" y="263"/>
                  </a:lnTo>
                  <a:lnTo>
                    <a:pt x="3442" y="109"/>
                  </a:lnTo>
                  <a:lnTo>
                    <a:pt x="2692" y="88"/>
                  </a:lnTo>
                  <a:lnTo>
                    <a:pt x="860" y="263"/>
                  </a:lnTo>
                  <a:lnTo>
                    <a:pt x="638" y="0"/>
                  </a:lnTo>
                  <a:lnTo>
                    <a:pt x="0" y="438"/>
                  </a:lnTo>
                  <a:lnTo>
                    <a:pt x="638" y="70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 rot="10800000">
            <a:off x="-3240" y="588960"/>
            <a:ext cx="403200" cy="114480"/>
          </a:xfrm>
          <a:custGeom>
            <a:avLst/>
            <a:gdLst/>
            <a:ahLst/>
            <a:rect l="l" t="t" r="r" b="b"/>
            <a:pathLst>
              <a:path w="5052" h="1071">
                <a:moveTo>
                  <a:pt x="665" y="722"/>
                </a:moveTo>
                <a:lnTo>
                  <a:pt x="777" y="503"/>
                </a:lnTo>
                <a:lnTo>
                  <a:pt x="2692" y="612"/>
                </a:lnTo>
                <a:lnTo>
                  <a:pt x="3386" y="810"/>
                </a:lnTo>
                <a:lnTo>
                  <a:pt x="4331" y="1071"/>
                </a:lnTo>
                <a:lnTo>
                  <a:pt x="3871" y="509"/>
                </a:lnTo>
                <a:lnTo>
                  <a:pt x="5052" y="263"/>
                </a:lnTo>
                <a:lnTo>
                  <a:pt x="3442" y="109"/>
                </a:lnTo>
                <a:lnTo>
                  <a:pt x="2692" y="88"/>
                </a:lnTo>
                <a:lnTo>
                  <a:pt x="860" y="263"/>
                </a:lnTo>
                <a:lnTo>
                  <a:pt x="638" y="0"/>
                </a:lnTo>
                <a:lnTo>
                  <a:pt x="0" y="438"/>
                </a:lnTo>
                <a:lnTo>
                  <a:pt x="638" y="700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rot="10422600">
            <a:off x="23400" y="2250360"/>
            <a:ext cx="397080" cy="157320"/>
          </a:xfrm>
          <a:custGeom>
            <a:avLst/>
            <a:gdLst/>
            <a:ahLst/>
            <a:rect l="l" t="t" r="r" b="b"/>
            <a:pathLst>
              <a:path w="5052" h="1071">
                <a:moveTo>
                  <a:pt x="665" y="722"/>
                </a:moveTo>
                <a:lnTo>
                  <a:pt x="777" y="503"/>
                </a:lnTo>
                <a:lnTo>
                  <a:pt x="2692" y="612"/>
                </a:lnTo>
                <a:lnTo>
                  <a:pt x="3386" y="810"/>
                </a:lnTo>
                <a:lnTo>
                  <a:pt x="4331" y="1071"/>
                </a:lnTo>
                <a:lnTo>
                  <a:pt x="3871" y="509"/>
                </a:lnTo>
                <a:lnTo>
                  <a:pt x="5052" y="263"/>
                </a:lnTo>
                <a:lnTo>
                  <a:pt x="3442" y="109"/>
                </a:lnTo>
                <a:lnTo>
                  <a:pt x="2692" y="88"/>
                </a:lnTo>
                <a:lnTo>
                  <a:pt x="860" y="263"/>
                </a:lnTo>
                <a:lnTo>
                  <a:pt x="638" y="0"/>
                </a:lnTo>
                <a:lnTo>
                  <a:pt x="0" y="438"/>
                </a:lnTo>
                <a:lnTo>
                  <a:pt x="638" y="700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4076640" y="5067360"/>
            <a:ext cx="2241360" cy="1190160"/>
            <a:chOff x="4076640" y="5067360"/>
            <a:chExt cx="2241360" cy="1190160"/>
          </a:xfrm>
        </p:grpSpPr>
        <p:sp>
          <p:nvSpPr>
            <p:cNvPr id="308" name=""/>
            <p:cNvSpPr/>
            <p:nvPr/>
          </p:nvSpPr>
          <p:spPr>
            <a:xfrm>
              <a:off x="4076640" y="5067360"/>
              <a:ext cx="1079280" cy="936720"/>
            </a:xfrm>
            <a:custGeom>
              <a:avLst/>
              <a:gdLst/>
              <a:ahLst/>
              <a:rect l="l" t="t" r="r" b="b"/>
              <a:pathLst>
                <a:path w="680" h="590">
                  <a:moveTo>
                    <a:pt x="392" y="126"/>
                  </a:moveTo>
                  <a:cubicBezTo>
                    <a:pt x="389" y="150"/>
                    <a:pt x="395" y="176"/>
                    <a:pt x="384" y="198"/>
                  </a:cubicBezTo>
                  <a:cubicBezTo>
                    <a:pt x="383" y="200"/>
                    <a:pt x="320" y="169"/>
                    <a:pt x="312" y="166"/>
                  </a:cubicBezTo>
                  <a:cubicBezTo>
                    <a:pt x="283" y="122"/>
                    <a:pt x="286" y="69"/>
                    <a:pt x="240" y="38"/>
                  </a:cubicBezTo>
                  <a:cubicBezTo>
                    <a:pt x="235" y="30"/>
                    <a:pt x="233" y="18"/>
                    <a:pt x="224" y="14"/>
                  </a:cubicBezTo>
                  <a:cubicBezTo>
                    <a:pt x="189" y="0"/>
                    <a:pt x="192" y="66"/>
                    <a:pt x="184" y="78"/>
                  </a:cubicBezTo>
                  <a:cubicBezTo>
                    <a:pt x="175" y="91"/>
                    <a:pt x="150" y="97"/>
                    <a:pt x="136" y="102"/>
                  </a:cubicBezTo>
                  <a:cubicBezTo>
                    <a:pt x="91" y="169"/>
                    <a:pt x="25" y="84"/>
                    <a:pt x="0" y="158"/>
                  </a:cubicBezTo>
                  <a:cubicBezTo>
                    <a:pt x="64" y="200"/>
                    <a:pt x="29" y="193"/>
                    <a:pt x="104" y="182"/>
                  </a:cubicBezTo>
                  <a:cubicBezTo>
                    <a:pt x="173" y="199"/>
                    <a:pt x="171" y="184"/>
                    <a:pt x="192" y="246"/>
                  </a:cubicBezTo>
                  <a:cubicBezTo>
                    <a:pt x="176" y="257"/>
                    <a:pt x="160" y="267"/>
                    <a:pt x="144" y="278"/>
                  </a:cubicBezTo>
                  <a:cubicBezTo>
                    <a:pt x="136" y="283"/>
                    <a:pt x="120" y="294"/>
                    <a:pt x="120" y="294"/>
                  </a:cubicBezTo>
                  <a:cubicBezTo>
                    <a:pt x="72" y="366"/>
                    <a:pt x="77" y="461"/>
                    <a:pt x="104" y="542"/>
                  </a:cubicBezTo>
                  <a:cubicBezTo>
                    <a:pt x="101" y="555"/>
                    <a:pt x="92" y="569"/>
                    <a:pt x="96" y="582"/>
                  </a:cubicBezTo>
                  <a:cubicBezTo>
                    <a:pt x="99" y="590"/>
                    <a:pt x="112" y="590"/>
                    <a:pt x="120" y="590"/>
                  </a:cubicBezTo>
                  <a:cubicBezTo>
                    <a:pt x="140" y="590"/>
                    <a:pt x="152" y="574"/>
                    <a:pt x="168" y="566"/>
                  </a:cubicBezTo>
                  <a:cubicBezTo>
                    <a:pt x="193" y="554"/>
                    <a:pt x="234" y="553"/>
                    <a:pt x="256" y="550"/>
                  </a:cubicBezTo>
                  <a:cubicBezTo>
                    <a:pt x="259" y="542"/>
                    <a:pt x="259" y="533"/>
                    <a:pt x="264" y="526"/>
                  </a:cubicBezTo>
                  <a:cubicBezTo>
                    <a:pt x="270" y="518"/>
                    <a:pt x="284" y="519"/>
                    <a:pt x="288" y="510"/>
                  </a:cubicBezTo>
                  <a:cubicBezTo>
                    <a:pt x="295" y="495"/>
                    <a:pt x="289" y="477"/>
                    <a:pt x="296" y="462"/>
                  </a:cubicBezTo>
                  <a:cubicBezTo>
                    <a:pt x="314" y="426"/>
                    <a:pt x="375" y="441"/>
                    <a:pt x="416" y="438"/>
                  </a:cubicBezTo>
                  <a:cubicBezTo>
                    <a:pt x="436" y="378"/>
                    <a:pt x="481" y="395"/>
                    <a:pt x="544" y="390"/>
                  </a:cubicBezTo>
                  <a:cubicBezTo>
                    <a:pt x="560" y="385"/>
                    <a:pt x="589" y="391"/>
                    <a:pt x="592" y="374"/>
                  </a:cubicBezTo>
                  <a:cubicBezTo>
                    <a:pt x="595" y="358"/>
                    <a:pt x="586" y="335"/>
                    <a:pt x="600" y="326"/>
                  </a:cubicBezTo>
                  <a:cubicBezTo>
                    <a:pt x="623" y="312"/>
                    <a:pt x="653" y="321"/>
                    <a:pt x="680" y="318"/>
                  </a:cubicBezTo>
                  <a:cubicBezTo>
                    <a:pt x="669" y="286"/>
                    <a:pt x="655" y="280"/>
                    <a:pt x="624" y="270"/>
                  </a:cubicBezTo>
                  <a:cubicBezTo>
                    <a:pt x="595" y="227"/>
                    <a:pt x="563" y="206"/>
                    <a:pt x="520" y="182"/>
                  </a:cubicBezTo>
                  <a:cubicBezTo>
                    <a:pt x="466" y="152"/>
                    <a:pt x="453" y="126"/>
                    <a:pt x="392" y="126"/>
                  </a:cubicBezTo>
                  <a:close/>
                </a:path>
              </a:pathLst>
            </a:custGeom>
            <a:solidFill>
              <a:srgbClr val="fa66da"/>
            </a:solidFill>
            <a:ln w="12600">
              <a:solidFill>
                <a:srgbClr val="fa66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9" name=""/>
            <p:cNvGrpSpPr/>
            <p:nvPr/>
          </p:nvGrpSpPr>
          <p:grpSpPr>
            <a:xfrm>
              <a:off x="5321160" y="5670720"/>
              <a:ext cx="996840" cy="586800"/>
              <a:chOff x="5321160" y="5670720"/>
              <a:chExt cx="996840" cy="586800"/>
            </a:xfrm>
          </p:grpSpPr>
          <p:sp>
            <p:nvSpPr>
              <p:cNvPr id="310" name=""/>
              <p:cNvSpPr/>
              <p:nvPr/>
            </p:nvSpPr>
            <p:spPr>
              <a:xfrm rot="5255400">
                <a:off x="5582520" y="5499720"/>
                <a:ext cx="534960" cy="914400"/>
              </a:xfrm>
              <a:prstGeom prst="wedgeRoundRectCallout">
                <a:avLst>
                  <a:gd name="adj1" fmla="val -78703"/>
                  <a:gd name="adj2" fmla="val 81319"/>
                  <a:gd name="adj3" fmla="val 16667"/>
                </a:avLst>
              </a:prstGeom>
              <a:solidFill>
                <a:srgbClr val="ffffff"/>
              </a:solidFill>
              <a:ln w="12600">
                <a:solidFill>
                  <a:srgbClr val="00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321160" y="5676840"/>
                <a:ext cx="9907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.VnAvant"/>
                  </a:rPr>
                  <a:t>Cuèi 1784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2" name=""/>
          <p:cNvGrpSpPr/>
          <p:nvPr/>
        </p:nvGrpSpPr>
        <p:grpSpPr>
          <a:xfrm>
            <a:off x="2664000" y="3314880"/>
            <a:ext cx="2109240" cy="2158560"/>
            <a:chOff x="2664000" y="3314880"/>
            <a:chExt cx="2109240" cy="2158560"/>
          </a:xfrm>
        </p:grpSpPr>
        <p:grpSp>
          <p:nvGrpSpPr>
            <p:cNvPr id="313" name=""/>
            <p:cNvGrpSpPr/>
            <p:nvPr/>
          </p:nvGrpSpPr>
          <p:grpSpPr>
            <a:xfrm>
              <a:off x="3252600" y="3393360"/>
              <a:ext cx="1520640" cy="2034360"/>
              <a:chOff x="3252600" y="3393360"/>
              <a:chExt cx="1520640" cy="2034360"/>
            </a:xfrm>
          </p:grpSpPr>
          <p:sp>
            <p:nvSpPr>
              <p:cNvPr id="314" name=""/>
              <p:cNvSpPr/>
              <p:nvPr/>
            </p:nvSpPr>
            <p:spPr>
              <a:xfrm flipV="1" rot="13962000">
                <a:off x="3909240" y="4911480"/>
                <a:ext cx="1003320" cy="145800"/>
              </a:xfrm>
              <a:custGeom>
                <a:avLst/>
                <a:gdLst/>
                <a:ahLst/>
                <a:rect l="l" t="t" r="r" b="b"/>
                <a:pathLst>
                  <a:path w="5052" h="1071">
                    <a:moveTo>
                      <a:pt x="665" y="722"/>
                    </a:moveTo>
                    <a:lnTo>
                      <a:pt x="777" y="503"/>
                    </a:lnTo>
                    <a:lnTo>
                      <a:pt x="2692" y="612"/>
                    </a:lnTo>
                    <a:lnTo>
                      <a:pt x="3386" y="810"/>
                    </a:lnTo>
                    <a:lnTo>
                      <a:pt x="4331" y="1071"/>
                    </a:lnTo>
                    <a:lnTo>
                      <a:pt x="3871" y="509"/>
                    </a:lnTo>
                    <a:lnTo>
                      <a:pt x="5052" y="263"/>
                    </a:lnTo>
                    <a:lnTo>
                      <a:pt x="3442" y="109"/>
                    </a:lnTo>
                    <a:lnTo>
                      <a:pt x="2692" y="88"/>
                    </a:lnTo>
                    <a:lnTo>
                      <a:pt x="860" y="263"/>
                    </a:lnTo>
                    <a:lnTo>
                      <a:pt x="638" y="0"/>
                    </a:lnTo>
                    <a:lnTo>
                      <a:pt x="0" y="438"/>
                    </a:lnTo>
                    <a:lnTo>
                      <a:pt x="638" y="70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V="1" rot="14338200">
                <a:off x="3047760" y="3903480"/>
                <a:ext cx="1353960" cy="287280"/>
              </a:xfrm>
              <a:custGeom>
                <a:avLst/>
                <a:gdLst/>
                <a:ahLst/>
                <a:rect l="l" t="t" r="r" b="b"/>
                <a:pathLst>
                  <a:path w="5052" h="1071">
                    <a:moveTo>
                      <a:pt x="665" y="722"/>
                    </a:moveTo>
                    <a:lnTo>
                      <a:pt x="777" y="503"/>
                    </a:lnTo>
                    <a:lnTo>
                      <a:pt x="2692" y="612"/>
                    </a:lnTo>
                    <a:lnTo>
                      <a:pt x="3386" y="810"/>
                    </a:lnTo>
                    <a:lnTo>
                      <a:pt x="4331" y="1071"/>
                    </a:lnTo>
                    <a:lnTo>
                      <a:pt x="3871" y="509"/>
                    </a:lnTo>
                    <a:lnTo>
                      <a:pt x="5052" y="263"/>
                    </a:lnTo>
                    <a:lnTo>
                      <a:pt x="3442" y="109"/>
                    </a:lnTo>
                    <a:lnTo>
                      <a:pt x="2692" y="88"/>
                    </a:lnTo>
                    <a:lnTo>
                      <a:pt x="860" y="263"/>
                    </a:lnTo>
                    <a:lnTo>
                      <a:pt x="638" y="0"/>
                    </a:lnTo>
                    <a:lnTo>
                      <a:pt x="0" y="438"/>
                    </a:lnTo>
                    <a:lnTo>
                      <a:pt x="638" y="70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2664000" y="3314880"/>
              <a:ext cx="1736280" cy="2158560"/>
              <a:chOff x="2664000" y="3314880"/>
              <a:chExt cx="1736280" cy="2158560"/>
            </a:xfrm>
          </p:grpSpPr>
          <p:grpSp>
            <p:nvGrpSpPr>
              <p:cNvPr id="317" name=""/>
              <p:cNvGrpSpPr/>
              <p:nvPr/>
            </p:nvGrpSpPr>
            <p:grpSpPr>
              <a:xfrm>
                <a:off x="2664000" y="4791240"/>
                <a:ext cx="1736280" cy="682200"/>
                <a:chOff x="2664000" y="4791240"/>
                <a:chExt cx="1736280" cy="682200"/>
              </a:xfrm>
            </p:grpSpPr>
            <p:sp>
              <p:nvSpPr>
                <p:cNvPr id="318" name=""/>
                <p:cNvSpPr/>
                <p:nvPr/>
              </p:nvSpPr>
              <p:spPr>
                <a:xfrm rot="12032400">
                  <a:off x="2666880" y="4971600"/>
                  <a:ext cx="1067040" cy="209520"/>
                </a:xfrm>
                <a:custGeom>
                  <a:avLst/>
                  <a:gdLst/>
                  <a:ahLst/>
                  <a:rect l="l" t="t" r="r" b="b"/>
                  <a:pathLst>
                    <a:path w="5052" h="1071">
                      <a:moveTo>
                        <a:pt x="665" y="722"/>
                      </a:moveTo>
                      <a:lnTo>
                        <a:pt x="777" y="503"/>
                      </a:lnTo>
                      <a:lnTo>
                        <a:pt x="2692" y="612"/>
                      </a:lnTo>
                      <a:lnTo>
                        <a:pt x="3386" y="810"/>
                      </a:lnTo>
                      <a:lnTo>
                        <a:pt x="4331" y="1071"/>
                      </a:lnTo>
                      <a:lnTo>
                        <a:pt x="3871" y="509"/>
                      </a:lnTo>
                      <a:lnTo>
                        <a:pt x="5052" y="263"/>
                      </a:lnTo>
                      <a:lnTo>
                        <a:pt x="3442" y="109"/>
                      </a:lnTo>
                      <a:lnTo>
                        <a:pt x="2692" y="88"/>
                      </a:lnTo>
                      <a:lnTo>
                        <a:pt x="860" y="263"/>
                      </a:lnTo>
                      <a:lnTo>
                        <a:pt x="638" y="0"/>
                      </a:lnTo>
                      <a:lnTo>
                        <a:pt x="0" y="438"/>
                      </a:lnTo>
                      <a:lnTo>
                        <a:pt x="638" y="700"/>
                      </a:ln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 rot="11451000">
                  <a:off x="3707640" y="5276880"/>
                  <a:ext cx="685800" cy="133200"/>
                </a:xfrm>
                <a:custGeom>
                  <a:avLst/>
                  <a:gdLst/>
                  <a:ahLst/>
                  <a:rect l="l" t="t" r="r" b="b"/>
                  <a:pathLst>
                    <a:path w="5052" h="1071">
                      <a:moveTo>
                        <a:pt x="665" y="722"/>
                      </a:moveTo>
                      <a:lnTo>
                        <a:pt x="777" y="503"/>
                      </a:lnTo>
                      <a:lnTo>
                        <a:pt x="2692" y="612"/>
                      </a:lnTo>
                      <a:lnTo>
                        <a:pt x="3386" y="810"/>
                      </a:lnTo>
                      <a:lnTo>
                        <a:pt x="4331" y="1071"/>
                      </a:lnTo>
                      <a:lnTo>
                        <a:pt x="3871" y="509"/>
                      </a:lnTo>
                      <a:lnTo>
                        <a:pt x="5052" y="263"/>
                      </a:lnTo>
                      <a:lnTo>
                        <a:pt x="3442" y="109"/>
                      </a:lnTo>
                      <a:lnTo>
                        <a:pt x="2692" y="88"/>
                      </a:lnTo>
                      <a:lnTo>
                        <a:pt x="860" y="263"/>
                      </a:lnTo>
                      <a:lnTo>
                        <a:pt x="638" y="0"/>
                      </a:lnTo>
                      <a:lnTo>
                        <a:pt x="0" y="438"/>
                      </a:lnTo>
                      <a:lnTo>
                        <a:pt x="638" y="700"/>
                      </a:ln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30600" y="3314880"/>
                <a:ext cx="8380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.VnAvant"/>
                  </a:rPr>
                  <a:t>Gi÷a 178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6" dur="3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" dur="3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3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123920" y="3867120"/>
            <a:ext cx="2990880" cy="2751120"/>
          </a:xfrm>
          <a:custGeom>
            <a:avLst/>
            <a:gdLst/>
            <a:ahLst/>
            <a:rect l="l" t="t" r="r" b="b"/>
            <a:pathLst>
              <a:path w="1884" h="1733">
                <a:moveTo>
                  <a:pt x="0" y="0"/>
                </a:moveTo>
                <a:cubicBezTo>
                  <a:pt x="15" y="60"/>
                  <a:pt x="34" y="74"/>
                  <a:pt x="72" y="120"/>
                </a:cubicBezTo>
                <a:cubicBezTo>
                  <a:pt x="81" y="131"/>
                  <a:pt x="83" y="151"/>
                  <a:pt x="96" y="156"/>
                </a:cubicBezTo>
                <a:cubicBezTo>
                  <a:pt x="126" y="168"/>
                  <a:pt x="160" y="164"/>
                  <a:pt x="192" y="168"/>
                </a:cubicBezTo>
                <a:cubicBezTo>
                  <a:pt x="219" y="249"/>
                  <a:pt x="177" y="160"/>
                  <a:pt x="276" y="216"/>
                </a:cubicBezTo>
                <a:cubicBezTo>
                  <a:pt x="287" y="222"/>
                  <a:pt x="279" y="243"/>
                  <a:pt x="288" y="252"/>
                </a:cubicBezTo>
                <a:cubicBezTo>
                  <a:pt x="297" y="261"/>
                  <a:pt x="312" y="260"/>
                  <a:pt x="324" y="264"/>
                </a:cubicBezTo>
                <a:cubicBezTo>
                  <a:pt x="354" y="382"/>
                  <a:pt x="463" y="374"/>
                  <a:pt x="564" y="384"/>
                </a:cubicBezTo>
                <a:cubicBezTo>
                  <a:pt x="568" y="396"/>
                  <a:pt x="566" y="413"/>
                  <a:pt x="576" y="420"/>
                </a:cubicBezTo>
                <a:cubicBezTo>
                  <a:pt x="588" y="429"/>
                  <a:pt x="712" y="473"/>
                  <a:pt x="732" y="480"/>
                </a:cubicBezTo>
                <a:cubicBezTo>
                  <a:pt x="762" y="571"/>
                  <a:pt x="705" y="674"/>
                  <a:pt x="792" y="732"/>
                </a:cubicBezTo>
                <a:cubicBezTo>
                  <a:pt x="800" y="744"/>
                  <a:pt x="810" y="755"/>
                  <a:pt x="816" y="768"/>
                </a:cubicBezTo>
                <a:cubicBezTo>
                  <a:pt x="866" y="879"/>
                  <a:pt x="794" y="835"/>
                  <a:pt x="960" y="852"/>
                </a:cubicBezTo>
                <a:cubicBezTo>
                  <a:pt x="1044" y="880"/>
                  <a:pt x="1040" y="852"/>
                  <a:pt x="1020" y="912"/>
                </a:cubicBezTo>
                <a:cubicBezTo>
                  <a:pt x="1008" y="904"/>
                  <a:pt x="997" y="882"/>
                  <a:pt x="984" y="888"/>
                </a:cubicBezTo>
                <a:cubicBezTo>
                  <a:pt x="973" y="894"/>
                  <a:pt x="990" y="913"/>
                  <a:pt x="996" y="924"/>
                </a:cubicBezTo>
                <a:cubicBezTo>
                  <a:pt x="1010" y="949"/>
                  <a:pt x="1044" y="996"/>
                  <a:pt x="1044" y="996"/>
                </a:cubicBezTo>
                <a:cubicBezTo>
                  <a:pt x="1048" y="1040"/>
                  <a:pt x="1043" y="1086"/>
                  <a:pt x="1056" y="1128"/>
                </a:cubicBezTo>
                <a:cubicBezTo>
                  <a:pt x="1060" y="1142"/>
                  <a:pt x="1086" y="1139"/>
                  <a:pt x="1092" y="1152"/>
                </a:cubicBezTo>
                <a:cubicBezTo>
                  <a:pt x="1093" y="1154"/>
                  <a:pt x="1103" y="1244"/>
                  <a:pt x="1116" y="1260"/>
                </a:cubicBezTo>
                <a:cubicBezTo>
                  <a:pt x="1146" y="1297"/>
                  <a:pt x="1219" y="1300"/>
                  <a:pt x="1260" y="1308"/>
                </a:cubicBezTo>
                <a:cubicBezTo>
                  <a:pt x="1287" y="1402"/>
                  <a:pt x="1274" y="1433"/>
                  <a:pt x="1368" y="1464"/>
                </a:cubicBezTo>
                <a:cubicBezTo>
                  <a:pt x="1410" y="1506"/>
                  <a:pt x="1404" y="1528"/>
                  <a:pt x="1452" y="1560"/>
                </a:cubicBezTo>
                <a:cubicBezTo>
                  <a:pt x="1495" y="1688"/>
                  <a:pt x="1884" y="1733"/>
                  <a:pt x="1884" y="1572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09480" y="6248520"/>
            <a:ext cx="7925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2247840" y="-558720"/>
            <a:ext cx="9372600" cy="845820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228600" y="623556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VNI-Helve-Condense"/>
              </a:rPr>
              <a:t>LÖÔÏC ÑOÀ TAÂY SÔN KHÔÛI NGHÓA CHOÁNG CAÙC THEÁ LÖÏC PHONG KIEÁN VAØ CHOÁNG QUAÂN XAÂM LÖÔÏC NÖÔÙC NGOAØ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496200" y="36720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VNI-Helve-Condense"/>
              </a:rPr>
              <a:t>QUY NHÔ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562720" y="2838600"/>
            <a:ext cx="152280" cy="1332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791320" y="266688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VNI-Helve-Condense"/>
              </a:rPr>
              <a:t>PHUÙ XUAÂ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572000" y="8827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VNI-Helve-Condense"/>
              </a:rPr>
              <a:t>THAÊNG LO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610160" y="1200240"/>
            <a:ext cx="228600" cy="1522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257800" y="5105520"/>
            <a:ext cx="152280" cy="759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724280" y="481320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VNI-Helve-Condense"/>
              </a:rPr>
              <a:t>GIA ÑÒN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80880" y="457200"/>
            <a:ext cx="198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VNI-Helve-Condense"/>
              </a:rPr>
              <a:t>Quaân Xieâm keùo         vaøo nöôùc 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1295280"/>
            <a:ext cx="512640" cy="401760"/>
          </a:xfrm>
          <a:custGeom>
            <a:avLst/>
            <a:gdLst/>
            <a:ahLst/>
            <a:rect l="l" t="t" r="r" b="b"/>
            <a:pathLst>
              <a:path w="323" h="253">
                <a:moveTo>
                  <a:pt x="65" y="25"/>
                </a:moveTo>
                <a:cubicBezTo>
                  <a:pt x="54" y="33"/>
                  <a:pt x="0" y="61"/>
                  <a:pt x="5" y="85"/>
                </a:cubicBezTo>
                <a:cubicBezTo>
                  <a:pt x="8" y="99"/>
                  <a:pt x="30" y="100"/>
                  <a:pt x="41" y="109"/>
                </a:cubicBezTo>
                <a:cubicBezTo>
                  <a:pt x="54" y="120"/>
                  <a:pt x="65" y="133"/>
                  <a:pt x="77" y="145"/>
                </a:cubicBezTo>
                <a:cubicBezTo>
                  <a:pt x="73" y="157"/>
                  <a:pt x="71" y="170"/>
                  <a:pt x="65" y="181"/>
                </a:cubicBezTo>
                <a:cubicBezTo>
                  <a:pt x="59" y="194"/>
                  <a:pt x="36" y="203"/>
                  <a:pt x="41" y="217"/>
                </a:cubicBezTo>
                <a:cubicBezTo>
                  <a:pt x="47" y="236"/>
                  <a:pt x="73" y="241"/>
                  <a:pt x="89" y="253"/>
                </a:cubicBezTo>
                <a:cubicBezTo>
                  <a:pt x="125" y="248"/>
                  <a:pt x="201" y="246"/>
                  <a:pt x="209" y="217"/>
                </a:cubicBezTo>
                <a:cubicBezTo>
                  <a:pt x="215" y="197"/>
                  <a:pt x="201" y="177"/>
                  <a:pt x="197" y="157"/>
                </a:cubicBezTo>
                <a:cubicBezTo>
                  <a:pt x="229" y="141"/>
                  <a:pt x="323" y="129"/>
                  <a:pt x="293" y="109"/>
                </a:cubicBezTo>
                <a:cubicBezTo>
                  <a:pt x="213" y="56"/>
                  <a:pt x="165" y="0"/>
                  <a:pt x="65" y="25"/>
                </a:cubicBezTo>
                <a:close/>
              </a:path>
            </a:pathLst>
          </a:custGeom>
          <a:solidFill>
            <a:srgbClr val="fa66da"/>
          </a:solidFill>
          <a:ln w="12600">
            <a:solidFill>
              <a:srgbClr val="fa66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" y="1295280"/>
            <a:ext cx="198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VNI-Helve-Condense"/>
              </a:rPr>
              <a:t>Vuøng bò quaân Xieâm chieá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419720" y="5410080"/>
            <a:ext cx="75960" cy="763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724280" y="5410080"/>
            <a:ext cx="76320" cy="763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181480" y="5257800"/>
            <a:ext cx="76320" cy="763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464160" y="3886200"/>
            <a:ext cx="190800" cy="763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130720" y="516888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VNI-Helve-Condense"/>
              </a:rPr>
              <a:t>MYÕ TH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902120" y="5202360"/>
            <a:ext cx="281160" cy="93600"/>
          </a:xfrm>
          <a:custGeom>
            <a:avLst/>
            <a:gdLst/>
            <a:ahLst/>
            <a:rect l="l" t="t" r="r" b="b"/>
            <a:pathLst>
              <a:path w="177" h="59">
                <a:moveTo>
                  <a:pt x="168" y="59"/>
                </a:moveTo>
                <a:cubicBezTo>
                  <a:pt x="148" y="0"/>
                  <a:pt x="177" y="59"/>
                  <a:pt x="136" y="43"/>
                </a:cubicBezTo>
                <a:cubicBezTo>
                  <a:pt x="127" y="39"/>
                  <a:pt x="125" y="27"/>
                  <a:pt x="120" y="19"/>
                </a:cubicBezTo>
                <a:cubicBezTo>
                  <a:pt x="115" y="27"/>
                  <a:pt x="114" y="42"/>
                  <a:pt x="104" y="43"/>
                </a:cubicBezTo>
                <a:cubicBezTo>
                  <a:pt x="87" y="45"/>
                  <a:pt x="56" y="27"/>
                  <a:pt x="56" y="27"/>
                </a:cubicBezTo>
                <a:cubicBezTo>
                  <a:pt x="4" y="44"/>
                  <a:pt x="20" y="31"/>
                  <a:pt x="0" y="51"/>
                </a:cubicBezTo>
              </a:path>
            </a:pathLst>
          </a:custGeom>
          <a:noFill/>
          <a:ln w="38160">
            <a:solidFill>
              <a:srgbClr val="008e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09880" y="5410080"/>
            <a:ext cx="9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VNI-Helve-Condense"/>
              </a:rPr>
              <a:t>RAÏCH GIA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572000" y="54100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VNI-Helve-Condense"/>
              </a:rPr>
              <a:t>CAÀN THÔ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971800" y="30481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VNI-Helve-Condense"/>
              </a:rPr>
              <a:t>XIEÂ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06440" y="21337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VNI-Helve-Condense"/>
              </a:rPr>
              <a:t>Ñöôøng tieán quaân cuûa Nguyeãn Hueä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6320" y="3048120"/>
            <a:ext cx="457200" cy="93600"/>
          </a:xfrm>
          <a:custGeom>
            <a:avLst/>
            <a:gdLst/>
            <a:ahLst/>
            <a:rect l="l" t="t" r="r" b="b"/>
            <a:pathLst>
              <a:path w="177" h="59">
                <a:moveTo>
                  <a:pt x="168" y="59"/>
                </a:moveTo>
                <a:cubicBezTo>
                  <a:pt x="148" y="0"/>
                  <a:pt x="177" y="59"/>
                  <a:pt x="136" y="43"/>
                </a:cubicBezTo>
                <a:cubicBezTo>
                  <a:pt x="127" y="39"/>
                  <a:pt x="125" y="27"/>
                  <a:pt x="120" y="19"/>
                </a:cubicBezTo>
                <a:cubicBezTo>
                  <a:pt x="115" y="27"/>
                  <a:pt x="114" y="42"/>
                  <a:pt x="104" y="43"/>
                </a:cubicBezTo>
                <a:cubicBezTo>
                  <a:pt x="87" y="45"/>
                  <a:pt x="56" y="27"/>
                  <a:pt x="56" y="27"/>
                </a:cubicBezTo>
                <a:cubicBezTo>
                  <a:pt x="4" y="44"/>
                  <a:pt x="20" y="31"/>
                  <a:pt x="0" y="51"/>
                </a:cubicBezTo>
              </a:path>
            </a:pathLst>
          </a:custGeom>
          <a:noFill/>
          <a:ln w="57240">
            <a:solidFill>
              <a:srgbClr val="008e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33520" y="2895480"/>
            <a:ext cx="167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VNI-Helve-Condense"/>
              </a:rPr>
              <a:t>Soâng Tieà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5260680" y="3784680"/>
            <a:ext cx="1490040" cy="1543320"/>
            <a:chOff x="5260680" y="3784680"/>
            <a:chExt cx="1490040" cy="1543320"/>
          </a:xfrm>
        </p:grpSpPr>
        <p:sp>
          <p:nvSpPr>
            <p:cNvPr id="348" name=""/>
            <p:cNvSpPr/>
            <p:nvPr/>
          </p:nvSpPr>
          <p:spPr>
            <a:xfrm>
              <a:off x="5564160" y="3784680"/>
              <a:ext cx="106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ff"/>
                  </a:solidFill>
                  <a:latin typeface="VNI-Helve-Condense"/>
                </a:rPr>
                <a:t>1/178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 rot="9168000">
              <a:off x="5244480" y="5020560"/>
              <a:ext cx="814320" cy="128160"/>
            </a:xfrm>
            <a:custGeom>
              <a:avLst/>
              <a:gdLst/>
              <a:ahLst/>
              <a:rect l="l" t="t" r="r" b="b"/>
              <a:pathLst>
                <a:path w="5052" h="1071">
                  <a:moveTo>
                    <a:pt x="665" y="722"/>
                  </a:moveTo>
                  <a:lnTo>
                    <a:pt x="777" y="503"/>
                  </a:lnTo>
                  <a:lnTo>
                    <a:pt x="2692" y="612"/>
                  </a:lnTo>
                  <a:lnTo>
                    <a:pt x="3386" y="810"/>
                  </a:lnTo>
                  <a:lnTo>
                    <a:pt x="4331" y="1071"/>
                  </a:lnTo>
                  <a:lnTo>
                    <a:pt x="3871" y="509"/>
                  </a:lnTo>
                  <a:lnTo>
                    <a:pt x="5052" y="263"/>
                  </a:lnTo>
                  <a:lnTo>
                    <a:pt x="3442" y="109"/>
                  </a:lnTo>
                  <a:lnTo>
                    <a:pt x="2692" y="88"/>
                  </a:lnTo>
                  <a:lnTo>
                    <a:pt x="860" y="263"/>
                  </a:lnTo>
                  <a:lnTo>
                    <a:pt x="638" y="0"/>
                  </a:lnTo>
                  <a:lnTo>
                    <a:pt x="0" y="438"/>
                  </a:lnTo>
                  <a:lnTo>
                    <a:pt x="638" y="70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 rot="7865400">
              <a:off x="5802120" y="4343760"/>
              <a:ext cx="1072800" cy="156600"/>
            </a:xfrm>
            <a:custGeom>
              <a:avLst/>
              <a:gdLst/>
              <a:ahLst/>
              <a:rect l="l" t="t" r="r" b="b"/>
              <a:pathLst>
                <a:path w="5052" h="1071">
                  <a:moveTo>
                    <a:pt x="665" y="722"/>
                  </a:moveTo>
                  <a:lnTo>
                    <a:pt x="777" y="503"/>
                  </a:lnTo>
                  <a:lnTo>
                    <a:pt x="2692" y="612"/>
                  </a:lnTo>
                  <a:lnTo>
                    <a:pt x="3386" y="810"/>
                  </a:lnTo>
                  <a:lnTo>
                    <a:pt x="4331" y="1071"/>
                  </a:lnTo>
                  <a:lnTo>
                    <a:pt x="3871" y="509"/>
                  </a:lnTo>
                  <a:lnTo>
                    <a:pt x="5052" y="263"/>
                  </a:lnTo>
                  <a:lnTo>
                    <a:pt x="3442" y="109"/>
                  </a:lnTo>
                  <a:lnTo>
                    <a:pt x="2692" y="88"/>
                  </a:lnTo>
                  <a:lnTo>
                    <a:pt x="860" y="263"/>
                  </a:lnTo>
                  <a:lnTo>
                    <a:pt x="638" y="0"/>
                  </a:lnTo>
                  <a:lnTo>
                    <a:pt x="0" y="438"/>
                  </a:lnTo>
                  <a:lnTo>
                    <a:pt x="638" y="70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 rot="10800000">
            <a:off x="-3240" y="588960"/>
            <a:ext cx="403200" cy="114480"/>
          </a:xfrm>
          <a:custGeom>
            <a:avLst/>
            <a:gdLst/>
            <a:ahLst/>
            <a:rect l="l" t="t" r="r" b="b"/>
            <a:pathLst>
              <a:path w="5052" h="1071">
                <a:moveTo>
                  <a:pt x="665" y="722"/>
                </a:moveTo>
                <a:lnTo>
                  <a:pt x="777" y="503"/>
                </a:lnTo>
                <a:lnTo>
                  <a:pt x="2692" y="612"/>
                </a:lnTo>
                <a:lnTo>
                  <a:pt x="3386" y="810"/>
                </a:lnTo>
                <a:lnTo>
                  <a:pt x="4331" y="1071"/>
                </a:lnTo>
                <a:lnTo>
                  <a:pt x="3871" y="509"/>
                </a:lnTo>
                <a:lnTo>
                  <a:pt x="5052" y="263"/>
                </a:lnTo>
                <a:lnTo>
                  <a:pt x="3442" y="109"/>
                </a:lnTo>
                <a:lnTo>
                  <a:pt x="2692" y="88"/>
                </a:lnTo>
                <a:lnTo>
                  <a:pt x="860" y="263"/>
                </a:lnTo>
                <a:lnTo>
                  <a:pt x="638" y="0"/>
                </a:lnTo>
                <a:lnTo>
                  <a:pt x="0" y="438"/>
                </a:lnTo>
                <a:lnTo>
                  <a:pt x="638" y="700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rot="10422600">
            <a:off x="23400" y="2250360"/>
            <a:ext cx="397080" cy="157320"/>
          </a:xfrm>
          <a:custGeom>
            <a:avLst/>
            <a:gdLst/>
            <a:ahLst/>
            <a:rect l="l" t="t" r="r" b="b"/>
            <a:pathLst>
              <a:path w="5052" h="1071">
                <a:moveTo>
                  <a:pt x="665" y="722"/>
                </a:moveTo>
                <a:lnTo>
                  <a:pt x="777" y="503"/>
                </a:lnTo>
                <a:lnTo>
                  <a:pt x="2692" y="612"/>
                </a:lnTo>
                <a:lnTo>
                  <a:pt x="3386" y="810"/>
                </a:lnTo>
                <a:lnTo>
                  <a:pt x="4331" y="1071"/>
                </a:lnTo>
                <a:lnTo>
                  <a:pt x="3871" y="509"/>
                </a:lnTo>
                <a:lnTo>
                  <a:pt x="5052" y="263"/>
                </a:lnTo>
                <a:lnTo>
                  <a:pt x="3442" y="109"/>
                </a:lnTo>
                <a:lnTo>
                  <a:pt x="2692" y="88"/>
                </a:lnTo>
                <a:lnTo>
                  <a:pt x="860" y="263"/>
                </a:lnTo>
                <a:lnTo>
                  <a:pt x="638" y="0"/>
                </a:lnTo>
                <a:lnTo>
                  <a:pt x="0" y="438"/>
                </a:lnTo>
                <a:lnTo>
                  <a:pt x="638" y="700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4076640" y="5067360"/>
            <a:ext cx="2241360" cy="1190160"/>
            <a:chOff x="4076640" y="5067360"/>
            <a:chExt cx="2241360" cy="1190160"/>
          </a:xfrm>
        </p:grpSpPr>
        <p:sp>
          <p:nvSpPr>
            <p:cNvPr id="354" name=""/>
            <p:cNvSpPr/>
            <p:nvPr/>
          </p:nvSpPr>
          <p:spPr>
            <a:xfrm>
              <a:off x="4076640" y="5067360"/>
              <a:ext cx="1079280" cy="936720"/>
            </a:xfrm>
            <a:custGeom>
              <a:avLst/>
              <a:gdLst/>
              <a:ahLst/>
              <a:rect l="l" t="t" r="r" b="b"/>
              <a:pathLst>
                <a:path w="680" h="590">
                  <a:moveTo>
                    <a:pt x="392" y="126"/>
                  </a:moveTo>
                  <a:cubicBezTo>
                    <a:pt x="389" y="150"/>
                    <a:pt x="395" y="176"/>
                    <a:pt x="384" y="198"/>
                  </a:cubicBezTo>
                  <a:cubicBezTo>
                    <a:pt x="383" y="200"/>
                    <a:pt x="320" y="169"/>
                    <a:pt x="312" y="166"/>
                  </a:cubicBezTo>
                  <a:cubicBezTo>
                    <a:pt x="283" y="122"/>
                    <a:pt x="286" y="69"/>
                    <a:pt x="240" y="38"/>
                  </a:cubicBezTo>
                  <a:cubicBezTo>
                    <a:pt x="235" y="30"/>
                    <a:pt x="233" y="18"/>
                    <a:pt x="224" y="14"/>
                  </a:cubicBezTo>
                  <a:cubicBezTo>
                    <a:pt x="189" y="0"/>
                    <a:pt x="192" y="66"/>
                    <a:pt x="184" y="78"/>
                  </a:cubicBezTo>
                  <a:cubicBezTo>
                    <a:pt x="175" y="91"/>
                    <a:pt x="150" y="97"/>
                    <a:pt x="136" y="102"/>
                  </a:cubicBezTo>
                  <a:cubicBezTo>
                    <a:pt x="91" y="169"/>
                    <a:pt x="25" y="84"/>
                    <a:pt x="0" y="158"/>
                  </a:cubicBezTo>
                  <a:cubicBezTo>
                    <a:pt x="64" y="200"/>
                    <a:pt x="29" y="193"/>
                    <a:pt x="104" y="182"/>
                  </a:cubicBezTo>
                  <a:cubicBezTo>
                    <a:pt x="173" y="199"/>
                    <a:pt x="171" y="184"/>
                    <a:pt x="192" y="246"/>
                  </a:cubicBezTo>
                  <a:cubicBezTo>
                    <a:pt x="176" y="257"/>
                    <a:pt x="160" y="267"/>
                    <a:pt x="144" y="278"/>
                  </a:cubicBezTo>
                  <a:cubicBezTo>
                    <a:pt x="136" y="283"/>
                    <a:pt x="120" y="294"/>
                    <a:pt x="120" y="294"/>
                  </a:cubicBezTo>
                  <a:cubicBezTo>
                    <a:pt x="72" y="366"/>
                    <a:pt x="77" y="461"/>
                    <a:pt x="104" y="542"/>
                  </a:cubicBezTo>
                  <a:cubicBezTo>
                    <a:pt x="101" y="555"/>
                    <a:pt x="92" y="569"/>
                    <a:pt x="96" y="582"/>
                  </a:cubicBezTo>
                  <a:cubicBezTo>
                    <a:pt x="99" y="590"/>
                    <a:pt x="112" y="590"/>
                    <a:pt x="120" y="590"/>
                  </a:cubicBezTo>
                  <a:cubicBezTo>
                    <a:pt x="140" y="590"/>
                    <a:pt x="152" y="574"/>
                    <a:pt x="168" y="566"/>
                  </a:cubicBezTo>
                  <a:cubicBezTo>
                    <a:pt x="193" y="554"/>
                    <a:pt x="234" y="553"/>
                    <a:pt x="256" y="550"/>
                  </a:cubicBezTo>
                  <a:cubicBezTo>
                    <a:pt x="259" y="542"/>
                    <a:pt x="259" y="533"/>
                    <a:pt x="264" y="526"/>
                  </a:cubicBezTo>
                  <a:cubicBezTo>
                    <a:pt x="270" y="518"/>
                    <a:pt x="284" y="519"/>
                    <a:pt x="288" y="510"/>
                  </a:cubicBezTo>
                  <a:cubicBezTo>
                    <a:pt x="295" y="495"/>
                    <a:pt x="289" y="477"/>
                    <a:pt x="296" y="462"/>
                  </a:cubicBezTo>
                  <a:cubicBezTo>
                    <a:pt x="314" y="426"/>
                    <a:pt x="375" y="441"/>
                    <a:pt x="416" y="438"/>
                  </a:cubicBezTo>
                  <a:cubicBezTo>
                    <a:pt x="436" y="378"/>
                    <a:pt x="481" y="395"/>
                    <a:pt x="544" y="390"/>
                  </a:cubicBezTo>
                  <a:cubicBezTo>
                    <a:pt x="560" y="385"/>
                    <a:pt x="589" y="391"/>
                    <a:pt x="592" y="374"/>
                  </a:cubicBezTo>
                  <a:cubicBezTo>
                    <a:pt x="595" y="358"/>
                    <a:pt x="586" y="335"/>
                    <a:pt x="600" y="326"/>
                  </a:cubicBezTo>
                  <a:cubicBezTo>
                    <a:pt x="623" y="312"/>
                    <a:pt x="653" y="321"/>
                    <a:pt x="680" y="318"/>
                  </a:cubicBezTo>
                  <a:cubicBezTo>
                    <a:pt x="669" y="286"/>
                    <a:pt x="655" y="280"/>
                    <a:pt x="624" y="270"/>
                  </a:cubicBezTo>
                  <a:cubicBezTo>
                    <a:pt x="595" y="227"/>
                    <a:pt x="563" y="206"/>
                    <a:pt x="520" y="182"/>
                  </a:cubicBezTo>
                  <a:cubicBezTo>
                    <a:pt x="466" y="152"/>
                    <a:pt x="453" y="126"/>
                    <a:pt x="392" y="126"/>
                  </a:cubicBezTo>
                  <a:close/>
                </a:path>
              </a:pathLst>
            </a:custGeom>
            <a:solidFill>
              <a:srgbClr val="fa66da"/>
            </a:solidFill>
            <a:ln w="12600">
              <a:solidFill>
                <a:srgbClr val="fa66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5321160" y="5670720"/>
              <a:ext cx="996840" cy="586800"/>
              <a:chOff x="5321160" y="5670720"/>
              <a:chExt cx="996840" cy="586800"/>
            </a:xfrm>
          </p:grpSpPr>
          <p:sp>
            <p:nvSpPr>
              <p:cNvPr id="356" name=""/>
              <p:cNvSpPr/>
              <p:nvPr/>
            </p:nvSpPr>
            <p:spPr>
              <a:xfrm rot="5255400">
                <a:off x="5582520" y="5499720"/>
                <a:ext cx="534960" cy="914400"/>
              </a:xfrm>
              <a:prstGeom prst="wedgeRoundRectCallout">
                <a:avLst>
                  <a:gd name="adj1" fmla="val -78703"/>
                  <a:gd name="adj2" fmla="val 81319"/>
                  <a:gd name="adj3" fmla="val 16667"/>
                </a:avLst>
              </a:prstGeom>
              <a:solidFill>
                <a:srgbClr val="ffffff"/>
              </a:solidFill>
              <a:ln w="12600">
                <a:solidFill>
                  <a:srgbClr val="00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321160" y="5676840"/>
                <a:ext cx="9907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.VnAvant"/>
                  </a:rPr>
                  <a:t>Cuèi 1784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8" name=""/>
          <p:cNvGrpSpPr/>
          <p:nvPr/>
        </p:nvGrpSpPr>
        <p:grpSpPr>
          <a:xfrm>
            <a:off x="2664000" y="3314880"/>
            <a:ext cx="2109240" cy="2158560"/>
            <a:chOff x="2664000" y="3314880"/>
            <a:chExt cx="2109240" cy="2158560"/>
          </a:xfrm>
        </p:grpSpPr>
        <p:grpSp>
          <p:nvGrpSpPr>
            <p:cNvPr id="359" name=""/>
            <p:cNvGrpSpPr/>
            <p:nvPr/>
          </p:nvGrpSpPr>
          <p:grpSpPr>
            <a:xfrm>
              <a:off x="3252600" y="3393360"/>
              <a:ext cx="1520640" cy="2034360"/>
              <a:chOff x="3252600" y="3393360"/>
              <a:chExt cx="1520640" cy="2034360"/>
            </a:xfrm>
          </p:grpSpPr>
          <p:sp>
            <p:nvSpPr>
              <p:cNvPr id="360" name=""/>
              <p:cNvSpPr/>
              <p:nvPr/>
            </p:nvSpPr>
            <p:spPr>
              <a:xfrm flipV="1" rot="13962000">
                <a:off x="3909240" y="4911480"/>
                <a:ext cx="1003320" cy="145800"/>
              </a:xfrm>
              <a:custGeom>
                <a:avLst/>
                <a:gdLst/>
                <a:ahLst/>
                <a:rect l="l" t="t" r="r" b="b"/>
                <a:pathLst>
                  <a:path w="5052" h="1071">
                    <a:moveTo>
                      <a:pt x="665" y="722"/>
                    </a:moveTo>
                    <a:lnTo>
                      <a:pt x="777" y="503"/>
                    </a:lnTo>
                    <a:lnTo>
                      <a:pt x="2692" y="612"/>
                    </a:lnTo>
                    <a:lnTo>
                      <a:pt x="3386" y="810"/>
                    </a:lnTo>
                    <a:lnTo>
                      <a:pt x="4331" y="1071"/>
                    </a:lnTo>
                    <a:lnTo>
                      <a:pt x="3871" y="509"/>
                    </a:lnTo>
                    <a:lnTo>
                      <a:pt x="5052" y="263"/>
                    </a:lnTo>
                    <a:lnTo>
                      <a:pt x="3442" y="109"/>
                    </a:lnTo>
                    <a:lnTo>
                      <a:pt x="2692" y="88"/>
                    </a:lnTo>
                    <a:lnTo>
                      <a:pt x="860" y="263"/>
                    </a:lnTo>
                    <a:lnTo>
                      <a:pt x="638" y="0"/>
                    </a:lnTo>
                    <a:lnTo>
                      <a:pt x="0" y="438"/>
                    </a:lnTo>
                    <a:lnTo>
                      <a:pt x="638" y="70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V="1" rot="14338200">
                <a:off x="3047760" y="3903480"/>
                <a:ext cx="1353960" cy="287280"/>
              </a:xfrm>
              <a:custGeom>
                <a:avLst/>
                <a:gdLst/>
                <a:ahLst/>
                <a:rect l="l" t="t" r="r" b="b"/>
                <a:pathLst>
                  <a:path w="5052" h="1071">
                    <a:moveTo>
                      <a:pt x="665" y="722"/>
                    </a:moveTo>
                    <a:lnTo>
                      <a:pt x="777" y="503"/>
                    </a:lnTo>
                    <a:lnTo>
                      <a:pt x="2692" y="612"/>
                    </a:lnTo>
                    <a:lnTo>
                      <a:pt x="3386" y="810"/>
                    </a:lnTo>
                    <a:lnTo>
                      <a:pt x="4331" y="1071"/>
                    </a:lnTo>
                    <a:lnTo>
                      <a:pt x="3871" y="509"/>
                    </a:lnTo>
                    <a:lnTo>
                      <a:pt x="5052" y="263"/>
                    </a:lnTo>
                    <a:lnTo>
                      <a:pt x="3442" y="109"/>
                    </a:lnTo>
                    <a:lnTo>
                      <a:pt x="2692" y="88"/>
                    </a:lnTo>
                    <a:lnTo>
                      <a:pt x="860" y="263"/>
                    </a:lnTo>
                    <a:lnTo>
                      <a:pt x="638" y="0"/>
                    </a:lnTo>
                    <a:lnTo>
                      <a:pt x="0" y="438"/>
                    </a:lnTo>
                    <a:lnTo>
                      <a:pt x="638" y="70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2664000" y="3314880"/>
              <a:ext cx="1736280" cy="2158560"/>
              <a:chOff x="2664000" y="3314880"/>
              <a:chExt cx="1736280" cy="2158560"/>
            </a:xfrm>
          </p:grpSpPr>
          <p:grpSp>
            <p:nvGrpSpPr>
              <p:cNvPr id="363" name=""/>
              <p:cNvGrpSpPr/>
              <p:nvPr/>
            </p:nvGrpSpPr>
            <p:grpSpPr>
              <a:xfrm>
                <a:off x="2664000" y="4791240"/>
                <a:ext cx="1736280" cy="682200"/>
                <a:chOff x="2664000" y="4791240"/>
                <a:chExt cx="1736280" cy="682200"/>
              </a:xfrm>
            </p:grpSpPr>
            <p:sp>
              <p:nvSpPr>
                <p:cNvPr id="364" name=""/>
                <p:cNvSpPr/>
                <p:nvPr/>
              </p:nvSpPr>
              <p:spPr>
                <a:xfrm rot="12032400">
                  <a:off x="2666880" y="4971600"/>
                  <a:ext cx="1067040" cy="209520"/>
                </a:xfrm>
                <a:custGeom>
                  <a:avLst/>
                  <a:gdLst/>
                  <a:ahLst/>
                  <a:rect l="l" t="t" r="r" b="b"/>
                  <a:pathLst>
                    <a:path w="5052" h="1071">
                      <a:moveTo>
                        <a:pt x="665" y="722"/>
                      </a:moveTo>
                      <a:lnTo>
                        <a:pt x="777" y="503"/>
                      </a:lnTo>
                      <a:lnTo>
                        <a:pt x="2692" y="612"/>
                      </a:lnTo>
                      <a:lnTo>
                        <a:pt x="3386" y="810"/>
                      </a:lnTo>
                      <a:lnTo>
                        <a:pt x="4331" y="1071"/>
                      </a:lnTo>
                      <a:lnTo>
                        <a:pt x="3871" y="509"/>
                      </a:lnTo>
                      <a:lnTo>
                        <a:pt x="5052" y="263"/>
                      </a:lnTo>
                      <a:lnTo>
                        <a:pt x="3442" y="109"/>
                      </a:lnTo>
                      <a:lnTo>
                        <a:pt x="2692" y="88"/>
                      </a:lnTo>
                      <a:lnTo>
                        <a:pt x="860" y="263"/>
                      </a:lnTo>
                      <a:lnTo>
                        <a:pt x="638" y="0"/>
                      </a:lnTo>
                      <a:lnTo>
                        <a:pt x="0" y="438"/>
                      </a:lnTo>
                      <a:lnTo>
                        <a:pt x="638" y="700"/>
                      </a:ln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 rot="11451000">
                  <a:off x="3707640" y="5276880"/>
                  <a:ext cx="685800" cy="133200"/>
                </a:xfrm>
                <a:custGeom>
                  <a:avLst/>
                  <a:gdLst/>
                  <a:ahLst/>
                  <a:rect l="l" t="t" r="r" b="b"/>
                  <a:pathLst>
                    <a:path w="5052" h="1071">
                      <a:moveTo>
                        <a:pt x="665" y="722"/>
                      </a:moveTo>
                      <a:lnTo>
                        <a:pt x="777" y="503"/>
                      </a:lnTo>
                      <a:lnTo>
                        <a:pt x="2692" y="612"/>
                      </a:lnTo>
                      <a:lnTo>
                        <a:pt x="3386" y="810"/>
                      </a:lnTo>
                      <a:lnTo>
                        <a:pt x="4331" y="1071"/>
                      </a:lnTo>
                      <a:lnTo>
                        <a:pt x="3871" y="509"/>
                      </a:lnTo>
                      <a:lnTo>
                        <a:pt x="5052" y="263"/>
                      </a:lnTo>
                      <a:lnTo>
                        <a:pt x="3442" y="109"/>
                      </a:lnTo>
                      <a:lnTo>
                        <a:pt x="2692" y="88"/>
                      </a:lnTo>
                      <a:lnTo>
                        <a:pt x="860" y="263"/>
                      </a:lnTo>
                      <a:lnTo>
                        <a:pt x="638" y="0"/>
                      </a:lnTo>
                      <a:lnTo>
                        <a:pt x="0" y="438"/>
                      </a:lnTo>
                      <a:lnTo>
                        <a:pt x="638" y="700"/>
                      </a:ln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6" name=""/>
              <p:cNvSpPr/>
              <p:nvPr/>
            </p:nvSpPr>
            <p:spPr>
              <a:xfrm>
                <a:off x="2730600" y="3314880"/>
                <a:ext cx="8380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.VnAvant"/>
                  </a:rPr>
                  <a:t>Gi÷a 178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3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8" dur="3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3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0" y="-1219320"/>
            <a:ext cx="8839080" cy="683892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447920" y="5105520"/>
            <a:ext cx="617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VNI-Helve-Condense"/>
              </a:rPr>
              <a:t>LÖÔÏC ÑOÀ CHIEÁN THAÉNG RAÏCH GAÀM – XOAØI MUÙ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521320" y="438120"/>
            <a:ext cx="501480" cy="1123920"/>
          </a:xfrm>
          <a:custGeom>
            <a:avLst/>
            <a:gdLst/>
            <a:ahLst/>
            <a:rect l="l" t="t" r="r" b="b"/>
            <a:pathLst>
              <a:path w="316" h="708">
                <a:moveTo>
                  <a:pt x="314" y="708"/>
                </a:moveTo>
                <a:cubicBezTo>
                  <a:pt x="310" y="652"/>
                  <a:pt x="316" y="594"/>
                  <a:pt x="302" y="540"/>
                </a:cubicBezTo>
                <a:cubicBezTo>
                  <a:pt x="299" y="526"/>
                  <a:pt x="273" y="529"/>
                  <a:pt x="266" y="516"/>
                </a:cubicBezTo>
                <a:cubicBezTo>
                  <a:pt x="207" y="412"/>
                  <a:pt x="302" y="488"/>
                  <a:pt x="218" y="432"/>
                </a:cubicBezTo>
                <a:cubicBezTo>
                  <a:pt x="174" y="367"/>
                  <a:pt x="134" y="381"/>
                  <a:pt x="50" y="372"/>
                </a:cubicBezTo>
                <a:cubicBezTo>
                  <a:pt x="34" y="348"/>
                  <a:pt x="0" y="329"/>
                  <a:pt x="2" y="300"/>
                </a:cubicBezTo>
                <a:cubicBezTo>
                  <a:pt x="16" y="72"/>
                  <a:pt x="14" y="172"/>
                  <a:pt x="14" y="0"/>
                </a:cubicBezTo>
              </a:path>
            </a:pathLst>
          </a:custGeom>
          <a:noFill/>
          <a:ln w="12600">
            <a:solidFill>
              <a:srgbClr val="008e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473800" y="68580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VNI-Helve-Condense"/>
              </a:rPr>
              <a:t>XOAØI MUÙ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09480" y="141588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VNI-Helve-Condense"/>
              </a:rPr>
              <a:t>RAÏCH GAÀ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391520" y="533520"/>
            <a:ext cx="13716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NI-Helve-Condense"/>
              </a:rPr>
              <a:t>MÓ TH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172200" y="114300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NI-Helve-Condense"/>
              </a:rPr>
              <a:t>BÌNH ÑÖÙ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-114480" y="838080"/>
            <a:ext cx="8972640" cy="2614680"/>
          </a:xfrm>
          <a:custGeom>
            <a:avLst/>
            <a:gdLst/>
            <a:ahLst/>
            <a:rect l="l" t="t" r="r" b="b"/>
            <a:pathLst>
              <a:path w="5652" h="1647">
                <a:moveTo>
                  <a:pt x="5606" y="1361"/>
                </a:moveTo>
                <a:cubicBezTo>
                  <a:pt x="5582" y="1357"/>
                  <a:pt x="5555" y="1361"/>
                  <a:pt x="5534" y="1349"/>
                </a:cubicBezTo>
                <a:cubicBezTo>
                  <a:pt x="5466" y="1310"/>
                  <a:pt x="5601" y="1293"/>
                  <a:pt x="5474" y="1325"/>
                </a:cubicBezTo>
                <a:cubicBezTo>
                  <a:pt x="5377" y="1314"/>
                  <a:pt x="5296" y="1298"/>
                  <a:pt x="5198" y="1289"/>
                </a:cubicBezTo>
                <a:cubicBezTo>
                  <a:pt x="5138" y="1293"/>
                  <a:pt x="5077" y="1291"/>
                  <a:pt x="5018" y="1301"/>
                </a:cubicBezTo>
                <a:cubicBezTo>
                  <a:pt x="5004" y="1303"/>
                  <a:pt x="4996" y="1322"/>
                  <a:pt x="4982" y="1325"/>
                </a:cubicBezTo>
                <a:cubicBezTo>
                  <a:pt x="4935" y="1334"/>
                  <a:pt x="4886" y="1333"/>
                  <a:pt x="4838" y="1337"/>
                </a:cubicBezTo>
                <a:cubicBezTo>
                  <a:pt x="4694" y="1385"/>
                  <a:pt x="4791" y="1360"/>
                  <a:pt x="4538" y="1373"/>
                </a:cubicBezTo>
                <a:cubicBezTo>
                  <a:pt x="4458" y="1346"/>
                  <a:pt x="4463" y="1398"/>
                  <a:pt x="4394" y="1421"/>
                </a:cubicBezTo>
                <a:cubicBezTo>
                  <a:pt x="4311" y="1393"/>
                  <a:pt x="4409" y="1413"/>
                  <a:pt x="4322" y="1457"/>
                </a:cubicBezTo>
                <a:cubicBezTo>
                  <a:pt x="4311" y="1463"/>
                  <a:pt x="4298" y="1448"/>
                  <a:pt x="4286" y="1445"/>
                </a:cubicBezTo>
                <a:cubicBezTo>
                  <a:pt x="4262" y="1440"/>
                  <a:pt x="4238" y="1437"/>
                  <a:pt x="4214" y="1433"/>
                </a:cubicBezTo>
                <a:cubicBezTo>
                  <a:pt x="4198" y="1384"/>
                  <a:pt x="4179" y="1365"/>
                  <a:pt x="4130" y="1349"/>
                </a:cubicBezTo>
                <a:cubicBezTo>
                  <a:pt x="4121" y="1352"/>
                  <a:pt x="4058" y="1369"/>
                  <a:pt x="4058" y="1385"/>
                </a:cubicBezTo>
                <a:cubicBezTo>
                  <a:pt x="4058" y="1398"/>
                  <a:pt x="4082" y="1395"/>
                  <a:pt x="4094" y="1397"/>
                </a:cubicBezTo>
                <a:cubicBezTo>
                  <a:pt x="4122" y="1403"/>
                  <a:pt x="4150" y="1405"/>
                  <a:pt x="4178" y="1409"/>
                </a:cubicBezTo>
                <a:cubicBezTo>
                  <a:pt x="4114" y="1413"/>
                  <a:pt x="4050" y="1414"/>
                  <a:pt x="3986" y="1421"/>
                </a:cubicBezTo>
                <a:cubicBezTo>
                  <a:pt x="3973" y="1422"/>
                  <a:pt x="3962" y="1435"/>
                  <a:pt x="3950" y="1433"/>
                </a:cubicBezTo>
                <a:cubicBezTo>
                  <a:pt x="3936" y="1431"/>
                  <a:pt x="3926" y="1417"/>
                  <a:pt x="3914" y="1409"/>
                </a:cubicBezTo>
                <a:cubicBezTo>
                  <a:pt x="3854" y="1429"/>
                  <a:pt x="3878" y="1449"/>
                  <a:pt x="3818" y="1469"/>
                </a:cubicBezTo>
                <a:cubicBezTo>
                  <a:pt x="3701" y="1430"/>
                  <a:pt x="3785" y="1437"/>
                  <a:pt x="3710" y="1469"/>
                </a:cubicBezTo>
                <a:cubicBezTo>
                  <a:pt x="3695" y="1475"/>
                  <a:pt x="3678" y="1477"/>
                  <a:pt x="3662" y="1481"/>
                </a:cubicBezTo>
                <a:cubicBezTo>
                  <a:pt x="3592" y="1435"/>
                  <a:pt x="3656" y="1459"/>
                  <a:pt x="3602" y="1493"/>
                </a:cubicBezTo>
                <a:cubicBezTo>
                  <a:pt x="3581" y="1506"/>
                  <a:pt x="3530" y="1517"/>
                  <a:pt x="3530" y="1517"/>
                </a:cubicBezTo>
                <a:cubicBezTo>
                  <a:pt x="3518" y="1529"/>
                  <a:pt x="3510" y="1548"/>
                  <a:pt x="3494" y="1553"/>
                </a:cubicBezTo>
                <a:cubicBezTo>
                  <a:pt x="3482" y="1557"/>
                  <a:pt x="3470" y="1539"/>
                  <a:pt x="3458" y="1541"/>
                </a:cubicBezTo>
                <a:cubicBezTo>
                  <a:pt x="3444" y="1543"/>
                  <a:pt x="3434" y="1557"/>
                  <a:pt x="3422" y="1565"/>
                </a:cubicBezTo>
                <a:cubicBezTo>
                  <a:pt x="3394" y="1561"/>
                  <a:pt x="3366" y="1553"/>
                  <a:pt x="3338" y="1553"/>
                </a:cubicBezTo>
                <a:cubicBezTo>
                  <a:pt x="3325" y="1553"/>
                  <a:pt x="3315" y="1565"/>
                  <a:pt x="3302" y="1565"/>
                </a:cubicBezTo>
                <a:cubicBezTo>
                  <a:pt x="3277" y="1565"/>
                  <a:pt x="3248" y="1541"/>
                  <a:pt x="3230" y="1529"/>
                </a:cubicBezTo>
                <a:cubicBezTo>
                  <a:pt x="3205" y="1537"/>
                  <a:pt x="3184" y="1557"/>
                  <a:pt x="3158" y="1565"/>
                </a:cubicBezTo>
                <a:cubicBezTo>
                  <a:pt x="3131" y="1573"/>
                  <a:pt x="3102" y="1573"/>
                  <a:pt x="3074" y="1577"/>
                </a:cubicBezTo>
                <a:cubicBezTo>
                  <a:pt x="3047" y="1586"/>
                  <a:pt x="2989" y="1607"/>
                  <a:pt x="2966" y="1601"/>
                </a:cubicBezTo>
                <a:cubicBezTo>
                  <a:pt x="2954" y="1598"/>
                  <a:pt x="2963" y="1574"/>
                  <a:pt x="2954" y="1565"/>
                </a:cubicBezTo>
                <a:cubicBezTo>
                  <a:pt x="2934" y="1545"/>
                  <a:pt x="2882" y="1517"/>
                  <a:pt x="2882" y="1517"/>
                </a:cubicBezTo>
                <a:cubicBezTo>
                  <a:pt x="2813" y="1620"/>
                  <a:pt x="2905" y="1499"/>
                  <a:pt x="2822" y="1565"/>
                </a:cubicBezTo>
                <a:cubicBezTo>
                  <a:pt x="2744" y="1627"/>
                  <a:pt x="2852" y="1583"/>
                  <a:pt x="2762" y="1613"/>
                </a:cubicBezTo>
                <a:cubicBezTo>
                  <a:pt x="2754" y="1597"/>
                  <a:pt x="2755" y="1572"/>
                  <a:pt x="2738" y="1565"/>
                </a:cubicBezTo>
                <a:cubicBezTo>
                  <a:pt x="2725" y="1560"/>
                  <a:pt x="2715" y="1583"/>
                  <a:pt x="2702" y="1589"/>
                </a:cubicBezTo>
                <a:cubicBezTo>
                  <a:pt x="2679" y="1599"/>
                  <a:pt x="2630" y="1613"/>
                  <a:pt x="2630" y="1613"/>
                </a:cubicBezTo>
                <a:cubicBezTo>
                  <a:pt x="2602" y="1609"/>
                  <a:pt x="2574" y="1598"/>
                  <a:pt x="2546" y="1601"/>
                </a:cubicBezTo>
                <a:cubicBezTo>
                  <a:pt x="2532" y="1602"/>
                  <a:pt x="2524" y="1624"/>
                  <a:pt x="2510" y="1625"/>
                </a:cubicBezTo>
                <a:cubicBezTo>
                  <a:pt x="2430" y="1628"/>
                  <a:pt x="2350" y="1617"/>
                  <a:pt x="2270" y="1613"/>
                </a:cubicBezTo>
                <a:cubicBezTo>
                  <a:pt x="2063" y="1647"/>
                  <a:pt x="2290" y="1627"/>
                  <a:pt x="2162" y="1601"/>
                </a:cubicBezTo>
                <a:cubicBezTo>
                  <a:pt x="2087" y="1586"/>
                  <a:pt x="2010" y="1588"/>
                  <a:pt x="1934" y="1577"/>
                </a:cubicBezTo>
                <a:cubicBezTo>
                  <a:pt x="1922" y="1565"/>
                  <a:pt x="1912" y="1550"/>
                  <a:pt x="1898" y="1541"/>
                </a:cubicBezTo>
                <a:cubicBezTo>
                  <a:pt x="1887" y="1534"/>
                  <a:pt x="1872" y="1537"/>
                  <a:pt x="1862" y="1529"/>
                </a:cubicBezTo>
                <a:cubicBezTo>
                  <a:pt x="1851" y="1520"/>
                  <a:pt x="1849" y="1502"/>
                  <a:pt x="1838" y="1493"/>
                </a:cubicBezTo>
                <a:cubicBezTo>
                  <a:pt x="1816" y="1474"/>
                  <a:pt x="1766" y="1445"/>
                  <a:pt x="1766" y="1445"/>
                </a:cubicBezTo>
                <a:cubicBezTo>
                  <a:pt x="1710" y="1361"/>
                  <a:pt x="1742" y="1389"/>
                  <a:pt x="1682" y="1349"/>
                </a:cubicBezTo>
                <a:cubicBezTo>
                  <a:pt x="1646" y="1353"/>
                  <a:pt x="1610" y="1354"/>
                  <a:pt x="1574" y="1361"/>
                </a:cubicBezTo>
                <a:cubicBezTo>
                  <a:pt x="1549" y="1366"/>
                  <a:pt x="1502" y="1385"/>
                  <a:pt x="1502" y="1385"/>
                </a:cubicBezTo>
                <a:cubicBezTo>
                  <a:pt x="1358" y="1364"/>
                  <a:pt x="1211" y="1384"/>
                  <a:pt x="1070" y="1349"/>
                </a:cubicBezTo>
                <a:cubicBezTo>
                  <a:pt x="978" y="1364"/>
                  <a:pt x="917" y="1377"/>
                  <a:pt x="818" y="1385"/>
                </a:cubicBezTo>
                <a:cubicBezTo>
                  <a:pt x="779" y="1398"/>
                  <a:pt x="749" y="1420"/>
                  <a:pt x="710" y="1433"/>
                </a:cubicBezTo>
                <a:cubicBezTo>
                  <a:pt x="706" y="1445"/>
                  <a:pt x="708" y="1462"/>
                  <a:pt x="698" y="1469"/>
                </a:cubicBezTo>
                <a:cubicBezTo>
                  <a:pt x="634" y="1514"/>
                  <a:pt x="476" y="1523"/>
                  <a:pt x="410" y="1529"/>
                </a:cubicBezTo>
                <a:cubicBezTo>
                  <a:pt x="327" y="1557"/>
                  <a:pt x="245" y="1577"/>
                  <a:pt x="158" y="1589"/>
                </a:cubicBezTo>
                <a:cubicBezTo>
                  <a:pt x="138" y="1585"/>
                  <a:pt x="100" y="1597"/>
                  <a:pt x="98" y="1577"/>
                </a:cubicBezTo>
                <a:cubicBezTo>
                  <a:pt x="45" y="1099"/>
                  <a:pt x="0" y="1084"/>
                  <a:pt x="146" y="1181"/>
                </a:cubicBezTo>
                <a:cubicBezTo>
                  <a:pt x="230" y="1153"/>
                  <a:pt x="210" y="1181"/>
                  <a:pt x="230" y="1121"/>
                </a:cubicBezTo>
                <a:cubicBezTo>
                  <a:pt x="326" y="1153"/>
                  <a:pt x="206" y="1121"/>
                  <a:pt x="302" y="1121"/>
                </a:cubicBezTo>
                <a:cubicBezTo>
                  <a:pt x="322" y="1121"/>
                  <a:pt x="342" y="1129"/>
                  <a:pt x="362" y="1133"/>
                </a:cubicBezTo>
                <a:cubicBezTo>
                  <a:pt x="394" y="1085"/>
                  <a:pt x="414" y="1075"/>
                  <a:pt x="470" y="1061"/>
                </a:cubicBezTo>
                <a:cubicBezTo>
                  <a:pt x="474" y="1045"/>
                  <a:pt x="472" y="1026"/>
                  <a:pt x="482" y="1013"/>
                </a:cubicBezTo>
                <a:cubicBezTo>
                  <a:pt x="490" y="1003"/>
                  <a:pt x="507" y="1007"/>
                  <a:pt x="518" y="1001"/>
                </a:cubicBezTo>
                <a:cubicBezTo>
                  <a:pt x="531" y="995"/>
                  <a:pt x="542" y="985"/>
                  <a:pt x="554" y="977"/>
                </a:cubicBezTo>
                <a:cubicBezTo>
                  <a:pt x="598" y="910"/>
                  <a:pt x="622" y="948"/>
                  <a:pt x="686" y="905"/>
                </a:cubicBezTo>
                <a:cubicBezTo>
                  <a:pt x="701" y="910"/>
                  <a:pt x="757" y="930"/>
                  <a:pt x="770" y="929"/>
                </a:cubicBezTo>
                <a:cubicBezTo>
                  <a:pt x="819" y="926"/>
                  <a:pt x="914" y="905"/>
                  <a:pt x="914" y="905"/>
                </a:cubicBezTo>
                <a:cubicBezTo>
                  <a:pt x="955" y="946"/>
                  <a:pt x="967" y="959"/>
                  <a:pt x="1022" y="941"/>
                </a:cubicBezTo>
                <a:cubicBezTo>
                  <a:pt x="1067" y="952"/>
                  <a:pt x="1093" y="966"/>
                  <a:pt x="1142" y="941"/>
                </a:cubicBezTo>
                <a:cubicBezTo>
                  <a:pt x="1155" y="935"/>
                  <a:pt x="1155" y="914"/>
                  <a:pt x="1166" y="905"/>
                </a:cubicBezTo>
                <a:cubicBezTo>
                  <a:pt x="1180" y="894"/>
                  <a:pt x="1198" y="889"/>
                  <a:pt x="1214" y="881"/>
                </a:cubicBezTo>
                <a:cubicBezTo>
                  <a:pt x="1201" y="764"/>
                  <a:pt x="1180" y="767"/>
                  <a:pt x="1214" y="665"/>
                </a:cubicBezTo>
                <a:cubicBezTo>
                  <a:pt x="1219" y="649"/>
                  <a:pt x="1246" y="657"/>
                  <a:pt x="1262" y="653"/>
                </a:cubicBezTo>
                <a:cubicBezTo>
                  <a:pt x="1281" y="595"/>
                  <a:pt x="1252" y="554"/>
                  <a:pt x="1238" y="497"/>
                </a:cubicBezTo>
                <a:cubicBezTo>
                  <a:pt x="1255" y="412"/>
                  <a:pt x="1287" y="362"/>
                  <a:pt x="1202" y="305"/>
                </a:cubicBezTo>
                <a:cubicBezTo>
                  <a:pt x="1181" y="242"/>
                  <a:pt x="1183" y="280"/>
                  <a:pt x="1238" y="197"/>
                </a:cubicBezTo>
                <a:cubicBezTo>
                  <a:pt x="1252" y="176"/>
                  <a:pt x="1262" y="125"/>
                  <a:pt x="1262" y="125"/>
                </a:cubicBezTo>
                <a:cubicBezTo>
                  <a:pt x="1258" y="105"/>
                  <a:pt x="1261" y="82"/>
                  <a:pt x="1250" y="65"/>
                </a:cubicBezTo>
                <a:cubicBezTo>
                  <a:pt x="1243" y="54"/>
                  <a:pt x="1223" y="62"/>
                  <a:pt x="1214" y="53"/>
                </a:cubicBezTo>
                <a:cubicBezTo>
                  <a:pt x="1205" y="44"/>
                  <a:pt x="1206" y="29"/>
                  <a:pt x="1202" y="17"/>
                </a:cubicBezTo>
                <a:cubicBezTo>
                  <a:pt x="1214" y="13"/>
                  <a:pt x="1226" y="0"/>
                  <a:pt x="1238" y="5"/>
                </a:cubicBezTo>
                <a:cubicBezTo>
                  <a:pt x="1251" y="10"/>
                  <a:pt x="1251" y="32"/>
                  <a:pt x="1262" y="41"/>
                </a:cubicBezTo>
                <a:cubicBezTo>
                  <a:pt x="1272" y="49"/>
                  <a:pt x="1286" y="49"/>
                  <a:pt x="1298" y="53"/>
                </a:cubicBezTo>
                <a:cubicBezTo>
                  <a:pt x="1362" y="40"/>
                  <a:pt x="1400" y="16"/>
                  <a:pt x="1466" y="5"/>
                </a:cubicBezTo>
                <a:cubicBezTo>
                  <a:pt x="1446" y="104"/>
                  <a:pt x="1478" y="41"/>
                  <a:pt x="1406" y="77"/>
                </a:cubicBezTo>
                <a:cubicBezTo>
                  <a:pt x="1380" y="90"/>
                  <a:pt x="1334" y="125"/>
                  <a:pt x="1334" y="125"/>
                </a:cubicBezTo>
                <a:cubicBezTo>
                  <a:pt x="1326" y="137"/>
                  <a:pt x="1316" y="148"/>
                  <a:pt x="1310" y="161"/>
                </a:cubicBezTo>
                <a:cubicBezTo>
                  <a:pt x="1300" y="184"/>
                  <a:pt x="1286" y="233"/>
                  <a:pt x="1286" y="233"/>
                </a:cubicBezTo>
                <a:cubicBezTo>
                  <a:pt x="1312" y="365"/>
                  <a:pt x="1297" y="314"/>
                  <a:pt x="1322" y="389"/>
                </a:cubicBezTo>
                <a:cubicBezTo>
                  <a:pt x="1318" y="401"/>
                  <a:pt x="1308" y="413"/>
                  <a:pt x="1310" y="425"/>
                </a:cubicBezTo>
                <a:cubicBezTo>
                  <a:pt x="1326" y="518"/>
                  <a:pt x="1352" y="407"/>
                  <a:pt x="1322" y="497"/>
                </a:cubicBezTo>
                <a:cubicBezTo>
                  <a:pt x="1315" y="591"/>
                  <a:pt x="1317" y="703"/>
                  <a:pt x="1262" y="785"/>
                </a:cubicBezTo>
                <a:cubicBezTo>
                  <a:pt x="1266" y="797"/>
                  <a:pt x="1271" y="809"/>
                  <a:pt x="1274" y="821"/>
                </a:cubicBezTo>
                <a:cubicBezTo>
                  <a:pt x="1279" y="837"/>
                  <a:pt x="1271" y="862"/>
                  <a:pt x="1286" y="869"/>
                </a:cubicBezTo>
                <a:cubicBezTo>
                  <a:pt x="1299" y="875"/>
                  <a:pt x="1309" y="851"/>
                  <a:pt x="1322" y="845"/>
                </a:cubicBezTo>
                <a:cubicBezTo>
                  <a:pt x="1333" y="839"/>
                  <a:pt x="1346" y="837"/>
                  <a:pt x="1358" y="833"/>
                </a:cubicBezTo>
                <a:cubicBezTo>
                  <a:pt x="1453" y="845"/>
                  <a:pt x="1541" y="826"/>
                  <a:pt x="1634" y="845"/>
                </a:cubicBezTo>
                <a:cubicBezTo>
                  <a:pt x="1730" y="813"/>
                  <a:pt x="1610" y="845"/>
                  <a:pt x="1706" y="845"/>
                </a:cubicBezTo>
                <a:cubicBezTo>
                  <a:pt x="1722" y="845"/>
                  <a:pt x="1738" y="837"/>
                  <a:pt x="1754" y="833"/>
                </a:cubicBezTo>
                <a:cubicBezTo>
                  <a:pt x="1836" y="778"/>
                  <a:pt x="1735" y="838"/>
                  <a:pt x="1898" y="797"/>
                </a:cubicBezTo>
                <a:cubicBezTo>
                  <a:pt x="1912" y="794"/>
                  <a:pt x="1921" y="779"/>
                  <a:pt x="1934" y="773"/>
                </a:cubicBezTo>
                <a:cubicBezTo>
                  <a:pt x="1945" y="767"/>
                  <a:pt x="1958" y="764"/>
                  <a:pt x="1970" y="761"/>
                </a:cubicBezTo>
                <a:cubicBezTo>
                  <a:pt x="2010" y="752"/>
                  <a:pt x="2090" y="737"/>
                  <a:pt x="2090" y="737"/>
                </a:cubicBezTo>
                <a:cubicBezTo>
                  <a:pt x="2095" y="734"/>
                  <a:pt x="2207" y="678"/>
                  <a:pt x="2210" y="677"/>
                </a:cubicBezTo>
                <a:cubicBezTo>
                  <a:pt x="2273" y="662"/>
                  <a:pt x="2338" y="664"/>
                  <a:pt x="2402" y="653"/>
                </a:cubicBezTo>
                <a:cubicBezTo>
                  <a:pt x="2414" y="641"/>
                  <a:pt x="2422" y="622"/>
                  <a:pt x="2438" y="617"/>
                </a:cubicBezTo>
                <a:cubicBezTo>
                  <a:pt x="2450" y="613"/>
                  <a:pt x="2462" y="633"/>
                  <a:pt x="2474" y="629"/>
                </a:cubicBezTo>
                <a:cubicBezTo>
                  <a:pt x="2503" y="619"/>
                  <a:pt x="2515" y="576"/>
                  <a:pt x="2534" y="557"/>
                </a:cubicBezTo>
                <a:cubicBezTo>
                  <a:pt x="2544" y="547"/>
                  <a:pt x="2558" y="541"/>
                  <a:pt x="2570" y="533"/>
                </a:cubicBezTo>
                <a:cubicBezTo>
                  <a:pt x="2696" y="565"/>
                  <a:pt x="2553" y="545"/>
                  <a:pt x="2642" y="509"/>
                </a:cubicBezTo>
                <a:cubicBezTo>
                  <a:pt x="2672" y="497"/>
                  <a:pt x="2706" y="501"/>
                  <a:pt x="2738" y="497"/>
                </a:cubicBezTo>
                <a:cubicBezTo>
                  <a:pt x="2766" y="441"/>
                  <a:pt x="2753" y="420"/>
                  <a:pt x="2810" y="401"/>
                </a:cubicBezTo>
                <a:cubicBezTo>
                  <a:pt x="2865" y="412"/>
                  <a:pt x="2896" y="419"/>
                  <a:pt x="2942" y="449"/>
                </a:cubicBezTo>
                <a:cubicBezTo>
                  <a:pt x="2962" y="445"/>
                  <a:pt x="2983" y="444"/>
                  <a:pt x="3002" y="437"/>
                </a:cubicBezTo>
                <a:cubicBezTo>
                  <a:pt x="3016" y="432"/>
                  <a:pt x="3024" y="415"/>
                  <a:pt x="3038" y="413"/>
                </a:cubicBezTo>
                <a:cubicBezTo>
                  <a:pt x="3058" y="410"/>
                  <a:pt x="3078" y="421"/>
                  <a:pt x="3098" y="425"/>
                </a:cubicBezTo>
                <a:cubicBezTo>
                  <a:pt x="3185" y="396"/>
                  <a:pt x="3085" y="417"/>
                  <a:pt x="3158" y="449"/>
                </a:cubicBezTo>
                <a:cubicBezTo>
                  <a:pt x="3184" y="460"/>
                  <a:pt x="3214" y="457"/>
                  <a:pt x="3242" y="461"/>
                </a:cubicBezTo>
                <a:cubicBezTo>
                  <a:pt x="3302" y="441"/>
                  <a:pt x="3278" y="421"/>
                  <a:pt x="3338" y="401"/>
                </a:cubicBezTo>
                <a:cubicBezTo>
                  <a:pt x="3404" y="423"/>
                  <a:pt x="3449" y="424"/>
                  <a:pt x="3518" y="413"/>
                </a:cubicBezTo>
                <a:cubicBezTo>
                  <a:pt x="3615" y="445"/>
                  <a:pt x="3729" y="462"/>
                  <a:pt x="3830" y="473"/>
                </a:cubicBezTo>
                <a:cubicBezTo>
                  <a:pt x="3866" y="461"/>
                  <a:pt x="3902" y="449"/>
                  <a:pt x="3938" y="437"/>
                </a:cubicBezTo>
                <a:cubicBezTo>
                  <a:pt x="3950" y="433"/>
                  <a:pt x="3974" y="425"/>
                  <a:pt x="3974" y="425"/>
                </a:cubicBezTo>
                <a:cubicBezTo>
                  <a:pt x="4049" y="475"/>
                  <a:pt x="3971" y="437"/>
                  <a:pt x="4046" y="437"/>
                </a:cubicBezTo>
                <a:cubicBezTo>
                  <a:pt x="4126" y="437"/>
                  <a:pt x="4206" y="455"/>
                  <a:pt x="4286" y="461"/>
                </a:cubicBezTo>
                <a:cubicBezTo>
                  <a:pt x="4346" y="457"/>
                  <a:pt x="4406" y="458"/>
                  <a:pt x="4466" y="449"/>
                </a:cubicBezTo>
                <a:cubicBezTo>
                  <a:pt x="4491" y="445"/>
                  <a:pt x="4513" y="428"/>
                  <a:pt x="4538" y="425"/>
                </a:cubicBezTo>
                <a:cubicBezTo>
                  <a:pt x="4578" y="421"/>
                  <a:pt x="4618" y="417"/>
                  <a:pt x="4658" y="413"/>
                </a:cubicBezTo>
                <a:cubicBezTo>
                  <a:pt x="4761" y="344"/>
                  <a:pt x="4640" y="436"/>
                  <a:pt x="4706" y="353"/>
                </a:cubicBezTo>
                <a:cubicBezTo>
                  <a:pt x="4769" y="274"/>
                  <a:pt x="4905" y="322"/>
                  <a:pt x="5006" y="317"/>
                </a:cubicBezTo>
                <a:cubicBezTo>
                  <a:pt x="4994" y="313"/>
                  <a:pt x="4970" y="318"/>
                  <a:pt x="4970" y="305"/>
                </a:cubicBezTo>
                <a:cubicBezTo>
                  <a:pt x="4970" y="292"/>
                  <a:pt x="4993" y="294"/>
                  <a:pt x="5006" y="293"/>
                </a:cubicBezTo>
                <a:cubicBezTo>
                  <a:pt x="5118" y="281"/>
                  <a:pt x="5230" y="278"/>
                  <a:pt x="5342" y="269"/>
                </a:cubicBezTo>
                <a:cubicBezTo>
                  <a:pt x="5382" y="259"/>
                  <a:pt x="5423" y="258"/>
                  <a:pt x="5462" y="245"/>
                </a:cubicBezTo>
                <a:cubicBezTo>
                  <a:pt x="5476" y="240"/>
                  <a:pt x="5484" y="226"/>
                  <a:pt x="5498" y="221"/>
                </a:cubicBezTo>
                <a:cubicBezTo>
                  <a:pt x="5521" y="213"/>
                  <a:pt x="5546" y="213"/>
                  <a:pt x="5570" y="209"/>
                </a:cubicBezTo>
                <a:cubicBezTo>
                  <a:pt x="5652" y="154"/>
                  <a:pt x="5607" y="225"/>
                  <a:pt x="5606" y="257"/>
                </a:cubicBezTo>
                <a:cubicBezTo>
                  <a:pt x="5598" y="625"/>
                  <a:pt x="5606" y="993"/>
                  <a:pt x="5606" y="1361"/>
                </a:cubicBezTo>
                <a:close/>
              </a:path>
            </a:pathLst>
          </a:custGeom>
          <a:solidFill>
            <a:srgbClr val="75c7ff"/>
          </a:solidFill>
          <a:ln w="12600">
            <a:solidFill>
              <a:srgbClr val="00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962760" y="1905120"/>
            <a:ext cx="1647720" cy="615960"/>
          </a:xfrm>
          <a:custGeom>
            <a:avLst/>
            <a:gdLst/>
            <a:ahLst/>
            <a:rect l="l" t="t" r="r" b="b"/>
            <a:pathLst>
              <a:path w="1038" h="388">
                <a:moveTo>
                  <a:pt x="993" y="196"/>
                </a:moveTo>
                <a:cubicBezTo>
                  <a:pt x="1022" y="110"/>
                  <a:pt x="1038" y="138"/>
                  <a:pt x="981" y="100"/>
                </a:cubicBezTo>
                <a:cubicBezTo>
                  <a:pt x="973" y="88"/>
                  <a:pt x="971" y="69"/>
                  <a:pt x="957" y="64"/>
                </a:cubicBezTo>
                <a:cubicBezTo>
                  <a:pt x="941" y="59"/>
                  <a:pt x="925" y="76"/>
                  <a:pt x="909" y="76"/>
                </a:cubicBezTo>
                <a:cubicBezTo>
                  <a:pt x="877" y="76"/>
                  <a:pt x="845" y="68"/>
                  <a:pt x="813" y="64"/>
                </a:cubicBezTo>
                <a:cubicBezTo>
                  <a:pt x="711" y="30"/>
                  <a:pt x="742" y="46"/>
                  <a:pt x="633" y="64"/>
                </a:cubicBezTo>
                <a:cubicBezTo>
                  <a:pt x="549" y="8"/>
                  <a:pt x="585" y="0"/>
                  <a:pt x="525" y="40"/>
                </a:cubicBezTo>
                <a:cubicBezTo>
                  <a:pt x="457" y="36"/>
                  <a:pt x="389" y="28"/>
                  <a:pt x="321" y="28"/>
                </a:cubicBezTo>
                <a:cubicBezTo>
                  <a:pt x="193" y="28"/>
                  <a:pt x="353" y="60"/>
                  <a:pt x="225" y="28"/>
                </a:cubicBezTo>
                <a:cubicBezTo>
                  <a:pt x="213" y="20"/>
                  <a:pt x="203" y="1"/>
                  <a:pt x="189" y="4"/>
                </a:cubicBezTo>
                <a:cubicBezTo>
                  <a:pt x="175" y="7"/>
                  <a:pt x="175" y="30"/>
                  <a:pt x="165" y="40"/>
                </a:cubicBezTo>
                <a:cubicBezTo>
                  <a:pt x="155" y="50"/>
                  <a:pt x="142" y="58"/>
                  <a:pt x="129" y="64"/>
                </a:cubicBezTo>
                <a:cubicBezTo>
                  <a:pt x="106" y="74"/>
                  <a:pt x="81" y="80"/>
                  <a:pt x="57" y="88"/>
                </a:cubicBezTo>
                <a:cubicBezTo>
                  <a:pt x="45" y="92"/>
                  <a:pt x="21" y="100"/>
                  <a:pt x="21" y="100"/>
                </a:cubicBezTo>
                <a:cubicBezTo>
                  <a:pt x="0" y="163"/>
                  <a:pt x="24" y="195"/>
                  <a:pt x="57" y="244"/>
                </a:cubicBezTo>
                <a:cubicBezTo>
                  <a:pt x="80" y="335"/>
                  <a:pt x="47" y="274"/>
                  <a:pt x="105" y="280"/>
                </a:cubicBezTo>
                <a:cubicBezTo>
                  <a:pt x="130" y="283"/>
                  <a:pt x="177" y="304"/>
                  <a:pt x="177" y="304"/>
                </a:cubicBezTo>
                <a:cubicBezTo>
                  <a:pt x="181" y="316"/>
                  <a:pt x="196" y="373"/>
                  <a:pt x="213" y="376"/>
                </a:cubicBezTo>
                <a:cubicBezTo>
                  <a:pt x="227" y="379"/>
                  <a:pt x="237" y="360"/>
                  <a:pt x="249" y="352"/>
                </a:cubicBezTo>
                <a:cubicBezTo>
                  <a:pt x="265" y="356"/>
                  <a:pt x="282" y="358"/>
                  <a:pt x="297" y="364"/>
                </a:cubicBezTo>
                <a:cubicBezTo>
                  <a:pt x="310" y="370"/>
                  <a:pt x="319" y="388"/>
                  <a:pt x="333" y="388"/>
                </a:cubicBezTo>
                <a:cubicBezTo>
                  <a:pt x="363" y="388"/>
                  <a:pt x="388" y="362"/>
                  <a:pt x="417" y="352"/>
                </a:cubicBezTo>
                <a:cubicBezTo>
                  <a:pt x="441" y="360"/>
                  <a:pt x="465" y="368"/>
                  <a:pt x="489" y="376"/>
                </a:cubicBezTo>
                <a:cubicBezTo>
                  <a:pt x="520" y="386"/>
                  <a:pt x="585" y="352"/>
                  <a:pt x="585" y="352"/>
                </a:cubicBezTo>
                <a:cubicBezTo>
                  <a:pt x="597" y="340"/>
                  <a:pt x="606" y="323"/>
                  <a:pt x="621" y="316"/>
                </a:cubicBezTo>
                <a:cubicBezTo>
                  <a:pt x="651" y="302"/>
                  <a:pt x="717" y="292"/>
                  <a:pt x="717" y="292"/>
                </a:cubicBezTo>
                <a:cubicBezTo>
                  <a:pt x="756" y="266"/>
                  <a:pt x="790" y="253"/>
                  <a:pt x="837" y="244"/>
                </a:cubicBezTo>
                <a:cubicBezTo>
                  <a:pt x="885" y="235"/>
                  <a:pt x="981" y="220"/>
                  <a:pt x="981" y="220"/>
                </a:cubicBezTo>
                <a:cubicBezTo>
                  <a:pt x="1008" y="179"/>
                  <a:pt x="1015" y="174"/>
                  <a:pt x="993" y="19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670280" y="1828800"/>
            <a:ext cx="2033640" cy="909720"/>
          </a:xfrm>
          <a:custGeom>
            <a:avLst/>
            <a:gdLst/>
            <a:ahLst/>
            <a:rect l="l" t="t" r="r" b="b"/>
            <a:pathLst>
              <a:path w="1281" h="573">
                <a:moveTo>
                  <a:pt x="1246" y="369"/>
                </a:moveTo>
                <a:cubicBezTo>
                  <a:pt x="1242" y="345"/>
                  <a:pt x="1246" y="318"/>
                  <a:pt x="1234" y="297"/>
                </a:cubicBezTo>
                <a:cubicBezTo>
                  <a:pt x="1228" y="286"/>
                  <a:pt x="1207" y="294"/>
                  <a:pt x="1198" y="285"/>
                </a:cubicBezTo>
                <a:cubicBezTo>
                  <a:pt x="1172" y="259"/>
                  <a:pt x="1190" y="210"/>
                  <a:pt x="1174" y="177"/>
                </a:cubicBezTo>
                <a:cubicBezTo>
                  <a:pt x="1168" y="164"/>
                  <a:pt x="1150" y="161"/>
                  <a:pt x="1138" y="153"/>
                </a:cubicBezTo>
                <a:cubicBezTo>
                  <a:pt x="1087" y="77"/>
                  <a:pt x="1028" y="92"/>
                  <a:pt x="958" y="45"/>
                </a:cubicBezTo>
                <a:cubicBezTo>
                  <a:pt x="820" y="65"/>
                  <a:pt x="850" y="70"/>
                  <a:pt x="682" y="57"/>
                </a:cubicBezTo>
                <a:cubicBezTo>
                  <a:pt x="633" y="41"/>
                  <a:pt x="598" y="53"/>
                  <a:pt x="550" y="69"/>
                </a:cubicBezTo>
                <a:cubicBezTo>
                  <a:pt x="546" y="57"/>
                  <a:pt x="550" y="38"/>
                  <a:pt x="538" y="33"/>
                </a:cubicBezTo>
                <a:cubicBezTo>
                  <a:pt x="523" y="27"/>
                  <a:pt x="506" y="41"/>
                  <a:pt x="490" y="45"/>
                </a:cubicBezTo>
                <a:cubicBezTo>
                  <a:pt x="403" y="64"/>
                  <a:pt x="458" y="48"/>
                  <a:pt x="394" y="69"/>
                </a:cubicBezTo>
                <a:cubicBezTo>
                  <a:pt x="291" y="0"/>
                  <a:pt x="421" y="74"/>
                  <a:pt x="322" y="57"/>
                </a:cubicBezTo>
                <a:cubicBezTo>
                  <a:pt x="308" y="55"/>
                  <a:pt x="298" y="41"/>
                  <a:pt x="286" y="33"/>
                </a:cubicBezTo>
                <a:cubicBezTo>
                  <a:pt x="206" y="60"/>
                  <a:pt x="128" y="95"/>
                  <a:pt x="58" y="141"/>
                </a:cubicBezTo>
                <a:cubicBezTo>
                  <a:pt x="35" y="176"/>
                  <a:pt x="0" y="231"/>
                  <a:pt x="34" y="273"/>
                </a:cubicBezTo>
                <a:cubicBezTo>
                  <a:pt x="42" y="283"/>
                  <a:pt x="58" y="281"/>
                  <a:pt x="70" y="285"/>
                </a:cubicBezTo>
                <a:cubicBezTo>
                  <a:pt x="123" y="392"/>
                  <a:pt x="57" y="297"/>
                  <a:pt x="142" y="285"/>
                </a:cubicBezTo>
                <a:cubicBezTo>
                  <a:pt x="159" y="283"/>
                  <a:pt x="166" y="309"/>
                  <a:pt x="178" y="321"/>
                </a:cubicBezTo>
                <a:cubicBezTo>
                  <a:pt x="194" y="387"/>
                  <a:pt x="200" y="384"/>
                  <a:pt x="262" y="405"/>
                </a:cubicBezTo>
                <a:cubicBezTo>
                  <a:pt x="291" y="449"/>
                  <a:pt x="309" y="486"/>
                  <a:pt x="322" y="537"/>
                </a:cubicBezTo>
                <a:cubicBezTo>
                  <a:pt x="338" y="529"/>
                  <a:pt x="354" y="520"/>
                  <a:pt x="370" y="513"/>
                </a:cubicBezTo>
                <a:cubicBezTo>
                  <a:pt x="382" y="508"/>
                  <a:pt x="397" y="492"/>
                  <a:pt x="406" y="501"/>
                </a:cubicBezTo>
                <a:cubicBezTo>
                  <a:pt x="424" y="519"/>
                  <a:pt x="430" y="573"/>
                  <a:pt x="430" y="573"/>
                </a:cubicBezTo>
                <a:cubicBezTo>
                  <a:pt x="466" y="519"/>
                  <a:pt x="470" y="512"/>
                  <a:pt x="526" y="549"/>
                </a:cubicBezTo>
                <a:cubicBezTo>
                  <a:pt x="543" y="532"/>
                  <a:pt x="567" y="498"/>
                  <a:pt x="598" y="501"/>
                </a:cubicBezTo>
                <a:cubicBezTo>
                  <a:pt x="623" y="504"/>
                  <a:pt x="670" y="525"/>
                  <a:pt x="670" y="525"/>
                </a:cubicBezTo>
                <a:cubicBezTo>
                  <a:pt x="717" y="494"/>
                  <a:pt x="755" y="500"/>
                  <a:pt x="802" y="477"/>
                </a:cubicBezTo>
                <a:cubicBezTo>
                  <a:pt x="895" y="430"/>
                  <a:pt x="784" y="471"/>
                  <a:pt x="874" y="441"/>
                </a:cubicBezTo>
                <a:cubicBezTo>
                  <a:pt x="957" y="379"/>
                  <a:pt x="1010" y="395"/>
                  <a:pt x="1114" y="405"/>
                </a:cubicBezTo>
                <a:cubicBezTo>
                  <a:pt x="1123" y="411"/>
                  <a:pt x="1169" y="447"/>
                  <a:pt x="1186" y="441"/>
                </a:cubicBezTo>
                <a:cubicBezTo>
                  <a:pt x="1213" y="432"/>
                  <a:pt x="1258" y="393"/>
                  <a:pt x="1258" y="393"/>
                </a:cubicBezTo>
                <a:cubicBezTo>
                  <a:pt x="1273" y="349"/>
                  <a:pt x="1281" y="351"/>
                  <a:pt x="1246" y="369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502160" y="2819520"/>
            <a:ext cx="858960" cy="428400"/>
          </a:xfrm>
          <a:custGeom>
            <a:avLst/>
            <a:gdLst/>
            <a:ahLst/>
            <a:rect l="l" t="t" r="r" b="b"/>
            <a:pathLst>
              <a:path w="541" h="270">
                <a:moveTo>
                  <a:pt x="464" y="120"/>
                </a:moveTo>
                <a:cubicBezTo>
                  <a:pt x="418" y="89"/>
                  <a:pt x="366" y="79"/>
                  <a:pt x="320" y="48"/>
                </a:cubicBezTo>
                <a:cubicBezTo>
                  <a:pt x="276" y="52"/>
                  <a:pt x="232" y="66"/>
                  <a:pt x="188" y="60"/>
                </a:cubicBezTo>
                <a:cubicBezTo>
                  <a:pt x="171" y="58"/>
                  <a:pt x="167" y="32"/>
                  <a:pt x="152" y="24"/>
                </a:cubicBezTo>
                <a:cubicBezTo>
                  <a:pt x="130" y="12"/>
                  <a:pt x="80" y="0"/>
                  <a:pt x="80" y="0"/>
                </a:cubicBezTo>
                <a:cubicBezTo>
                  <a:pt x="64" y="8"/>
                  <a:pt x="43" y="10"/>
                  <a:pt x="32" y="24"/>
                </a:cubicBezTo>
                <a:cubicBezTo>
                  <a:pt x="17" y="44"/>
                  <a:pt x="8" y="96"/>
                  <a:pt x="8" y="96"/>
                </a:cubicBezTo>
                <a:cubicBezTo>
                  <a:pt x="29" y="179"/>
                  <a:pt x="0" y="132"/>
                  <a:pt x="56" y="132"/>
                </a:cubicBezTo>
                <a:cubicBezTo>
                  <a:pt x="72" y="132"/>
                  <a:pt x="88" y="140"/>
                  <a:pt x="104" y="144"/>
                </a:cubicBezTo>
                <a:cubicBezTo>
                  <a:pt x="108" y="156"/>
                  <a:pt x="106" y="173"/>
                  <a:pt x="116" y="180"/>
                </a:cubicBezTo>
                <a:cubicBezTo>
                  <a:pt x="149" y="204"/>
                  <a:pt x="237" y="211"/>
                  <a:pt x="272" y="216"/>
                </a:cubicBezTo>
                <a:cubicBezTo>
                  <a:pt x="280" y="232"/>
                  <a:pt x="279" y="260"/>
                  <a:pt x="296" y="264"/>
                </a:cubicBezTo>
                <a:cubicBezTo>
                  <a:pt x="321" y="270"/>
                  <a:pt x="343" y="243"/>
                  <a:pt x="368" y="240"/>
                </a:cubicBezTo>
                <a:cubicBezTo>
                  <a:pt x="404" y="236"/>
                  <a:pt x="440" y="232"/>
                  <a:pt x="476" y="228"/>
                </a:cubicBezTo>
                <a:cubicBezTo>
                  <a:pt x="533" y="209"/>
                  <a:pt x="541" y="190"/>
                  <a:pt x="524" y="132"/>
                </a:cubicBezTo>
                <a:cubicBezTo>
                  <a:pt x="521" y="120"/>
                  <a:pt x="524" y="98"/>
                  <a:pt x="512" y="96"/>
                </a:cubicBezTo>
                <a:cubicBezTo>
                  <a:pt x="494" y="92"/>
                  <a:pt x="480" y="112"/>
                  <a:pt x="464" y="120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811600" y="2666880"/>
            <a:ext cx="1744560" cy="604800"/>
          </a:xfrm>
          <a:custGeom>
            <a:avLst/>
            <a:gdLst/>
            <a:ahLst/>
            <a:rect l="l" t="t" r="r" b="b"/>
            <a:pathLst>
              <a:path w="1099" h="381">
                <a:moveTo>
                  <a:pt x="1061" y="318"/>
                </a:moveTo>
                <a:cubicBezTo>
                  <a:pt x="974" y="296"/>
                  <a:pt x="917" y="226"/>
                  <a:pt x="833" y="198"/>
                </a:cubicBezTo>
                <a:cubicBezTo>
                  <a:pt x="780" y="119"/>
                  <a:pt x="702" y="127"/>
                  <a:pt x="629" y="78"/>
                </a:cubicBezTo>
                <a:cubicBezTo>
                  <a:pt x="490" y="95"/>
                  <a:pt x="560" y="91"/>
                  <a:pt x="461" y="54"/>
                </a:cubicBezTo>
                <a:cubicBezTo>
                  <a:pt x="415" y="37"/>
                  <a:pt x="254" y="31"/>
                  <a:pt x="245" y="30"/>
                </a:cubicBezTo>
                <a:cubicBezTo>
                  <a:pt x="233" y="22"/>
                  <a:pt x="223" y="8"/>
                  <a:pt x="209" y="6"/>
                </a:cubicBezTo>
                <a:cubicBezTo>
                  <a:pt x="170" y="0"/>
                  <a:pt x="125" y="42"/>
                  <a:pt x="89" y="54"/>
                </a:cubicBezTo>
                <a:cubicBezTo>
                  <a:pt x="65" y="48"/>
                  <a:pt x="22" y="25"/>
                  <a:pt x="5" y="66"/>
                </a:cubicBezTo>
                <a:cubicBezTo>
                  <a:pt x="0" y="78"/>
                  <a:pt x="11" y="91"/>
                  <a:pt x="17" y="102"/>
                </a:cubicBezTo>
                <a:cubicBezTo>
                  <a:pt x="31" y="127"/>
                  <a:pt x="41" y="158"/>
                  <a:pt x="65" y="174"/>
                </a:cubicBezTo>
                <a:cubicBezTo>
                  <a:pt x="89" y="190"/>
                  <a:pt x="137" y="222"/>
                  <a:pt x="137" y="222"/>
                </a:cubicBezTo>
                <a:cubicBezTo>
                  <a:pt x="158" y="285"/>
                  <a:pt x="201" y="299"/>
                  <a:pt x="257" y="318"/>
                </a:cubicBezTo>
                <a:cubicBezTo>
                  <a:pt x="312" y="300"/>
                  <a:pt x="322" y="297"/>
                  <a:pt x="341" y="354"/>
                </a:cubicBezTo>
                <a:cubicBezTo>
                  <a:pt x="353" y="350"/>
                  <a:pt x="366" y="348"/>
                  <a:pt x="377" y="342"/>
                </a:cubicBezTo>
                <a:cubicBezTo>
                  <a:pt x="390" y="336"/>
                  <a:pt x="399" y="318"/>
                  <a:pt x="413" y="318"/>
                </a:cubicBezTo>
                <a:cubicBezTo>
                  <a:pt x="438" y="318"/>
                  <a:pt x="461" y="334"/>
                  <a:pt x="485" y="342"/>
                </a:cubicBezTo>
                <a:cubicBezTo>
                  <a:pt x="497" y="346"/>
                  <a:pt x="521" y="354"/>
                  <a:pt x="521" y="354"/>
                </a:cubicBezTo>
                <a:cubicBezTo>
                  <a:pt x="537" y="350"/>
                  <a:pt x="554" y="336"/>
                  <a:pt x="569" y="342"/>
                </a:cubicBezTo>
                <a:cubicBezTo>
                  <a:pt x="581" y="347"/>
                  <a:pt x="569" y="373"/>
                  <a:pt x="581" y="378"/>
                </a:cubicBezTo>
                <a:cubicBezTo>
                  <a:pt x="588" y="381"/>
                  <a:pt x="654" y="358"/>
                  <a:pt x="665" y="354"/>
                </a:cubicBezTo>
                <a:cubicBezTo>
                  <a:pt x="771" y="369"/>
                  <a:pt x="770" y="380"/>
                  <a:pt x="881" y="366"/>
                </a:cubicBezTo>
                <a:cubicBezTo>
                  <a:pt x="962" y="339"/>
                  <a:pt x="862" y="366"/>
                  <a:pt x="989" y="366"/>
                </a:cubicBezTo>
                <a:cubicBezTo>
                  <a:pt x="1013" y="366"/>
                  <a:pt x="1037" y="358"/>
                  <a:pt x="1061" y="354"/>
                </a:cubicBezTo>
                <a:cubicBezTo>
                  <a:pt x="1089" y="311"/>
                  <a:pt x="1099" y="318"/>
                  <a:pt x="1061" y="318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952880" y="217800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NI-Helve-Condense"/>
              </a:rPr>
              <a:t>Cuø lao Thôùi Sô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162920" y="198108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NI-Helve-Condense"/>
              </a:rPr>
              <a:t>Thôùi Thaïc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819520" y="283860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NI-Helve-Condense"/>
              </a:rPr>
              <a:t>Coàn Baø Kieà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419720" y="289548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NI-Helve-Condense"/>
              </a:rPr>
              <a:t>Boán Thoâ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86000" y="76212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NI-Helve-Condense"/>
              </a:rPr>
              <a:t>CHÔÏ GIÖÕ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943600" y="25909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VNI-Helve-Condense"/>
              </a:rPr>
              <a:t>S OÂ N G  T I EÀ 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09480" y="3962520"/>
            <a:ext cx="27622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VNI-Helve-Condense"/>
              </a:rPr>
              <a:t> </a:t>
            </a:r>
            <a:r>
              <a:rPr b="1" lang="en-US" sz="1800" spc="-1" strike="noStrike">
                <a:solidFill>
                  <a:srgbClr val="3333ff"/>
                </a:solidFill>
                <a:latin typeface="VNI-Helve-Condense"/>
              </a:rPr>
              <a:t>Quaân Taây</a:t>
            </a:r>
            <a:r>
              <a:rPr b="1" lang="en-US" sz="2800" spc="-1" strike="noStrike">
                <a:solidFill>
                  <a:srgbClr val="ffffff"/>
                </a:solidFill>
                <a:latin typeface="VNI-Helve-Condense"/>
              </a:rPr>
              <a:t> </a:t>
            </a:r>
            <a:r>
              <a:rPr b="1" lang="en-US" sz="1800" spc="-1" strike="noStrike">
                <a:solidFill>
                  <a:srgbClr val="3333ff"/>
                </a:solidFill>
                <a:latin typeface="VNI-Helve-Condense"/>
              </a:rPr>
              <a:t>Sôn mai phuïc</a:t>
            </a:r>
            <a:r>
              <a:rPr b="1" lang="en-US" sz="1600" spc="-1" strike="noStrike">
                <a:solidFill>
                  <a:srgbClr val="3333ff"/>
                </a:solidFill>
                <a:latin typeface="VNI-Helve-Condense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28600" y="44956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8e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43080" y="4533840"/>
            <a:ext cx="1440" cy="190440"/>
          </a:xfrm>
          <a:custGeom>
            <a:avLst/>
            <a:gdLst/>
            <a:ahLst/>
            <a:rect l="l" t="t" r="r" b="b"/>
            <a:pathLst>
              <a:path w="1" h="120">
                <a:moveTo>
                  <a:pt x="0" y="0"/>
                </a:moveTo>
                <a:cubicBezTo>
                  <a:pt x="0" y="40"/>
                  <a:pt x="0" y="80"/>
                  <a:pt x="0" y="120"/>
                </a:cubicBezTo>
              </a:path>
            </a:pathLst>
          </a:custGeom>
          <a:solidFill>
            <a:srgbClr val="008eee"/>
          </a:solidFill>
          <a:ln w="12600">
            <a:solidFill>
              <a:srgbClr val="00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61800" y="4521240"/>
            <a:ext cx="171720" cy="144360"/>
          </a:xfrm>
          <a:custGeom>
            <a:avLst/>
            <a:gdLst/>
            <a:ahLst/>
            <a:rect l="l" t="t" r="r" b="b"/>
            <a:pathLst>
              <a:path w="108" h="91">
                <a:moveTo>
                  <a:pt x="0" y="7"/>
                </a:moveTo>
                <a:cubicBezTo>
                  <a:pt x="57" y="26"/>
                  <a:pt x="51" y="0"/>
                  <a:pt x="108" y="19"/>
                </a:cubicBezTo>
                <a:cubicBezTo>
                  <a:pt x="27" y="73"/>
                  <a:pt x="56" y="47"/>
                  <a:pt x="12" y="91"/>
                </a:cubicBezTo>
              </a:path>
            </a:pathLst>
          </a:custGeom>
          <a:noFill/>
          <a:ln w="12600">
            <a:solidFill>
              <a:srgbClr val="008e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09480" y="44197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VNI-Helve-Condense"/>
              </a:rPr>
              <a:t>Ñaïi baûn doanh cuûa Taây Sô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62520" y="39625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-360" y="4952880"/>
            <a:ext cx="3962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495760" y="369720"/>
            <a:ext cx="584280" cy="1204920"/>
          </a:xfrm>
          <a:custGeom>
            <a:avLst/>
            <a:gdLst/>
            <a:ahLst/>
            <a:rect l="l" t="t" r="r" b="b"/>
            <a:pathLst>
              <a:path w="368" h="759">
                <a:moveTo>
                  <a:pt x="266" y="7"/>
                </a:moveTo>
                <a:cubicBezTo>
                  <a:pt x="179" y="12"/>
                  <a:pt x="149" y="0"/>
                  <a:pt x="90" y="39"/>
                </a:cubicBezTo>
                <a:cubicBezTo>
                  <a:pt x="85" y="47"/>
                  <a:pt x="74" y="53"/>
                  <a:pt x="74" y="63"/>
                </a:cubicBezTo>
                <a:cubicBezTo>
                  <a:pt x="74" y="80"/>
                  <a:pt x="90" y="111"/>
                  <a:pt x="90" y="111"/>
                </a:cubicBezTo>
                <a:cubicBezTo>
                  <a:pt x="75" y="184"/>
                  <a:pt x="41" y="302"/>
                  <a:pt x="114" y="351"/>
                </a:cubicBezTo>
                <a:cubicBezTo>
                  <a:pt x="129" y="396"/>
                  <a:pt x="188" y="429"/>
                  <a:pt x="226" y="455"/>
                </a:cubicBezTo>
                <a:cubicBezTo>
                  <a:pt x="242" y="466"/>
                  <a:pt x="274" y="487"/>
                  <a:pt x="274" y="487"/>
                </a:cubicBezTo>
                <a:cubicBezTo>
                  <a:pt x="310" y="541"/>
                  <a:pt x="296" y="585"/>
                  <a:pt x="322" y="631"/>
                </a:cubicBezTo>
                <a:cubicBezTo>
                  <a:pt x="368" y="714"/>
                  <a:pt x="344" y="649"/>
                  <a:pt x="362" y="703"/>
                </a:cubicBezTo>
                <a:cubicBezTo>
                  <a:pt x="359" y="714"/>
                  <a:pt x="363" y="729"/>
                  <a:pt x="354" y="735"/>
                </a:cubicBezTo>
                <a:cubicBezTo>
                  <a:pt x="329" y="752"/>
                  <a:pt x="295" y="749"/>
                  <a:pt x="266" y="759"/>
                </a:cubicBezTo>
                <a:cubicBezTo>
                  <a:pt x="190" y="721"/>
                  <a:pt x="221" y="741"/>
                  <a:pt x="170" y="703"/>
                </a:cubicBezTo>
                <a:cubicBezTo>
                  <a:pt x="186" y="692"/>
                  <a:pt x="227" y="688"/>
                  <a:pt x="218" y="671"/>
                </a:cubicBezTo>
                <a:cubicBezTo>
                  <a:pt x="189" y="612"/>
                  <a:pt x="158" y="557"/>
                  <a:pt x="122" y="503"/>
                </a:cubicBezTo>
                <a:cubicBezTo>
                  <a:pt x="115" y="493"/>
                  <a:pt x="114" y="479"/>
                  <a:pt x="106" y="471"/>
                </a:cubicBezTo>
                <a:cubicBezTo>
                  <a:pt x="92" y="457"/>
                  <a:pt x="58" y="439"/>
                  <a:pt x="58" y="439"/>
                </a:cubicBezTo>
                <a:cubicBezTo>
                  <a:pt x="53" y="428"/>
                  <a:pt x="50" y="415"/>
                  <a:pt x="42" y="407"/>
                </a:cubicBezTo>
                <a:cubicBezTo>
                  <a:pt x="34" y="399"/>
                  <a:pt x="12" y="403"/>
                  <a:pt x="10" y="391"/>
                </a:cubicBezTo>
                <a:cubicBezTo>
                  <a:pt x="0" y="329"/>
                  <a:pt x="15" y="265"/>
                  <a:pt x="34" y="207"/>
                </a:cubicBezTo>
                <a:cubicBezTo>
                  <a:pt x="29" y="194"/>
                  <a:pt x="24" y="180"/>
                  <a:pt x="18" y="167"/>
                </a:cubicBezTo>
                <a:cubicBezTo>
                  <a:pt x="14" y="158"/>
                  <a:pt x="2" y="153"/>
                  <a:pt x="2" y="143"/>
                </a:cubicBezTo>
                <a:cubicBezTo>
                  <a:pt x="2" y="132"/>
                  <a:pt x="37" y="100"/>
                  <a:pt x="42" y="95"/>
                </a:cubicBezTo>
                <a:cubicBezTo>
                  <a:pt x="54" y="59"/>
                  <a:pt x="56" y="33"/>
                  <a:pt x="82" y="7"/>
                </a:cubicBezTo>
              </a:path>
            </a:pathLst>
          </a:custGeom>
          <a:solidFill>
            <a:srgbClr val="00ccff"/>
          </a:solidFill>
          <a:ln w="12600">
            <a:solidFill>
              <a:srgbClr val="00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181520" y="1118160"/>
            <a:ext cx="4678200" cy="2304000"/>
            <a:chOff x="1181520" y="1118160"/>
            <a:chExt cx="4678200" cy="2304000"/>
          </a:xfrm>
        </p:grpSpPr>
        <p:sp>
          <p:nvSpPr>
            <p:cNvPr id="394" name=""/>
            <p:cNvSpPr/>
            <p:nvPr/>
          </p:nvSpPr>
          <p:spPr>
            <a:xfrm rot="226800">
              <a:off x="2892240" y="2652480"/>
              <a:ext cx="761760" cy="304560"/>
            </a:xfrm>
            <a:custGeom>
              <a:avLst/>
              <a:gdLst/>
              <a:ahLst/>
              <a:rect l="l" t="t" r="r" b="b"/>
              <a:pathLst>
                <a:path w="2371" h="1018">
                  <a:moveTo>
                    <a:pt x="157" y="895"/>
                  </a:moveTo>
                  <a:lnTo>
                    <a:pt x="455" y="696"/>
                  </a:lnTo>
                  <a:lnTo>
                    <a:pt x="710" y="603"/>
                  </a:lnTo>
                  <a:lnTo>
                    <a:pt x="924" y="589"/>
                  </a:lnTo>
                  <a:lnTo>
                    <a:pt x="1152" y="576"/>
                  </a:lnTo>
                  <a:lnTo>
                    <a:pt x="1379" y="589"/>
                  </a:lnTo>
                  <a:lnTo>
                    <a:pt x="1687" y="683"/>
                  </a:lnTo>
                  <a:lnTo>
                    <a:pt x="1942" y="790"/>
                  </a:lnTo>
                  <a:lnTo>
                    <a:pt x="2263" y="1018"/>
                  </a:lnTo>
                  <a:lnTo>
                    <a:pt x="2344" y="777"/>
                  </a:lnTo>
                  <a:lnTo>
                    <a:pt x="2156" y="696"/>
                  </a:lnTo>
                  <a:lnTo>
                    <a:pt x="2183" y="616"/>
                  </a:lnTo>
                  <a:lnTo>
                    <a:pt x="2371" y="683"/>
                  </a:lnTo>
                  <a:lnTo>
                    <a:pt x="2143" y="308"/>
                  </a:lnTo>
                  <a:lnTo>
                    <a:pt x="1728" y="335"/>
                  </a:lnTo>
                  <a:lnTo>
                    <a:pt x="1929" y="428"/>
                  </a:lnTo>
                  <a:lnTo>
                    <a:pt x="1888" y="536"/>
                  </a:lnTo>
                  <a:lnTo>
                    <a:pt x="1754" y="482"/>
                  </a:lnTo>
                  <a:lnTo>
                    <a:pt x="1594" y="428"/>
                  </a:lnTo>
                  <a:lnTo>
                    <a:pt x="1379" y="388"/>
                  </a:lnTo>
                  <a:lnTo>
                    <a:pt x="1366" y="268"/>
                  </a:lnTo>
                  <a:lnTo>
                    <a:pt x="1580" y="281"/>
                  </a:lnTo>
                  <a:lnTo>
                    <a:pt x="1178" y="0"/>
                  </a:lnTo>
                  <a:lnTo>
                    <a:pt x="857" y="227"/>
                  </a:lnTo>
                  <a:lnTo>
                    <a:pt x="1058" y="241"/>
                  </a:lnTo>
                  <a:lnTo>
                    <a:pt x="1058" y="361"/>
                  </a:lnTo>
                  <a:lnTo>
                    <a:pt x="750" y="388"/>
                  </a:lnTo>
                  <a:lnTo>
                    <a:pt x="562" y="455"/>
                  </a:lnTo>
                  <a:lnTo>
                    <a:pt x="495" y="348"/>
                  </a:lnTo>
                  <a:lnTo>
                    <a:pt x="750" y="268"/>
                  </a:lnTo>
                  <a:lnTo>
                    <a:pt x="281" y="147"/>
                  </a:lnTo>
                  <a:lnTo>
                    <a:pt x="0" y="536"/>
                  </a:lnTo>
                  <a:lnTo>
                    <a:pt x="254" y="455"/>
                  </a:lnTo>
                  <a:lnTo>
                    <a:pt x="294" y="562"/>
                  </a:lnTo>
                  <a:lnTo>
                    <a:pt x="134" y="616"/>
                  </a:lnTo>
                  <a:lnTo>
                    <a:pt x="0" y="696"/>
                  </a:lnTo>
                  <a:lnTo>
                    <a:pt x="120" y="924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95" name=""/>
            <p:cNvGrpSpPr/>
            <p:nvPr/>
          </p:nvGrpSpPr>
          <p:grpSpPr>
            <a:xfrm>
              <a:off x="1181520" y="1118160"/>
              <a:ext cx="4678200" cy="2304000"/>
              <a:chOff x="1181520" y="1118160"/>
              <a:chExt cx="4678200" cy="2304000"/>
            </a:xfrm>
          </p:grpSpPr>
          <p:sp>
            <p:nvSpPr>
              <p:cNvPr id="396" name=""/>
              <p:cNvSpPr/>
              <p:nvPr/>
            </p:nvSpPr>
            <p:spPr>
              <a:xfrm rot="20970600">
                <a:off x="1206000" y="2989080"/>
                <a:ext cx="685800" cy="334800"/>
              </a:xfrm>
              <a:custGeom>
                <a:avLst/>
                <a:gdLst/>
                <a:ahLst/>
                <a:rect l="l" t="t" r="r" b="b"/>
                <a:pathLst>
                  <a:path w="2371" h="1018">
                    <a:moveTo>
                      <a:pt x="157" y="895"/>
                    </a:moveTo>
                    <a:lnTo>
                      <a:pt x="455" y="696"/>
                    </a:lnTo>
                    <a:lnTo>
                      <a:pt x="710" y="603"/>
                    </a:lnTo>
                    <a:lnTo>
                      <a:pt x="924" y="589"/>
                    </a:lnTo>
                    <a:lnTo>
                      <a:pt x="1152" y="576"/>
                    </a:lnTo>
                    <a:lnTo>
                      <a:pt x="1379" y="589"/>
                    </a:lnTo>
                    <a:lnTo>
                      <a:pt x="1687" y="683"/>
                    </a:lnTo>
                    <a:lnTo>
                      <a:pt x="1942" y="790"/>
                    </a:lnTo>
                    <a:lnTo>
                      <a:pt x="2263" y="1018"/>
                    </a:lnTo>
                    <a:lnTo>
                      <a:pt x="2344" y="777"/>
                    </a:lnTo>
                    <a:lnTo>
                      <a:pt x="2156" y="696"/>
                    </a:lnTo>
                    <a:lnTo>
                      <a:pt x="2183" y="616"/>
                    </a:lnTo>
                    <a:lnTo>
                      <a:pt x="2371" y="683"/>
                    </a:lnTo>
                    <a:lnTo>
                      <a:pt x="2143" y="308"/>
                    </a:lnTo>
                    <a:lnTo>
                      <a:pt x="1728" y="335"/>
                    </a:lnTo>
                    <a:lnTo>
                      <a:pt x="1929" y="428"/>
                    </a:lnTo>
                    <a:lnTo>
                      <a:pt x="1888" y="536"/>
                    </a:lnTo>
                    <a:lnTo>
                      <a:pt x="1754" y="482"/>
                    </a:lnTo>
                    <a:lnTo>
                      <a:pt x="1594" y="428"/>
                    </a:lnTo>
                    <a:lnTo>
                      <a:pt x="1379" y="388"/>
                    </a:lnTo>
                    <a:lnTo>
                      <a:pt x="1366" y="268"/>
                    </a:lnTo>
                    <a:lnTo>
                      <a:pt x="1580" y="281"/>
                    </a:lnTo>
                    <a:lnTo>
                      <a:pt x="1178" y="0"/>
                    </a:lnTo>
                    <a:lnTo>
                      <a:pt x="857" y="227"/>
                    </a:lnTo>
                    <a:lnTo>
                      <a:pt x="1058" y="241"/>
                    </a:lnTo>
                    <a:lnTo>
                      <a:pt x="1058" y="361"/>
                    </a:lnTo>
                    <a:lnTo>
                      <a:pt x="750" y="388"/>
                    </a:lnTo>
                    <a:lnTo>
                      <a:pt x="562" y="455"/>
                    </a:lnTo>
                    <a:lnTo>
                      <a:pt x="495" y="348"/>
                    </a:lnTo>
                    <a:lnTo>
                      <a:pt x="750" y="268"/>
                    </a:lnTo>
                    <a:lnTo>
                      <a:pt x="281" y="147"/>
                    </a:lnTo>
                    <a:lnTo>
                      <a:pt x="0" y="536"/>
                    </a:lnTo>
                    <a:lnTo>
                      <a:pt x="254" y="455"/>
                    </a:lnTo>
                    <a:lnTo>
                      <a:pt x="294" y="562"/>
                    </a:lnTo>
                    <a:lnTo>
                      <a:pt x="134" y="616"/>
                    </a:lnTo>
                    <a:lnTo>
                      <a:pt x="0" y="696"/>
                    </a:lnTo>
                    <a:lnTo>
                      <a:pt x="120" y="924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583200">
                <a:off x="2118960" y="3047760"/>
                <a:ext cx="682560" cy="318960"/>
              </a:xfrm>
              <a:custGeom>
                <a:avLst/>
                <a:gdLst/>
                <a:ahLst/>
                <a:rect l="l" t="t" r="r" b="b"/>
                <a:pathLst>
                  <a:path w="2371" h="1018">
                    <a:moveTo>
                      <a:pt x="157" y="895"/>
                    </a:moveTo>
                    <a:lnTo>
                      <a:pt x="455" y="696"/>
                    </a:lnTo>
                    <a:lnTo>
                      <a:pt x="710" y="603"/>
                    </a:lnTo>
                    <a:lnTo>
                      <a:pt x="924" y="589"/>
                    </a:lnTo>
                    <a:lnTo>
                      <a:pt x="1152" y="576"/>
                    </a:lnTo>
                    <a:lnTo>
                      <a:pt x="1379" y="589"/>
                    </a:lnTo>
                    <a:lnTo>
                      <a:pt x="1687" y="683"/>
                    </a:lnTo>
                    <a:lnTo>
                      <a:pt x="1942" y="790"/>
                    </a:lnTo>
                    <a:lnTo>
                      <a:pt x="2263" y="1018"/>
                    </a:lnTo>
                    <a:lnTo>
                      <a:pt x="2344" y="777"/>
                    </a:lnTo>
                    <a:lnTo>
                      <a:pt x="2156" y="696"/>
                    </a:lnTo>
                    <a:lnTo>
                      <a:pt x="2183" y="616"/>
                    </a:lnTo>
                    <a:lnTo>
                      <a:pt x="2371" y="683"/>
                    </a:lnTo>
                    <a:lnTo>
                      <a:pt x="2143" y="308"/>
                    </a:lnTo>
                    <a:lnTo>
                      <a:pt x="1728" y="335"/>
                    </a:lnTo>
                    <a:lnTo>
                      <a:pt x="1929" y="428"/>
                    </a:lnTo>
                    <a:lnTo>
                      <a:pt x="1888" y="536"/>
                    </a:lnTo>
                    <a:lnTo>
                      <a:pt x="1754" y="482"/>
                    </a:lnTo>
                    <a:lnTo>
                      <a:pt x="1594" y="428"/>
                    </a:lnTo>
                    <a:lnTo>
                      <a:pt x="1379" y="388"/>
                    </a:lnTo>
                    <a:lnTo>
                      <a:pt x="1366" y="268"/>
                    </a:lnTo>
                    <a:lnTo>
                      <a:pt x="1580" y="281"/>
                    </a:lnTo>
                    <a:lnTo>
                      <a:pt x="1178" y="0"/>
                    </a:lnTo>
                    <a:lnTo>
                      <a:pt x="857" y="227"/>
                    </a:lnTo>
                    <a:lnTo>
                      <a:pt x="1058" y="241"/>
                    </a:lnTo>
                    <a:lnTo>
                      <a:pt x="1058" y="361"/>
                    </a:lnTo>
                    <a:lnTo>
                      <a:pt x="750" y="388"/>
                    </a:lnTo>
                    <a:lnTo>
                      <a:pt x="562" y="455"/>
                    </a:lnTo>
                    <a:lnTo>
                      <a:pt x="495" y="348"/>
                    </a:lnTo>
                    <a:lnTo>
                      <a:pt x="750" y="268"/>
                    </a:lnTo>
                    <a:lnTo>
                      <a:pt x="281" y="147"/>
                    </a:lnTo>
                    <a:lnTo>
                      <a:pt x="0" y="536"/>
                    </a:lnTo>
                    <a:lnTo>
                      <a:pt x="254" y="455"/>
                    </a:lnTo>
                    <a:lnTo>
                      <a:pt x="294" y="562"/>
                    </a:lnTo>
                    <a:lnTo>
                      <a:pt x="134" y="616"/>
                    </a:lnTo>
                    <a:lnTo>
                      <a:pt x="0" y="696"/>
                    </a:lnTo>
                    <a:lnTo>
                      <a:pt x="120" y="924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20692200">
                <a:off x="5067000" y="1917360"/>
                <a:ext cx="762120" cy="334800"/>
              </a:xfrm>
              <a:custGeom>
                <a:avLst/>
                <a:gdLst/>
                <a:ahLst/>
                <a:rect l="l" t="t" r="r" b="b"/>
                <a:pathLst>
                  <a:path w="2371" h="1018">
                    <a:moveTo>
                      <a:pt x="157" y="895"/>
                    </a:moveTo>
                    <a:lnTo>
                      <a:pt x="455" y="696"/>
                    </a:lnTo>
                    <a:lnTo>
                      <a:pt x="710" y="603"/>
                    </a:lnTo>
                    <a:lnTo>
                      <a:pt x="924" y="589"/>
                    </a:lnTo>
                    <a:lnTo>
                      <a:pt x="1152" y="576"/>
                    </a:lnTo>
                    <a:lnTo>
                      <a:pt x="1379" y="589"/>
                    </a:lnTo>
                    <a:lnTo>
                      <a:pt x="1687" y="683"/>
                    </a:lnTo>
                    <a:lnTo>
                      <a:pt x="1942" y="790"/>
                    </a:lnTo>
                    <a:lnTo>
                      <a:pt x="2263" y="1018"/>
                    </a:lnTo>
                    <a:lnTo>
                      <a:pt x="2344" y="777"/>
                    </a:lnTo>
                    <a:lnTo>
                      <a:pt x="2156" y="696"/>
                    </a:lnTo>
                    <a:lnTo>
                      <a:pt x="2183" y="616"/>
                    </a:lnTo>
                    <a:lnTo>
                      <a:pt x="2371" y="683"/>
                    </a:lnTo>
                    <a:lnTo>
                      <a:pt x="2143" y="308"/>
                    </a:lnTo>
                    <a:lnTo>
                      <a:pt x="1728" y="335"/>
                    </a:lnTo>
                    <a:lnTo>
                      <a:pt x="1929" y="428"/>
                    </a:lnTo>
                    <a:lnTo>
                      <a:pt x="1888" y="536"/>
                    </a:lnTo>
                    <a:lnTo>
                      <a:pt x="1754" y="482"/>
                    </a:lnTo>
                    <a:lnTo>
                      <a:pt x="1594" y="428"/>
                    </a:lnTo>
                    <a:lnTo>
                      <a:pt x="1379" y="388"/>
                    </a:lnTo>
                    <a:lnTo>
                      <a:pt x="1366" y="268"/>
                    </a:lnTo>
                    <a:lnTo>
                      <a:pt x="1580" y="281"/>
                    </a:lnTo>
                    <a:lnTo>
                      <a:pt x="1178" y="0"/>
                    </a:lnTo>
                    <a:lnTo>
                      <a:pt x="857" y="227"/>
                    </a:lnTo>
                    <a:lnTo>
                      <a:pt x="1058" y="241"/>
                    </a:lnTo>
                    <a:lnTo>
                      <a:pt x="1058" y="361"/>
                    </a:lnTo>
                    <a:lnTo>
                      <a:pt x="750" y="388"/>
                    </a:lnTo>
                    <a:lnTo>
                      <a:pt x="562" y="455"/>
                    </a:lnTo>
                    <a:lnTo>
                      <a:pt x="495" y="348"/>
                    </a:lnTo>
                    <a:lnTo>
                      <a:pt x="750" y="268"/>
                    </a:lnTo>
                    <a:lnTo>
                      <a:pt x="281" y="147"/>
                    </a:lnTo>
                    <a:lnTo>
                      <a:pt x="0" y="536"/>
                    </a:lnTo>
                    <a:lnTo>
                      <a:pt x="254" y="455"/>
                    </a:lnTo>
                    <a:lnTo>
                      <a:pt x="294" y="562"/>
                    </a:lnTo>
                    <a:lnTo>
                      <a:pt x="134" y="616"/>
                    </a:lnTo>
                    <a:lnTo>
                      <a:pt x="0" y="696"/>
                    </a:lnTo>
                    <a:lnTo>
                      <a:pt x="120" y="924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10422000">
                <a:off x="4765320" y="1157040"/>
                <a:ext cx="725400" cy="314280"/>
              </a:xfrm>
              <a:custGeom>
                <a:avLst/>
                <a:gdLst/>
                <a:ahLst/>
                <a:rect l="l" t="t" r="r" b="b"/>
                <a:pathLst>
                  <a:path w="2371" h="1018">
                    <a:moveTo>
                      <a:pt x="157" y="895"/>
                    </a:moveTo>
                    <a:lnTo>
                      <a:pt x="455" y="696"/>
                    </a:lnTo>
                    <a:lnTo>
                      <a:pt x="710" y="603"/>
                    </a:lnTo>
                    <a:lnTo>
                      <a:pt x="924" y="589"/>
                    </a:lnTo>
                    <a:lnTo>
                      <a:pt x="1152" y="576"/>
                    </a:lnTo>
                    <a:lnTo>
                      <a:pt x="1379" y="589"/>
                    </a:lnTo>
                    <a:lnTo>
                      <a:pt x="1687" y="683"/>
                    </a:lnTo>
                    <a:lnTo>
                      <a:pt x="1942" y="790"/>
                    </a:lnTo>
                    <a:lnTo>
                      <a:pt x="2263" y="1018"/>
                    </a:lnTo>
                    <a:lnTo>
                      <a:pt x="2344" y="777"/>
                    </a:lnTo>
                    <a:lnTo>
                      <a:pt x="2156" y="696"/>
                    </a:lnTo>
                    <a:lnTo>
                      <a:pt x="2183" y="616"/>
                    </a:lnTo>
                    <a:lnTo>
                      <a:pt x="2371" y="683"/>
                    </a:lnTo>
                    <a:lnTo>
                      <a:pt x="2143" y="308"/>
                    </a:lnTo>
                    <a:lnTo>
                      <a:pt x="1728" y="335"/>
                    </a:lnTo>
                    <a:lnTo>
                      <a:pt x="1929" y="428"/>
                    </a:lnTo>
                    <a:lnTo>
                      <a:pt x="1888" y="536"/>
                    </a:lnTo>
                    <a:lnTo>
                      <a:pt x="1754" y="482"/>
                    </a:lnTo>
                    <a:lnTo>
                      <a:pt x="1594" y="428"/>
                    </a:lnTo>
                    <a:lnTo>
                      <a:pt x="1379" y="388"/>
                    </a:lnTo>
                    <a:lnTo>
                      <a:pt x="1366" y="268"/>
                    </a:lnTo>
                    <a:lnTo>
                      <a:pt x="1580" y="281"/>
                    </a:lnTo>
                    <a:lnTo>
                      <a:pt x="1178" y="0"/>
                    </a:lnTo>
                    <a:lnTo>
                      <a:pt x="857" y="227"/>
                    </a:lnTo>
                    <a:lnTo>
                      <a:pt x="1058" y="241"/>
                    </a:lnTo>
                    <a:lnTo>
                      <a:pt x="1058" y="361"/>
                    </a:lnTo>
                    <a:lnTo>
                      <a:pt x="750" y="388"/>
                    </a:lnTo>
                    <a:lnTo>
                      <a:pt x="562" y="455"/>
                    </a:lnTo>
                    <a:lnTo>
                      <a:pt x="495" y="348"/>
                    </a:lnTo>
                    <a:lnTo>
                      <a:pt x="750" y="268"/>
                    </a:lnTo>
                    <a:lnTo>
                      <a:pt x="281" y="147"/>
                    </a:lnTo>
                    <a:lnTo>
                      <a:pt x="0" y="536"/>
                    </a:lnTo>
                    <a:lnTo>
                      <a:pt x="254" y="455"/>
                    </a:lnTo>
                    <a:lnTo>
                      <a:pt x="294" y="562"/>
                    </a:lnTo>
                    <a:lnTo>
                      <a:pt x="134" y="616"/>
                    </a:lnTo>
                    <a:lnTo>
                      <a:pt x="0" y="696"/>
                    </a:lnTo>
                    <a:lnTo>
                      <a:pt x="120" y="924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9640200">
                <a:off x="2352240" y="1784520"/>
                <a:ext cx="828720" cy="334800"/>
              </a:xfrm>
              <a:custGeom>
                <a:avLst/>
                <a:gdLst/>
                <a:ahLst/>
                <a:rect l="l" t="t" r="r" b="b"/>
                <a:pathLst>
                  <a:path w="2371" h="1018">
                    <a:moveTo>
                      <a:pt x="157" y="895"/>
                    </a:moveTo>
                    <a:lnTo>
                      <a:pt x="455" y="696"/>
                    </a:lnTo>
                    <a:lnTo>
                      <a:pt x="710" y="603"/>
                    </a:lnTo>
                    <a:lnTo>
                      <a:pt x="924" y="589"/>
                    </a:lnTo>
                    <a:lnTo>
                      <a:pt x="1152" y="576"/>
                    </a:lnTo>
                    <a:lnTo>
                      <a:pt x="1379" y="589"/>
                    </a:lnTo>
                    <a:lnTo>
                      <a:pt x="1687" y="683"/>
                    </a:lnTo>
                    <a:lnTo>
                      <a:pt x="1942" y="790"/>
                    </a:lnTo>
                    <a:lnTo>
                      <a:pt x="2263" y="1018"/>
                    </a:lnTo>
                    <a:lnTo>
                      <a:pt x="2344" y="777"/>
                    </a:lnTo>
                    <a:lnTo>
                      <a:pt x="2156" y="696"/>
                    </a:lnTo>
                    <a:lnTo>
                      <a:pt x="2183" y="616"/>
                    </a:lnTo>
                    <a:lnTo>
                      <a:pt x="2371" y="683"/>
                    </a:lnTo>
                    <a:lnTo>
                      <a:pt x="2143" y="308"/>
                    </a:lnTo>
                    <a:lnTo>
                      <a:pt x="1728" y="335"/>
                    </a:lnTo>
                    <a:lnTo>
                      <a:pt x="1929" y="428"/>
                    </a:lnTo>
                    <a:lnTo>
                      <a:pt x="1888" y="536"/>
                    </a:lnTo>
                    <a:lnTo>
                      <a:pt x="1754" y="482"/>
                    </a:lnTo>
                    <a:lnTo>
                      <a:pt x="1594" y="428"/>
                    </a:lnTo>
                    <a:lnTo>
                      <a:pt x="1379" y="388"/>
                    </a:lnTo>
                    <a:lnTo>
                      <a:pt x="1366" y="268"/>
                    </a:lnTo>
                    <a:lnTo>
                      <a:pt x="1580" y="281"/>
                    </a:lnTo>
                    <a:lnTo>
                      <a:pt x="1178" y="0"/>
                    </a:lnTo>
                    <a:lnTo>
                      <a:pt x="857" y="227"/>
                    </a:lnTo>
                    <a:lnTo>
                      <a:pt x="1058" y="241"/>
                    </a:lnTo>
                    <a:lnTo>
                      <a:pt x="1058" y="361"/>
                    </a:lnTo>
                    <a:lnTo>
                      <a:pt x="750" y="388"/>
                    </a:lnTo>
                    <a:lnTo>
                      <a:pt x="562" y="455"/>
                    </a:lnTo>
                    <a:lnTo>
                      <a:pt x="495" y="348"/>
                    </a:lnTo>
                    <a:lnTo>
                      <a:pt x="750" y="268"/>
                    </a:lnTo>
                    <a:lnTo>
                      <a:pt x="281" y="147"/>
                    </a:lnTo>
                    <a:lnTo>
                      <a:pt x="0" y="536"/>
                    </a:lnTo>
                    <a:lnTo>
                      <a:pt x="254" y="455"/>
                    </a:lnTo>
                    <a:lnTo>
                      <a:pt x="294" y="562"/>
                    </a:lnTo>
                    <a:lnTo>
                      <a:pt x="134" y="616"/>
                    </a:lnTo>
                    <a:lnTo>
                      <a:pt x="0" y="696"/>
                    </a:lnTo>
                    <a:lnTo>
                      <a:pt x="120" y="924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8961600">
                <a:off x="3371400" y="1397160"/>
                <a:ext cx="879480" cy="334800"/>
              </a:xfrm>
              <a:custGeom>
                <a:avLst/>
                <a:gdLst/>
                <a:ahLst/>
                <a:rect l="l" t="t" r="r" b="b"/>
                <a:pathLst>
                  <a:path w="2371" h="1018">
                    <a:moveTo>
                      <a:pt x="157" y="895"/>
                    </a:moveTo>
                    <a:lnTo>
                      <a:pt x="455" y="696"/>
                    </a:lnTo>
                    <a:lnTo>
                      <a:pt x="710" y="603"/>
                    </a:lnTo>
                    <a:lnTo>
                      <a:pt x="924" y="589"/>
                    </a:lnTo>
                    <a:lnTo>
                      <a:pt x="1152" y="576"/>
                    </a:lnTo>
                    <a:lnTo>
                      <a:pt x="1379" y="589"/>
                    </a:lnTo>
                    <a:lnTo>
                      <a:pt x="1687" y="683"/>
                    </a:lnTo>
                    <a:lnTo>
                      <a:pt x="1942" y="790"/>
                    </a:lnTo>
                    <a:lnTo>
                      <a:pt x="2263" y="1018"/>
                    </a:lnTo>
                    <a:lnTo>
                      <a:pt x="2344" y="777"/>
                    </a:lnTo>
                    <a:lnTo>
                      <a:pt x="2156" y="696"/>
                    </a:lnTo>
                    <a:lnTo>
                      <a:pt x="2183" y="616"/>
                    </a:lnTo>
                    <a:lnTo>
                      <a:pt x="2371" y="683"/>
                    </a:lnTo>
                    <a:lnTo>
                      <a:pt x="2143" y="308"/>
                    </a:lnTo>
                    <a:lnTo>
                      <a:pt x="1728" y="335"/>
                    </a:lnTo>
                    <a:lnTo>
                      <a:pt x="1929" y="428"/>
                    </a:lnTo>
                    <a:lnTo>
                      <a:pt x="1888" y="536"/>
                    </a:lnTo>
                    <a:lnTo>
                      <a:pt x="1754" y="482"/>
                    </a:lnTo>
                    <a:lnTo>
                      <a:pt x="1594" y="428"/>
                    </a:lnTo>
                    <a:lnTo>
                      <a:pt x="1379" y="388"/>
                    </a:lnTo>
                    <a:lnTo>
                      <a:pt x="1366" y="268"/>
                    </a:lnTo>
                    <a:lnTo>
                      <a:pt x="1580" y="281"/>
                    </a:lnTo>
                    <a:lnTo>
                      <a:pt x="1178" y="0"/>
                    </a:lnTo>
                    <a:lnTo>
                      <a:pt x="857" y="227"/>
                    </a:lnTo>
                    <a:lnTo>
                      <a:pt x="1058" y="241"/>
                    </a:lnTo>
                    <a:lnTo>
                      <a:pt x="1058" y="361"/>
                    </a:lnTo>
                    <a:lnTo>
                      <a:pt x="750" y="388"/>
                    </a:lnTo>
                    <a:lnTo>
                      <a:pt x="562" y="455"/>
                    </a:lnTo>
                    <a:lnTo>
                      <a:pt x="495" y="348"/>
                    </a:lnTo>
                    <a:lnTo>
                      <a:pt x="750" y="268"/>
                    </a:lnTo>
                    <a:lnTo>
                      <a:pt x="281" y="147"/>
                    </a:lnTo>
                    <a:lnTo>
                      <a:pt x="0" y="536"/>
                    </a:lnTo>
                    <a:lnTo>
                      <a:pt x="254" y="455"/>
                    </a:lnTo>
                    <a:lnTo>
                      <a:pt x="294" y="562"/>
                    </a:lnTo>
                    <a:lnTo>
                      <a:pt x="134" y="616"/>
                    </a:lnTo>
                    <a:lnTo>
                      <a:pt x="0" y="696"/>
                    </a:lnTo>
                    <a:lnTo>
                      <a:pt x="120" y="924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2" name=""/>
          <p:cNvSpPr/>
          <p:nvPr/>
        </p:nvSpPr>
        <p:spPr>
          <a:xfrm rot="21301200">
            <a:off x="210960" y="4114440"/>
            <a:ext cx="398520" cy="233280"/>
          </a:xfrm>
          <a:custGeom>
            <a:avLst/>
            <a:gdLst/>
            <a:ahLst/>
            <a:rect l="l" t="t" r="r" b="b"/>
            <a:pathLst>
              <a:path w="2371" h="1018">
                <a:moveTo>
                  <a:pt x="157" y="895"/>
                </a:moveTo>
                <a:lnTo>
                  <a:pt x="455" y="696"/>
                </a:lnTo>
                <a:lnTo>
                  <a:pt x="710" y="603"/>
                </a:lnTo>
                <a:lnTo>
                  <a:pt x="924" y="589"/>
                </a:lnTo>
                <a:lnTo>
                  <a:pt x="1152" y="576"/>
                </a:lnTo>
                <a:lnTo>
                  <a:pt x="1379" y="589"/>
                </a:lnTo>
                <a:lnTo>
                  <a:pt x="1687" y="683"/>
                </a:lnTo>
                <a:lnTo>
                  <a:pt x="1942" y="790"/>
                </a:lnTo>
                <a:lnTo>
                  <a:pt x="2263" y="1018"/>
                </a:lnTo>
                <a:lnTo>
                  <a:pt x="2344" y="777"/>
                </a:lnTo>
                <a:lnTo>
                  <a:pt x="2156" y="696"/>
                </a:lnTo>
                <a:lnTo>
                  <a:pt x="2183" y="616"/>
                </a:lnTo>
                <a:lnTo>
                  <a:pt x="2371" y="683"/>
                </a:lnTo>
                <a:lnTo>
                  <a:pt x="2143" y="308"/>
                </a:lnTo>
                <a:lnTo>
                  <a:pt x="1728" y="335"/>
                </a:lnTo>
                <a:lnTo>
                  <a:pt x="1929" y="428"/>
                </a:lnTo>
                <a:lnTo>
                  <a:pt x="1888" y="536"/>
                </a:lnTo>
                <a:lnTo>
                  <a:pt x="1754" y="482"/>
                </a:lnTo>
                <a:lnTo>
                  <a:pt x="1594" y="428"/>
                </a:lnTo>
                <a:lnTo>
                  <a:pt x="1379" y="388"/>
                </a:lnTo>
                <a:lnTo>
                  <a:pt x="1366" y="268"/>
                </a:lnTo>
                <a:lnTo>
                  <a:pt x="1580" y="281"/>
                </a:lnTo>
                <a:lnTo>
                  <a:pt x="1178" y="0"/>
                </a:lnTo>
                <a:lnTo>
                  <a:pt x="857" y="227"/>
                </a:lnTo>
                <a:lnTo>
                  <a:pt x="1058" y="241"/>
                </a:lnTo>
                <a:lnTo>
                  <a:pt x="1058" y="361"/>
                </a:lnTo>
                <a:lnTo>
                  <a:pt x="750" y="388"/>
                </a:lnTo>
                <a:lnTo>
                  <a:pt x="562" y="455"/>
                </a:lnTo>
                <a:lnTo>
                  <a:pt x="495" y="348"/>
                </a:lnTo>
                <a:lnTo>
                  <a:pt x="750" y="268"/>
                </a:lnTo>
                <a:lnTo>
                  <a:pt x="281" y="147"/>
                </a:lnTo>
                <a:lnTo>
                  <a:pt x="0" y="536"/>
                </a:lnTo>
                <a:lnTo>
                  <a:pt x="254" y="455"/>
                </a:lnTo>
                <a:lnTo>
                  <a:pt x="294" y="562"/>
                </a:lnTo>
                <a:lnTo>
                  <a:pt x="134" y="616"/>
                </a:lnTo>
                <a:lnTo>
                  <a:pt x="0" y="696"/>
                </a:lnTo>
                <a:lnTo>
                  <a:pt x="120" y="924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0" y="-1219320"/>
            <a:ext cx="8839080" cy="68389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1447920" y="6461280"/>
            <a:ext cx="617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VNI-Helve-Condense"/>
              </a:rPr>
              <a:t>LÖÔÏC ÑOÀ CHIEÁN THAÉNG RAÏCH GAÀM – XOAØI MUÙ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521320" y="438120"/>
            <a:ext cx="501480" cy="1123920"/>
          </a:xfrm>
          <a:custGeom>
            <a:avLst/>
            <a:gdLst/>
            <a:ahLst/>
            <a:rect l="l" t="t" r="r" b="b"/>
            <a:pathLst>
              <a:path w="316" h="708">
                <a:moveTo>
                  <a:pt x="314" y="708"/>
                </a:moveTo>
                <a:cubicBezTo>
                  <a:pt x="310" y="652"/>
                  <a:pt x="316" y="594"/>
                  <a:pt x="302" y="540"/>
                </a:cubicBezTo>
                <a:cubicBezTo>
                  <a:pt x="299" y="526"/>
                  <a:pt x="273" y="529"/>
                  <a:pt x="266" y="516"/>
                </a:cubicBezTo>
                <a:cubicBezTo>
                  <a:pt x="207" y="412"/>
                  <a:pt x="302" y="488"/>
                  <a:pt x="218" y="432"/>
                </a:cubicBezTo>
                <a:cubicBezTo>
                  <a:pt x="174" y="367"/>
                  <a:pt x="134" y="381"/>
                  <a:pt x="50" y="372"/>
                </a:cubicBezTo>
                <a:cubicBezTo>
                  <a:pt x="34" y="348"/>
                  <a:pt x="0" y="329"/>
                  <a:pt x="2" y="300"/>
                </a:cubicBezTo>
                <a:cubicBezTo>
                  <a:pt x="16" y="72"/>
                  <a:pt x="14" y="172"/>
                  <a:pt x="14" y="0"/>
                </a:cubicBezTo>
              </a:path>
            </a:pathLst>
          </a:custGeom>
          <a:noFill/>
          <a:ln w="12600">
            <a:solidFill>
              <a:srgbClr val="008e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473800" y="68580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VNI-Helve-Condense"/>
              </a:rPr>
              <a:t>XOAØI MUÙ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09480" y="141588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VNI-Helve-Condense"/>
              </a:rPr>
              <a:t>RAÏCH GAÀ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391520" y="533520"/>
            <a:ext cx="13716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NI-Helve-Condense"/>
              </a:rPr>
              <a:t>MÓ TH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114300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NI-Helve-Condense"/>
              </a:rPr>
              <a:t>BÌNH ÑÖÙ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-114480" y="838080"/>
            <a:ext cx="8972640" cy="2614680"/>
          </a:xfrm>
          <a:custGeom>
            <a:avLst/>
            <a:gdLst/>
            <a:ahLst/>
            <a:rect l="l" t="t" r="r" b="b"/>
            <a:pathLst>
              <a:path w="5652" h="1647">
                <a:moveTo>
                  <a:pt x="5606" y="1361"/>
                </a:moveTo>
                <a:cubicBezTo>
                  <a:pt x="5582" y="1357"/>
                  <a:pt x="5555" y="1361"/>
                  <a:pt x="5534" y="1349"/>
                </a:cubicBezTo>
                <a:cubicBezTo>
                  <a:pt x="5466" y="1310"/>
                  <a:pt x="5601" y="1293"/>
                  <a:pt x="5474" y="1325"/>
                </a:cubicBezTo>
                <a:cubicBezTo>
                  <a:pt x="5377" y="1314"/>
                  <a:pt x="5296" y="1298"/>
                  <a:pt x="5198" y="1289"/>
                </a:cubicBezTo>
                <a:cubicBezTo>
                  <a:pt x="5138" y="1293"/>
                  <a:pt x="5077" y="1291"/>
                  <a:pt x="5018" y="1301"/>
                </a:cubicBezTo>
                <a:cubicBezTo>
                  <a:pt x="5004" y="1303"/>
                  <a:pt x="4996" y="1322"/>
                  <a:pt x="4982" y="1325"/>
                </a:cubicBezTo>
                <a:cubicBezTo>
                  <a:pt x="4935" y="1334"/>
                  <a:pt x="4886" y="1333"/>
                  <a:pt x="4838" y="1337"/>
                </a:cubicBezTo>
                <a:cubicBezTo>
                  <a:pt x="4694" y="1385"/>
                  <a:pt x="4791" y="1360"/>
                  <a:pt x="4538" y="1373"/>
                </a:cubicBezTo>
                <a:cubicBezTo>
                  <a:pt x="4458" y="1346"/>
                  <a:pt x="4463" y="1398"/>
                  <a:pt x="4394" y="1421"/>
                </a:cubicBezTo>
                <a:cubicBezTo>
                  <a:pt x="4311" y="1393"/>
                  <a:pt x="4409" y="1413"/>
                  <a:pt x="4322" y="1457"/>
                </a:cubicBezTo>
                <a:cubicBezTo>
                  <a:pt x="4311" y="1463"/>
                  <a:pt x="4298" y="1448"/>
                  <a:pt x="4286" y="1445"/>
                </a:cubicBezTo>
                <a:cubicBezTo>
                  <a:pt x="4262" y="1440"/>
                  <a:pt x="4238" y="1437"/>
                  <a:pt x="4214" y="1433"/>
                </a:cubicBezTo>
                <a:cubicBezTo>
                  <a:pt x="4198" y="1384"/>
                  <a:pt x="4179" y="1365"/>
                  <a:pt x="4130" y="1349"/>
                </a:cubicBezTo>
                <a:cubicBezTo>
                  <a:pt x="4121" y="1352"/>
                  <a:pt x="4058" y="1369"/>
                  <a:pt x="4058" y="1385"/>
                </a:cubicBezTo>
                <a:cubicBezTo>
                  <a:pt x="4058" y="1398"/>
                  <a:pt x="4082" y="1395"/>
                  <a:pt x="4094" y="1397"/>
                </a:cubicBezTo>
                <a:cubicBezTo>
                  <a:pt x="4122" y="1403"/>
                  <a:pt x="4150" y="1405"/>
                  <a:pt x="4178" y="1409"/>
                </a:cubicBezTo>
                <a:cubicBezTo>
                  <a:pt x="4114" y="1413"/>
                  <a:pt x="4050" y="1414"/>
                  <a:pt x="3986" y="1421"/>
                </a:cubicBezTo>
                <a:cubicBezTo>
                  <a:pt x="3973" y="1422"/>
                  <a:pt x="3962" y="1435"/>
                  <a:pt x="3950" y="1433"/>
                </a:cubicBezTo>
                <a:cubicBezTo>
                  <a:pt x="3936" y="1431"/>
                  <a:pt x="3926" y="1417"/>
                  <a:pt x="3914" y="1409"/>
                </a:cubicBezTo>
                <a:cubicBezTo>
                  <a:pt x="3854" y="1429"/>
                  <a:pt x="3878" y="1449"/>
                  <a:pt x="3818" y="1469"/>
                </a:cubicBezTo>
                <a:cubicBezTo>
                  <a:pt x="3701" y="1430"/>
                  <a:pt x="3785" y="1437"/>
                  <a:pt x="3710" y="1469"/>
                </a:cubicBezTo>
                <a:cubicBezTo>
                  <a:pt x="3695" y="1475"/>
                  <a:pt x="3678" y="1477"/>
                  <a:pt x="3662" y="1481"/>
                </a:cubicBezTo>
                <a:cubicBezTo>
                  <a:pt x="3592" y="1435"/>
                  <a:pt x="3656" y="1459"/>
                  <a:pt x="3602" y="1493"/>
                </a:cubicBezTo>
                <a:cubicBezTo>
                  <a:pt x="3581" y="1506"/>
                  <a:pt x="3530" y="1517"/>
                  <a:pt x="3530" y="1517"/>
                </a:cubicBezTo>
                <a:cubicBezTo>
                  <a:pt x="3518" y="1529"/>
                  <a:pt x="3510" y="1548"/>
                  <a:pt x="3494" y="1553"/>
                </a:cubicBezTo>
                <a:cubicBezTo>
                  <a:pt x="3482" y="1557"/>
                  <a:pt x="3470" y="1539"/>
                  <a:pt x="3458" y="1541"/>
                </a:cubicBezTo>
                <a:cubicBezTo>
                  <a:pt x="3444" y="1543"/>
                  <a:pt x="3434" y="1557"/>
                  <a:pt x="3422" y="1565"/>
                </a:cubicBezTo>
                <a:cubicBezTo>
                  <a:pt x="3394" y="1561"/>
                  <a:pt x="3366" y="1553"/>
                  <a:pt x="3338" y="1553"/>
                </a:cubicBezTo>
                <a:cubicBezTo>
                  <a:pt x="3325" y="1553"/>
                  <a:pt x="3315" y="1565"/>
                  <a:pt x="3302" y="1565"/>
                </a:cubicBezTo>
                <a:cubicBezTo>
                  <a:pt x="3277" y="1565"/>
                  <a:pt x="3248" y="1541"/>
                  <a:pt x="3230" y="1529"/>
                </a:cubicBezTo>
                <a:cubicBezTo>
                  <a:pt x="3205" y="1537"/>
                  <a:pt x="3184" y="1557"/>
                  <a:pt x="3158" y="1565"/>
                </a:cubicBezTo>
                <a:cubicBezTo>
                  <a:pt x="3131" y="1573"/>
                  <a:pt x="3102" y="1573"/>
                  <a:pt x="3074" y="1577"/>
                </a:cubicBezTo>
                <a:cubicBezTo>
                  <a:pt x="3047" y="1586"/>
                  <a:pt x="2989" y="1607"/>
                  <a:pt x="2966" y="1601"/>
                </a:cubicBezTo>
                <a:cubicBezTo>
                  <a:pt x="2954" y="1598"/>
                  <a:pt x="2963" y="1574"/>
                  <a:pt x="2954" y="1565"/>
                </a:cubicBezTo>
                <a:cubicBezTo>
                  <a:pt x="2934" y="1545"/>
                  <a:pt x="2882" y="1517"/>
                  <a:pt x="2882" y="1517"/>
                </a:cubicBezTo>
                <a:cubicBezTo>
                  <a:pt x="2813" y="1620"/>
                  <a:pt x="2905" y="1499"/>
                  <a:pt x="2822" y="1565"/>
                </a:cubicBezTo>
                <a:cubicBezTo>
                  <a:pt x="2744" y="1627"/>
                  <a:pt x="2852" y="1583"/>
                  <a:pt x="2762" y="1613"/>
                </a:cubicBezTo>
                <a:cubicBezTo>
                  <a:pt x="2754" y="1597"/>
                  <a:pt x="2755" y="1572"/>
                  <a:pt x="2738" y="1565"/>
                </a:cubicBezTo>
                <a:cubicBezTo>
                  <a:pt x="2725" y="1560"/>
                  <a:pt x="2715" y="1583"/>
                  <a:pt x="2702" y="1589"/>
                </a:cubicBezTo>
                <a:cubicBezTo>
                  <a:pt x="2679" y="1599"/>
                  <a:pt x="2630" y="1613"/>
                  <a:pt x="2630" y="1613"/>
                </a:cubicBezTo>
                <a:cubicBezTo>
                  <a:pt x="2602" y="1609"/>
                  <a:pt x="2574" y="1598"/>
                  <a:pt x="2546" y="1601"/>
                </a:cubicBezTo>
                <a:cubicBezTo>
                  <a:pt x="2532" y="1602"/>
                  <a:pt x="2524" y="1624"/>
                  <a:pt x="2510" y="1625"/>
                </a:cubicBezTo>
                <a:cubicBezTo>
                  <a:pt x="2430" y="1628"/>
                  <a:pt x="2350" y="1617"/>
                  <a:pt x="2270" y="1613"/>
                </a:cubicBezTo>
                <a:cubicBezTo>
                  <a:pt x="2063" y="1647"/>
                  <a:pt x="2290" y="1627"/>
                  <a:pt x="2162" y="1601"/>
                </a:cubicBezTo>
                <a:cubicBezTo>
                  <a:pt x="2087" y="1586"/>
                  <a:pt x="2010" y="1588"/>
                  <a:pt x="1934" y="1577"/>
                </a:cubicBezTo>
                <a:cubicBezTo>
                  <a:pt x="1922" y="1565"/>
                  <a:pt x="1912" y="1550"/>
                  <a:pt x="1898" y="1541"/>
                </a:cubicBezTo>
                <a:cubicBezTo>
                  <a:pt x="1887" y="1534"/>
                  <a:pt x="1872" y="1537"/>
                  <a:pt x="1862" y="1529"/>
                </a:cubicBezTo>
                <a:cubicBezTo>
                  <a:pt x="1851" y="1520"/>
                  <a:pt x="1849" y="1502"/>
                  <a:pt x="1838" y="1493"/>
                </a:cubicBezTo>
                <a:cubicBezTo>
                  <a:pt x="1816" y="1474"/>
                  <a:pt x="1766" y="1445"/>
                  <a:pt x="1766" y="1445"/>
                </a:cubicBezTo>
                <a:cubicBezTo>
                  <a:pt x="1710" y="1361"/>
                  <a:pt x="1742" y="1389"/>
                  <a:pt x="1682" y="1349"/>
                </a:cubicBezTo>
                <a:cubicBezTo>
                  <a:pt x="1646" y="1353"/>
                  <a:pt x="1610" y="1354"/>
                  <a:pt x="1574" y="1361"/>
                </a:cubicBezTo>
                <a:cubicBezTo>
                  <a:pt x="1549" y="1366"/>
                  <a:pt x="1502" y="1385"/>
                  <a:pt x="1502" y="1385"/>
                </a:cubicBezTo>
                <a:cubicBezTo>
                  <a:pt x="1358" y="1364"/>
                  <a:pt x="1211" y="1384"/>
                  <a:pt x="1070" y="1349"/>
                </a:cubicBezTo>
                <a:cubicBezTo>
                  <a:pt x="978" y="1364"/>
                  <a:pt x="917" y="1377"/>
                  <a:pt x="818" y="1385"/>
                </a:cubicBezTo>
                <a:cubicBezTo>
                  <a:pt x="779" y="1398"/>
                  <a:pt x="749" y="1420"/>
                  <a:pt x="710" y="1433"/>
                </a:cubicBezTo>
                <a:cubicBezTo>
                  <a:pt x="706" y="1445"/>
                  <a:pt x="708" y="1462"/>
                  <a:pt x="698" y="1469"/>
                </a:cubicBezTo>
                <a:cubicBezTo>
                  <a:pt x="634" y="1514"/>
                  <a:pt x="476" y="1523"/>
                  <a:pt x="410" y="1529"/>
                </a:cubicBezTo>
                <a:cubicBezTo>
                  <a:pt x="327" y="1557"/>
                  <a:pt x="245" y="1577"/>
                  <a:pt x="158" y="1589"/>
                </a:cubicBezTo>
                <a:cubicBezTo>
                  <a:pt x="138" y="1585"/>
                  <a:pt x="100" y="1597"/>
                  <a:pt x="98" y="1577"/>
                </a:cubicBezTo>
                <a:cubicBezTo>
                  <a:pt x="45" y="1099"/>
                  <a:pt x="0" y="1084"/>
                  <a:pt x="146" y="1181"/>
                </a:cubicBezTo>
                <a:cubicBezTo>
                  <a:pt x="230" y="1153"/>
                  <a:pt x="210" y="1181"/>
                  <a:pt x="230" y="1121"/>
                </a:cubicBezTo>
                <a:cubicBezTo>
                  <a:pt x="326" y="1153"/>
                  <a:pt x="206" y="1121"/>
                  <a:pt x="302" y="1121"/>
                </a:cubicBezTo>
                <a:cubicBezTo>
                  <a:pt x="322" y="1121"/>
                  <a:pt x="342" y="1129"/>
                  <a:pt x="362" y="1133"/>
                </a:cubicBezTo>
                <a:cubicBezTo>
                  <a:pt x="394" y="1085"/>
                  <a:pt x="414" y="1075"/>
                  <a:pt x="470" y="1061"/>
                </a:cubicBezTo>
                <a:cubicBezTo>
                  <a:pt x="474" y="1045"/>
                  <a:pt x="472" y="1026"/>
                  <a:pt x="482" y="1013"/>
                </a:cubicBezTo>
                <a:cubicBezTo>
                  <a:pt x="490" y="1003"/>
                  <a:pt x="507" y="1007"/>
                  <a:pt x="518" y="1001"/>
                </a:cubicBezTo>
                <a:cubicBezTo>
                  <a:pt x="531" y="995"/>
                  <a:pt x="542" y="985"/>
                  <a:pt x="554" y="977"/>
                </a:cubicBezTo>
                <a:cubicBezTo>
                  <a:pt x="598" y="910"/>
                  <a:pt x="622" y="948"/>
                  <a:pt x="686" y="905"/>
                </a:cubicBezTo>
                <a:cubicBezTo>
                  <a:pt x="701" y="910"/>
                  <a:pt x="757" y="930"/>
                  <a:pt x="770" y="929"/>
                </a:cubicBezTo>
                <a:cubicBezTo>
                  <a:pt x="819" y="926"/>
                  <a:pt x="914" y="905"/>
                  <a:pt x="914" y="905"/>
                </a:cubicBezTo>
                <a:cubicBezTo>
                  <a:pt x="955" y="946"/>
                  <a:pt x="967" y="959"/>
                  <a:pt x="1022" y="941"/>
                </a:cubicBezTo>
                <a:cubicBezTo>
                  <a:pt x="1067" y="952"/>
                  <a:pt x="1093" y="966"/>
                  <a:pt x="1142" y="941"/>
                </a:cubicBezTo>
                <a:cubicBezTo>
                  <a:pt x="1155" y="935"/>
                  <a:pt x="1155" y="914"/>
                  <a:pt x="1166" y="905"/>
                </a:cubicBezTo>
                <a:cubicBezTo>
                  <a:pt x="1180" y="894"/>
                  <a:pt x="1198" y="889"/>
                  <a:pt x="1214" y="881"/>
                </a:cubicBezTo>
                <a:cubicBezTo>
                  <a:pt x="1201" y="764"/>
                  <a:pt x="1180" y="767"/>
                  <a:pt x="1214" y="665"/>
                </a:cubicBezTo>
                <a:cubicBezTo>
                  <a:pt x="1219" y="649"/>
                  <a:pt x="1246" y="657"/>
                  <a:pt x="1262" y="653"/>
                </a:cubicBezTo>
                <a:cubicBezTo>
                  <a:pt x="1281" y="595"/>
                  <a:pt x="1252" y="554"/>
                  <a:pt x="1238" y="497"/>
                </a:cubicBezTo>
                <a:cubicBezTo>
                  <a:pt x="1255" y="412"/>
                  <a:pt x="1287" y="362"/>
                  <a:pt x="1202" y="305"/>
                </a:cubicBezTo>
                <a:cubicBezTo>
                  <a:pt x="1181" y="242"/>
                  <a:pt x="1183" y="280"/>
                  <a:pt x="1238" y="197"/>
                </a:cubicBezTo>
                <a:cubicBezTo>
                  <a:pt x="1252" y="176"/>
                  <a:pt x="1262" y="125"/>
                  <a:pt x="1262" y="125"/>
                </a:cubicBezTo>
                <a:cubicBezTo>
                  <a:pt x="1258" y="105"/>
                  <a:pt x="1261" y="82"/>
                  <a:pt x="1250" y="65"/>
                </a:cubicBezTo>
                <a:cubicBezTo>
                  <a:pt x="1243" y="54"/>
                  <a:pt x="1223" y="62"/>
                  <a:pt x="1214" y="53"/>
                </a:cubicBezTo>
                <a:cubicBezTo>
                  <a:pt x="1205" y="44"/>
                  <a:pt x="1206" y="29"/>
                  <a:pt x="1202" y="17"/>
                </a:cubicBezTo>
                <a:cubicBezTo>
                  <a:pt x="1214" y="13"/>
                  <a:pt x="1226" y="0"/>
                  <a:pt x="1238" y="5"/>
                </a:cubicBezTo>
                <a:cubicBezTo>
                  <a:pt x="1251" y="10"/>
                  <a:pt x="1251" y="32"/>
                  <a:pt x="1262" y="41"/>
                </a:cubicBezTo>
                <a:cubicBezTo>
                  <a:pt x="1272" y="49"/>
                  <a:pt x="1286" y="49"/>
                  <a:pt x="1298" y="53"/>
                </a:cubicBezTo>
                <a:cubicBezTo>
                  <a:pt x="1362" y="40"/>
                  <a:pt x="1400" y="16"/>
                  <a:pt x="1466" y="5"/>
                </a:cubicBezTo>
                <a:cubicBezTo>
                  <a:pt x="1446" y="104"/>
                  <a:pt x="1478" y="41"/>
                  <a:pt x="1406" y="77"/>
                </a:cubicBezTo>
                <a:cubicBezTo>
                  <a:pt x="1380" y="90"/>
                  <a:pt x="1334" y="125"/>
                  <a:pt x="1334" y="125"/>
                </a:cubicBezTo>
                <a:cubicBezTo>
                  <a:pt x="1326" y="137"/>
                  <a:pt x="1316" y="148"/>
                  <a:pt x="1310" y="161"/>
                </a:cubicBezTo>
                <a:cubicBezTo>
                  <a:pt x="1300" y="184"/>
                  <a:pt x="1286" y="233"/>
                  <a:pt x="1286" y="233"/>
                </a:cubicBezTo>
                <a:cubicBezTo>
                  <a:pt x="1312" y="365"/>
                  <a:pt x="1297" y="314"/>
                  <a:pt x="1322" y="389"/>
                </a:cubicBezTo>
                <a:cubicBezTo>
                  <a:pt x="1318" y="401"/>
                  <a:pt x="1308" y="413"/>
                  <a:pt x="1310" y="425"/>
                </a:cubicBezTo>
                <a:cubicBezTo>
                  <a:pt x="1326" y="518"/>
                  <a:pt x="1352" y="407"/>
                  <a:pt x="1322" y="497"/>
                </a:cubicBezTo>
                <a:cubicBezTo>
                  <a:pt x="1315" y="591"/>
                  <a:pt x="1317" y="703"/>
                  <a:pt x="1262" y="785"/>
                </a:cubicBezTo>
                <a:cubicBezTo>
                  <a:pt x="1266" y="797"/>
                  <a:pt x="1271" y="809"/>
                  <a:pt x="1274" y="821"/>
                </a:cubicBezTo>
                <a:cubicBezTo>
                  <a:pt x="1279" y="837"/>
                  <a:pt x="1271" y="862"/>
                  <a:pt x="1286" y="869"/>
                </a:cubicBezTo>
                <a:cubicBezTo>
                  <a:pt x="1299" y="875"/>
                  <a:pt x="1309" y="851"/>
                  <a:pt x="1322" y="845"/>
                </a:cubicBezTo>
                <a:cubicBezTo>
                  <a:pt x="1333" y="839"/>
                  <a:pt x="1346" y="837"/>
                  <a:pt x="1358" y="833"/>
                </a:cubicBezTo>
                <a:cubicBezTo>
                  <a:pt x="1453" y="845"/>
                  <a:pt x="1541" y="826"/>
                  <a:pt x="1634" y="845"/>
                </a:cubicBezTo>
                <a:cubicBezTo>
                  <a:pt x="1730" y="813"/>
                  <a:pt x="1610" y="845"/>
                  <a:pt x="1706" y="845"/>
                </a:cubicBezTo>
                <a:cubicBezTo>
                  <a:pt x="1722" y="845"/>
                  <a:pt x="1738" y="837"/>
                  <a:pt x="1754" y="833"/>
                </a:cubicBezTo>
                <a:cubicBezTo>
                  <a:pt x="1836" y="778"/>
                  <a:pt x="1735" y="838"/>
                  <a:pt x="1898" y="797"/>
                </a:cubicBezTo>
                <a:cubicBezTo>
                  <a:pt x="1912" y="794"/>
                  <a:pt x="1921" y="779"/>
                  <a:pt x="1934" y="773"/>
                </a:cubicBezTo>
                <a:cubicBezTo>
                  <a:pt x="1945" y="767"/>
                  <a:pt x="1958" y="764"/>
                  <a:pt x="1970" y="761"/>
                </a:cubicBezTo>
                <a:cubicBezTo>
                  <a:pt x="2010" y="752"/>
                  <a:pt x="2090" y="737"/>
                  <a:pt x="2090" y="737"/>
                </a:cubicBezTo>
                <a:cubicBezTo>
                  <a:pt x="2095" y="734"/>
                  <a:pt x="2207" y="678"/>
                  <a:pt x="2210" y="677"/>
                </a:cubicBezTo>
                <a:cubicBezTo>
                  <a:pt x="2273" y="662"/>
                  <a:pt x="2338" y="664"/>
                  <a:pt x="2402" y="653"/>
                </a:cubicBezTo>
                <a:cubicBezTo>
                  <a:pt x="2414" y="641"/>
                  <a:pt x="2422" y="622"/>
                  <a:pt x="2438" y="617"/>
                </a:cubicBezTo>
                <a:cubicBezTo>
                  <a:pt x="2450" y="613"/>
                  <a:pt x="2462" y="633"/>
                  <a:pt x="2474" y="629"/>
                </a:cubicBezTo>
                <a:cubicBezTo>
                  <a:pt x="2503" y="619"/>
                  <a:pt x="2515" y="576"/>
                  <a:pt x="2534" y="557"/>
                </a:cubicBezTo>
                <a:cubicBezTo>
                  <a:pt x="2544" y="547"/>
                  <a:pt x="2558" y="541"/>
                  <a:pt x="2570" y="533"/>
                </a:cubicBezTo>
                <a:cubicBezTo>
                  <a:pt x="2696" y="565"/>
                  <a:pt x="2553" y="545"/>
                  <a:pt x="2642" y="509"/>
                </a:cubicBezTo>
                <a:cubicBezTo>
                  <a:pt x="2672" y="497"/>
                  <a:pt x="2706" y="501"/>
                  <a:pt x="2738" y="497"/>
                </a:cubicBezTo>
                <a:cubicBezTo>
                  <a:pt x="2766" y="441"/>
                  <a:pt x="2753" y="420"/>
                  <a:pt x="2810" y="401"/>
                </a:cubicBezTo>
                <a:cubicBezTo>
                  <a:pt x="2865" y="412"/>
                  <a:pt x="2896" y="419"/>
                  <a:pt x="2942" y="449"/>
                </a:cubicBezTo>
                <a:cubicBezTo>
                  <a:pt x="2962" y="445"/>
                  <a:pt x="2983" y="444"/>
                  <a:pt x="3002" y="437"/>
                </a:cubicBezTo>
                <a:cubicBezTo>
                  <a:pt x="3016" y="432"/>
                  <a:pt x="3024" y="415"/>
                  <a:pt x="3038" y="413"/>
                </a:cubicBezTo>
                <a:cubicBezTo>
                  <a:pt x="3058" y="410"/>
                  <a:pt x="3078" y="421"/>
                  <a:pt x="3098" y="425"/>
                </a:cubicBezTo>
                <a:cubicBezTo>
                  <a:pt x="3185" y="396"/>
                  <a:pt x="3085" y="417"/>
                  <a:pt x="3158" y="449"/>
                </a:cubicBezTo>
                <a:cubicBezTo>
                  <a:pt x="3184" y="460"/>
                  <a:pt x="3214" y="457"/>
                  <a:pt x="3242" y="461"/>
                </a:cubicBezTo>
                <a:cubicBezTo>
                  <a:pt x="3302" y="441"/>
                  <a:pt x="3278" y="421"/>
                  <a:pt x="3338" y="401"/>
                </a:cubicBezTo>
                <a:cubicBezTo>
                  <a:pt x="3404" y="423"/>
                  <a:pt x="3449" y="424"/>
                  <a:pt x="3518" y="413"/>
                </a:cubicBezTo>
                <a:cubicBezTo>
                  <a:pt x="3615" y="445"/>
                  <a:pt x="3729" y="462"/>
                  <a:pt x="3830" y="473"/>
                </a:cubicBezTo>
                <a:cubicBezTo>
                  <a:pt x="3866" y="461"/>
                  <a:pt x="3902" y="449"/>
                  <a:pt x="3938" y="437"/>
                </a:cubicBezTo>
                <a:cubicBezTo>
                  <a:pt x="3950" y="433"/>
                  <a:pt x="3974" y="425"/>
                  <a:pt x="3974" y="425"/>
                </a:cubicBezTo>
                <a:cubicBezTo>
                  <a:pt x="4049" y="475"/>
                  <a:pt x="3971" y="437"/>
                  <a:pt x="4046" y="437"/>
                </a:cubicBezTo>
                <a:cubicBezTo>
                  <a:pt x="4126" y="437"/>
                  <a:pt x="4206" y="455"/>
                  <a:pt x="4286" y="461"/>
                </a:cubicBezTo>
                <a:cubicBezTo>
                  <a:pt x="4346" y="457"/>
                  <a:pt x="4406" y="458"/>
                  <a:pt x="4466" y="449"/>
                </a:cubicBezTo>
                <a:cubicBezTo>
                  <a:pt x="4491" y="445"/>
                  <a:pt x="4513" y="428"/>
                  <a:pt x="4538" y="425"/>
                </a:cubicBezTo>
                <a:cubicBezTo>
                  <a:pt x="4578" y="421"/>
                  <a:pt x="4618" y="417"/>
                  <a:pt x="4658" y="413"/>
                </a:cubicBezTo>
                <a:cubicBezTo>
                  <a:pt x="4761" y="344"/>
                  <a:pt x="4640" y="436"/>
                  <a:pt x="4706" y="353"/>
                </a:cubicBezTo>
                <a:cubicBezTo>
                  <a:pt x="4769" y="274"/>
                  <a:pt x="4905" y="322"/>
                  <a:pt x="5006" y="317"/>
                </a:cubicBezTo>
                <a:cubicBezTo>
                  <a:pt x="4994" y="313"/>
                  <a:pt x="4970" y="318"/>
                  <a:pt x="4970" y="305"/>
                </a:cubicBezTo>
                <a:cubicBezTo>
                  <a:pt x="4970" y="292"/>
                  <a:pt x="4993" y="294"/>
                  <a:pt x="5006" y="293"/>
                </a:cubicBezTo>
                <a:cubicBezTo>
                  <a:pt x="5118" y="281"/>
                  <a:pt x="5230" y="278"/>
                  <a:pt x="5342" y="269"/>
                </a:cubicBezTo>
                <a:cubicBezTo>
                  <a:pt x="5382" y="259"/>
                  <a:pt x="5423" y="258"/>
                  <a:pt x="5462" y="245"/>
                </a:cubicBezTo>
                <a:cubicBezTo>
                  <a:pt x="5476" y="240"/>
                  <a:pt x="5484" y="226"/>
                  <a:pt x="5498" y="221"/>
                </a:cubicBezTo>
                <a:cubicBezTo>
                  <a:pt x="5521" y="213"/>
                  <a:pt x="5546" y="213"/>
                  <a:pt x="5570" y="209"/>
                </a:cubicBezTo>
                <a:cubicBezTo>
                  <a:pt x="5652" y="154"/>
                  <a:pt x="5607" y="225"/>
                  <a:pt x="5606" y="257"/>
                </a:cubicBezTo>
                <a:cubicBezTo>
                  <a:pt x="5598" y="625"/>
                  <a:pt x="5606" y="993"/>
                  <a:pt x="5606" y="1361"/>
                </a:cubicBezTo>
                <a:close/>
              </a:path>
            </a:pathLst>
          </a:custGeom>
          <a:solidFill>
            <a:srgbClr val="75c7ff"/>
          </a:solidFill>
          <a:ln w="12600">
            <a:solidFill>
              <a:srgbClr val="00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962760" y="1905120"/>
            <a:ext cx="1647720" cy="615960"/>
          </a:xfrm>
          <a:custGeom>
            <a:avLst/>
            <a:gdLst/>
            <a:ahLst/>
            <a:rect l="l" t="t" r="r" b="b"/>
            <a:pathLst>
              <a:path w="1038" h="388">
                <a:moveTo>
                  <a:pt x="993" y="196"/>
                </a:moveTo>
                <a:cubicBezTo>
                  <a:pt x="1022" y="110"/>
                  <a:pt x="1038" y="138"/>
                  <a:pt x="981" y="100"/>
                </a:cubicBezTo>
                <a:cubicBezTo>
                  <a:pt x="973" y="88"/>
                  <a:pt x="971" y="69"/>
                  <a:pt x="957" y="64"/>
                </a:cubicBezTo>
                <a:cubicBezTo>
                  <a:pt x="941" y="59"/>
                  <a:pt x="925" y="76"/>
                  <a:pt x="909" y="76"/>
                </a:cubicBezTo>
                <a:cubicBezTo>
                  <a:pt x="877" y="76"/>
                  <a:pt x="845" y="68"/>
                  <a:pt x="813" y="64"/>
                </a:cubicBezTo>
                <a:cubicBezTo>
                  <a:pt x="711" y="30"/>
                  <a:pt x="742" y="46"/>
                  <a:pt x="633" y="64"/>
                </a:cubicBezTo>
                <a:cubicBezTo>
                  <a:pt x="549" y="8"/>
                  <a:pt x="585" y="0"/>
                  <a:pt x="525" y="40"/>
                </a:cubicBezTo>
                <a:cubicBezTo>
                  <a:pt x="457" y="36"/>
                  <a:pt x="389" y="28"/>
                  <a:pt x="321" y="28"/>
                </a:cubicBezTo>
                <a:cubicBezTo>
                  <a:pt x="193" y="28"/>
                  <a:pt x="353" y="60"/>
                  <a:pt x="225" y="28"/>
                </a:cubicBezTo>
                <a:cubicBezTo>
                  <a:pt x="213" y="20"/>
                  <a:pt x="203" y="1"/>
                  <a:pt x="189" y="4"/>
                </a:cubicBezTo>
                <a:cubicBezTo>
                  <a:pt x="175" y="7"/>
                  <a:pt x="175" y="30"/>
                  <a:pt x="165" y="40"/>
                </a:cubicBezTo>
                <a:cubicBezTo>
                  <a:pt x="155" y="50"/>
                  <a:pt x="142" y="58"/>
                  <a:pt x="129" y="64"/>
                </a:cubicBezTo>
                <a:cubicBezTo>
                  <a:pt x="106" y="74"/>
                  <a:pt x="81" y="80"/>
                  <a:pt x="57" y="88"/>
                </a:cubicBezTo>
                <a:cubicBezTo>
                  <a:pt x="45" y="92"/>
                  <a:pt x="21" y="100"/>
                  <a:pt x="21" y="100"/>
                </a:cubicBezTo>
                <a:cubicBezTo>
                  <a:pt x="0" y="163"/>
                  <a:pt x="24" y="195"/>
                  <a:pt x="57" y="244"/>
                </a:cubicBezTo>
                <a:cubicBezTo>
                  <a:pt x="80" y="335"/>
                  <a:pt x="47" y="274"/>
                  <a:pt x="105" y="280"/>
                </a:cubicBezTo>
                <a:cubicBezTo>
                  <a:pt x="130" y="283"/>
                  <a:pt x="177" y="304"/>
                  <a:pt x="177" y="304"/>
                </a:cubicBezTo>
                <a:cubicBezTo>
                  <a:pt x="181" y="316"/>
                  <a:pt x="196" y="373"/>
                  <a:pt x="213" y="376"/>
                </a:cubicBezTo>
                <a:cubicBezTo>
                  <a:pt x="227" y="379"/>
                  <a:pt x="237" y="360"/>
                  <a:pt x="249" y="352"/>
                </a:cubicBezTo>
                <a:cubicBezTo>
                  <a:pt x="265" y="356"/>
                  <a:pt x="282" y="358"/>
                  <a:pt x="297" y="364"/>
                </a:cubicBezTo>
                <a:cubicBezTo>
                  <a:pt x="310" y="370"/>
                  <a:pt x="319" y="388"/>
                  <a:pt x="333" y="388"/>
                </a:cubicBezTo>
                <a:cubicBezTo>
                  <a:pt x="363" y="388"/>
                  <a:pt x="388" y="362"/>
                  <a:pt x="417" y="352"/>
                </a:cubicBezTo>
                <a:cubicBezTo>
                  <a:pt x="441" y="360"/>
                  <a:pt x="465" y="368"/>
                  <a:pt x="489" y="376"/>
                </a:cubicBezTo>
                <a:cubicBezTo>
                  <a:pt x="520" y="386"/>
                  <a:pt x="585" y="352"/>
                  <a:pt x="585" y="352"/>
                </a:cubicBezTo>
                <a:cubicBezTo>
                  <a:pt x="597" y="340"/>
                  <a:pt x="606" y="323"/>
                  <a:pt x="621" y="316"/>
                </a:cubicBezTo>
                <a:cubicBezTo>
                  <a:pt x="651" y="302"/>
                  <a:pt x="717" y="292"/>
                  <a:pt x="717" y="292"/>
                </a:cubicBezTo>
                <a:cubicBezTo>
                  <a:pt x="756" y="266"/>
                  <a:pt x="790" y="253"/>
                  <a:pt x="837" y="244"/>
                </a:cubicBezTo>
                <a:cubicBezTo>
                  <a:pt x="885" y="235"/>
                  <a:pt x="981" y="220"/>
                  <a:pt x="981" y="220"/>
                </a:cubicBezTo>
                <a:cubicBezTo>
                  <a:pt x="1008" y="179"/>
                  <a:pt x="1015" y="174"/>
                  <a:pt x="993" y="19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670280" y="1828800"/>
            <a:ext cx="2033640" cy="909720"/>
          </a:xfrm>
          <a:custGeom>
            <a:avLst/>
            <a:gdLst/>
            <a:ahLst/>
            <a:rect l="l" t="t" r="r" b="b"/>
            <a:pathLst>
              <a:path w="1281" h="573">
                <a:moveTo>
                  <a:pt x="1246" y="369"/>
                </a:moveTo>
                <a:cubicBezTo>
                  <a:pt x="1242" y="345"/>
                  <a:pt x="1246" y="318"/>
                  <a:pt x="1234" y="297"/>
                </a:cubicBezTo>
                <a:cubicBezTo>
                  <a:pt x="1228" y="286"/>
                  <a:pt x="1207" y="294"/>
                  <a:pt x="1198" y="285"/>
                </a:cubicBezTo>
                <a:cubicBezTo>
                  <a:pt x="1172" y="259"/>
                  <a:pt x="1190" y="210"/>
                  <a:pt x="1174" y="177"/>
                </a:cubicBezTo>
                <a:cubicBezTo>
                  <a:pt x="1168" y="164"/>
                  <a:pt x="1150" y="161"/>
                  <a:pt x="1138" y="153"/>
                </a:cubicBezTo>
                <a:cubicBezTo>
                  <a:pt x="1087" y="77"/>
                  <a:pt x="1028" y="92"/>
                  <a:pt x="958" y="45"/>
                </a:cubicBezTo>
                <a:cubicBezTo>
                  <a:pt x="820" y="65"/>
                  <a:pt x="850" y="70"/>
                  <a:pt x="682" y="57"/>
                </a:cubicBezTo>
                <a:cubicBezTo>
                  <a:pt x="633" y="41"/>
                  <a:pt x="598" y="53"/>
                  <a:pt x="550" y="69"/>
                </a:cubicBezTo>
                <a:cubicBezTo>
                  <a:pt x="546" y="57"/>
                  <a:pt x="550" y="38"/>
                  <a:pt x="538" y="33"/>
                </a:cubicBezTo>
                <a:cubicBezTo>
                  <a:pt x="523" y="27"/>
                  <a:pt x="506" y="41"/>
                  <a:pt x="490" y="45"/>
                </a:cubicBezTo>
                <a:cubicBezTo>
                  <a:pt x="403" y="64"/>
                  <a:pt x="458" y="48"/>
                  <a:pt x="394" y="69"/>
                </a:cubicBezTo>
                <a:cubicBezTo>
                  <a:pt x="291" y="0"/>
                  <a:pt x="421" y="74"/>
                  <a:pt x="322" y="57"/>
                </a:cubicBezTo>
                <a:cubicBezTo>
                  <a:pt x="308" y="55"/>
                  <a:pt x="298" y="41"/>
                  <a:pt x="286" y="33"/>
                </a:cubicBezTo>
                <a:cubicBezTo>
                  <a:pt x="206" y="60"/>
                  <a:pt x="128" y="95"/>
                  <a:pt x="58" y="141"/>
                </a:cubicBezTo>
                <a:cubicBezTo>
                  <a:pt x="35" y="176"/>
                  <a:pt x="0" y="231"/>
                  <a:pt x="34" y="273"/>
                </a:cubicBezTo>
                <a:cubicBezTo>
                  <a:pt x="42" y="283"/>
                  <a:pt x="58" y="281"/>
                  <a:pt x="70" y="285"/>
                </a:cubicBezTo>
                <a:cubicBezTo>
                  <a:pt x="123" y="392"/>
                  <a:pt x="57" y="297"/>
                  <a:pt x="142" y="285"/>
                </a:cubicBezTo>
                <a:cubicBezTo>
                  <a:pt x="159" y="283"/>
                  <a:pt x="166" y="309"/>
                  <a:pt x="178" y="321"/>
                </a:cubicBezTo>
                <a:cubicBezTo>
                  <a:pt x="194" y="387"/>
                  <a:pt x="200" y="384"/>
                  <a:pt x="262" y="405"/>
                </a:cubicBezTo>
                <a:cubicBezTo>
                  <a:pt x="291" y="449"/>
                  <a:pt x="309" y="486"/>
                  <a:pt x="322" y="537"/>
                </a:cubicBezTo>
                <a:cubicBezTo>
                  <a:pt x="338" y="529"/>
                  <a:pt x="354" y="520"/>
                  <a:pt x="370" y="513"/>
                </a:cubicBezTo>
                <a:cubicBezTo>
                  <a:pt x="382" y="508"/>
                  <a:pt x="397" y="492"/>
                  <a:pt x="406" y="501"/>
                </a:cubicBezTo>
                <a:cubicBezTo>
                  <a:pt x="424" y="519"/>
                  <a:pt x="430" y="573"/>
                  <a:pt x="430" y="573"/>
                </a:cubicBezTo>
                <a:cubicBezTo>
                  <a:pt x="466" y="519"/>
                  <a:pt x="470" y="512"/>
                  <a:pt x="526" y="549"/>
                </a:cubicBezTo>
                <a:cubicBezTo>
                  <a:pt x="543" y="532"/>
                  <a:pt x="567" y="498"/>
                  <a:pt x="598" y="501"/>
                </a:cubicBezTo>
                <a:cubicBezTo>
                  <a:pt x="623" y="504"/>
                  <a:pt x="670" y="525"/>
                  <a:pt x="670" y="525"/>
                </a:cubicBezTo>
                <a:cubicBezTo>
                  <a:pt x="717" y="494"/>
                  <a:pt x="755" y="500"/>
                  <a:pt x="802" y="477"/>
                </a:cubicBezTo>
                <a:cubicBezTo>
                  <a:pt x="895" y="430"/>
                  <a:pt x="784" y="471"/>
                  <a:pt x="874" y="441"/>
                </a:cubicBezTo>
                <a:cubicBezTo>
                  <a:pt x="957" y="379"/>
                  <a:pt x="1010" y="395"/>
                  <a:pt x="1114" y="405"/>
                </a:cubicBezTo>
                <a:cubicBezTo>
                  <a:pt x="1123" y="411"/>
                  <a:pt x="1169" y="447"/>
                  <a:pt x="1186" y="441"/>
                </a:cubicBezTo>
                <a:cubicBezTo>
                  <a:pt x="1213" y="432"/>
                  <a:pt x="1258" y="393"/>
                  <a:pt x="1258" y="393"/>
                </a:cubicBezTo>
                <a:cubicBezTo>
                  <a:pt x="1273" y="349"/>
                  <a:pt x="1281" y="351"/>
                  <a:pt x="1246" y="369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502160" y="2819520"/>
            <a:ext cx="858960" cy="428400"/>
          </a:xfrm>
          <a:custGeom>
            <a:avLst/>
            <a:gdLst/>
            <a:ahLst/>
            <a:rect l="l" t="t" r="r" b="b"/>
            <a:pathLst>
              <a:path w="541" h="270">
                <a:moveTo>
                  <a:pt x="464" y="120"/>
                </a:moveTo>
                <a:cubicBezTo>
                  <a:pt x="418" y="89"/>
                  <a:pt x="366" y="79"/>
                  <a:pt x="320" y="48"/>
                </a:cubicBezTo>
                <a:cubicBezTo>
                  <a:pt x="276" y="52"/>
                  <a:pt x="232" y="66"/>
                  <a:pt x="188" y="60"/>
                </a:cubicBezTo>
                <a:cubicBezTo>
                  <a:pt x="171" y="58"/>
                  <a:pt x="167" y="32"/>
                  <a:pt x="152" y="24"/>
                </a:cubicBezTo>
                <a:cubicBezTo>
                  <a:pt x="130" y="12"/>
                  <a:pt x="80" y="0"/>
                  <a:pt x="80" y="0"/>
                </a:cubicBezTo>
                <a:cubicBezTo>
                  <a:pt x="64" y="8"/>
                  <a:pt x="43" y="10"/>
                  <a:pt x="32" y="24"/>
                </a:cubicBezTo>
                <a:cubicBezTo>
                  <a:pt x="17" y="44"/>
                  <a:pt x="8" y="96"/>
                  <a:pt x="8" y="96"/>
                </a:cubicBezTo>
                <a:cubicBezTo>
                  <a:pt x="29" y="179"/>
                  <a:pt x="0" y="132"/>
                  <a:pt x="56" y="132"/>
                </a:cubicBezTo>
                <a:cubicBezTo>
                  <a:pt x="72" y="132"/>
                  <a:pt x="88" y="140"/>
                  <a:pt x="104" y="144"/>
                </a:cubicBezTo>
                <a:cubicBezTo>
                  <a:pt x="108" y="156"/>
                  <a:pt x="106" y="173"/>
                  <a:pt x="116" y="180"/>
                </a:cubicBezTo>
                <a:cubicBezTo>
                  <a:pt x="149" y="204"/>
                  <a:pt x="237" y="211"/>
                  <a:pt x="272" y="216"/>
                </a:cubicBezTo>
                <a:cubicBezTo>
                  <a:pt x="280" y="232"/>
                  <a:pt x="279" y="260"/>
                  <a:pt x="296" y="264"/>
                </a:cubicBezTo>
                <a:cubicBezTo>
                  <a:pt x="321" y="270"/>
                  <a:pt x="343" y="243"/>
                  <a:pt x="368" y="240"/>
                </a:cubicBezTo>
                <a:cubicBezTo>
                  <a:pt x="404" y="236"/>
                  <a:pt x="440" y="232"/>
                  <a:pt x="476" y="228"/>
                </a:cubicBezTo>
                <a:cubicBezTo>
                  <a:pt x="533" y="209"/>
                  <a:pt x="541" y="190"/>
                  <a:pt x="524" y="132"/>
                </a:cubicBezTo>
                <a:cubicBezTo>
                  <a:pt x="521" y="120"/>
                  <a:pt x="524" y="98"/>
                  <a:pt x="512" y="96"/>
                </a:cubicBezTo>
                <a:cubicBezTo>
                  <a:pt x="494" y="92"/>
                  <a:pt x="480" y="112"/>
                  <a:pt x="464" y="120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811600" y="2666880"/>
            <a:ext cx="1744560" cy="604800"/>
          </a:xfrm>
          <a:custGeom>
            <a:avLst/>
            <a:gdLst/>
            <a:ahLst/>
            <a:rect l="l" t="t" r="r" b="b"/>
            <a:pathLst>
              <a:path w="1099" h="381">
                <a:moveTo>
                  <a:pt x="1061" y="318"/>
                </a:moveTo>
                <a:cubicBezTo>
                  <a:pt x="974" y="296"/>
                  <a:pt x="917" y="226"/>
                  <a:pt x="833" y="198"/>
                </a:cubicBezTo>
                <a:cubicBezTo>
                  <a:pt x="780" y="119"/>
                  <a:pt x="702" y="127"/>
                  <a:pt x="629" y="78"/>
                </a:cubicBezTo>
                <a:cubicBezTo>
                  <a:pt x="490" y="95"/>
                  <a:pt x="560" y="91"/>
                  <a:pt x="461" y="54"/>
                </a:cubicBezTo>
                <a:cubicBezTo>
                  <a:pt x="415" y="37"/>
                  <a:pt x="254" y="31"/>
                  <a:pt x="245" y="30"/>
                </a:cubicBezTo>
                <a:cubicBezTo>
                  <a:pt x="233" y="22"/>
                  <a:pt x="223" y="8"/>
                  <a:pt x="209" y="6"/>
                </a:cubicBezTo>
                <a:cubicBezTo>
                  <a:pt x="170" y="0"/>
                  <a:pt x="125" y="42"/>
                  <a:pt x="89" y="54"/>
                </a:cubicBezTo>
                <a:cubicBezTo>
                  <a:pt x="65" y="48"/>
                  <a:pt x="22" y="25"/>
                  <a:pt x="5" y="66"/>
                </a:cubicBezTo>
                <a:cubicBezTo>
                  <a:pt x="0" y="78"/>
                  <a:pt x="11" y="91"/>
                  <a:pt x="17" y="102"/>
                </a:cubicBezTo>
                <a:cubicBezTo>
                  <a:pt x="31" y="127"/>
                  <a:pt x="41" y="158"/>
                  <a:pt x="65" y="174"/>
                </a:cubicBezTo>
                <a:cubicBezTo>
                  <a:pt x="89" y="190"/>
                  <a:pt x="137" y="222"/>
                  <a:pt x="137" y="222"/>
                </a:cubicBezTo>
                <a:cubicBezTo>
                  <a:pt x="158" y="285"/>
                  <a:pt x="201" y="299"/>
                  <a:pt x="257" y="318"/>
                </a:cubicBezTo>
                <a:cubicBezTo>
                  <a:pt x="312" y="300"/>
                  <a:pt x="322" y="297"/>
                  <a:pt x="341" y="354"/>
                </a:cubicBezTo>
                <a:cubicBezTo>
                  <a:pt x="353" y="350"/>
                  <a:pt x="366" y="348"/>
                  <a:pt x="377" y="342"/>
                </a:cubicBezTo>
                <a:cubicBezTo>
                  <a:pt x="390" y="336"/>
                  <a:pt x="399" y="318"/>
                  <a:pt x="413" y="318"/>
                </a:cubicBezTo>
                <a:cubicBezTo>
                  <a:pt x="438" y="318"/>
                  <a:pt x="461" y="334"/>
                  <a:pt x="485" y="342"/>
                </a:cubicBezTo>
                <a:cubicBezTo>
                  <a:pt x="497" y="346"/>
                  <a:pt x="521" y="354"/>
                  <a:pt x="521" y="354"/>
                </a:cubicBezTo>
                <a:cubicBezTo>
                  <a:pt x="537" y="350"/>
                  <a:pt x="554" y="336"/>
                  <a:pt x="569" y="342"/>
                </a:cubicBezTo>
                <a:cubicBezTo>
                  <a:pt x="581" y="347"/>
                  <a:pt x="569" y="373"/>
                  <a:pt x="581" y="378"/>
                </a:cubicBezTo>
                <a:cubicBezTo>
                  <a:pt x="588" y="381"/>
                  <a:pt x="654" y="358"/>
                  <a:pt x="665" y="354"/>
                </a:cubicBezTo>
                <a:cubicBezTo>
                  <a:pt x="771" y="369"/>
                  <a:pt x="770" y="380"/>
                  <a:pt x="881" y="366"/>
                </a:cubicBezTo>
                <a:cubicBezTo>
                  <a:pt x="962" y="339"/>
                  <a:pt x="862" y="366"/>
                  <a:pt x="989" y="366"/>
                </a:cubicBezTo>
                <a:cubicBezTo>
                  <a:pt x="1013" y="366"/>
                  <a:pt x="1037" y="358"/>
                  <a:pt x="1061" y="354"/>
                </a:cubicBezTo>
                <a:cubicBezTo>
                  <a:pt x="1089" y="311"/>
                  <a:pt x="1099" y="318"/>
                  <a:pt x="1061" y="318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952880" y="217800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NI-Helve-Condense"/>
              </a:rPr>
              <a:t>Cuø lao Thôùi Sô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162920" y="198108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NI-Helve-Condense"/>
              </a:rPr>
              <a:t>Thôùi Thaïc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819520" y="283860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NI-Helve-Condense"/>
              </a:rPr>
              <a:t>Coàn Baø Kieà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419720" y="289548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NI-Helve-Condense"/>
              </a:rPr>
              <a:t>Boán Thoâ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286000" y="76212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NI-Helve-Condense"/>
              </a:rPr>
              <a:t>CHÔÏ GIÖÕ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943600" y="25909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VNI-Helve-Condense"/>
              </a:rPr>
              <a:t>S OÂ N G  T I EÀ 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09480" y="4419720"/>
            <a:ext cx="27622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VNI-Helve-Condense"/>
              </a:rPr>
              <a:t> </a:t>
            </a:r>
            <a:r>
              <a:rPr b="1" lang="en-US" sz="1800" spc="-1" strike="noStrike">
                <a:solidFill>
                  <a:srgbClr val="3333ff"/>
                </a:solidFill>
                <a:latin typeface="VNI-Helve-Condense"/>
              </a:rPr>
              <a:t>Quaân Taây</a:t>
            </a:r>
            <a:r>
              <a:rPr b="1" lang="en-US" sz="2800" spc="-1" strike="noStrike">
                <a:solidFill>
                  <a:srgbClr val="ffffff"/>
                </a:solidFill>
                <a:latin typeface="VNI-Helve-Condense"/>
              </a:rPr>
              <a:t> </a:t>
            </a:r>
            <a:r>
              <a:rPr b="1" lang="en-US" sz="1800" spc="-1" strike="noStrike">
                <a:solidFill>
                  <a:srgbClr val="3333ff"/>
                </a:solidFill>
                <a:latin typeface="VNI-Helve-Condense"/>
              </a:rPr>
              <a:t>Sôn mai phuïc</a:t>
            </a:r>
            <a:r>
              <a:rPr b="1" lang="en-US" sz="1600" spc="-1" strike="noStrike">
                <a:solidFill>
                  <a:srgbClr val="3333ff"/>
                </a:solidFill>
                <a:latin typeface="VNI-Helve-Condense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85800" y="41148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VNI-Helve-Condense"/>
              </a:rPr>
              <a:t>Quaân Xieâm tieán coâng</a:t>
            </a:r>
            <a:r>
              <a:rPr b="1" lang="en-US" sz="1600" spc="-1" strike="noStrike">
                <a:solidFill>
                  <a:srgbClr val="3333ff"/>
                </a:solidFill>
                <a:latin typeface="VNI-Helve-Condense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57200" y="55008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VNI-Helve-Condense"/>
              </a:rPr>
              <a:t>Quaân Taây Sôn taán coâ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28600" y="59436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8e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43080" y="5981760"/>
            <a:ext cx="1440" cy="190440"/>
          </a:xfrm>
          <a:custGeom>
            <a:avLst/>
            <a:gdLst/>
            <a:ahLst/>
            <a:rect l="l" t="t" r="r" b="b"/>
            <a:pathLst>
              <a:path w="1" h="120">
                <a:moveTo>
                  <a:pt x="0" y="0"/>
                </a:moveTo>
                <a:cubicBezTo>
                  <a:pt x="0" y="40"/>
                  <a:pt x="0" y="80"/>
                  <a:pt x="0" y="120"/>
                </a:cubicBezTo>
              </a:path>
            </a:pathLst>
          </a:custGeom>
          <a:solidFill>
            <a:srgbClr val="008eee"/>
          </a:solidFill>
          <a:ln w="12600">
            <a:solidFill>
              <a:srgbClr val="00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61800" y="5969160"/>
            <a:ext cx="171720" cy="144360"/>
          </a:xfrm>
          <a:custGeom>
            <a:avLst/>
            <a:gdLst/>
            <a:ahLst/>
            <a:rect l="l" t="t" r="r" b="b"/>
            <a:pathLst>
              <a:path w="108" h="91">
                <a:moveTo>
                  <a:pt x="0" y="7"/>
                </a:moveTo>
                <a:cubicBezTo>
                  <a:pt x="57" y="26"/>
                  <a:pt x="51" y="0"/>
                  <a:pt x="108" y="19"/>
                </a:cubicBezTo>
                <a:cubicBezTo>
                  <a:pt x="27" y="73"/>
                  <a:pt x="56" y="47"/>
                  <a:pt x="12" y="91"/>
                </a:cubicBezTo>
              </a:path>
            </a:pathLst>
          </a:custGeom>
          <a:noFill/>
          <a:ln w="12600">
            <a:solidFill>
              <a:srgbClr val="008e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09480" y="58816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VNI-Helve-Condense"/>
              </a:rPr>
              <a:t>Ñaïi baûn doanh cuûa Taây Sô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962520" y="39625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-360" y="6248520"/>
            <a:ext cx="3962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85800" y="48769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VNI-Helve-Condense"/>
              </a:rPr>
              <a:t>Quaân Taây Sôn nhöû ñòch vaøo traän ñò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95760" y="369720"/>
            <a:ext cx="584280" cy="1204920"/>
          </a:xfrm>
          <a:custGeom>
            <a:avLst/>
            <a:gdLst/>
            <a:ahLst/>
            <a:rect l="l" t="t" r="r" b="b"/>
            <a:pathLst>
              <a:path w="368" h="759">
                <a:moveTo>
                  <a:pt x="266" y="7"/>
                </a:moveTo>
                <a:cubicBezTo>
                  <a:pt x="179" y="12"/>
                  <a:pt x="149" y="0"/>
                  <a:pt x="90" y="39"/>
                </a:cubicBezTo>
                <a:cubicBezTo>
                  <a:pt x="85" y="47"/>
                  <a:pt x="74" y="53"/>
                  <a:pt x="74" y="63"/>
                </a:cubicBezTo>
                <a:cubicBezTo>
                  <a:pt x="74" y="80"/>
                  <a:pt x="90" y="111"/>
                  <a:pt x="90" y="111"/>
                </a:cubicBezTo>
                <a:cubicBezTo>
                  <a:pt x="75" y="184"/>
                  <a:pt x="41" y="302"/>
                  <a:pt x="114" y="351"/>
                </a:cubicBezTo>
                <a:cubicBezTo>
                  <a:pt x="129" y="396"/>
                  <a:pt x="188" y="429"/>
                  <a:pt x="226" y="455"/>
                </a:cubicBezTo>
                <a:cubicBezTo>
                  <a:pt x="242" y="466"/>
                  <a:pt x="274" y="487"/>
                  <a:pt x="274" y="487"/>
                </a:cubicBezTo>
                <a:cubicBezTo>
                  <a:pt x="310" y="541"/>
                  <a:pt x="296" y="585"/>
                  <a:pt x="322" y="631"/>
                </a:cubicBezTo>
                <a:cubicBezTo>
                  <a:pt x="368" y="714"/>
                  <a:pt x="344" y="649"/>
                  <a:pt x="362" y="703"/>
                </a:cubicBezTo>
                <a:cubicBezTo>
                  <a:pt x="359" y="714"/>
                  <a:pt x="363" y="729"/>
                  <a:pt x="354" y="735"/>
                </a:cubicBezTo>
                <a:cubicBezTo>
                  <a:pt x="329" y="752"/>
                  <a:pt x="295" y="749"/>
                  <a:pt x="266" y="759"/>
                </a:cubicBezTo>
                <a:cubicBezTo>
                  <a:pt x="190" y="721"/>
                  <a:pt x="221" y="741"/>
                  <a:pt x="170" y="703"/>
                </a:cubicBezTo>
                <a:cubicBezTo>
                  <a:pt x="186" y="692"/>
                  <a:pt x="227" y="688"/>
                  <a:pt x="218" y="671"/>
                </a:cubicBezTo>
                <a:cubicBezTo>
                  <a:pt x="189" y="612"/>
                  <a:pt x="158" y="557"/>
                  <a:pt x="122" y="503"/>
                </a:cubicBezTo>
                <a:cubicBezTo>
                  <a:pt x="115" y="493"/>
                  <a:pt x="114" y="479"/>
                  <a:pt x="106" y="471"/>
                </a:cubicBezTo>
                <a:cubicBezTo>
                  <a:pt x="92" y="457"/>
                  <a:pt x="58" y="439"/>
                  <a:pt x="58" y="439"/>
                </a:cubicBezTo>
                <a:cubicBezTo>
                  <a:pt x="53" y="428"/>
                  <a:pt x="50" y="415"/>
                  <a:pt x="42" y="407"/>
                </a:cubicBezTo>
                <a:cubicBezTo>
                  <a:pt x="34" y="399"/>
                  <a:pt x="12" y="403"/>
                  <a:pt x="10" y="391"/>
                </a:cubicBezTo>
                <a:cubicBezTo>
                  <a:pt x="0" y="329"/>
                  <a:pt x="15" y="265"/>
                  <a:pt x="34" y="207"/>
                </a:cubicBezTo>
                <a:cubicBezTo>
                  <a:pt x="29" y="194"/>
                  <a:pt x="24" y="180"/>
                  <a:pt x="18" y="167"/>
                </a:cubicBezTo>
                <a:cubicBezTo>
                  <a:pt x="14" y="158"/>
                  <a:pt x="2" y="153"/>
                  <a:pt x="2" y="143"/>
                </a:cubicBezTo>
                <a:cubicBezTo>
                  <a:pt x="2" y="132"/>
                  <a:pt x="37" y="100"/>
                  <a:pt x="42" y="95"/>
                </a:cubicBezTo>
                <a:cubicBezTo>
                  <a:pt x="54" y="59"/>
                  <a:pt x="56" y="33"/>
                  <a:pt x="82" y="7"/>
                </a:cubicBezTo>
              </a:path>
            </a:pathLst>
          </a:custGeom>
          <a:solidFill>
            <a:srgbClr val="00ccff"/>
          </a:solidFill>
          <a:ln w="12600">
            <a:solidFill>
              <a:srgbClr val="00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1181520" y="1118160"/>
            <a:ext cx="4678200" cy="2304000"/>
            <a:chOff x="1181520" y="1118160"/>
            <a:chExt cx="4678200" cy="2304000"/>
          </a:xfrm>
        </p:grpSpPr>
        <p:sp>
          <p:nvSpPr>
            <p:cNvPr id="433" name=""/>
            <p:cNvSpPr/>
            <p:nvPr/>
          </p:nvSpPr>
          <p:spPr>
            <a:xfrm rot="226800">
              <a:off x="2892240" y="2652480"/>
              <a:ext cx="761760" cy="304560"/>
            </a:xfrm>
            <a:custGeom>
              <a:avLst/>
              <a:gdLst/>
              <a:ahLst/>
              <a:rect l="l" t="t" r="r" b="b"/>
              <a:pathLst>
                <a:path w="2371" h="1018">
                  <a:moveTo>
                    <a:pt x="157" y="895"/>
                  </a:moveTo>
                  <a:lnTo>
                    <a:pt x="455" y="696"/>
                  </a:lnTo>
                  <a:lnTo>
                    <a:pt x="710" y="603"/>
                  </a:lnTo>
                  <a:lnTo>
                    <a:pt x="924" y="589"/>
                  </a:lnTo>
                  <a:lnTo>
                    <a:pt x="1152" y="576"/>
                  </a:lnTo>
                  <a:lnTo>
                    <a:pt x="1379" y="589"/>
                  </a:lnTo>
                  <a:lnTo>
                    <a:pt x="1687" y="683"/>
                  </a:lnTo>
                  <a:lnTo>
                    <a:pt x="1942" y="790"/>
                  </a:lnTo>
                  <a:lnTo>
                    <a:pt x="2263" y="1018"/>
                  </a:lnTo>
                  <a:lnTo>
                    <a:pt x="2344" y="777"/>
                  </a:lnTo>
                  <a:lnTo>
                    <a:pt x="2156" y="696"/>
                  </a:lnTo>
                  <a:lnTo>
                    <a:pt x="2183" y="616"/>
                  </a:lnTo>
                  <a:lnTo>
                    <a:pt x="2371" y="683"/>
                  </a:lnTo>
                  <a:lnTo>
                    <a:pt x="2143" y="308"/>
                  </a:lnTo>
                  <a:lnTo>
                    <a:pt x="1728" y="335"/>
                  </a:lnTo>
                  <a:lnTo>
                    <a:pt x="1929" y="428"/>
                  </a:lnTo>
                  <a:lnTo>
                    <a:pt x="1888" y="536"/>
                  </a:lnTo>
                  <a:lnTo>
                    <a:pt x="1754" y="482"/>
                  </a:lnTo>
                  <a:lnTo>
                    <a:pt x="1594" y="428"/>
                  </a:lnTo>
                  <a:lnTo>
                    <a:pt x="1379" y="388"/>
                  </a:lnTo>
                  <a:lnTo>
                    <a:pt x="1366" y="268"/>
                  </a:lnTo>
                  <a:lnTo>
                    <a:pt x="1580" y="281"/>
                  </a:lnTo>
                  <a:lnTo>
                    <a:pt x="1178" y="0"/>
                  </a:lnTo>
                  <a:lnTo>
                    <a:pt x="857" y="227"/>
                  </a:lnTo>
                  <a:lnTo>
                    <a:pt x="1058" y="241"/>
                  </a:lnTo>
                  <a:lnTo>
                    <a:pt x="1058" y="361"/>
                  </a:lnTo>
                  <a:lnTo>
                    <a:pt x="750" y="388"/>
                  </a:lnTo>
                  <a:lnTo>
                    <a:pt x="562" y="455"/>
                  </a:lnTo>
                  <a:lnTo>
                    <a:pt x="495" y="348"/>
                  </a:lnTo>
                  <a:lnTo>
                    <a:pt x="750" y="268"/>
                  </a:lnTo>
                  <a:lnTo>
                    <a:pt x="281" y="147"/>
                  </a:lnTo>
                  <a:lnTo>
                    <a:pt x="0" y="536"/>
                  </a:lnTo>
                  <a:lnTo>
                    <a:pt x="254" y="455"/>
                  </a:lnTo>
                  <a:lnTo>
                    <a:pt x="294" y="562"/>
                  </a:lnTo>
                  <a:lnTo>
                    <a:pt x="134" y="616"/>
                  </a:lnTo>
                  <a:lnTo>
                    <a:pt x="0" y="696"/>
                  </a:lnTo>
                  <a:lnTo>
                    <a:pt x="120" y="924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34" name=""/>
            <p:cNvGrpSpPr/>
            <p:nvPr/>
          </p:nvGrpSpPr>
          <p:grpSpPr>
            <a:xfrm>
              <a:off x="1181520" y="1118160"/>
              <a:ext cx="4678200" cy="2304000"/>
              <a:chOff x="1181520" y="1118160"/>
              <a:chExt cx="4678200" cy="2304000"/>
            </a:xfrm>
          </p:grpSpPr>
          <p:sp>
            <p:nvSpPr>
              <p:cNvPr id="435" name=""/>
              <p:cNvSpPr/>
              <p:nvPr/>
            </p:nvSpPr>
            <p:spPr>
              <a:xfrm rot="20970600">
                <a:off x="1206000" y="2989080"/>
                <a:ext cx="685800" cy="334800"/>
              </a:xfrm>
              <a:custGeom>
                <a:avLst/>
                <a:gdLst/>
                <a:ahLst/>
                <a:rect l="l" t="t" r="r" b="b"/>
                <a:pathLst>
                  <a:path w="2371" h="1018">
                    <a:moveTo>
                      <a:pt x="157" y="895"/>
                    </a:moveTo>
                    <a:lnTo>
                      <a:pt x="455" y="696"/>
                    </a:lnTo>
                    <a:lnTo>
                      <a:pt x="710" y="603"/>
                    </a:lnTo>
                    <a:lnTo>
                      <a:pt x="924" y="589"/>
                    </a:lnTo>
                    <a:lnTo>
                      <a:pt x="1152" y="576"/>
                    </a:lnTo>
                    <a:lnTo>
                      <a:pt x="1379" y="589"/>
                    </a:lnTo>
                    <a:lnTo>
                      <a:pt x="1687" y="683"/>
                    </a:lnTo>
                    <a:lnTo>
                      <a:pt x="1942" y="790"/>
                    </a:lnTo>
                    <a:lnTo>
                      <a:pt x="2263" y="1018"/>
                    </a:lnTo>
                    <a:lnTo>
                      <a:pt x="2344" y="777"/>
                    </a:lnTo>
                    <a:lnTo>
                      <a:pt x="2156" y="696"/>
                    </a:lnTo>
                    <a:lnTo>
                      <a:pt x="2183" y="616"/>
                    </a:lnTo>
                    <a:lnTo>
                      <a:pt x="2371" y="683"/>
                    </a:lnTo>
                    <a:lnTo>
                      <a:pt x="2143" y="308"/>
                    </a:lnTo>
                    <a:lnTo>
                      <a:pt x="1728" y="335"/>
                    </a:lnTo>
                    <a:lnTo>
                      <a:pt x="1929" y="428"/>
                    </a:lnTo>
                    <a:lnTo>
                      <a:pt x="1888" y="536"/>
                    </a:lnTo>
                    <a:lnTo>
                      <a:pt x="1754" y="482"/>
                    </a:lnTo>
                    <a:lnTo>
                      <a:pt x="1594" y="428"/>
                    </a:lnTo>
                    <a:lnTo>
                      <a:pt x="1379" y="388"/>
                    </a:lnTo>
                    <a:lnTo>
                      <a:pt x="1366" y="268"/>
                    </a:lnTo>
                    <a:lnTo>
                      <a:pt x="1580" y="281"/>
                    </a:lnTo>
                    <a:lnTo>
                      <a:pt x="1178" y="0"/>
                    </a:lnTo>
                    <a:lnTo>
                      <a:pt x="857" y="227"/>
                    </a:lnTo>
                    <a:lnTo>
                      <a:pt x="1058" y="241"/>
                    </a:lnTo>
                    <a:lnTo>
                      <a:pt x="1058" y="361"/>
                    </a:lnTo>
                    <a:lnTo>
                      <a:pt x="750" y="388"/>
                    </a:lnTo>
                    <a:lnTo>
                      <a:pt x="562" y="455"/>
                    </a:lnTo>
                    <a:lnTo>
                      <a:pt x="495" y="348"/>
                    </a:lnTo>
                    <a:lnTo>
                      <a:pt x="750" y="268"/>
                    </a:lnTo>
                    <a:lnTo>
                      <a:pt x="281" y="147"/>
                    </a:lnTo>
                    <a:lnTo>
                      <a:pt x="0" y="536"/>
                    </a:lnTo>
                    <a:lnTo>
                      <a:pt x="254" y="455"/>
                    </a:lnTo>
                    <a:lnTo>
                      <a:pt x="294" y="562"/>
                    </a:lnTo>
                    <a:lnTo>
                      <a:pt x="134" y="616"/>
                    </a:lnTo>
                    <a:lnTo>
                      <a:pt x="0" y="696"/>
                    </a:lnTo>
                    <a:lnTo>
                      <a:pt x="120" y="924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rot="583200">
                <a:off x="2118960" y="3047760"/>
                <a:ext cx="682560" cy="318960"/>
              </a:xfrm>
              <a:custGeom>
                <a:avLst/>
                <a:gdLst/>
                <a:ahLst/>
                <a:rect l="l" t="t" r="r" b="b"/>
                <a:pathLst>
                  <a:path w="2371" h="1018">
                    <a:moveTo>
                      <a:pt x="157" y="895"/>
                    </a:moveTo>
                    <a:lnTo>
                      <a:pt x="455" y="696"/>
                    </a:lnTo>
                    <a:lnTo>
                      <a:pt x="710" y="603"/>
                    </a:lnTo>
                    <a:lnTo>
                      <a:pt x="924" y="589"/>
                    </a:lnTo>
                    <a:lnTo>
                      <a:pt x="1152" y="576"/>
                    </a:lnTo>
                    <a:lnTo>
                      <a:pt x="1379" y="589"/>
                    </a:lnTo>
                    <a:lnTo>
                      <a:pt x="1687" y="683"/>
                    </a:lnTo>
                    <a:lnTo>
                      <a:pt x="1942" y="790"/>
                    </a:lnTo>
                    <a:lnTo>
                      <a:pt x="2263" y="1018"/>
                    </a:lnTo>
                    <a:lnTo>
                      <a:pt x="2344" y="777"/>
                    </a:lnTo>
                    <a:lnTo>
                      <a:pt x="2156" y="696"/>
                    </a:lnTo>
                    <a:lnTo>
                      <a:pt x="2183" y="616"/>
                    </a:lnTo>
                    <a:lnTo>
                      <a:pt x="2371" y="683"/>
                    </a:lnTo>
                    <a:lnTo>
                      <a:pt x="2143" y="308"/>
                    </a:lnTo>
                    <a:lnTo>
                      <a:pt x="1728" y="335"/>
                    </a:lnTo>
                    <a:lnTo>
                      <a:pt x="1929" y="428"/>
                    </a:lnTo>
                    <a:lnTo>
                      <a:pt x="1888" y="536"/>
                    </a:lnTo>
                    <a:lnTo>
                      <a:pt x="1754" y="482"/>
                    </a:lnTo>
                    <a:lnTo>
                      <a:pt x="1594" y="428"/>
                    </a:lnTo>
                    <a:lnTo>
                      <a:pt x="1379" y="388"/>
                    </a:lnTo>
                    <a:lnTo>
                      <a:pt x="1366" y="268"/>
                    </a:lnTo>
                    <a:lnTo>
                      <a:pt x="1580" y="281"/>
                    </a:lnTo>
                    <a:lnTo>
                      <a:pt x="1178" y="0"/>
                    </a:lnTo>
                    <a:lnTo>
                      <a:pt x="857" y="227"/>
                    </a:lnTo>
                    <a:lnTo>
                      <a:pt x="1058" y="241"/>
                    </a:lnTo>
                    <a:lnTo>
                      <a:pt x="1058" y="361"/>
                    </a:lnTo>
                    <a:lnTo>
                      <a:pt x="750" y="388"/>
                    </a:lnTo>
                    <a:lnTo>
                      <a:pt x="562" y="455"/>
                    </a:lnTo>
                    <a:lnTo>
                      <a:pt x="495" y="348"/>
                    </a:lnTo>
                    <a:lnTo>
                      <a:pt x="750" y="268"/>
                    </a:lnTo>
                    <a:lnTo>
                      <a:pt x="281" y="147"/>
                    </a:lnTo>
                    <a:lnTo>
                      <a:pt x="0" y="536"/>
                    </a:lnTo>
                    <a:lnTo>
                      <a:pt x="254" y="455"/>
                    </a:lnTo>
                    <a:lnTo>
                      <a:pt x="294" y="562"/>
                    </a:lnTo>
                    <a:lnTo>
                      <a:pt x="134" y="616"/>
                    </a:lnTo>
                    <a:lnTo>
                      <a:pt x="0" y="696"/>
                    </a:lnTo>
                    <a:lnTo>
                      <a:pt x="120" y="924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rot="20692200">
                <a:off x="5067000" y="1917360"/>
                <a:ext cx="762120" cy="334800"/>
              </a:xfrm>
              <a:custGeom>
                <a:avLst/>
                <a:gdLst/>
                <a:ahLst/>
                <a:rect l="l" t="t" r="r" b="b"/>
                <a:pathLst>
                  <a:path w="2371" h="1018">
                    <a:moveTo>
                      <a:pt x="157" y="895"/>
                    </a:moveTo>
                    <a:lnTo>
                      <a:pt x="455" y="696"/>
                    </a:lnTo>
                    <a:lnTo>
                      <a:pt x="710" y="603"/>
                    </a:lnTo>
                    <a:lnTo>
                      <a:pt x="924" y="589"/>
                    </a:lnTo>
                    <a:lnTo>
                      <a:pt x="1152" y="576"/>
                    </a:lnTo>
                    <a:lnTo>
                      <a:pt x="1379" y="589"/>
                    </a:lnTo>
                    <a:lnTo>
                      <a:pt x="1687" y="683"/>
                    </a:lnTo>
                    <a:lnTo>
                      <a:pt x="1942" y="790"/>
                    </a:lnTo>
                    <a:lnTo>
                      <a:pt x="2263" y="1018"/>
                    </a:lnTo>
                    <a:lnTo>
                      <a:pt x="2344" y="777"/>
                    </a:lnTo>
                    <a:lnTo>
                      <a:pt x="2156" y="696"/>
                    </a:lnTo>
                    <a:lnTo>
                      <a:pt x="2183" y="616"/>
                    </a:lnTo>
                    <a:lnTo>
                      <a:pt x="2371" y="683"/>
                    </a:lnTo>
                    <a:lnTo>
                      <a:pt x="2143" y="308"/>
                    </a:lnTo>
                    <a:lnTo>
                      <a:pt x="1728" y="335"/>
                    </a:lnTo>
                    <a:lnTo>
                      <a:pt x="1929" y="428"/>
                    </a:lnTo>
                    <a:lnTo>
                      <a:pt x="1888" y="536"/>
                    </a:lnTo>
                    <a:lnTo>
                      <a:pt x="1754" y="482"/>
                    </a:lnTo>
                    <a:lnTo>
                      <a:pt x="1594" y="428"/>
                    </a:lnTo>
                    <a:lnTo>
                      <a:pt x="1379" y="388"/>
                    </a:lnTo>
                    <a:lnTo>
                      <a:pt x="1366" y="268"/>
                    </a:lnTo>
                    <a:lnTo>
                      <a:pt x="1580" y="281"/>
                    </a:lnTo>
                    <a:lnTo>
                      <a:pt x="1178" y="0"/>
                    </a:lnTo>
                    <a:lnTo>
                      <a:pt x="857" y="227"/>
                    </a:lnTo>
                    <a:lnTo>
                      <a:pt x="1058" y="241"/>
                    </a:lnTo>
                    <a:lnTo>
                      <a:pt x="1058" y="361"/>
                    </a:lnTo>
                    <a:lnTo>
                      <a:pt x="750" y="388"/>
                    </a:lnTo>
                    <a:lnTo>
                      <a:pt x="562" y="455"/>
                    </a:lnTo>
                    <a:lnTo>
                      <a:pt x="495" y="348"/>
                    </a:lnTo>
                    <a:lnTo>
                      <a:pt x="750" y="268"/>
                    </a:lnTo>
                    <a:lnTo>
                      <a:pt x="281" y="147"/>
                    </a:lnTo>
                    <a:lnTo>
                      <a:pt x="0" y="536"/>
                    </a:lnTo>
                    <a:lnTo>
                      <a:pt x="254" y="455"/>
                    </a:lnTo>
                    <a:lnTo>
                      <a:pt x="294" y="562"/>
                    </a:lnTo>
                    <a:lnTo>
                      <a:pt x="134" y="616"/>
                    </a:lnTo>
                    <a:lnTo>
                      <a:pt x="0" y="696"/>
                    </a:lnTo>
                    <a:lnTo>
                      <a:pt x="120" y="924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rot="10422000">
                <a:off x="4765320" y="1157040"/>
                <a:ext cx="725400" cy="314280"/>
              </a:xfrm>
              <a:custGeom>
                <a:avLst/>
                <a:gdLst/>
                <a:ahLst/>
                <a:rect l="l" t="t" r="r" b="b"/>
                <a:pathLst>
                  <a:path w="2371" h="1018">
                    <a:moveTo>
                      <a:pt x="157" y="895"/>
                    </a:moveTo>
                    <a:lnTo>
                      <a:pt x="455" y="696"/>
                    </a:lnTo>
                    <a:lnTo>
                      <a:pt x="710" y="603"/>
                    </a:lnTo>
                    <a:lnTo>
                      <a:pt x="924" y="589"/>
                    </a:lnTo>
                    <a:lnTo>
                      <a:pt x="1152" y="576"/>
                    </a:lnTo>
                    <a:lnTo>
                      <a:pt x="1379" y="589"/>
                    </a:lnTo>
                    <a:lnTo>
                      <a:pt x="1687" y="683"/>
                    </a:lnTo>
                    <a:lnTo>
                      <a:pt x="1942" y="790"/>
                    </a:lnTo>
                    <a:lnTo>
                      <a:pt x="2263" y="1018"/>
                    </a:lnTo>
                    <a:lnTo>
                      <a:pt x="2344" y="777"/>
                    </a:lnTo>
                    <a:lnTo>
                      <a:pt x="2156" y="696"/>
                    </a:lnTo>
                    <a:lnTo>
                      <a:pt x="2183" y="616"/>
                    </a:lnTo>
                    <a:lnTo>
                      <a:pt x="2371" y="683"/>
                    </a:lnTo>
                    <a:lnTo>
                      <a:pt x="2143" y="308"/>
                    </a:lnTo>
                    <a:lnTo>
                      <a:pt x="1728" y="335"/>
                    </a:lnTo>
                    <a:lnTo>
                      <a:pt x="1929" y="428"/>
                    </a:lnTo>
                    <a:lnTo>
                      <a:pt x="1888" y="536"/>
                    </a:lnTo>
                    <a:lnTo>
                      <a:pt x="1754" y="482"/>
                    </a:lnTo>
                    <a:lnTo>
                      <a:pt x="1594" y="428"/>
                    </a:lnTo>
                    <a:lnTo>
                      <a:pt x="1379" y="388"/>
                    </a:lnTo>
                    <a:lnTo>
                      <a:pt x="1366" y="268"/>
                    </a:lnTo>
                    <a:lnTo>
                      <a:pt x="1580" y="281"/>
                    </a:lnTo>
                    <a:lnTo>
                      <a:pt x="1178" y="0"/>
                    </a:lnTo>
                    <a:lnTo>
                      <a:pt x="857" y="227"/>
                    </a:lnTo>
                    <a:lnTo>
                      <a:pt x="1058" y="241"/>
                    </a:lnTo>
                    <a:lnTo>
                      <a:pt x="1058" y="361"/>
                    </a:lnTo>
                    <a:lnTo>
                      <a:pt x="750" y="388"/>
                    </a:lnTo>
                    <a:lnTo>
                      <a:pt x="562" y="455"/>
                    </a:lnTo>
                    <a:lnTo>
                      <a:pt x="495" y="348"/>
                    </a:lnTo>
                    <a:lnTo>
                      <a:pt x="750" y="268"/>
                    </a:lnTo>
                    <a:lnTo>
                      <a:pt x="281" y="147"/>
                    </a:lnTo>
                    <a:lnTo>
                      <a:pt x="0" y="536"/>
                    </a:lnTo>
                    <a:lnTo>
                      <a:pt x="254" y="455"/>
                    </a:lnTo>
                    <a:lnTo>
                      <a:pt x="294" y="562"/>
                    </a:lnTo>
                    <a:lnTo>
                      <a:pt x="134" y="616"/>
                    </a:lnTo>
                    <a:lnTo>
                      <a:pt x="0" y="696"/>
                    </a:lnTo>
                    <a:lnTo>
                      <a:pt x="120" y="924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rot="9640200">
                <a:off x="2352240" y="1784520"/>
                <a:ext cx="828720" cy="334800"/>
              </a:xfrm>
              <a:custGeom>
                <a:avLst/>
                <a:gdLst/>
                <a:ahLst/>
                <a:rect l="l" t="t" r="r" b="b"/>
                <a:pathLst>
                  <a:path w="2371" h="1018">
                    <a:moveTo>
                      <a:pt x="157" y="895"/>
                    </a:moveTo>
                    <a:lnTo>
                      <a:pt x="455" y="696"/>
                    </a:lnTo>
                    <a:lnTo>
                      <a:pt x="710" y="603"/>
                    </a:lnTo>
                    <a:lnTo>
                      <a:pt x="924" y="589"/>
                    </a:lnTo>
                    <a:lnTo>
                      <a:pt x="1152" y="576"/>
                    </a:lnTo>
                    <a:lnTo>
                      <a:pt x="1379" y="589"/>
                    </a:lnTo>
                    <a:lnTo>
                      <a:pt x="1687" y="683"/>
                    </a:lnTo>
                    <a:lnTo>
                      <a:pt x="1942" y="790"/>
                    </a:lnTo>
                    <a:lnTo>
                      <a:pt x="2263" y="1018"/>
                    </a:lnTo>
                    <a:lnTo>
                      <a:pt x="2344" y="777"/>
                    </a:lnTo>
                    <a:lnTo>
                      <a:pt x="2156" y="696"/>
                    </a:lnTo>
                    <a:lnTo>
                      <a:pt x="2183" y="616"/>
                    </a:lnTo>
                    <a:lnTo>
                      <a:pt x="2371" y="683"/>
                    </a:lnTo>
                    <a:lnTo>
                      <a:pt x="2143" y="308"/>
                    </a:lnTo>
                    <a:lnTo>
                      <a:pt x="1728" y="335"/>
                    </a:lnTo>
                    <a:lnTo>
                      <a:pt x="1929" y="428"/>
                    </a:lnTo>
                    <a:lnTo>
                      <a:pt x="1888" y="536"/>
                    </a:lnTo>
                    <a:lnTo>
                      <a:pt x="1754" y="482"/>
                    </a:lnTo>
                    <a:lnTo>
                      <a:pt x="1594" y="428"/>
                    </a:lnTo>
                    <a:lnTo>
                      <a:pt x="1379" y="388"/>
                    </a:lnTo>
                    <a:lnTo>
                      <a:pt x="1366" y="268"/>
                    </a:lnTo>
                    <a:lnTo>
                      <a:pt x="1580" y="281"/>
                    </a:lnTo>
                    <a:lnTo>
                      <a:pt x="1178" y="0"/>
                    </a:lnTo>
                    <a:lnTo>
                      <a:pt x="857" y="227"/>
                    </a:lnTo>
                    <a:lnTo>
                      <a:pt x="1058" y="241"/>
                    </a:lnTo>
                    <a:lnTo>
                      <a:pt x="1058" y="361"/>
                    </a:lnTo>
                    <a:lnTo>
                      <a:pt x="750" y="388"/>
                    </a:lnTo>
                    <a:lnTo>
                      <a:pt x="562" y="455"/>
                    </a:lnTo>
                    <a:lnTo>
                      <a:pt x="495" y="348"/>
                    </a:lnTo>
                    <a:lnTo>
                      <a:pt x="750" y="268"/>
                    </a:lnTo>
                    <a:lnTo>
                      <a:pt x="281" y="147"/>
                    </a:lnTo>
                    <a:lnTo>
                      <a:pt x="0" y="536"/>
                    </a:lnTo>
                    <a:lnTo>
                      <a:pt x="254" y="455"/>
                    </a:lnTo>
                    <a:lnTo>
                      <a:pt x="294" y="562"/>
                    </a:lnTo>
                    <a:lnTo>
                      <a:pt x="134" y="616"/>
                    </a:lnTo>
                    <a:lnTo>
                      <a:pt x="0" y="696"/>
                    </a:lnTo>
                    <a:lnTo>
                      <a:pt x="120" y="924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rot="8961600">
                <a:off x="3371400" y="1397160"/>
                <a:ext cx="879480" cy="334800"/>
              </a:xfrm>
              <a:custGeom>
                <a:avLst/>
                <a:gdLst/>
                <a:ahLst/>
                <a:rect l="l" t="t" r="r" b="b"/>
                <a:pathLst>
                  <a:path w="2371" h="1018">
                    <a:moveTo>
                      <a:pt x="157" y="895"/>
                    </a:moveTo>
                    <a:lnTo>
                      <a:pt x="455" y="696"/>
                    </a:lnTo>
                    <a:lnTo>
                      <a:pt x="710" y="603"/>
                    </a:lnTo>
                    <a:lnTo>
                      <a:pt x="924" y="589"/>
                    </a:lnTo>
                    <a:lnTo>
                      <a:pt x="1152" y="576"/>
                    </a:lnTo>
                    <a:lnTo>
                      <a:pt x="1379" y="589"/>
                    </a:lnTo>
                    <a:lnTo>
                      <a:pt x="1687" y="683"/>
                    </a:lnTo>
                    <a:lnTo>
                      <a:pt x="1942" y="790"/>
                    </a:lnTo>
                    <a:lnTo>
                      <a:pt x="2263" y="1018"/>
                    </a:lnTo>
                    <a:lnTo>
                      <a:pt x="2344" y="777"/>
                    </a:lnTo>
                    <a:lnTo>
                      <a:pt x="2156" y="696"/>
                    </a:lnTo>
                    <a:lnTo>
                      <a:pt x="2183" y="616"/>
                    </a:lnTo>
                    <a:lnTo>
                      <a:pt x="2371" y="683"/>
                    </a:lnTo>
                    <a:lnTo>
                      <a:pt x="2143" y="308"/>
                    </a:lnTo>
                    <a:lnTo>
                      <a:pt x="1728" y="335"/>
                    </a:lnTo>
                    <a:lnTo>
                      <a:pt x="1929" y="428"/>
                    </a:lnTo>
                    <a:lnTo>
                      <a:pt x="1888" y="536"/>
                    </a:lnTo>
                    <a:lnTo>
                      <a:pt x="1754" y="482"/>
                    </a:lnTo>
                    <a:lnTo>
                      <a:pt x="1594" y="428"/>
                    </a:lnTo>
                    <a:lnTo>
                      <a:pt x="1379" y="388"/>
                    </a:lnTo>
                    <a:lnTo>
                      <a:pt x="1366" y="268"/>
                    </a:lnTo>
                    <a:lnTo>
                      <a:pt x="1580" y="281"/>
                    </a:lnTo>
                    <a:lnTo>
                      <a:pt x="1178" y="0"/>
                    </a:lnTo>
                    <a:lnTo>
                      <a:pt x="857" y="227"/>
                    </a:lnTo>
                    <a:lnTo>
                      <a:pt x="1058" y="241"/>
                    </a:lnTo>
                    <a:lnTo>
                      <a:pt x="1058" y="361"/>
                    </a:lnTo>
                    <a:lnTo>
                      <a:pt x="750" y="388"/>
                    </a:lnTo>
                    <a:lnTo>
                      <a:pt x="562" y="455"/>
                    </a:lnTo>
                    <a:lnTo>
                      <a:pt x="495" y="348"/>
                    </a:lnTo>
                    <a:lnTo>
                      <a:pt x="750" y="268"/>
                    </a:lnTo>
                    <a:lnTo>
                      <a:pt x="281" y="147"/>
                    </a:lnTo>
                    <a:lnTo>
                      <a:pt x="0" y="536"/>
                    </a:lnTo>
                    <a:lnTo>
                      <a:pt x="254" y="455"/>
                    </a:lnTo>
                    <a:lnTo>
                      <a:pt x="294" y="562"/>
                    </a:lnTo>
                    <a:lnTo>
                      <a:pt x="134" y="616"/>
                    </a:lnTo>
                    <a:lnTo>
                      <a:pt x="0" y="696"/>
                    </a:lnTo>
                    <a:lnTo>
                      <a:pt x="120" y="924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1" name=""/>
          <p:cNvSpPr/>
          <p:nvPr/>
        </p:nvSpPr>
        <p:spPr>
          <a:xfrm rot="10800000">
            <a:off x="101520" y="4939920"/>
            <a:ext cx="609840" cy="152280"/>
          </a:xfrm>
          <a:custGeom>
            <a:avLst/>
            <a:gdLst/>
            <a:ahLst/>
            <a:rect l="l" t="t" r="r" b="b"/>
            <a:pathLst>
              <a:path w="5052" h="1071">
                <a:moveTo>
                  <a:pt x="665" y="722"/>
                </a:moveTo>
                <a:lnTo>
                  <a:pt x="777" y="503"/>
                </a:lnTo>
                <a:lnTo>
                  <a:pt x="2692" y="612"/>
                </a:lnTo>
                <a:lnTo>
                  <a:pt x="3386" y="810"/>
                </a:lnTo>
                <a:lnTo>
                  <a:pt x="4331" y="1071"/>
                </a:lnTo>
                <a:lnTo>
                  <a:pt x="3871" y="509"/>
                </a:lnTo>
                <a:lnTo>
                  <a:pt x="5052" y="263"/>
                </a:lnTo>
                <a:lnTo>
                  <a:pt x="3442" y="109"/>
                </a:lnTo>
                <a:lnTo>
                  <a:pt x="2692" y="88"/>
                </a:lnTo>
                <a:lnTo>
                  <a:pt x="860" y="263"/>
                </a:lnTo>
                <a:lnTo>
                  <a:pt x="638" y="0"/>
                </a:lnTo>
                <a:lnTo>
                  <a:pt x="0" y="438"/>
                </a:lnTo>
                <a:lnTo>
                  <a:pt x="638" y="70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279720" y="1613160"/>
            <a:ext cx="8030520" cy="1504440"/>
            <a:chOff x="279720" y="1613160"/>
            <a:chExt cx="8030520" cy="1504440"/>
          </a:xfrm>
        </p:grpSpPr>
        <p:grpSp>
          <p:nvGrpSpPr>
            <p:cNvPr id="443" name=""/>
            <p:cNvGrpSpPr/>
            <p:nvPr/>
          </p:nvGrpSpPr>
          <p:grpSpPr>
            <a:xfrm>
              <a:off x="6002640" y="1613160"/>
              <a:ext cx="2307600" cy="385200"/>
              <a:chOff x="6002640" y="1613160"/>
              <a:chExt cx="2307600" cy="385200"/>
            </a:xfrm>
          </p:grpSpPr>
          <p:sp>
            <p:nvSpPr>
              <p:cNvPr id="444" name=""/>
              <p:cNvSpPr/>
              <p:nvPr/>
            </p:nvSpPr>
            <p:spPr>
              <a:xfrm rot="21372600">
                <a:off x="7035480" y="1654560"/>
                <a:ext cx="1266840" cy="274680"/>
              </a:xfrm>
              <a:custGeom>
                <a:avLst/>
                <a:gdLst/>
                <a:ahLst/>
                <a:rect l="l" t="t" r="r" b="b"/>
                <a:pathLst>
                  <a:path w="5052" h="1071">
                    <a:moveTo>
                      <a:pt x="665" y="722"/>
                    </a:moveTo>
                    <a:lnTo>
                      <a:pt x="777" y="503"/>
                    </a:lnTo>
                    <a:lnTo>
                      <a:pt x="2692" y="612"/>
                    </a:lnTo>
                    <a:lnTo>
                      <a:pt x="3386" y="810"/>
                    </a:lnTo>
                    <a:lnTo>
                      <a:pt x="4331" y="1071"/>
                    </a:lnTo>
                    <a:lnTo>
                      <a:pt x="3871" y="509"/>
                    </a:lnTo>
                    <a:lnTo>
                      <a:pt x="5052" y="263"/>
                    </a:lnTo>
                    <a:lnTo>
                      <a:pt x="3442" y="109"/>
                    </a:lnTo>
                    <a:lnTo>
                      <a:pt x="2692" y="88"/>
                    </a:lnTo>
                    <a:lnTo>
                      <a:pt x="860" y="263"/>
                    </a:lnTo>
                    <a:lnTo>
                      <a:pt x="638" y="0"/>
                    </a:lnTo>
                    <a:lnTo>
                      <a:pt x="0" y="438"/>
                    </a:lnTo>
                    <a:lnTo>
                      <a:pt x="638" y="700"/>
                    </a:lnTo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rot="21372600">
                <a:off x="6009120" y="1728720"/>
                <a:ext cx="1013400" cy="235800"/>
              </a:xfrm>
              <a:custGeom>
                <a:avLst/>
                <a:gdLst/>
                <a:ahLst/>
                <a:rect l="l" t="t" r="r" b="b"/>
                <a:pathLst>
                  <a:path w="5052" h="1071">
                    <a:moveTo>
                      <a:pt x="665" y="722"/>
                    </a:moveTo>
                    <a:lnTo>
                      <a:pt x="777" y="503"/>
                    </a:lnTo>
                    <a:lnTo>
                      <a:pt x="2692" y="612"/>
                    </a:lnTo>
                    <a:lnTo>
                      <a:pt x="3386" y="810"/>
                    </a:lnTo>
                    <a:lnTo>
                      <a:pt x="4331" y="1071"/>
                    </a:lnTo>
                    <a:lnTo>
                      <a:pt x="3871" y="509"/>
                    </a:lnTo>
                    <a:lnTo>
                      <a:pt x="5052" y="263"/>
                    </a:lnTo>
                    <a:lnTo>
                      <a:pt x="3442" y="109"/>
                    </a:lnTo>
                    <a:lnTo>
                      <a:pt x="2692" y="88"/>
                    </a:lnTo>
                    <a:lnTo>
                      <a:pt x="860" y="263"/>
                    </a:lnTo>
                    <a:lnTo>
                      <a:pt x="638" y="0"/>
                    </a:lnTo>
                    <a:lnTo>
                      <a:pt x="0" y="438"/>
                    </a:lnTo>
                    <a:lnTo>
                      <a:pt x="638" y="700"/>
                    </a:lnTo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279720" y="2348280"/>
              <a:ext cx="2295360" cy="769320"/>
              <a:chOff x="279720" y="2348280"/>
              <a:chExt cx="2295360" cy="769320"/>
            </a:xfrm>
          </p:grpSpPr>
          <p:sp>
            <p:nvSpPr>
              <p:cNvPr id="447" name=""/>
              <p:cNvSpPr/>
              <p:nvPr/>
            </p:nvSpPr>
            <p:spPr>
              <a:xfrm rot="20781600">
                <a:off x="1293480" y="2493360"/>
                <a:ext cx="1266840" cy="275040"/>
              </a:xfrm>
              <a:custGeom>
                <a:avLst/>
                <a:gdLst/>
                <a:ahLst/>
                <a:rect l="l" t="t" r="r" b="b"/>
                <a:pathLst>
                  <a:path w="5052" h="1071">
                    <a:moveTo>
                      <a:pt x="665" y="722"/>
                    </a:moveTo>
                    <a:lnTo>
                      <a:pt x="777" y="503"/>
                    </a:lnTo>
                    <a:lnTo>
                      <a:pt x="2692" y="612"/>
                    </a:lnTo>
                    <a:lnTo>
                      <a:pt x="3386" y="810"/>
                    </a:lnTo>
                    <a:lnTo>
                      <a:pt x="4331" y="1071"/>
                    </a:lnTo>
                    <a:lnTo>
                      <a:pt x="3871" y="509"/>
                    </a:lnTo>
                    <a:lnTo>
                      <a:pt x="5052" y="263"/>
                    </a:lnTo>
                    <a:lnTo>
                      <a:pt x="3442" y="109"/>
                    </a:lnTo>
                    <a:lnTo>
                      <a:pt x="2692" y="88"/>
                    </a:lnTo>
                    <a:lnTo>
                      <a:pt x="860" y="263"/>
                    </a:lnTo>
                    <a:lnTo>
                      <a:pt x="638" y="0"/>
                    </a:lnTo>
                    <a:lnTo>
                      <a:pt x="0" y="438"/>
                    </a:lnTo>
                    <a:lnTo>
                      <a:pt x="638" y="700"/>
                    </a:lnTo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rot="20781600">
                <a:off x="293040" y="2765160"/>
                <a:ext cx="1013400" cy="236160"/>
              </a:xfrm>
              <a:custGeom>
                <a:avLst/>
                <a:gdLst/>
                <a:ahLst/>
                <a:rect l="l" t="t" r="r" b="b"/>
                <a:pathLst>
                  <a:path w="5052" h="1071">
                    <a:moveTo>
                      <a:pt x="665" y="722"/>
                    </a:moveTo>
                    <a:lnTo>
                      <a:pt x="777" y="503"/>
                    </a:lnTo>
                    <a:lnTo>
                      <a:pt x="2692" y="612"/>
                    </a:lnTo>
                    <a:lnTo>
                      <a:pt x="3386" y="810"/>
                    </a:lnTo>
                    <a:lnTo>
                      <a:pt x="4331" y="1071"/>
                    </a:lnTo>
                    <a:lnTo>
                      <a:pt x="3871" y="509"/>
                    </a:lnTo>
                    <a:lnTo>
                      <a:pt x="5052" y="263"/>
                    </a:lnTo>
                    <a:lnTo>
                      <a:pt x="3442" y="109"/>
                    </a:lnTo>
                    <a:lnTo>
                      <a:pt x="2692" y="88"/>
                    </a:lnTo>
                    <a:lnTo>
                      <a:pt x="860" y="263"/>
                    </a:lnTo>
                    <a:lnTo>
                      <a:pt x="638" y="0"/>
                    </a:lnTo>
                    <a:lnTo>
                      <a:pt x="0" y="438"/>
                    </a:lnTo>
                    <a:lnTo>
                      <a:pt x="638" y="700"/>
                    </a:lnTo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3123360" y="1701000"/>
              <a:ext cx="2297520" cy="743040"/>
              <a:chOff x="3123360" y="1701000"/>
              <a:chExt cx="2297520" cy="743040"/>
            </a:xfrm>
          </p:grpSpPr>
          <p:sp>
            <p:nvSpPr>
              <p:cNvPr id="450" name=""/>
              <p:cNvSpPr/>
              <p:nvPr/>
            </p:nvSpPr>
            <p:spPr>
              <a:xfrm rot="20820600">
                <a:off x="4139280" y="1839600"/>
                <a:ext cx="1266840" cy="274680"/>
              </a:xfrm>
              <a:custGeom>
                <a:avLst/>
                <a:gdLst/>
                <a:ahLst/>
                <a:rect l="l" t="t" r="r" b="b"/>
                <a:pathLst>
                  <a:path w="5052" h="1071">
                    <a:moveTo>
                      <a:pt x="665" y="722"/>
                    </a:moveTo>
                    <a:lnTo>
                      <a:pt x="777" y="503"/>
                    </a:lnTo>
                    <a:lnTo>
                      <a:pt x="2692" y="612"/>
                    </a:lnTo>
                    <a:lnTo>
                      <a:pt x="3386" y="810"/>
                    </a:lnTo>
                    <a:lnTo>
                      <a:pt x="4331" y="1071"/>
                    </a:lnTo>
                    <a:lnTo>
                      <a:pt x="3871" y="509"/>
                    </a:lnTo>
                    <a:lnTo>
                      <a:pt x="5052" y="263"/>
                    </a:lnTo>
                    <a:lnTo>
                      <a:pt x="3442" y="109"/>
                    </a:lnTo>
                    <a:lnTo>
                      <a:pt x="2692" y="88"/>
                    </a:lnTo>
                    <a:lnTo>
                      <a:pt x="860" y="263"/>
                    </a:lnTo>
                    <a:lnTo>
                      <a:pt x="638" y="0"/>
                    </a:lnTo>
                    <a:lnTo>
                      <a:pt x="0" y="438"/>
                    </a:lnTo>
                    <a:lnTo>
                      <a:pt x="638" y="700"/>
                    </a:lnTo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rot="20820600">
                <a:off x="3136680" y="2097360"/>
                <a:ext cx="1013400" cy="235800"/>
              </a:xfrm>
              <a:custGeom>
                <a:avLst/>
                <a:gdLst/>
                <a:ahLst/>
                <a:rect l="l" t="t" r="r" b="b"/>
                <a:pathLst>
                  <a:path w="5052" h="1071">
                    <a:moveTo>
                      <a:pt x="665" y="722"/>
                    </a:moveTo>
                    <a:lnTo>
                      <a:pt x="777" y="503"/>
                    </a:lnTo>
                    <a:lnTo>
                      <a:pt x="2692" y="612"/>
                    </a:lnTo>
                    <a:lnTo>
                      <a:pt x="3386" y="810"/>
                    </a:lnTo>
                    <a:lnTo>
                      <a:pt x="4331" y="1071"/>
                    </a:lnTo>
                    <a:lnTo>
                      <a:pt x="3871" y="509"/>
                    </a:lnTo>
                    <a:lnTo>
                      <a:pt x="5052" y="263"/>
                    </a:lnTo>
                    <a:lnTo>
                      <a:pt x="3442" y="109"/>
                    </a:lnTo>
                    <a:lnTo>
                      <a:pt x="2692" y="88"/>
                    </a:lnTo>
                    <a:lnTo>
                      <a:pt x="860" y="263"/>
                    </a:lnTo>
                    <a:lnTo>
                      <a:pt x="638" y="0"/>
                    </a:lnTo>
                    <a:lnTo>
                      <a:pt x="0" y="438"/>
                    </a:lnTo>
                    <a:lnTo>
                      <a:pt x="638" y="700"/>
                    </a:lnTo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2" name=""/>
          <p:cNvGrpSpPr/>
          <p:nvPr/>
        </p:nvGrpSpPr>
        <p:grpSpPr>
          <a:xfrm>
            <a:off x="-12960" y="1486800"/>
            <a:ext cx="6039720" cy="1679400"/>
            <a:chOff x="-12960" y="1486800"/>
            <a:chExt cx="6039720" cy="1679400"/>
          </a:xfrm>
        </p:grpSpPr>
        <p:sp>
          <p:nvSpPr>
            <p:cNvPr id="453" name=""/>
            <p:cNvSpPr/>
            <p:nvPr/>
          </p:nvSpPr>
          <p:spPr>
            <a:xfrm flipV="1" rot="10129800">
              <a:off x="3072960" y="1827720"/>
              <a:ext cx="1521000" cy="302040"/>
            </a:xfrm>
            <a:custGeom>
              <a:avLst/>
              <a:gdLst/>
              <a:ahLst/>
              <a:rect l="l" t="t" r="r" b="b"/>
              <a:pathLst>
                <a:path w="5052" h="1071">
                  <a:moveTo>
                    <a:pt x="665" y="722"/>
                  </a:moveTo>
                  <a:lnTo>
                    <a:pt x="777" y="503"/>
                  </a:lnTo>
                  <a:lnTo>
                    <a:pt x="2692" y="612"/>
                  </a:lnTo>
                  <a:lnTo>
                    <a:pt x="3386" y="810"/>
                  </a:lnTo>
                  <a:lnTo>
                    <a:pt x="4331" y="1071"/>
                  </a:lnTo>
                  <a:lnTo>
                    <a:pt x="3871" y="509"/>
                  </a:lnTo>
                  <a:lnTo>
                    <a:pt x="5052" y="263"/>
                  </a:lnTo>
                  <a:lnTo>
                    <a:pt x="3442" y="109"/>
                  </a:lnTo>
                  <a:lnTo>
                    <a:pt x="2692" y="88"/>
                  </a:lnTo>
                  <a:lnTo>
                    <a:pt x="860" y="263"/>
                  </a:lnTo>
                  <a:lnTo>
                    <a:pt x="638" y="0"/>
                  </a:lnTo>
                  <a:lnTo>
                    <a:pt x="0" y="438"/>
                  </a:lnTo>
                  <a:lnTo>
                    <a:pt x="638" y="700"/>
                  </a:lnTo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 rot="10559400">
              <a:off x="4952880" y="1523520"/>
              <a:ext cx="1067040" cy="232200"/>
            </a:xfrm>
            <a:custGeom>
              <a:avLst/>
              <a:gdLst/>
              <a:ahLst/>
              <a:rect l="l" t="t" r="r" b="b"/>
              <a:pathLst>
                <a:path w="5052" h="1071">
                  <a:moveTo>
                    <a:pt x="665" y="722"/>
                  </a:moveTo>
                  <a:lnTo>
                    <a:pt x="777" y="503"/>
                  </a:lnTo>
                  <a:lnTo>
                    <a:pt x="2692" y="612"/>
                  </a:lnTo>
                  <a:lnTo>
                    <a:pt x="3386" y="810"/>
                  </a:lnTo>
                  <a:lnTo>
                    <a:pt x="4331" y="1071"/>
                  </a:lnTo>
                  <a:lnTo>
                    <a:pt x="3871" y="509"/>
                  </a:lnTo>
                  <a:lnTo>
                    <a:pt x="5052" y="263"/>
                  </a:lnTo>
                  <a:lnTo>
                    <a:pt x="3442" y="109"/>
                  </a:lnTo>
                  <a:lnTo>
                    <a:pt x="2692" y="88"/>
                  </a:lnTo>
                  <a:lnTo>
                    <a:pt x="860" y="263"/>
                  </a:lnTo>
                  <a:lnTo>
                    <a:pt x="638" y="0"/>
                  </a:lnTo>
                  <a:lnTo>
                    <a:pt x="0" y="438"/>
                  </a:lnTo>
                  <a:lnTo>
                    <a:pt x="638" y="700"/>
                  </a:lnTo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 rot="9869400">
              <a:off x="-360" y="2666160"/>
              <a:ext cx="1521000" cy="301680"/>
            </a:xfrm>
            <a:custGeom>
              <a:avLst/>
              <a:gdLst/>
              <a:ahLst/>
              <a:rect l="l" t="t" r="r" b="b"/>
              <a:pathLst>
                <a:path w="5052" h="1071">
                  <a:moveTo>
                    <a:pt x="665" y="722"/>
                  </a:moveTo>
                  <a:lnTo>
                    <a:pt x="777" y="503"/>
                  </a:lnTo>
                  <a:lnTo>
                    <a:pt x="2692" y="612"/>
                  </a:lnTo>
                  <a:lnTo>
                    <a:pt x="3386" y="810"/>
                  </a:lnTo>
                  <a:lnTo>
                    <a:pt x="4331" y="1071"/>
                  </a:lnTo>
                  <a:lnTo>
                    <a:pt x="3871" y="509"/>
                  </a:lnTo>
                  <a:lnTo>
                    <a:pt x="5052" y="263"/>
                  </a:lnTo>
                  <a:lnTo>
                    <a:pt x="3442" y="109"/>
                  </a:lnTo>
                  <a:lnTo>
                    <a:pt x="2692" y="88"/>
                  </a:lnTo>
                  <a:lnTo>
                    <a:pt x="860" y="263"/>
                  </a:lnTo>
                  <a:lnTo>
                    <a:pt x="638" y="0"/>
                  </a:lnTo>
                  <a:lnTo>
                    <a:pt x="0" y="438"/>
                  </a:lnTo>
                  <a:lnTo>
                    <a:pt x="638" y="700"/>
                  </a:lnTo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 rot="10160400">
              <a:off x="1676160" y="2271960"/>
              <a:ext cx="1066680" cy="231840"/>
            </a:xfrm>
            <a:custGeom>
              <a:avLst/>
              <a:gdLst/>
              <a:ahLst/>
              <a:rect l="l" t="t" r="r" b="b"/>
              <a:pathLst>
                <a:path w="5052" h="1071">
                  <a:moveTo>
                    <a:pt x="665" y="722"/>
                  </a:moveTo>
                  <a:lnTo>
                    <a:pt x="777" y="503"/>
                  </a:lnTo>
                  <a:lnTo>
                    <a:pt x="2692" y="612"/>
                  </a:lnTo>
                  <a:lnTo>
                    <a:pt x="3386" y="810"/>
                  </a:lnTo>
                  <a:lnTo>
                    <a:pt x="4331" y="1071"/>
                  </a:lnTo>
                  <a:lnTo>
                    <a:pt x="3871" y="509"/>
                  </a:lnTo>
                  <a:lnTo>
                    <a:pt x="5052" y="263"/>
                  </a:lnTo>
                  <a:lnTo>
                    <a:pt x="3442" y="109"/>
                  </a:lnTo>
                  <a:lnTo>
                    <a:pt x="2692" y="88"/>
                  </a:lnTo>
                  <a:lnTo>
                    <a:pt x="860" y="263"/>
                  </a:lnTo>
                  <a:lnTo>
                    <a:pt x="638" y="0"/>
                  </a:lnTo>
                  <a:lnTo>
                    <a:pt x="0" y="438"/>
                  </a:lnTo>
                  <a:lnTo>
                    <a:pt x="638" y="700"/>
                  </a:lnTo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-89280" y="1655280"/>
            <a:ext cx="6039720" cy="1679400"/>
            <a:chOff x="-89280" y="1655280"/>
            <a:chExt cx="6039720" cy="1679400"/>
          </a:xfrm>
        </p:grpSpPr>
        <p:sp>
          <p:nvSpPr>
            <p:cNvPr id="458" name=""/>
            <p:cNvSpPr/>
            <p:nvPr/>
          </p:nvSpPr>
          <p:spPr>
            <a:xfrm flipV="1" rot="10129800">
              <a:off x="2996640" y="1996200"/>
              <a:ext cx="1521000" cy="302040"/>
            </a:xfrm>
            <a:custGeom>
              <a:avLst/>
              <a:gdLst/>
              <a:ahLst/>
              <a:rect l="l" t="t" r="r" b="b"/>
              <a:pathLst>
                <a:path w="5052" h="1071">
                  <a:moveTo>
                    <a:pt x="665" y="722"/>
                  </a:moveTo>
                  <a:lnTo>
                    <a:pt x="777" y="503"/>
                  </a:lnTo>
                  <a:lnTo>
                    <a:pt x="2692" y="612"/>
                  </a:lnTo>
                  <a:lnTo>
                    <a:pt x="3386" y="810"/>
                  </a:lnTo>
                  <a:lnTo>
                    <a:pt x="4331" y="1071"/>
                  </a:lnTo>
                  <a:lnTo>
                    <a:pt x="3871" y="509"/>
                  </a:lnTo>
                  <a:lnTo>
                    <a:pt x="5052" y="263"/>
                  </a:lnTo>
                  <a:lnTo>
                    <a:pt x="3442" y="109"/>
                  </a:lnTo>
                  <a:lnTo>
                    <a:pt x="2692" y="88"/>
                  </a:lnTo>
                  <a:lnTo>
                    <a:pt x="860" y="263"/>
                  </a:lnTo>
                  <a:lnTo>
                    <a:pt x="638" y="0"/>
                  </a:lnTo>
                  <a:lnTo>
                    <a:pt x="0" y="438"/>
                  </a:lnTo>
                  <a:lnTo>
                    <a:pt x="638" y="700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 rot="10559400">
              <a:off x="4876560" y="1692000"/>
              <a:ext cx="1067040" cy="232200"/>
            </a:xfrm>
            <a:custGeom>
              <a:avLst/>
              <a:gdLst/>
              <a:ahLst/>
              <a:rect l="l" t="t" r="r" b="b"/>
              <a:pathLst>
                <a:path w="5052" h="1071">
                  <a:moveTo>
                    <a:pt x="665" y="722"/>
                  </a:moveTo>
                  <a:lnTo>
                    <a:pt x="777" y="503"/>
                  </a:lnTo>
                  <a:lnTo>
                    <a:pt x="2692" y="612"/>
                  </a:lnTo>
                  <a:lnTo>
                    <a:pt x="3386" y="810"/>
                  </a:lnTo>
                  <a:lnTo>
                    <a:pt x="4331" y="1071"/>
                  </a:lnTo>
                  <a:lnTo>
                    <a:pt x="3871" y="509"/>
                  </a:lnTo>
                  <a:lnTo>
                    <a:pt x="5052" y="263"/>
                  </a:lnTo>
                  <a:lnTo>
                    <a:pt x="3442" y="109"/>
                  </a:lnTo>
                  <a:lnTo>
                    <a:pt x="2692" y="88"/>
                  </a:lnTo>
                  <a:lnTo>
                    <a:pt x="860" y="263"/>
                  </a:lnTo>
                  <a:lnTo>
                    <a:pt x="638" y="0"/>
                  </a:lnTo>
                  <a:lnTo>
                    <a:pt x="0" y="438"/>
                  </a:lnTo>
                  <a:lnTo>
                    <a:pt x="638" y="700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 rot="9869400">
              <a:off x="-76680" y="2834640"/>
              <a:ext cx="1521000" cy="301680"/>
            </a:xfrm>
            <a:custGeom>
              <a:avLst/>
              <a:gdLst/>
              <a:ahLst/>
              <a:rect l="l" t="t" r="r" b="b"/>
              <a:pathLst>
                <a:path w="5052" h="1071">
                  <a:moveTo>
                    <a:pt x="665" y="722"/>
                  </a:moveTo>
                  <a:lnTo>
                    <a:pt x="777" y="503"/>
                  </a:lnTo>
                  <a:lnTo>
                    <a:pt x="2692" y="612"/>
                  </a:lnTo>
                  <a:lnTo>
                    <a:pt x="3386" y="810"/>
                  </a:lnTo>
                  <a:lnTo>
                    <a:pt x="4331" y="1071"/>
                  </a:lnTo>
                  <a:lnTo>
                    <a:pt x="3871" y="509"/>
                  </a:lnTo>
                  <a:lnTo>
                    <a:pt x="5052" y="263"/>
                  </a:lnTo>
                  <a:lnTo>
                    <a:pt x="3442" y="109"/>
                  </a:lnTo>
                  <a:lnTo>
                    <a:pt x="2692" y="88"/>
                  </a:lnTo>
                  <a:lnTo>
                    <a:pt x="860" y="263"/>
                  </a:lnTo>
                  <a:lnTo>
                    <a:pt x="638" y="0"/>
                  </a:lnTo>
                  <a:lnTo>
                    <a:pt x="0" y="438"/>
                  </a:lnTo>
                  <a:lnTo>
                    <a:pt x="638" y="700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 rot="10160400">
              <a:off x="1599840" y="2440440"/>
              <a:ext cx="1066680" cy="231840"/>
            </a:xfrm>
            <a:custGeom>
              <a:avLst/>
              <a:gdLst/>
              <a:ahLst/>
              <a:rect l="l" t="t" r="r" b="b"/>
              <a:pathLst>
                <a:path w="5052" h="1071">
                  <a:moveTo>
                    <a:pt x="665" y="722"/>
                  </a:moveTo>
                  <a:lnTo>
                    <a:pt x="777" y="503"/>
                  </a:lnTo>
                  <a:lnTo>
                    <a:pt x="2692" y="612"/>
                  </a:lnTo>
                  <a:lnTo>
                    <a:pt x="3386" y="810"/>
                  </a:lnTo>
                  <a:lnTo>
                    <a:pt x="4331" y="1071"/>
                  </a:lnTo>
                  <a:lnTo>
                    <a:pt x="3871" y="509"/>
                  </a:lnTo>
                  <a:lnTo>
                    <a:pt x="5052" y="263"/>
                  </a:lnTo>
                  <a:lnTo>
                    <a:pt x="3442" y="109"/>
                  </a:lnTo>
                  <a:lnTo>
                    <a:pt x="2692" y="88"/>
                  </a:lnTo>
                  <a:lnTo>
                    <a:pt x="860" y="263"/>
                  </a:lnTo>
                  <a:lnTo>
                    <a:pt x="638" y="0"/>
                  </a:lnTo>
                  <a:lnTo>
                    <a:pt x="0" y="438"/>
                  </a:lnTo>
                  <a:lnTo>
                    <a:pt x="638" y="700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2" name=""/>
          <p:cNvSpPr/>
          <p:nvPr/>
        </p:nvSpPr>
        <p:spPr>
          <a:xfrm flipV="1" rot="10800000">
            <a:off x="152280" y="4190040"/>
            <a:ext cx="533520" cy="152280"/>
          </a:xfrm>
          <a:custGeom>
            <a:avLst/>
            <a:gdLst/>
            <a:ahLst/>
            <a:rect l="l" t="t" r="r" b="b"/>
            <a:pathLst>
              <a:path w="5052" h="1071">
                <a:moveTo>
                  <a:pt x="665" y="722"/>
                </a:moveTo>
                <a:lnTo>
                  <a:pt x="777" y="503"/>
                </a:lnTo>
                <a:lnTo>
                  <a:pt x="2692" y="612"/>
                </a:lnTo>
                <a:lnTo>
                  <a:pt x="3386" y="810"/>
                </a:lnTo>
                <a:lnTo>
                  <a:pt x="4331" y="1071"/>
                </a:lnTo>
                <a:lnTo>
                  <a:pt x="3871" y="509"/>
                </a:lnTo>
                <a:lnTo>
                  <a:pt x="5052" y="263"/>
                </a:lnTo>
                <a:lnTo>
                  <a:pt x="3442" y="109"/>
                </a:lnTo>
                <a:lnTo>
                  <a:pt x="2692" y="88"/>
                </a:lnTo>
                <a:lnTo>
                  <a:pt x="860" y="263"/>
                </a:lnTo>
                <a:lnTo>
                  <a:pt x="638" y="0"/>
                </a:lnTo>
                <a:lnTo>
                  <a:pt x="0" y="438"/>
                </a:lnTo>
                <a:lnTo>
                  <a:pt x="638" y="700"/>
                </a:lnTo>
              </a:path>
            </a:pathLst>
          </a:custGeom>
          <a:solidFill>
            <a:srgbClr val="000000"/>
          </a:solidFill>
          <a:ln w="9360">
            <a:solidFill>
              <a:srgbClr val="00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rot="21301200">
            <a:off x="210960" y="4571640"/>
            <a:ext cx="398520" cy="233280"/>
          </a:xfrm>
          <a:custGeom>
            <a:avLst/>
            <a:gdLst/>
            <a:ahLst/>
            <a:rect l="l" t="t" r="r" b="b"/>
            <a:pathLst>
              <a:path w="2371" h="1018">
                <a:moveTo>
                  <a:pt x="157" y="895"/>
                </a:moveTo>
                <a:lnTo>
                  <a:pt x="455" y="696"/>
                </a:lnTo>
                <a:lnTo>
                  <a:pt x="710" y="603"/>
                </a:lnTo>
                <a:lnTo>
                  <a:pt x="924" y="589"/>
                </a:lnTo>
                <a:lnTo>
                  <a:pt x="1152" y="576"/>
                </a:lnTo>
                <a:lnTo>
                  <a:pt x="1379" y="589"/>
                </a:lnTo>
                <a:lnTo>
                  <a:pt x="1687" y="683"/>
                </a:lnTo>
                <a:lnTo>
                  <a:pt x="1942" y="790"/>
                </a:lnTo>
                <a:lnTo>
                  <a:pt x="2263" y="1018"/>
                </a:lnTo>
                <a:lnTo>
                  <a:pt x="2344" y="777"/>
                </a:lnTo>
                <a:lnTo>
                  <a:pt x="2156" y="696"/>
                </a:lnTo>
                <a:lnTo>
                  <a:pt x="2183" y="616"/>
                </a:lnTo>
                <a:lnTo>
                  <a:pt x="2371" y="683"/>
                </a:lnTo>
                <a:lnTo>
                  <a:pt x="2143" y="308"/>
                </a:lnTo>
                <a:lnTo>
                  <a:pt x="1728" y="335"/>
                </a:lnTo>
                <a:lnTo>
                  <a:pt x="1929" y="428"/>
                </a:lnTo>
                <a:lnTo>
                  <a:pt x="1888" y="536"/>
                </a:lnTo>
                <a:lnTo>
                  <a:pt x="1754" y="482"/>
                </a:lnTo>
                <a:lnTo>
                  <a:pt x="1594" y="428"/>
                </a:lnTo>
                <a:lnTo>
                  <a:pt x="1379" y="388"/>
                </a:lnTo>
                <a:lnTo>
                  <a:pt x="1366" y="268"/>
                </a:lnTo>
                <a:lnTo>
                  <a:pt x="1580" y="281"/>
                </a:lnTo>
                <a:lnTo>
                  <a:pt x="1178" y="0"/>
                </a:lnTo>
                <a:lnTo>
                  <a:pt x="857" y="227"/>
                </a:lnTo>
                <a:lnTo>
                  <a:pt x="1058" y="241"/>
                </a:lnTo>
                <a:lnTo>
                  <a:pt x="1058" y="361"/>
                </a:lnTo>
                <a:lnTo>
                  <a:pt x="750" y="388"/>
                </a:lnTo>
                <a:lnTo>
                  <a:pt x="562" y="455"/>
                </a:lnTo>
                <a:lnTo>
                  <a:pt x="495" y="348"/>
                </a:lnTo>
                <a:lnTo>
                  <a:pt x="750" y="268"/>
                </a:lnTo>
                <a:lnTo>
                  <a:pt x="281" y="147"/>
                </a:lnTo>
                <a:lnTo>
                  <a:pt x="0" y="536"/>
                </a:lnTo>
                <a:lnTo>
                  <a:pt x="254" y="455"/>
                </a:lnTo>
                <a:lnTo>
                  <a:pt x="294" y="562"/>
                </a:lnTo>
                <a:lnTo>
                  <a:pt x="134" y="616"/>
                </a:lnTo>
                <a:lnTo>
                  <a:pt x="0" y="696"/>
                </a:lnTo>
                <a:lnTo>
                  <a:pt x="120" y="924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 rot="11154600">
            <a:off x="75600" y="5588640"/>
            <a:ext cx="609480" cy="228240"/>
          </a:xfrm>
          <a:custGeom>
            <a:avLst/>
            <a:gdLst/>
            <a:ahLst/>
            <a:rect l="l" t="t" r="r" b="b"/>
            <a:pathLst>
              <a:path w="5052" h="1071">
                <a:moveTo>
                  <a:pt x="665" y="722"/>
                </a:moveTo>
                <a:lnTo>
                  <a:pt x="777" y="503"/>
                </a:lnTo>
                <a:lnTo>
                  <a:pt x="2692" y="612"/>
                </a:lnTo>
                <a:lnTo>
                  <a:pt x="3386" y="810"/>
                </a:lnTo>
                <a:lnTo>
                  <a:pt x="4331" y="1071"/>
                </a:lnTo>
                <a:lnTo>
                  <a:pt x="3871" y="509"/>
                </a:lnTo>
                <a:lnTo>
                  <a:pt x="5052" y="263"/>
                </a:lnTo>
                <a:lnTo>
                  <a:pt x="3442" y="109"/>
                </a:lnTo>
                <a:lnTo>
                  <a:pt x="2692" y="88"/>
                </a:lnTo>
                <a:lnTo>
                  <a:pt x="860" y="263"/>
                </a:lnTo>
                <a:lnTo>
                  <a:pt x="638" y="0"/>
                </a:lnTo>
                <a:lnTo>
                  <a:pt x="0" y="438"/>
                </a:lnTo>
                <a:lnTo>
                  <a:pt x="638" y="700"/>
                </a:lnTo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1998360" y="279360"/>
            <a:ext cx="6094080" cy="2555280"/>
            <a:chOff x="1998360" y="279360"/>
            <a:chExt cx="6094080" cy="2555280"/>
          </a:xfrm>
        </p:grpSpPr>
        <p:sp>
          <p:nvSpPr>
            <p:cNvPr id="466" name=""/>
            <p:cNvSpPr/>
            <p:nvPr/>
          </p:nvSpPr>
          <p:spPr>
            <a:xfrm flipV="1" rot="16304400">
              <a:off x="1788480" y="876600"/>
              <a:ext cx="762120" cy="226440"/>
            </a:xfrm>
            <a:custGeom>
              <a:avLst/>
              <a:gdLst/>
              <a:ahLst/>
              <a:rect l="l" t="t" r="r" b="b"/>
              <a:pathLst>
                <a:path w="5052" h="1071">
                  <a:moveTo>
                    <a:pt x="665" y="722"/>
                  </a:moveTo>
                  <a:lnTo>
                    <a:pt x="777" y="503"/>
                  </a:lnTo>
                  <a:lnTo>
                    <a:pt x="2692" y="612"/>
                  </a:lnTo>
                  <a:lnTo>
                    <a:pt x="3386" y="810"/>
                  </a:lnTo>
                  <a:lnTo>
                    <a:pt x="4331" y="1071"/>
                  </a:lnTo>
                  <a:lnTo>
                    <a:pt x="3871" y="509"/>
                  </a:lnTo>
                  <a:lnTo>
                    <a:pt x="5052" y="263"/>
                  </a:lnTo>
                  <a:lnTo>
                    <a:pt x="3442" y="109"/>
                  </a:lnTo>
                  <a:lnTo>
                    <a:pt x="2692" y="88"/>
                  </a:lnTo>
                  <a:lnTo>
                    <a:pt x="860" y="263"/>
                  </a:lnTo>
                  <a:lnTo>
                    <a:pt x="638" y="0"/>
                  </a:lnTo>
                  <a:lnTo>
                    <a:pt x="0" y="438"/>
                  </a:lnTo>
                  <a:lnTo>
                    <a:pt x="638" y="70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 rot="16743600">
              <a:off x="1789200" y="1639080"/>
              <a:ext cx="762120" cy="227160"/>
            </a:xfrm>
            <a:custGeom>
              <a:avLst/>
              <a:gdLst/>
              <a:ahLst/>
              <a:rect l="l" t="t" r="r" b="b"/>
              <a:pathLst>
                <a:path w="5052" h="1071">
                  <a:moveTo>
                    <a:pt x="665" y="722"/>
                  </a:moveTo>
                  <a:lnTo>
                    <a:pt x="777" y="503"/>
                  </a:lnTo>
                  <a:lnTo>
                    <a:pt x="2692" y="612"/>
                  </a:lnTo>
                  <a:lnTo>
                    <a:pt x="3386" y="810"/>
                  </a:lnTo>
                  <a:lnTo>
                    <a:pt x="4331" y="1071"/>
                  </a:lnTo>
                  <a:lnTo>
                    <a:pt x="3871" y="509"/>
                  </a:lnTo>
                  <a:lnTo>
                    <a:pt x="5052" y="263"/>
                  </a:lnTo>
                  <a:lnTo>
                    <a:pt x="3442" y="109"/>
                  </a:lnTo>
                  <a:lnTo>
                    <a:pt x="2692" y="88"/>
                  </a:lnTo>
                  <a:lnTo>
                    <a:pt x="860" y="263"/>
                  </a:lnTo>
                  <a:lnTo>
                    <a:pt x="638" y="0"/>
                  </a:lnTo>
                  <a:lnTo>
                    <a:pt x="0" y="438"/>
                  </a:lnTo>
                  <a:lnTo>
                    <a:pt x="638" y="70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14092800">
              <a:off x="5294160" y="1155240"/>
              <a:ext cx="612720" cy="152280"/>
            </a:xfrm>
            <a:custGeom>
              <a:avLst/>
              <a:gdLst/>
              <a:ahLst/>
              <a:rect l="l" t="t" r="r" b="b"/>
              <a:pathLst>
                <a:path w="5052" h="1071">
                  <a:moveTo>
                    <a:pt x="665" y="722"/>
                  </a:moveTo>
                  <a:lnTo>
                    <a:pt x="777" y="503"/>
                  </a:lnTo>
                  <a:lnTo>
                    <a:pt x="2692" y="612"/>
                  </a:lnTo>
                  <a:lnTo>
                    <a:pt x="3386" y="810"/>
                  </a:lnTo>
                  <a:lnTo>
                    <a:pt x="4331" y="1071"/>
                  </a:lnTo>
                  <a:lnTo>
                    <a:pt x="3871" y="509"/>
                  </a:lnTo>
                  <a:lnTo>
                    <a:pt x="5052" y="263"/>
                  </a:lnTo>
                  <a:lnTo>
                    <a:pt x="3442" y="109"/>
                  </a:lnTo>
                  <a:lnTo>
                    <a:pt x="2692" y="88"/>
                  </a:lnTo>
                  <a:lnTo>
                    <a:pt x="860" y="263"/>
                  </a:lnTo>
                  <a:lnTo>
                    <a:pt x="638" y="0"/>
                  </a:lnTo>
                  <a:lnTo>
                    <a:pt x="0" y="438"/>
                  </a:lnTo>
                  <a:lnTo>
                    <a:pt x="638" y="70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 flipV="1" rot="4770600">
              <a:off x="5008680" y="539280"/>
              <a:ext cx="721800" cy="230400"/>
            </a:xfrm>
            <a:custGeom>
              <a:avLst/>
              <a:gdLst/>
              <a:ahLst/>
              <a:rect l="l" t="t" r="r" b="b"/>
              <a:pathLst>
                <a:path w="5052" h="1071">
                  <a:moveTo>
                    <a:pt x="665" y="722"/>
                  </a:moveTo>
                  <a:lnTo>
                    <a:pt x="777" y="503"/>
                  </a:lnTo>
                  <a:lnTo>
                    <a:pt x="2692" y="612"/>
                  </a:lnTo>
                  <a:lnTo>
                    <a:pt x="3386" y="810"/>
                  </a:lnTo>
                  <a:lnTo>
                    <a:pt x="4331" y="1071"/>
                  </a:lnTo>
                  <a:lnTo>
                    <a:pt x="3871" y="509"/>
                  </a:lnTo>
                  <a:lnTo>
                    <a:pt x="5052" y="263"/>
                  </a:lnTo>
                  <a:lnTo>
                    <a:pt x="3442" y="109"/>
                  </a:lnTo>
                  <a:lnTo>
                    <a:pt x="2692" y="88"/>
                  </a:lnTo>
                  <a:lnTo>
                    <a:pt x="860" y="263"/>
                  </a:lnTo>
                  <a:lnTo>
                    <a:pt x="638" y="0"/>
                  </a:lnTo>
                  <a:lnTo>
                    <a:pt x="0" y="438"/>
                  </a:lnTo>
                  <a:lnTo>
                    <a:pt x="638" y="70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 rot="4002000">
              <a:off x="4304160" y="2323440"/>
              <a:ext cx="762120" cy="227160"/>
            </a:xfrm>
            <a:custGeom>
              <a:avLst/>
              <a:gdLst/>
              <a:ahLst/>
              <a:rect l="l" t="t" r="r" b="b"/>
              <a:pathLst>
                <a:path w="5052" h="1071">
                  <a:moveTo>
                    <a:pt x="665" y="722"/>
                  </a:moveTo>
                  <a:lnTo>
                    <a:pt x="777" y="503"/>
                  </a:lnTo>
                  <a:lnTo>
                    <a:pt x="2692" y="612"/>
                  </a:lnTo>
                  <a:lnTo>
                    <a:pt x="3386" y="810"/>
                  </a:lnTo>
                  <a:lnTo>
                    <a:pt x="4331" y="1071"/>
                  </a:lnTo>
                  <a:lnTo>
                    <a:pt x="3871" y="509"/>
                  </a:lnTo>
                  <a:lnTo>
                    <a:pt x="5052" y="263"/>
                  </a:lnTo>
                  <a:lnTo>
                    <a:pt x="3442" y="109"/>
                  </a:lnTo>
                  <a:lnTo>
                    <a:pt x="2692" y="88"/>
                  </a:lnTo>
                  <a:lnTo>
                    <a:pt x="860" y="263"/>
                  </a:lnTo>
                  <a:lnTo>
                    <a:pt x="638" y="0"/>
                  </a:lnTo>
                  <a:lnTo>
                    <a:pt x="0" y="438"/>
                  </a:lnTo>
                  <a:lnTo>
                    <a:pt x="638" y="70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 rot="16743600">
              <a:off x="5904000" y="1105560"/>
              <a:ext cx="762120" cy="227160"/>
            </a:xfrm>
            <a:custGeom>
              <a:avLst/>
              <a:gdLst/>
              <a:ahLst/>
              <a:rect l="l" t="t" r="r" b="b"/>
              <a:pathLst>
                <a:path w="5052" h="1071">
                  <a:moveTo>
                    <a:pt x="665" y="722"/>
                  </a:moveTo>
                  <a:lnTo>
                    <a:pt x="777" y="503"/>
                  </a:lnTo>
                  <a:lnTo>
                    <a:pt x="2692" y="612"/>
                  </a:lnTo>
                  <a:lnTo>
                    <a:pt x="3386" y="810"/>
                  </a:lnTo>
                  <a:lnTo>
                    <a:pt x="4331" y="1071"/>
                  </a:lnTo>
                  <a:lnTo>
                    <a:pt x="3871" y="509"/>
                  </a:lnTo>
                  <a:lnTo>
                    <a:pt x="5052" y="263"/>
                  </a:lnTo>
                  <a:lnTo>
                    <a:pt x="3442" y="109"/>
                  </a:lnTo>
                  <a:lnTo>
                    <a:pt x="2692" y="88"/>
                  </a:lnTo>
                  <a:lnTo>
                    <a:pt x="860" y="263"/>
                  </a:lnTo>
                  <a:lnTo>
                    <a:pt x="638" y="0"/>
                  </a:lnTo>
                  <a:lnTo>
                    <a:pt x="0" y="438"/>
                  </a:lnTo>
                  <a:lnTo>
                    <a:pt x="638" y="70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 rot="1726200">
              <a:off x="3429000" y="2437920"/>
              <a:ext cx="762120" cy="227160"/>
            </a:xfrm>
            <a:custGeom>
              <a:avLst/>
              <a:gdLst/>
              <a:ahLst/>
              <a:rect l="l" t="t" r="r" b="b"/>
              <a:pathLst>
                <a:path w="5052" h="1071">
                  <a:moveTo>
                    <a:pt x="665" y="722"/>
                  </a:moveTo>
                  <a:lnTo>
                    <a:pt x="777" y="503"/>
                  </a:lnTo>
                  <a:lnTo>
                    <a:pt x="2692" y="612"/>
                  </a:lnTo>
                  <a:lnTo>
                    <a:pt x="3386" y="810"/>
                  </a:lnTo>
                  <a:lnTo>
                    <a:pt x="4331" y="1071"/>
                  </a:lnTo>
                  <a:lnTo>
                    <a:pt x="3871" y="509"/>
                  </a:lnTo>
                  <a:lnTo>
                    <a:pt x="5052" y="263"/>
                  </a:lnTo>
                  <a:lnTo>
                    <a:pt x="3442" y="109"/>
                  </a:lnTo>
                  <a:lnTo>
                    <a:pt x="2692" y="88"/>
                  </a:lnTo>
                  <a:lnTo>
                    <a:pt x="860" y="263"/>
                  </a:lnTo>
                  <a:lnTo>
                    <a:pt x="638" y="0"/>
                  </a:lnTo>
                  <a:lnTo>
                    <a:pt x="0" y="438"/>
                  </a:lnTo>
                  <a:lnTo>
                    <a:pt x="638" y="70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 rot="3381000">
              <a:off x="6438240" y="2018880"/>
              <a:ext cx="762120" cy="226800"/>
            </a:xfrm>
            <a:custGeom>
              <a:avLst/>
              <a:gdLst/>
              <a:ahLst/>
              <a:rect l="l" t="t" r="r" b="b"/>
              <a:pathLst>
                <a:path w="5052" h="1071">
                  <a:moveTo>
                    <a:pt x="665" y="722"/>
                  </a:moveTo>
                  <a:lnTo>
                    <a:pt x="777" y="503"/>
                  </a:lnTo>
                  <a:lnTo>
                    <a:pt x="2692" y="612"/>
                  </a:lnTo>
                  <a:lnTo>
                    <a:pt x="3386" y="810"/>
                  </a:lnTo>
                  <a:lnTo>
                    <a:pt x="4331" y="1071"/>
                  </a:lnTo>
                  <a:lnTo>
                    <a:pt x="3871" y="509"/>
                  </a:lnTo>
                  <a:lnTo>
                    <a:pt x="5052" y="263"/>
                  </a:lnTo>
                  <a:lnTo>
                    <a:pt x="3442" y="109"/>
                  </a:lnTo>
                  <a:lnTo>
                    <a:pt x="2692" y="88"/>
                  </a:lnTo>
                  <a:lnTo>
                    <a:pt x="860" y="263"/>
                  </a:lnTo>
                  <a:lnTo>
                    <a:pt x="638" y="0"/>
                  </a:lnTo>
                  <a:lnTo>
                    <a:pt x="0" y="438"/>
                  </a:lnTo>
                  <a:lnTo>
                    <a:pt x="638" y="70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 flipV="1" rot="10291200">
              <a:off x="7020360" y="1535760"/>
              <a:ext cx="1055880" cy="292320"/>
            </a:xfrm>
            <a:custGeom>
              <a:avLst/>
              <a:gdLst/>
              <a:ahLst/>
              <a:rect l="l" t="t" r="r" b="b"/>
              <a:pathLst>
                <a:path w="5052" h="1071">
                  <a:moveTo>
                    <a:pt x="665" y="722"/>
                  </a:moveTo>
                  <a:lnTo>
                    <a:pt x="777" y="503"/>
                  </a:lnTo>
                  <a:lnTo>
                    <a:pt x="2692" y="612"/>
                  </a:lnTo>
                  <a:lnTo>
                    <a:pt x="3386" y="810"/>
                  </a:lnTo>
                  <a:lnTo>
                    <a:pt x="4331" y="1071"/>
                  </a:lnTo>
                  <a:lnTo>
                    <a:pt x="3871" y="509"/>
                  </a:lnTo>
                  <a:lnTo>
                    <a:pt x="5052" y="263"/>
                  </a:lnTo>
                  <a:lnTo>
                    <a:pt x="3442" y="109"/>
                  </a:lnTo>
                  <a:lnTo>
                    <a:pt x="2692" y="88"/>
                  </a:lnTo>
                  <a:lnTo>
                    <a:pt x="860" y="263"/>
                  </a:lnTo>
                  <a:lnTo>
                    <a:pt x="638" y="0"/>
                  </a:lnTo>
                  <a:lnTo>
                    <a:pt x="0" y="438"/>
                  </a:lnTo>
                  <a:lnTo>
                    <a:pt x="638" y="70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5" dur="3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3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3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3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0" y="-1219320"/>
            <a:ext cx="8839080" cy="683892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1447920" y="6461280"/>
            <a:ext cx="617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VNI-Helve-Condense"/>
              </a:rPr>
              <a:t>LÖÔÏC ÑOÀ CHIEÁN THAÉNG RAÏCH GAÀM – XOAØI MUÙ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521320" y="438120"/>
            <a:ext cx="501480" cy="1123920"/>
          </a:xfrm>
          <a:custGeom>
            <a:avLst/>
            <a:gdLst/>
            <a:ahLst/>
            <a:rect l="l" t="t" r="r" b="b"/>
            <a:pathLst>
              <a:path w="316" h="708">
                <a:moveTo>
                  <a:pt x="314" y="708"/>
                </a:moveTo>
                <a:cubicBezTo>
                  <a:pt x="310" y="652"/>
                  <a:pt x="316" y="594"/>
                  <a:pt x="302" y="540"/>
                </a:cubicBezTo>
                <a:cubicBezTo>
                  <a:pt x="299" y="526"/>
                  <a:pt x="273" y="529"/>
                  <a:pt x="266" y="516"/>
                </a:cubicBezTo>
                <a:cubicBezTo>
                  <a:pt x="207" y="412"/>
                  <a:pt x="302" y="488"/>
                  <a:pt x="218" y="432"/>
                </a:cubicBezTo>
                <a:cubicBezTo>
                  <a:pt x="174" y="367"/>
                  <a:pt x="134" y="381"/>
                  <a:pt x="50" y="372"/>
                </a:cubicBezTo>
                <a:cubicBezTo>
                  <a:pt x="34" y="348"/>
                  <a:pt x="0" y="329"/>
                  <a:pt x="2" y="300"/>
                </a:cubicBezTo>
                <a:cubicBezTo>
                  <a:pt x="16" y="72"/>
                  <a:pt x="14" y="172"/>
                  <a:pt x="14" y="0"/>
                </a:cubicBezTo>
              </a:path>
            </a:pathLst>
          </a:custGeom>
          <a:noFill/>
          <a:ln w="12600">
            <a:solidFill>
              <a:srgbClr val="008e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473800" y="68580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VNI-Helve-Condense"/>
              </a:rPr>
              <a:t>XOAØI MUÙ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9480" y="141588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VNI-Helve-Condense"/>
              </a:rPr>
              <a:t>RAÏCH GAÀ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391520" y="533520"/>
            <a:ext cx="13716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NI-Helve-Condense"/>
              </a:rPr>
              <a:t>MÓ TH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172200" y="114300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NI-Helve-Condense"/>
              </a:rPr>
              <a:t>BÌNH ÑÖÙ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-114480" y="838080"/>
            <a:ext cx="8972640" cy="2614680"/>
          </a:xfrm>
          <a:custGeom>
            <a:avLst/>
            <a:gdLst/>
            <a:ahLst/>
            <a:rect l="l" t="t" r="r" b="b"/>
            <a:pathLst>
              <a:path w="5652" h="1647">
                <a:moveTo>
                  <a:pt x="5606" y="1361"/>
                </a:moveTo>
                <a:cubicBezTo>
                  <a:pt x="5582" y="1357"/>
                  <a:pt x="5555" y="1361"/>
                  <a:pt x="5534" y="1349"/>
                </a:cubicBezTo>
                <a:cubicBezTo>
                  <a:pt x="5466" y="1310"/>
                  <a:pt x="5601" y="1293"/>
                  <a:pt x="5474" y="1325"/>
                </a:cubicBezTo>
                <a:cubicBezTo>
                  <a:pt x="5377" y="1314"/>
                  <a:pt x="5296" y="1298"/>
                  <a:pt x="5198" y="1289"/>
                </a:cubicBezTo>
                <a:cubicBezTo>
                  <a:pt x="5138" y="1293"/>
                  <a:pt x="5077" y="1291"/>
                  <a:pt x="5018" y="1301"/>
                </a:cubicBezTo>
                <a:cubicBezTo>
                  <a:pt x="5004" y="1303"/>
                  <a:pt x="4996" y="1322"/>
                  <a:pt x="4982" y="1325"/>
                </a:cubicBezTo>
                <a:cubicBezTo>
                  <a:pt x="4935" y="1334"/>
                  <a:pt x="4886" y="1333"/>
                  <a:pt x="4838" y="1337"/>
                </a:cubicBezTo>
                <a:cubicBezTo>
                  <a:pt x="4694" y="1385"/>
                  <a:pt x="4791" y="1360"/>
                  <a:pt x="4538" y="1373"/>
                </a:cubicBezTo>
                <a:cubicBezTo>
                  <a:pt x="4458" y="1346"/>
                  <a:pt x="4463" y="1398"/>
                  <a:pt x="4394" y="1421"/>
                </a:cubicBezTo>
                <a:cubicBezTo>
                  <a:pt x="4311" y="1393"/>
                  <a:pt x="4409" y="1413"/>
                  <a:pt x="4322" y="1457"/>
                </a:cubicBezTo>
                <a:cubicBezTo>
                  <a:pt x="4311" y="1463"/>
                  <a:pt x="4298" y="1448"/>
                  <a:pt x="4286" y="1445"/>
                </a:cubicBezTo>
                <a:cubicBezTo>
                  <a:pt x="4262" y="1440"/>
                  <a:pt x="4238" y="1437"/>
                  <a:pt x="4214" y="1433"/>
                </a:cubicBezTo>
                <a:cubicBezTo>
                  <a:pt x="4198" y="1384"/>
                  <a:pt x="4179" y="1365"/>
                  <a:pt x="4130" y="1349"/>
                </a:cubicBezTo>
                <a:cubicBezTo>
                  <a:pt x="4121" y="1352"/>
                  <a:pt x="4058" y="1369"/>
                  <a:pt x="4058" y="1385"/>
                </a:cubicBezTo>
                <a:cubicBezTo>
                  <a:pt x="4058" y="1398"/>
                  <a:pt x="4082" y="1395"/>
                  <a:pt x="4094" y="1397"/>
                </a:cubicBezTo>
                <a:cubicBezTo>
                  <a:pt x="4122" y="1403"/>
                  <a:pt x="4150" y="1405"/>
                  <a:pt x="4178" y="1409"/>
                </a:cubicBezTo>
                <a:cubicBezTo>
                  <a:pt x="4114" y="1413"/>
                  <a:pt x="4050" y="1414"/>
                  <a:pt x="3986" y="1421"/>
                </a:cubicBezTo>
                <a:cubicBezTo>
                  <a:pt x="3973" y="1422"/>
                  <a:pt x="3962" y="1435"/>
                  <a:pt x="3950" y="1433"/>
                </a:cubicBezTo>
                <a:cubicBezTo>
                  <a:pt x="3936" y="1431"/>
                  <a:pt x="3926" y="1417"/>
                  <a:pt x="3914" y="1409"/>
                </a:cubicBezTo>
                <a:cubicBezTo>
                  <a:pt x="3854" y="1429"/>
                  <a:pt x="3878" y="1449"/>
                  <a:pt x="3818" y="1469"/>
                </a:cubicBezTo>
                <a:cubicBezTo>
                  <a:pt x="3701" y="1430"/>
                  <a:pt x="3785" y="1437"/>
                  <a:pt x="3710" y="1469"/>
                </a:cubicBezTo>
                <a:cubicBezTo>
                  <a:pt x="3695" y="1475"/>
                  <a:pt x="3678" y="1477"/>
                  <a:pt x="3662" y="1481"/>
                </a:cubicBezTo>
                <a:cubicBezTo>
                  <a:pt x="3592" y="1435"/>
                  <a:pt x="3656" y="1459"/>
                  <a:pt x="3602" y="1493"/>
                </a:cubicBezTo>
                <a:cubicBezTo>
                  <a:pt x="3581" y="1506"/>
                  <a:pt x="3530" y="1517"/>
                  <a:pt x="3530" y="1517"/>
                </a:cubicBezTo>
                <a:cubicBezTo>
                  <a:pt x="3518" y="1529"/>
                  <a:pt x="3510" y="1548"/>
                  <a:pt x="3494" y="1553"/>
                </a:cubicBezTo>
                <a:cubicBezTo>
                  <a:pt x="3482" y="1557"/>
                  <a:pt x="3470" y="1539"/>
                  <a:pt x="3458" y="1541"/>
                </a:cubicBezTo>
                <a:cubicBezTo>
                  <a:pt x="3444" y="1543"/>
                  <a:pt x="3434" y="1557"/>
                  <a:pt x="3422" y="1565"/>
                </a:cubicBezTo>
                <a:cubicBezTo>
                  <a:pt x="3394" y="1561"/>
                  <a:pt x="3366" y="1553"/>
                  <a:pt x="3338" y="1553"/>
                </a:cubicBezTo>
                <a:cubicBezTo>
                  <a:pt x="3325" y="1553"/>
                  <a:pt x="3315" y="1565"/>
                  <a:pt x="3302" y="1565"/>
                </a:cubicBezTo>
                <a:cubicBezTo>
                  <a:pt x="3277" y="1565"/>
                  <a:pt x="3248" y="1541"/>
                  <a:pt x="3230" y="1529"/>
                </a:cubicBezTo>
                <a:cubicBezTo>
                  <a:pt x="3205" y="1537"/>
                  <a:pt x="3184" y="1557"/>
                  <a:pt x="3158" y="1565"/>
                </a:cubicBezTo>
                <a:cubicBezTo>
                  <a:pt x="3131" y="1573"/>
                  <a:pt x="3102" y="1573"/>
                  <a:pt x="3074" y="1577"/>
                </a:cubicBezTo>
                <a:cubicBezTo>
                  <a:pt x="3047" y="1586"/>
                  <a:pt x="2989" y="1607"/>
                  <a:pt x="2966" y="1601"/>
                </a:cubicBezTo>
                <a:cubicBezTo>
                  <a:pt x="2954" y="1598"/>
                  <a:pt x="2963" y="1574"/>
                  <a:pt x="2954" y="1565"/>
                </a:cubicBezTo>
                <a:cubicBezTo>
                  <a:pt x="2934" y="1545"/>
                  <a:pt x="2882" y="1517"/>
                  <a:pt x="2882" y="1517"/>
                </a:cubicBezTo>
                <a:cubicBezTo>
                  <a:pt x="2813" y="1620"/>
                  <a:pt x="2905" y="1499"/>
                  <a:pt x="2822" y="1565"/>
                </a:cubicBezTo>
                <a:cubicBezTo>
                  <a:pt x="2744" y="1627"/>
                  <a:pt x="2852" y="1583"/>
                  <a:pt x="2762" y="1613"/>
                </a:cubicBezTo>
                <a:cubicBezTo>
                  <a:pt x="2754" y="1597"/>
                  <a:pt x="2755" y="1572"/>
                  <a:pt x="2738" y="1565"/>
                </a:cubicBezTo>
                <a:cubicBezTo>
                  <a:pt x="2725" y="1560"/>
                  <a:pt x="2715" y="1583"/>
                  <a:pt x="2702" y="1589"/>
                </a:cubicBezTo>
                <a:cubicBezTo>
                  <a:pt x="2679" y="1599"/>
                  <a:pt x="2630" y="1613"/>
                  <a:pt x="2630" y="1613"/>
                </a:cubicBezTo>
                <a:cubicBezTo>
                  <a:pt x="2602" y="1609"/>
                  <a:pt x="2574" y="1598"/>
                  <a:pt x="2546" y="1601"/>
                </a:cubicBezTo>
                <a:cubicBezTo>
                  <a:pt x="2532" y="1602"/>
                  <a:pt x="2524" y="1624"/>
                  <a:pt x="2510" y="1625"/>
                </a:cubicBezTo>
                <a:cubicBezTo>
                  <a:pt x="2430" y="1628"/>
                  <a:pt x="2350" y="1617"/>
                  <a:pt x="2270" y="1613"/>
                </a:cubicBezTo>
                <a:cubicBezTo>
                  <a:pt x="2063" y="1647"/>
                  <a:pt x="2290" y="1627"/>
                  <a:pt x="2162" y="1601"/>
                </a:cubicBezTo>
                <a:cubicBezTo>
                  <a:pt x="2087" y="1586"/>
                  <a:pt x="2010" y="1588"/>
                  <a:pt x="1934" y="1577"/>
                </a:cubicBezTo>
                <a:cubicBezTo>
                  <a:pt x="1922" y="1565"/>
                  <a:pt x="1912" y="1550"/>
                  <a:pt x="1898" y="1541"/>
                </a:cubicBezTo>
                <a:cubicBezTo>
                  <a:pt x="1887" y="1534"/>
                  <a:pt x="1872" y="1537"/>
                  <a:pt x="1862" y="1529"/>
                </a:cubicBezTo>
                <a:cubicBezTo>
                  <a:pt x="1851" y="1520"/>
                  <a:pt x="1849" y="1502"/>
                  <a:pt x="1838" y="1493"/>
                </a:cubicBezTo>
                <a:cubicBezTo>
                  <a:pt x="1816" y="1474"/>
                  <a:pt x="1766" y="1445"/>
                  <a:pt x="1766" y="1445"/>
                </a:cubicBezTo>
                <a:cubicBezTo>
                  <a:pt x="1710" y="1361"/>
                  <a:pt x="1742" y="1389"/>
                  <a:pt x="1682" y="1349"/>
                </a:cubicBezTo>
                <a:cubicBezTo>
                  <a:pt x="1646" y="1353"/>
                  <a:pt x="1610" y="1354"/>
                  <a:pt x="1574" y="1361"/>
                </a:cubicBezTo>
                <a:cubicBezTo>
                  <a:pt x="1549" y="1366"/>
                  <a:pt x="1502" y="1385"/>
                  <a:pt x="1502" y="1385"/>
                </a:cubicBezTo>
                <a:cubicBezTo>
                  <a:pt x="1358" y="1364"/>
                  <a:pt x="1211" y="1384"/>
                  <a:pt x="1070" y="1349"/>
                </a:cubicBezTo>
                <a:cubicBezTo>
                  <a:pt x="978" y="1364"/>
                  <a:pt x="917" y="1377"/>
                  <a:pt x="818" y="1385"/>
                </a:cubicBezTo>
                <a:cubicBezTo>
                  <a:pt x="779" y="1398"/>
                  <a:pt x="749" y="1420"/>
                  <a:pt x="710" y="1433"/>
                </a:cubicBezTo>
                <a:cubicBezTo>
                  <a:pt x="706" y="1445"/>
                  <a:pt x="708" y="1462"/>
                  <a:pt x="698" y="1469"/>
                </a:cubicBezTo>
                <a:cubicBezTo>
                  <a:pt x="634" y="1514"/>
                  <a:pt x="476" y="1523"/>
                  <a:pt x="410" y="1529"/>
                </a:cubicBezTo>
                <a:cubicBezTo>
                  <a:pt x="327" y="1557"/>
                  <a:pt x="245" y="1577"/>
                  <a:pt x="158" y="1589"/>
                </a:cubicBezTo>
                <a:cubicBezTo>
                  <a:pt x="138" y="1585"/>
                  <a:pt x="100" y="1597"/>
                  <a:pt x="98" y="1577"/>
                </a:cubicBezTo>
                <a:cubicBezTo>
                  <a:pt x="45" y="1099"/>
                  <a:pt x="0" y="1084"/>
                  <a:pt x="146" y="1181"/>
                </a:cubicBezTo>
                <a:cubicBezTo>
                  <a:pt x="230" y="1153"/>
                  <a:pt x="210" y="1181"/>
                  <a:pt x="230" y="1121"/>
                </a:cubicBezTo>
                <a:cubicBezTo>
                  <a:pt x="326" y="1153"/>
                  <a:pt x="206" y="1121"/>
                  <a:pt x="302" y="1121"/>
                </a:cubicBezTo>
                <a:cubicBezTo>
                  <a:pt x="322" y="1121"/>
                  <a:pt x="342" y="1129"/>
                  <a:pt x="362" y="1133"/>
                </a:cubicBezTo>
                <a:cubicBezTo>
                  <a:pt x="394" y="1085"/>
                  <a:pt x="414" y="1075"/>
                  <a:pt x="470" y="1061"/>
                </a:cubicBezTo>
                <a:cubicBezTo>
                  <a:pt x="474" y="1045"/>
                  <a:pt x="472" y="1026"/>
                  <a:pt x="482" y="1013"/>
                </a:cubicBezTo>
                <a:cubicBezTo>
                  <a:pt x="490" y="1003"/>
                  <a:pt x="507" y="1007"/>
                  <a:pt x="518" y="1001"/>
                </a:cubicBezTo>
                <a:cubicBezTo>
                  <a:pt x="531" y="995"/>
                  <a:pt x="542" y="985"/>
                  <a:pt x="554" y="977"/>
                </a:cubicBezTo>
                <a:cubicBezTo>
                  <a:pt x="598" y="910"/>
                  <a:pt x="622" y="948"/>
                  <a:pt x="686" y="905"/>
                </a:cubicBezTo>
                <a:cubicBezTo>
                  <a:pt x="701" y="910"/>
                  <a:pt x="757" y="930"/>
                  <a:pt x="770" y="929"/>
                </a:cubicBezTo>
                <a:cubicBezTo>
                  <a:pt x="819" y="926"/>
                  <a:pt x="914" y="905"/>
                  <a:pt x="914" y="905"/>
                </a:cubicBezTo>
                <a:cubicBezTo>
                  <a:pt x="955" y="946"/>
                  <a:pt x="967" y="959"/>
                  <a:pt x="1022" y="941"/>
                </a:cubicBezTo>
                <a:cubicBezTo>
                  <a:pt x="1067" y="952"/>
                  <a:pt x="1093" y="966"/>
                  <a:pt x="1142" y="941"/>
                </a:cubicBezTo>
                <a:cubicBezTo>
                  <a:pt x="1155" y="935"/>
                  <a:pt x="1155" y="914"/>
                  <a:pt x="1166" y="905"/>
                </a:cubicBezTo>
                <a:cubicBezTo>
                  <a:pt x="1180" y="894"/>
                  <a:pt x="1198" y="889"/>
                  <a:pt x="1214" y="881"/>
                </a:cubicBezTo>
                <a:cubicBezTo>
                  <a:pt x="1201" y="764"/>
                  <a:pt x="1180" y="767"/>
                  <a:pt x="1214" y="665"/>
                </a:cubicBezTo>
                <a:cubicBezTo>
                  <a:pt x="1219" y="649"/>
                  <a:pt x="1246" y="657"/>
                  <a:pt x="1262" y="653"/>
                </a:cubicBezTo>
                <a:cubicBezTo>
                  <a:pt x="1281" y="595"/>
                  <a:pt x="1252" y="554"/>
                  <a:pt x="1238" y="497"/>
                </a:cubicBezTo>
                <a:cubicBezTo>
                  <a:pt x="1255" y="412"/>
                  <a:pt x="1287" y="362"/>
                  <a:pt x="1202" y="305"/>
                </a:cubicBezTo>
                <a:cubicBezTo>
                  <a:pt x="1181" y="242"/>
                  <a:pt x="1183" y="280"/>
                  <a:pt x="1238" y="197"/>
                </a:cubicBezTo>
                <a:cubicBezTo>
                  <a:pt x="1252" y="176"/>
                  <a:pt x="1262" y="125"/>
                  <a:pt x="1262" y="125"/>
                </a:cubicBezTo>
                <a:cubicBezTo>
                  <a:pt x="1258" y="105"/>
                  <a:pt x="1261" y="82"/>
                  <a:pt x="1250" y="65"/>
                </a:cubicBezTo>
                <a:cubicBezTo>
                  <a:pt x="1243" y="54"/>
                  <a:pt x="1223" y="62"/>
                  <a:pt x="1214" y="53"/>
                </a:cubicBezTo>
                <a:cubicBezTo>
                  <a:pt x="1205" y="44"/>
                  <a:pt x="1206" y="29"/>
                  <a:pt x="1202" y="17"/>
                </a:cubicBezTo>
                <a:cubicBezTo>
                  <a:pt x="1214" y="13"/>
                  <a:pt x="1226" y="0"/>
                  <a:pt x="1238" y="5"/>
                </a:cubicBezTo>
                <a:cubicBezTo>
                  <a:pt x="1251" y="10"/>
                  <a:pt x="1251" y="32"/>
                  <a:pt x="1262" y="41"/>
                </a:cubicBezTo>
                <a:cubicBezTo>
                  <a:pt x="1272" y="49"/>
                  <a:pt x="1286" y="49"/>
                  <a:pt x="1298" y="53"/>
                </a:cubicBezTo>
                <a:cubicBezTo>
                  <a:pt x="1362" y="40"/>
                  <a:pt x="1400" y="16"/>
                  <a:pt x="1466" y="5"/>
                </a:cubicBezTo>
                <a:cubicBezTo>
                  <a:pt x="1446" y="104"/>
                  <a:pt x="1478" y="41"/>
                  <a:pt x="1406" y="77"/>
                </a:cubicBezTo>
                <a:cubicBezTo>
                  <a:pt x="1380" y="90"/>
                  <a:pt x="1334" y="125"/>
                  <a:pt x="1334" y="125"/>
                </a:cubicBezTo>
                <a:cubicBezTo>
                  <a:pt x="1326" y="137"/>
                  <a:pt x="1316" y="148"/>
                  <a:pt x="1310" y="161"/>
                </a:cubicBezTo>
                <a:cubicBezTo>
                  <a:pt x="1300" y="184"/>
                  <a:pt x="1286" y="233"/>
                  <a:pt x="1286" y="233"/>
                </a:cubicBezTo>
                <a:cubicBezTo>
                  <a:pt x="1312" y="365"/>
                  <a:pt x="1297" y="314"/>
                  <a:pt x="1322" y="389"/>
                </a:cubicBezTo>
                <a:cubicBezTo>
                  <a:pt x="1318" y="401"/>
                  <a:pt x="1308" y="413"/>
                  <a:pt x="1310" y="425"/>
                </a:cubicBezTo>
                <a:cubicBezTo>
                  <a:pt x="1326" y="518"/>
                  <a:pt x="1352" y="407"/>
                  <a:pt x="1322" y="497"/>
                </a:cubicBezTo>
                <a:cubicBezTo>
                  <a:pt x="1315" y="591"/>
                  <a:pt x="1317" y="703"/>
                  <a:pt x="1262" y="785"/>
                </a:cubicBezTo>
                <a:cubicBezTo>
                  <a:pt x="1266" y="797"/>
                  <a:pt x="1271" y="809"/>
                  <a:pt x="1274" y="821"/>
                </a:cubicBezTo>
                <a:cubicBezTo>
                  <a:pt x="1279" y="837"/>
                  <a:pt x="1271" y="862"/>
                  <a:pt x="1286" y="869"/>
                </a:cubicBezTo>
                <a:cubicBezTo>
                  <a:pt x="1299" y="875"/>
                  <a:pt x="1309" y="851"/>
                  <a:pt x="1322" y="845"/>
                </a:cubicBezTo>
                <a:cubicBezTo>
                  <a:pt x="1333" y="839"/>
                  <a:pt x="1346" y="837"/>
                  <a:pt x="1358" y="833"/>
                </a:cubicBezTo>
                <a:cubicBezTo>
                  <a:pt x="1453" y="845"/>
                  <a:pt x="1541" y="826"/>
                  <a:pt x="1634" y="845"/>
                </a:cubicBezTo>
                <a:cubicBezTo>
                  <a:pt x="1730" y="813"/>
                  <a:pt x="1610" y="845"/>
                  <a:pt x="1706" y="845"/>
                </a:cubicBezTo>
                <a:cubicBezTo>
                  <a:pt x="1722" y="845"/>
                  <a:pt x="1738" y="837"/>
                  <a:pt x="1754" y="833"/>
                </a:cubicBezTo>
                <a:cubicBezTo>
                  <a:pt x="1836" y="778"/>
                  <a:pt x="1735" y="838"/>
                  <a:pt x="1898" y="797"/>
                </a:cubicBezTo>
                <a:cubicBezTo>
                  <a:pt x="1912" y="794"/>
                  <a:pt x="1921" y="779"/>
                  <a:pt x="1934" y="773"/>
                </a:cubicBezTo>
                <a:cubicBezTo>
                  <a:pt x="1945" y="767"/>
                  <a:pt x="1958" y="764"/>
                  <a:pt x="1970" y="761"/>
                </a:cubicBezTo>
                <a:cubicBezTo>
                  <a:pt x="2010" y="752"/>
                  <a:pt x="2090" y="737"/>
                  <a:pt x="2090" y="737"/>
                </a:cubicBezTo>
                <a:cubicBezTo>
                  <a:pt x="2095" y="734"/>
                  <a:pt x="2207" y="678"/>
                  <a:pt x="2210" y="677"/>
                </a:cubicBezTo>
                <a:cubicBezTo>
                  <a:pt x="2273" y="662"/>
                  <a:pt x="2338" y="664"/>
                  <a:pt x="2402" y="653"/>
                </a:cubicBezTo>
                <a:cubicBezTo>
                  <a:pt x="2414" y="641"/>
                  <a:pt x="2422" y="622"/>
                  <a:pt x="2438" y="617"/>
                </a:cubicBezTo>
                <a:cubicBezTo>
                  <a:pt x="2450" y="613"/>
                  <a:pt x="2462" y="633"/>
                  <a:pt x="2474" y="629"/>
                </a:cubicBezTo>
                <a:cubicBezTo>
                  <a:pt x="2503" y="619"/>
                  <a:pt x="2515" y="576"/>
                  <a:pt x="2534" y="557"/>
                </a:cubicBezTo>
                <a:cubicBezTo>
                  <a:pt x="2544" y="547"/>
                  <a:pt x="2558" y="541"/>
                  <a:pt x="2570" y="533"/>
                </a:cubicBezTo>
                <a:cubicBezTo>
                  <a:pt x="2696" y="565"/>
                  <a:pt x="2553" y="545"/>
                  <a:pt x="2642" y="509"/>
                </a:cubicBezTo>
                <a:cubicBezTo>
                  <a:pt x="2672" y="497"/>
                  <a:pt x="2706" y="501"/>
                  <a:pt x="2738" y="497"/>
                </a:cubicBezTo>
                <a:cubicBezTo>
                  <a:pt x="2766" y="441"/>
                  <a:pt x="2753" y="420"/>
                  <a:pt x="2810" y="401"/>
                </a:cubicBezTo>
                <a:cubicBezTo>
                  <a:pt x="2865" y="412"/>
                  <a:pt x="2896" y="419"/>
                  <a:pt x="2942" y="449"/>
                </a:cubicBezTo>
                <a:cubicBezTo>
                  <a:pt x="2962" y="445"/>
                  <a:pt x="2983" y="444"/>
                  <a:pt x="3002" y="437"/>
                </a:cubicBezTo>
                <a:cubicBezTo>
                  <a:pt x="3016" y="432"/>
                  <a:pt x="3024" y="415"/>
                  <a:pt x="3038" y="413"/>
                </a:cubicBezTo>
                <a:cubicBezTo>
                  <a:pt x="3058" y="410"/>
                  <a:pt x="3078" y="421"/>
                  <a:pt x="3098" y="425"/>
                </a:cubicBezTo>
                <a:cubicBezTo>
                  <a:pt x="3185" y="396"/>
                  <a:pt x="3085" y="417"/>
                  <a:pt x="3158" y="449"/>
                </a:cubicBezTo>
                <a:cubicBezTo>
                  <a:pt x="3184" y="460"/>
                  <a:pt x="3214" y="457"/>
                  <a:pt x="3242" y="461"/>
                </a:cubicBezTo>
                <a:cubicBezTo>
                  <a:pt x="3302" y="441"/>
                  <a:pt x="3278" y="421"/>
                  <a:pt x="3338" y="401"/>
                </a:cubicBezTo>
                <a:cubicBezTo>
                  <a:pt x="3404" y="423"/>
                  <a:pt x="3449" y="424"/>
                  <a:pt x="3518" y="413"/>
                </a:cubicBezTo>
                <a:cubicBezTo>
                  <a:pt x="3615" y="445"/>
                  <a:pt x="3729" y="462"/>
                  <a:pt x="3830" y="473"/>
                </a:cubicBezTo>
                <a:cubicBezTo>
                  <a:pt x="3866" y="461"/>
                  <a:pt x="3902" y="449"/>
                  <a:pt x="3938" y="437"/>
                </a:cubicBezTo>
                <a:cubicBezTo>
                  <a:pt x="3950" y="433"/>
                  <a:pt x="3974" y="425"/>
                  <a:pt x="3974" y="425"/>
                </a:cubicBezTo>
                <a:cubicBezTo>
                  <a:pt x="4049" y="475"/>
                  <a:pt x="3971" y="437"/>
                  <a:pt x="4046" y="437"/>
                </a:cubicBezTo>
                <a:cubicBezTo>
                  <a:pt x="4126" y="437"/>
                  <a:pt x="4206" y="455"/>
                  <a:pt x="4286" y="461"/>
                </a:cubicBezTo>
                <a:cubicBezTo>
                  <a:pt x="4346" y="457"/>
                  <a:pt x="4406" y="458"/>
                  <a:pt x="4466" y="449"/>
                </a:cubicBezTo>
                <a:cubicBezTo>
                  <a:pt x="4491" y="445"/>
                  <a:pt x="4513" y="428"/>
                  <a:pt x="4538" y="425"/>
                </a:cubicBezTo>
                <a:cubicBezTo>
                  <a:pt x="4578" y="421"/>
                  <a:pt x="4618" y="417"/>
                  <a:pt x="4658" y="413"/>
                </a:cubicBezTo>
                <a:cubicBezTo>
                  <a:pt x="4761" y="344"/>
                  <a:pt x="4640" y="436"/>
                  <a:pt x="4706" y="353"/>
                </a:cubicBezTo>
                <a:cubicBezTo>
                  <a:pt x="4769" y="274"/>
                  <a:pt x="4905" y="322"/>
                  <a:pt x="5006" y="317"/>
                </a:cubicBezTo>
                <a:cubicBezTo>
                  <a:pt x="4994" y="313"/>
                  <a:pt x="4970" y="318"/>
                  <a:pt x="4970" y="305"/>
                </a:cubicBezTo>
                <a:cubicBezTo>
                  <a:pt x="4970" y="292"/>
                  <a:pt x="4993" y="294"/>
                  <a:pt x="5006" y="293"/>
                </a:cubicBezTo>
                <a:cubicBezTo>
                  <a:pt x="5118" y="281"/>
                  <a:pt x="5230" y="278"/>
                  <a:pt x="5342" y="269"/>
                </a:cubicBezTo>
                <a:cubicBezTo>
                  <a:pt x="5382" y="259"/>
                  <a:pt x="5423" y="258"/>
                  <a:pt x="5462" y="245"/>
                </a:cubicBezTo>
                <a:cubicBezTo>
                  <a:pt x="5476" y="240"/>
                  <a:pt x="5484" y="226"/>
                  <a:pt x="5498" y="221"/>
                </a:cubicBezTo>
                <a:cubicBezTo>
                  <a:pt x="5521" y="213"/>
                  <a:pt x="5546" y="213"/>
                  <a:pt x="5570" y="209"/>
                </a:cubicBezTo>
                <a:cubicBezTo>
                  <a:pt x="5652" y="154"/>
                  <a:pt x="5607" y="225"/>
                  <a:pt x="5606" y="257"/>
                </a:cubicBezTo>
                <a:cubicBezTo>
                  <a:pt x="5598" y="625"/>
                  <a:pt x="5606" y="993"/>
                  <a:pt x="5606" y="1361"/>
                </a:cubicBezTo>
                <a:close/>
              </a:path>
            </a:pathLst>
          </a:custGeom>
          <a:solidFill>
            <a:srgbClr val="75c7ff"/>
          </a:solidFill>
          <a:ln w="12600">
            <a:solidFill>
              <a:srgbClr val="00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962760" y="1905120"/>
            <a:ext cx="1647720" cy="615960"/>
          </a:xfrm>
          <a:custGeom>
            <a:avLst/>
            <a:gdLst/>
            <a:ahLst/>
            <a:rect l="l" t="t" r="r" b="b"/>
            <a:pathLst>
              <a:path w="1038" h="388">
                <a:moveTo>
                  <a:pt x="993" y="196"/>
                </a:moveTo>
                <a:cubicBezTo>
                  <a:pt x="1022" y="110"/>
                  <a:pt x="1038" y="138"/>
                  <a:pt x="981" y="100"/>
                </a:cubicBezTo>
                <a:cubicBezTo>
                  <a:pt x="973" y="88"/>
                  <a:pt x="971" y="69"/>
                  <a:pt x="957" y="64"/>
                </a:cubicBezTo>
                <a:cubicBezTo>
                  <a:pt x="941" y="59"/>
                  <a:pt x="925" y="76"/>
                  <a:pt x="909" y="76"/>
                </a:cubicBezTo>
                <a:cubicBezTo>
                  <a:pt x="877" y="76"/>
                  <a:pt x="845" y="68"/>
                  <a:pt x="813" y="64"/>
                </a:cubicBezTo>
                <a:cubicBezTo>
                  <a:pt x="711" y="30"/>
                  <a:pt x="742" y="46"/>
                  <a:pt x="633" y="64"/>
                </a:cubicBezTo>
                <a:cubicBezTo>
                  <a:pt x="549" y="8"/>
                  <a:pt x="585" y="0"/>
                  <a:pt x="525" y="40"/>
                </a:cubicBezTo>
                <a:cubicBezTo>
                  <a:pt x="457" y="36"/>
                  <a:pt x="389" y="28"/>
                  <a:pt x="321" y="28"/>
                </a:cubicBezTo>
                <a:cubicBezTo>
                  <a:pt x="193" y="28"/>
                  <a:pt x="353" y="60"/>
                  <a:pt x="225" y="28"/>
                </a:cubicBezTo>
                <a:cubicBezTo>
                  <a:pt x="213" y="20"/>
                  <a:pt x="203" y="1"/>
                  <a:pt x="189" y="4"/>
                </a:cubicBezTo>
                <a:cubicBezTo>
                  <a:pt x="175" y="7"/>
                  <a:pt x="175" y="30"/>
                  <a:pt x="165" y="40"/>
                </a:cubicBezTo>
                <a:cubicBezTo>
                  <a:pt x="155" y="50"/>
                  <a:pt x="142" y="58"/>
                  <a:pt x="129" y="64"/>
                </a:cubicBezTo>
                <a:cubicBezTo>
                  <a:pt x="106" y="74"/>
                  <a:pt x="81" y="80"/>
                  <a:pt x="57" y="88"/>
                </a:cubicBezTo>
                <a:cubicBezTo>
                  <a:pt x="45" y="92"/>
                  <a:pt x="21" y="100"/>
                  <a:pt x="21" y="100"/>
                </a:cubicBezTo>
                <a:cubicBezTo>
                  <a:pt x="0" y="163"/>
                  <a:pt x="24" y="195"/>
                  <a:pt x="57" y="244"/>
                </a:cubicBezTo>
                <a:cubicBezTo>
                  <a:pt x="80" y="335"/>
                  <a:pt x="47" y="274"/>
                  <a:pt x="105" y="280"/>
                </a:cubicBezTo>
                <a:cubicBezTo>
                  <a:pt x="130" y="283"/>
                  <a:pt x="177" y="304"/>
                  <a:pt x="177" y="304"/>
                </a:cubicBezTo>
                <a:cubicBezTo>
                  <a:pt x="181" y="316"/>
                  <a:pt x="196" y="373"/>
                  <a:pt x="213" y="376"/>
                </a:cubicBezTo>
                <a:cubicBezTo>
                  <a:pt x="227" y="379"/>
                  <a:pt x="237" y="360"/>
                  <a:pt x="249" y="352"/>
                </a:cubicBezTo>
                <a:cubicBezTo>
                  <a:pt x="265" y="356"/>
                  <a:pt x="282" y="358"/>
                  <a:pt x="297" y="364"/>
                </a:cubicBezTo>
                <a:cubicBezTo>
                  <a:pt x="310" y="370"/>
                  <a:pt x="319" y="388"/>
                  <a:pt x="333" y="388"/>
                </a:cubicBezTo>
                <a:cubicBezTo>
                  <a:pt x="363" y="388"/>
                  <a:pt x="388" y="362"/>
                  <a:pt x="417" y="352"/>
                </a:cubicBezTo>
                <a:cubicBezTo>
                  <a:pt x="441" y="360"/>
                  <a:pt x="465" y="368"/>
                  <a:pt x="489" y="376"/>
                </a:cubicBezTo>
                <a:cubicBezTo>
                  <a:pt x="520" y="386"/>
                  <a:pt x="585" y="352"/>
                  <a:pt x="585" y="352"/>
                </a:cubicBezTo>
                <a:cubicBezTo>
                  <a:pt x="597" y="340"/>
                  <a:pt x="606" y="323"/>
                  <a:pt x="621" y="316"/>
                </a:cubicBezTo>
                <a:cubicBezTo>
                  <a:pt x="651" y="302"/>
                  <a:pt x="717" y="292"/>
                  <a:pt x="717" y="292"/>
                </a:cubicBezTo>
                <a:cubicBezTo>
                  <a:pt x="756" y="266"/>
                  <a:pt x="790" y="253"/>
                  <a:pt x="837" y="244"/>
                </a:cubicBezTo>
                <a:cubicBezTo>
                  <a:pt x="885" y="235"/>
                  <a:pt x="981" y="220"/>
                  <a:pt x="981" y="220"/>
                </a:cubicBezTo>
                <a:cubicBezTo>
                  <a:pt x="1008" y="179"/>
                  <a:pt x="1015" y="174"/>
                  <a:pt x="993" y="19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670280" y="1828800"/>
            <a:ext cx="2033640" cy="909720"/>
          </a:xfrm>
          <a:custGeom>
            <a:avLst/>
            <a:gdLst/>
            <a:ahLst/>
            <a:rect l="l" t="t" r="r" b="b"/>
            <a:pathLst>
              <a:path w="1281" h="573">
                <a:moveTo>
                  <a:pt x="1246" y="369"/>
                </a:moveTo>
                <a:cubicBezTo>
                  <a:pt x="1242" y="345"/>
                  <a:pt x="1246" y="318"/>
                  <a:pt x="1234" y="297"/>
                </a:cubicBezTo>
                <a:cubicBezTo>
                  <a:pt x="1228" y="286"/>
                  <a:pt x="1207" y="294"/>
                  <a:pt x="1198" y="285"/>
                </a:cubicBezTo>
                <a:cubicBezTo>
                  <a:pt x="1172" y="259"/>
                  <a:pt x="1190" y="210"/>
                  <a:pt x="1174" y="177"/>
                </a:cubicBezTo>
                <a:cubicBezTo>
                  <a:pt x="1168" y="164"/>
                  <a:pt x="1150" y="161"/>
                  <a:pt x="1138" y="153"/>
                </a:cubicBezTo>
                <a:cubicBezTo>
                  <a:pt x="1087" y="77"/>
                  <a:pt x="1028" y="92"/>
                  <a:pt x="958" y="45"/>
                </a:cubicBezTo>
                <a:cubicBezTo>
                  <a:pt x="820" y="65"/>
                  <a:pt x="850" y="70"/>
                  <a:pt x="682" y="57"/>
                </a:cubicBezTo>
                <a:cubicBezTo>
                  <a:pt x="633" y="41"/>
                  <a:pt x="598" y="53"/>
                  <a:pt x="550" y="69"/>
                </a:cubicBezTo>
                <a:cubicBezTo>
                  <a:pt x="546" y="57"/>
                  <a:pt x="550" y="38"/>
                  <a:pt x="538" y="33"/>
                </a:cubicBezTo>
                <a:cubicBezTo>
                  <a:pt x="523" y="27"/>
                  <a:pt x="506" y="41"/>
                  <a:pt x="490" y="45"/>
                </a:cubicBezTo>
                <a:cubicBezTo>
                  <a:pt x="403" y="64"/>
                  <a:pt x="458" y="48"/>
                  <a:pt x="394" y="69"/>
                </a:cubicBezTo>
                <a:cubicBezTo>
                  <a:pt x="291" y="0"/>
                  <a:pt x="421" y="74"/>
                  <a:pt x="322" y="57"/>
                </a:cubicBezTo>
                <a:cubicBezTo>
                  <a:pt x="308" y="55"/>
                  <a:pt x="298" y="41"/>
                  <a:pt x="286" y="33"/>
                </a:cubicBezTo>
                <a:cubicBezTo>
                  <a:pt x="206" y="60"/>
                  <a:pt x="128" y="95"/>
                  <a:pt x="58" y="141"/>
                </a:cubicBezTo>
                <a:cubicBezTo>
                  <a:pt x="35" y="176"/>
                  <a:pt x="0" y="231"/>
                  <a:pt x="34" y="273"/>
                </a:cubicBezTo>
                <a:cubicBezTo>
                  <a:pt x="42" y="283"/>
                  <a:pt x="58" y="281"/>
                  <a:pt x="70" y="285"/>
                </a:cubicBezTo>
                <a:cubicBezTo>
                  <a:pt x="123" y="392"/>
                  <a:pt x="57" y="297"/>
                  <a:pt x="142" y="285"/>
                </a:cubicBezTo>
                <a:cubicBezTo>
                  <a:pt x="159" y="283"/>
                  <a:pt x="166" y="309"/>
                  <a:pt x="178" y="321"/>
                </a:cubicBezTo>
                <a:cubicBezTo>
                  <a:pt x="194" y="387"/>
                  <a:pt x="200" y="384"/>
                  <a:pt x="262" y="405"/>
                </a:cubicBezTo>
                <a:cubicBezTo>
                  <a:pt x="291" y="449"/>
                  <a:pt x="309" y="486"/>
                  <a:pt x="322" y="537"/>
                </a:cubicBezTo>
                <a:cubicBezTo>
                  <a:pt x="338" y="529"/>
                  <a:pt x="354" y="520"/>
                  <a:pt x="370" y="513"/>
                </a:cubicBezTo>
                <a:cubicBezTo>
                  <a:pt x="382" y="508"/>
                  <a:pt x="397" y="492"/>
                  <a:pt x="406" y="501"/>
                </a:cubicBezTo>
                <a:cubicBezTo>
                  <a:pt x="424" y="519"/>
                  <a:pt x="430" y="573"/>
                  <a:pt x="430" y="573"/>
                </a:cubicBezTo>
                <a:cubicBezTo>
                  <a:pt x="466" y="519"/>
                  <a:pt x="470" y="512"/>
                  <a:pt x="526" y="549"/>
                </a:cubicBezTo>
                <a:cubicBezTo>
                  <a:pt x="543" y="532"/>
                  <a:pt x="567" y="498"/>
                  <a:pt x="598" y="501"/>
                </a:cubicBezTo>
                <a:cubicBezTo>
                  <a:pt x="623" y="504"/>
                  <a:pt x="670" y="525"/>
                  <a:pt x="670" y="525"/>
                </a:cubicBezTo>
                <a:cubicBezTo>
                  <a:pt x="717" y="494"/>
                  <a:pt x="755" y="500"/>
                  <a:pt x="802" y="477"/>
                </a:cubicBezTo>
                <a:cubicBezTo>
                  <a:pt x="895" y="430"/>
                  <a:pt x="784" y="471"/>
                  <a:pt x="874" y="441"/>
                </a:cubicBezTo>
                <a:cubicBezTo>
                  <a:pt x="957" y="379"/>
                  <a:pt x="1010" y="395"/>
                  <a:pt x="1114" y="405"/>
                </a:cubicBezTo>
                <a:cubicBezTo>
                  <a:pt x="1123" y="411"/>
                  <a:pt x="1169" y="447"/>
                  <a:pt x="1186" y="441"/>
                </a:cubicBezTo>
                <a:cubicBezTo>
                  <a:pt x="1213" y="432"/>
                  <a:pt x="1258" y="393"/>
                  <a:pt x="1258" y="393"/>
                </a:cubicBezTo>
                <a:cubicBezTo>
                  <a:pt x="1273" y="349"/>
                  <a:pt x="1281" y="351"/>
                  <a:pt x="1246" y="369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502160" y="2819520"/>
            <a:ext cx="858960" cy="428400"/>
          </a:xfrm>
          <a:custGeom>
            <a:avLst/>
            <a:gdLst/>
            <a:ahLst/>
            <a:rect l="l" t="t" r="r" b="b"/>
            <a:pathLst>
              <a:path w="541" h="270">
                <a:moveTo>
                  <a:pt x="464" y="120"/>
                </a:moveTo>
                <a:cubicBezTo>
                  <a:pt x="418" y="89"/>
                  <a:pt x="366" y="79"/>
                  <a:pt x="320" y="48"/>
                </a:cubicBezTo>
                <a:cubicBezTo>
                  <a:pt x="276" y="52"/>
                  <a:pt x="232" y="66"/>
                  <a:pt x="188" y="60"/>
                </a:cubicBezTo>
                <a:cubicBezTo>
                  <a:pt x="171" y="58"/>
                  <a:pt x="167" y="32"/>
                  <a:pt x="152" y="24"/>
                </a:cubicBezTo>
                <a:cubicBezTo>
                  <a:pt x="130" y="12"/>
                  <a:pt x="80" y="0"/>
                  <a:pt x="80" y="0"/>
                </a:cubicBezTo>
                <a:cubicBezTo>
                  <a:pt x="64" y="8"/>
                  <a:pt x="43" y="10"/>
                  <a:pt x="32" y="24"/>
                </a:cubicBezTo>
                <a:cubicBezTo>
                  <a:pt x="17" y="44"/>
                  <a:pt x="8" y="96"/>
                  <a:pt x="8" y="96"/>
                </a:cubicBezTo>
                <a:cubicBezTo>
                  <a:pt x="29" y="179"/>
                  <a:pt x="0" y="132"/>
                  <a:pt x="56" y="132"/>
                </a:cubicBezTo>
                <a:cubicBezTo>
                  <a:pt x="72" y="132"/>
                  <a:pt x="88" y="140"/>
                  <a:pt x="104" y="144"/>
                </a:cubicBezTo>
                <a:cubicBezTo>
                  <a:pt x="108" y="156"/>
                  <a:pt x="106" y="173"/>
                  <a:pt x="116" y="180"/>
                </a:cubicBezTo>
                <a:cubicBezTo>
                  <a:pt x="149" y="204"/>
                  <a:pt x="237" y="211"/>
                  <a:pt x="272" y="216"/>
                </a:cubicBezTo>
                <a:cubicBezTo>
                  <a:pt x="280" y="232"/>
                  <a:pt x="279" y="260"/>
                  <a:pt x="296" y="264"/>
                </a:cubicBezTo>
                <a:cubicBezTo>
                  <a:pt x="321" y="270"/>
                  <a:pt x="343" y="243"/>
                  <a:pt x="368" y="240"/>
                </a:cubicBezTo>
                <a:cubicBezTo>
                  <a:pt x="404" y="236"/>
                  <a:pt x="440" y="232"/>
                  <a:pt x="476" y="228"/>
                </a:cubicBezTo>
                <a:cubicBezTo>
                  <a:pt x="533" y="209"/>
                  <a:pt x="541" y="190"/>
                  <a:pt x="524" y="132"/>
                </a:cubicBezTo>
                <a:cubicBezTo>
                  <a:pt x="521" y="120"/>
                  <a:pt x="524" y="98"/>
                  <a:pt x="512" y="96"/>
                </a:cubicBezTo>
                <a:cubicBezTo>
                  <a:pt x="494" y="92"/>
                  <a:pt x="480" y="112"/>
                  <a:pt x="464" y="120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811600" y="2666880"/>
            <a:ext cx="1744560" cy="604800"/>
          </a:xfrm>
          <a:custGeom>
            <a:avLst/>
            <a:gdLst/>
            <a:ahLst/>
            <a:rect l="l" t="t" r="r" b="b"/>
            <a:pathLst>
              <a:path w="1099" h="381">
                <a:moveTo>
                  <a:pt x="1061" y="318"/>
                </a:moveTo>
                <a:cubicBezTo>
                  <a:pt x="974" y="296"/>
                  <a:pt x="917" y="226"/>
                  <a:pt x="833" y="198"/>
                </a:cubicBezTo>
                <a:cubicBezTo>
                  <a:pt x="780" y="119"/>
                  <a:pt x="702" y="127"/>
                  <a:pt x="629" y="78"/>
                </a:cubicBezTo>
                <a:cubicBezTo>
                  <a:pt x="490" y="95"/>
                  <a:pt x="560" y="91"/>
                  <a:pt x="461" y="54"/>
                </a:cubicBezTo>
                <a:cubicBezTo>
                  <a:pt x="415" y="37"/>
                  <a:pt x="254" y="31"/>
                  <a:pt x="245" y="30"/>
                </a:cubicBezTo>
                <a:cubicBezTo>
                  <a:pt x="233" y="22"/>
                  <a:pt x="223" y="8"/>
                  <a:pt x="209" y="6"/>
                </a:cubicBezTo>
                <a:cubicBezTo>
                  <a:pt x="170" y="0"/>
                  <a:pt x="125" y="42"/>
                  <a:pt x="89" y="54"/>
                </a:cubicBezTo>
                <a:cubicBezTo>
                  <a:pt x="65" y="48"/>
                  <a:pt x="22" y="25"/>
                  <a:pt x="5" y="66"/>
                </a:cubicBezTo>
                <a:cubicBezTo>
                  <a:pt x="0" y="78"/>
                  <a:pt x="11" y="91"/>
                  <a:pt x="17" y="102"/>
                </a:cubicBezTo>
                <a:cubicBezTo>
                  <a:pt x="31" y="127"/>
                  <a:pt x="41" y="158"/>
                  <a:pt x="65" y="174"/>
                </a:cubicBezTo>
                <a:cubicBezTo>
                  <a:pt x="89" y="190"/>
                  <a:pt x="137" y="222"/>
                  <a:pt x="137" y="222"/>
                </a:cubicBezTo>
                <a:cubicBezTo>
                  <a:pt x="158" y="285"/>
                  <a:pt x="201" y="299"/>
                  <a:pt x="257" y="318"/>
                </a:cubicBezTo>
                <a:cubicBezTo>
                  <a:pt x="312" y="300"/>
                  <a:pt x="322" y="297"/>
                  <a:pt x="341" y="354"/>
                </a:cubicBezTo>
                <a:cubicBezTo>
                  <a:pt x="353" y="350"/>
                  <a:pt x="366" y="348"/>
                  <a:pt x="377" y="342"/>
                </a:cubicBezTo>
                <a:cubicBezTo>
                  <a:pt x="390" y="336"/>
                  <a:pt x="399" y="318"/>
                  <a:pt x="413" y="318"/>
                </a:cubicBezTo>
                <a:cubicBezTo>
                  <a:pt x="438" y="318"/>
                  <a:pt x="461" y="334"/>
                  <a:pt x="485" y="342"/>
                </a:cubicBezTo>
                <a:cubicBezTo>
                  <a:pt x="497" y="346"/>
                  <a:pt x="521" y="354"/>
                  <a:pt x="521" y="354"/>
                </a:cubicBezTo>
                <a:cubicBezTo>
                  <a:pt x="537" y="350"/>
                  <a:pt x="554" y="336"/>
                  <a:pt x="569" y="342"/>
                </a:cubicBezTo>
                <a:cubicBezTo>
                  <a:pt x="581" y="347"/>
                  <a:pt x="569" y="373"/>
                  <a:pt x="581" y="378"/>
                </a:cubicBezTo>
                <a:cubicBezTo>
                  <a:pt x="588" y="381"/>
                  <a:pt x="654" y="358"/>
                  <a:pt x="665" y="354"/>
                </a:cubicBezTo>
                <a:cubicBezTo>
                  <a:pt x="771" y="369"/>
                  <a:pt x="770" y="380"/>
                  <a:pt x="881" y="366"/>
                </a:cubicBezTo>
                <a:cubicBezTo>
                  <a:pt x="962" y="339"/>
                  <a:pt x="862" y="366"/>
                  <a:pt x="989" y="366"/>
                </a:cubicBezTo>
                <a:cubicBezTo>
                  <a:pt x="1013" y="366"/>
                  <a:pt x="1037" y="358"/>
                  <a:pt x="1061" y="354"/>
                </a:cubicBezTo>
                <a:cubicBezTo>
                  <a:pt x="1089" y="311"/>
                  <a:pt x="1099" y="318"/>
                  <a:pt x="1061" y="318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952880" y="217800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NI-Helve-Condense"/>
              </a:rPr>
              <a:t>Cuø lao Thôùi Sô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62920" y="198108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NI-Helve-Condense"/>
              </a:rPr>
              <a:t>Thôùi Thaïc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819520" y="283860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NI-Helve-Condense"/>
              </a:rPr>
              <a:t>Coàn Baø Kieà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419720" y="289548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NI-Helve-Condense"/>
              </a:rPr>
              <a:t>Boán Thoâ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286000" y="76212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NI-Helve-Condense"/>
              </a:rPr>
              <a:t>CHÔÏ GIÖÕ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43600" y="25909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VNI-Helve-Condense"/>
              </a:rPr>
              <a:t>S OÂ N G  T I EÀ 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09480" y="4419720"/>
            <a:ext cx="27622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VNI-Helve-Condense"/>
              </a:rPr>
              <a:t> </a:t>
            </a:r>
            <a:r>
              <a:rPr b="1" lang="en-US" sz="1800" spc="-1" strike="noStrike">
                <a:solidFill>
                  <a:srgbClr val="3333ff"/>
                </a:solidFill>
                <a:latin typeface="VNI-Helve-Condense"/>
              </a:rPr>
              <a:t>Quaân Taây</a:t>
            </a:r>
            <a:r>
              <a:rPr b="1" lang="en-US" sz="2800" spc="-1" strike="noStrike">
                <a:solidFill>
                  <a:srgbClr val="ffffff"/>
                </a:solidFill>
                <a:latin typeface="VNI-Helve-Condense"/>
              </a:rPr>
              <a:t> </a:t>
            </a:r>
            <a:r>
              <a:rPr b="1" lang="en-US" sz="1800" spc="-1" strike="noStrike">
                <a:solidFill>
                  <a:srgbClr val="3333ff"/>
                </a:solidFill>
                <a:latin typeface="VNI-Helve-Condense"/>
              </a:rPr>
              <a:t>Sôn mai phuïc</a:t>
            </a:r>
            <a:r>
              <a:rPr b="1" lang="en-US" sz="1600" spc="-1" strike="noStrike">
                <a:solidFill>
                  <a:srgbClr val="3333ff"/>
                </a:solidFill>
                <a:latin typeface="VNI-Helve-Condense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85800" y="41148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VNI-Helve-Condense"/>
              </a:rPr>
              <a:t>Quaân Xieâm tieán coâng</a:t>
            </a:r>
            <a:r>
              <a:rPr b="1" lang="en-US" sz="1600" spc="-1" strike="noStrike">
                <a:solidFill>
                  <a:srgbClr val="3333ff"/>
                </a:solidFill>
                <a:latin typeface="VNI-Helve-Condense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57200" y="55008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VNI-Helve-Condense"/>
              </a:rPr>
              <a:t>Quaân Taây Sôn taán coâ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28600" y="59436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8e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43080" y="5981760"/>
            <a:ext cx="1440" cy="190440"/>
          </a:xfrm>
          <a:custGeom>
            <a:avLst/>
            <a:gdLst/>
            <a:ahLst/>
            <a:rect l="l" t="t" r="r" b="b"/>
            <a:pathLst>
              <a:path w="1" h="120">
                <a:moveTo>
                  <a:pt x="0" y="0"/>
                </a:moveTo>
                <a:cubicBezTo>
                  <a:pt x="0" y="40"/>
                  <a:pt x="0" y="80"/>
                  <a:pt x="0" y="120"/>
                </a:cubicBezTo>
              </a:path>
            </a:pathLst>
          </a:custGeom>
          <a:solidFill>
            <a:srgbClr val="008eee"/>
          </a:solidFill>
          <a:ln w="12600">
            <a:solidFill>
              <a:srgbClr val="00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61800" y="5969160"/>
            <a:ext cx="171720" cy="144360"/>
          </a:xfrm>
          <a:custGeom>
            <a:avLst/>
            <a:gdLst/>
            <a:ahLst/>
            <a:rect l="l" t="t" r="r" b="b"/>
            <a:pathLst>
              <a:path w="108" h="91">
                <a:moveTo>
                  <a:pt x="0" y="7"/>
                </a:moveTo>
                <a:cubicBezTo>
                  <a:pt x="57" y="26"/>
                  <a:pt x="51" y="0"/>
                  <a:pt x="108" y="19"/>
                </a:cubicBezTo>
                <a:cubicBezTo>
                  <a:pt x="27" y="73"/>
                  <a:pt x="56" y="47"/>
                  <a:pt x="12" y="91"/>
                </a:cubicBezTo>
              </a:path>
            </a:pathLst>
          </a:custGeom>
          <a:noFill/>
          <a:ln w="12600">
            <a:solidFill>
              <a:srgbClr val="008e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09480" y="58816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VNI-Helve-Condense"/>
              </a:rPr>
              <a:t>Ñaïi baûn doanh cuûa Taây Sô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962520" y="39625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-360" y="6248520"/>
            <a:ext cx="3962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85800" y="48769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VNI-Helve-Condense"/>
              </a:rPr>
              <a:t>Quaân Taây Sôn nhöû ñòch vaøo traän ñò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495760" y="369720"/>
            <a:ext cx="584280" cy="1204920"/>
          </a:xfrm>
          <a:custGeom>
            <a:avLst/>
            <a:gdLst/>
            <a:ahLst/>
            <a:rect l="l" t="t" r="r" b="b"/>
            <a:pathLst>
              <a:path w="368" h="759">
                <a:moveTo>
                  <a:pt x="266" y="7"/>
                </a:moveTo>
                <a:cubicBezTo>
                  <a:pt x="179" y="12"/>
                  <a:pt x="149" y="0"/>
                  <a:pt x="90" y="39"/>
                </a:cubicBezTo>
                <a:cubicBezTo>
                  <a:pt x="85" y="47"/>
                  <a:pt x="74" y="53"/>
                  <a:pt x="74" y="63"/>
                </a:cubicBezTo>
                <a:cubicBezTo>
                  <a:pt x="74" y="80"/>
                  <a:pt x="90" y="111"/>
                  <a:pt x="90" y="111"/>
                </a:cubicBezTo>
                <a:cubicBezTo>
                  <a:pt x="75" y="184"/>
                  <a:pt x="41" y="302"/>
                  <a:pt x="114" y="351"/>
                </a:cubicBezTo>
                <a:cubicBezTo>
                  <a:pt x="129" y="396"/>
                  <a:pt x="188" y="429"/>
                  <a:pt x="226" y="455"/>
                </a:cubicBezTo>
                <a:cubicBezTo>
                  <a:pt x="242" y="466"/>
                  <a:pt x="274" y="487"/>
                  <a:pt x="274" y="487"/>
                </a:cubicBezTo>
                <a:cubicBezTo>
                  <a:pt x="310" y="541"/>
                  <a:pt x="296" y="585"/>
                  <a:pt x="322" y="631"/>
                </a:cubicBezTo>
                <a:cubicBezTo>
                  <a:pt x="368" y="714"/>
                  <a:pt x="344" y="649"/>
                  <a:pt x="362" y="703"/>
                </a:cubicBezTo>
                <a:cubicBezTo>
                  <a:pt x="359" y="714"/>
                  <a:pt x="363" y="729"/>
                  <a:pt x="354" y="735"/>
                </a:cubicBezTo>
                <a:cubicBezTo>
                  <a:pt x="329" y="752"/>
                  <a:pt x="295" y="749"/>
                  <a:pt x="266" y="759"/>
                </a:cubicBezTo>
                <a:cubicBezTo>
                  <a:pt x="190" y="721"/>
                  <a:pt x="221" y="741"/>
                  <a:pt x="170" y="703"/>
                </a:cubicBezTo>
                <a:cubicBezTo>
                  <a:pt x="186" y="692"/>
                  <a:pt x="227" y="688"/>
                  <a:pt x="218" y="671"/>
                </a:cubicBezTo>
                <a:cubicBezTo>
                  <a:pt x="189" y="612"/>
                  <a:pt x="158" y="557"/>
                  <a:pt x="122" y="503"/>
                </a:cubicBezTo>
                <a:cubicBezTo>
                  <a:pt x="115" y="493"/>
                  <a:pt x="114" y="479"/>
                  <a:pt x="106" y="471"/>
                </a:cubicBezTo>
                <a:cubicBezTo>
                  <a:pt x="92" y="457"/>
                  <a:pt x="58" y="439"/>
                  <a:pt x="58" y="439"/>
                </a:cubicBezTo>
                <a:cubicBezTo>
                  <a:pt x="53" y="428"/>
                  <a:pt x="50" y="415"/>
                  <a:pt x="42" y="407"/>
                </a:cubicBezTo>
                <a:cubicBezTo>
                  <a:pt x="34" y="399"/>
                  <a:pt x="12" y="403"/>
                  <a:pt x="10" y="391"/>
                </a:cubicBezTo>
                <a:cubicBezTo>
                  <a:pt x="0" y="329"/>
                  <a:pt x="15" y="265"/>
                  <a:pt x="34" y="207"/>
                </a:cubicBezTo>
                <a:cubicBezTo>
                  <a:pt x="29" y="194"/>
                  <a:pt x="24" y="180"/>
                  <a:pt x="18" y="167"/>
                </a:cubicBezTo>
                <a:cubicBezTo>
                  <a:pt x="14" y="158"/>
                  <a:pt x="2" y="153"/>
                  <a:pt x="2" y="143"/>
                </a:cubicBezTo>
                <a:cubicBezTo>
                  <a:pt x="2" y="132"/>
                  <a:pt x="37" y="100"/>
                  <a:pt x="42" y="95"/>
                </a:cubicBezTo>
                <a:cubicBezTo>
                  <a:pt x="54" y="59"/>
                  <a:pt x="56" y="33"/>
                  <a:pt x="82" y="7"/>
                </a:cubicBezTo>
              </a:path>
            </a:pathLst>
          </a:custGeom>
          <a:solidFill>
            <a:srgbClr val="00ccff"/>
          </a:solidFill>
          <a:ln w="12600">
            <a:solidFill>
              <a:srgbClr val="00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1181520" y="1118160"/>
            <a:ext cx="4678200" cy="2304000"/>
            <a:chOff x="1181520" y="1118160"/>
            <a:chExt cx="4678200" cy="2304000"/>
          </a:xfrm>
        </p:grpSpPr>
        <p:sp>
          <p:nvSpPr>
            <p:cNvPr id="505" name=""/>
            <p:cNvSpPr/>
            <p:nvPr/>
          </p:nvSpPr>
          <p:spPr>
            <a:xfrm rot="226800">
              <a:off x="2892240" y="2652480"/>
              <a:ext cx="761760" cy="304560"/>
            </a:xfrm>
            <a:custGeom>
              <a:avLst/>
              <a:gdLst/>
              <a:ahLst/>
              <a:rect l="l" t="t" r="r" b="b"/>
              <a:pathLst>
                <a:path w="2371" h="1018">
                  <a:moveTo>
                    <a:pt x="157" y="895"/>
                  </a:moveTo>
                  <a:lnTo>
                    <a:pt x="455" y="696"/>
                  </a:lnTo>
                  <a:lnTo>
                    <a:pt x="710" y="603"/>
                  </a:lnTo>
                  <a:lnTo>
                    <a:pt x="924" y="589"/>
                  </a:lnTo>
                  <a:lnTo>
                    <a:pt x="1152" y="576"/>
                  </a:lnTo>
                  <a:lnTo>
                    <a:pt x="1379" y="589"/>
                  </a:lnTo>
                  <a:lnTo>
                    <a:pt x="1687" y="683"/>
                  </a:lnTo>
                  <a:lnTo>
                    <a:pt x="1942" y="790"/>
                  </a:lnTo>
                  <a:lnTo>
                    <a:pt x="2263" y="1018"/>
                  </a:lnTo>
                  <a:lnTo>
                    <a:pt x="2344" y="777"/>
                  </a:lnTo>
                  <a:lnTo>
                    <a:pt x="2156" y="696"/>
                  </a:lnTo>
                  <a:lnTo>
                    <a:pt x="2183" y="616"/>
                  </a:lnTo>
                  <a:lnTo>
                    <a:pt x="2371" y="683"/>
                  </a:lnTo>
                  <a:lnTo>
                    <a:pt x="2143" y="308"/>
                  </a:lnTo>
                  <a:lnTo>
                    <a:pt x="1728" y="335"/>
                  </a:lnTo>
                  <a:lnTo>
                    <a:pt x="1929" y="428"/>
                  </a:lnTo>
                  <a:lnTo>
                    <a:pt x="1888" y="536"/>
                  </a:lnTo>
                  <a:lnTo>
                    <a:pt x="1754" y="482"/>
                  </a:lnTo>
                  <a:lnTo>
                    <a:pt x="1594" y="428"/>
                  </a:lnTo>
                  <a:lnTo>
                    <a:pt x="1379" y="388"/>
                  </a:lnTo>
                  <a:lnTo>
                    <a:pt x="1366" y="268"/>
                  </a:lnTo>
                  <a:lnTo>
                    <a:pt x="1580" y="281"/>
                  </a:lnTo>
                  <a:lnTo>
                    <a:pt x="1178" y="0"/>
                  </a:lnTo>
                  <a:lnTo>
                    <a:pt x="857" y="227"/>
                  </a:lnTo>
                  <a:lnTo>
                    <a:pt x="1058" y="241"/>
                  </a:lnTo>
                  <a:lnTo>
                    <a:pt x="1058" y="361"/>
                  </a:lnTo>
                  <a:lnTo>
                    <a:pt x="750" y="388"/>
                  </a:lnTo>
                  <a:lnTo>
                    <a:pt x="562" y="455"/>
                  </a:lnTo>
                  <a:lnTo>
                    <a:pt x="495" y="348"/>
                  </a:lnTo>
                  <a:lnTo>
                    <a:pt x="750" y="268"/>
                  </a:lnTo>
                  <a:lnTo>
                    <a:pt x="281" y="147"/>
                  </a:lnTo>
                  <a:lnTo>
                    <a:pt x="0" y="536"/>
                  </a:lnTo>
                  <a:lnTo>
                    <a:pt x="254" y="455"/>
                  </a:lnTo>
                  <a:lnTo>
                    <a:pt x="294" y="562"/>
                  </a:lnTo>
                  <a:lnTo>
                    <a:pt x="134" y="616"/>
                  </a:lnTo>
                  <a:lnTo>
                    <a:pt x="0" y="696"/>
                  </a:lnTo>
                  <a:lnTo>
                    <a:pt x="120" y="924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06" name=""/>
            <p:cNvGrpSpPr/>
            <p:nvPr/>
          </p:nvGrpSpPr>
          <p:grpSpPr>
            <a:xfrm>
              <a:off x="1181520" y="1118160"/>
              <a:ext cx="4678200" cy="2304000"/>
              <a:chOff x="1181520" y="1118160"/>
              <a:chExt cx="4678200" cy="2304000"/>
            </a:xfrm>
          </p:grpSpPr>
          <p:sp>
            <p:nvSpPr>
              <p:cNvPr id="507" name=""/>
              <p:cNvSpPr/>
              <p:nvPr/>
            </p:nvSpPr>
            <p:spPr>
              <a:xfrm rot="20970600">
                <a:off x="1206000" y="2989080"/>
                <a:ext cx="685800" cy="334800"/>
              </a:xfrm>
              <a:custGeom>
                <a:avLst/>
                <a:gdLst/>
                <a:ahLst/>
                <a:rect l="l" t="t" r="r" b="b"/>
                <a:pathLst>
                  <a:path w="2371" h="1018">
                    <a:moveTo>
                      <a:pt x="157" y="895"/>
                    </a:moveTo>
                    <a:lnTo>
                      <a:pt x="455" y="696"/>
                    </a:lnTo>
                    <a:lnTo>
                      <a:pt x="710" y="603"/>
                    </a:lnTo>
                    <a:lnTo>
                      <a:pt x="924" y="589"/>
                    </a:lnTo>
                    <a:lnTo>
                      <a:pt x="1152" y="576"/>
                    </a:lnTo>
                    <a:lnTo>
                      <a:pt x="1379" y="589"/>
                    </a:lnTo>
                    <a:lnTo>
                      <a:pt x="1687" y="683"/>
                    </a:lnTo>
                    <a:lnTo>
                      <a:pt x="1942" y="790"/>
                    </a:lnTo>
                    <a:lnTo>
                      <a:pt x="2263" y="1018"/>
                    </a:lnTo>
                    <a:lnTo>
                      <a:pt x="2344" y="777"/>
                    </a:lnTo>
                    <a:lnTo>
                      <a:pt x="2156" y="696"/>
                    </a:lnTo>
                    <a:lnTo>
                      <a:pt x="2183" y="616"/>
                    </a:lnTo>
                    <a:lnTo>
                      <a:pt x="2371" y="683"/>
                    </a:lnTo>
                    <a:lnTo>
                      <a:pt x="2143" y="308"/>
                    </a:lnTo>
                    <a:lnTo>
                      <a:pt x="1728" y="335"/>
                    </a:lnTo>
                    <a:lnTo>
                      <a:pt x="1929" y="428"/>
                    </a:lnTo>
                    <a:lnTo>
                      <a:pt x="1888" y="536"/>
                    </a:lnTo>
                    <a:lnTo>
                      <a:pt x="1754" y="482"/>
                    </a:lnTo>
                    <a:lnTo>
                      <a:pt x="1594" y="428"/>
                    </a:lnTo>
                    <a:lnTo>
                      <a:pt x="1379" y="388"/>
                    </a:lnTo>
                    <a:lnTo>
                      <a:pt x="1366" y="268"/>
                    </a:lnTo>
                    <a:lnTo>
                      <a:pt x="1580" y="281"/>
                    </a:lnTo>
                    <a:lnTo>
                      <a:pt x="1178" y="0"/>
                    </a:lnTo>
                    <a:lnTo>
                      <a:pt x="857" y="227"/>
                    </a:lnTo>
                    <a:lnTo>
                      <a:pt x="1058" y="241"/>
                    </a:lnTo>
                    <a:lnTo>
                      <a:pt x="1058" y="361"/>
                    </a:lnTo>
                    <a:lnTo>
                      <a:pt x="750" y="388"/>
                    </a:lnTo>
                    <a:lnTo>
                      <a:pt x="562" y="455"/>
                    </a:lnTo>
                    <a:lnTo>
                      <a:pt x="495" y="348"/>
                    </a:lnTo>
                    <a:lnTo>
                      <a:pt x="750" y="268"/>
                    </a:lnTo>
                    <a:lnTo>
                      <a:pt x="281" y="147"/>
                    </a:lnTo>
                    <a:lnTo>
                      <a:pt x="0" y="536"/>
                    </a:lnTo>
                    <a:lnTo>
                      <a:pt x="254" y="455"/>
                    </a:lnTo>
                    <a:lnTo>
                      <a:pt x="294" y="562"/>
                    </a:lnTo>
                    <a:lnTo>
                      <a:pt x="134" y="616"/>
                    </a:lnTo>
                    <a:lnTo>
                      <a:pt x="0" y="696"/>
                    </a:lnTo>
                    <a:lnTo>
                      <a:pt x="120" y="924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rot="583200">
                <a:off x="2118960" y="3047760"/>
                <a:ext cx="682560" cy="318960"/>
              </a:xfrm>
              <a:custGeom>
                <a:avLst/>
                <a:gdLst/>
                <a:ahLst/>
                <a:rect l="l" t="t" r="r" b="b"/>
                <a:pathLst>
                  <a:path w="2371" h="1018">
                    <a:moveTo>
                      <a:pt x="157" y="895"/>
                    </a:moveTo>
                    <a:lnTo>
                      <a:pt x="455" y="696"/>
                    </a:lnTo>
                    <a:lnTo>
                      <a:pt x="710" y="603"/>
                    </a:lnTo>
                    <a:lnTo>
                      <a:pt x="924" y="589"/>
                    </a:lnTo>
                    <a:lnTo>
                      <a:pt x="1152" y="576"/>
                    </a:lnTo>
                    <a:lnTo>
                      <a:pt x="1379" y="589"/>
                    </a:lnTo>
                    <a:lnTo>
                      <a:pt x="1687" y="683"/>
                    </a:lnTo>
                    <a:lnTo>
                      <a:pt x="1942" y="790"/>
                    </a:lnTo>
                    <a:lnTo>
                      <a:pt x="2263" y="1018"/>
                    </a:lnTo>
                    <a:lnTo>
                      <a:pt x="2344" y="777"/>
                    </a:lnTo>
                    <a:lnTo>
                      <a:pt x="2156" y="696"/>
                    </a:lnTo>
                    <a:lnTo>
                      <a:pt x="2183" y="616"/>
                    </a:lnTo>
                    <a:lnTo>
                      <a:pt x="2371" y="683"/>
                    </a:lnTo>
                    <a:lnTo>
                      <a:pt x="2143" y="308"/>
                    </a:lnTo>
                    <a:lnTo>
                      <a:pt x="1728" y="335"/>
                    </a:lnTo>
                    <a:lnTo>
                      <a:pt x="1929" y="428"/>
                    </a:lnTo>
                    <a:lnTo>
                      <a:pt x="1888" y="536"/>
                    </a:lnTo>
                    <a:lnTo>
                      <a:pt x="1754" y="482"/>
                    </a:lnTo>
                    <a:lnTo>
                      <a:pt x="1594" y="428"/>
                    </a:lnTo>
                    <a:lnTo>
                      <a:pt x="1379" y="388"/>
                    </a:lnTo>
                    <a:lnTo>
                      <a:pt x="1366" y="268"/>
                    </a:lnTo>
                    <a:lnTo>
                      <a:pt x="1580" y="281"/>
                    </a:lnTo>
                    <a:lnTo>
                      <a:pt x="1178" y="0"/>
                    </a:lnTo>
                    <a:lnTo>
                      <a:pt x="857" y="227"/>
                    </a:lnTo>
                    <a:lnTo>
                      <a:pt x="1058" y="241"/>
                    </a:lnTo>
                    <a:lnTo>
                      <a:pt x="1058" y="361"/>
                    </a:lnTo>
                    <a:lnTo>
                      <a:pt x="750" y="388"/>
                    </a:lnTo>
                    <a:lnTo>
                      <a:pt x="562" y="455"/>
                    </a:lnTo>
                    <a:lnTo>
                      <a:pt x="495" y="348"/>
                    </a:lnTo>
                    <a:lnTo>
                      <a:pt x="750" y="268"/>
                    </a:lnTo>
                    <a:lnTo>
                      <a:pt x="281" y="147"/>
                    </a:lnTo>
                    <a:lnTo>
                      <a:pt x="0" y="536"/>
                    </a:lnTo>
                    <a:lnTo>
                      <a:pt x="254" y="455"/>
                    </a:lnTo>
                    <a:lnTo>
                      <a:pt x="294" y="562"/>
                    </a:lnTo>
                    <a:lnTo>
                      <a:pt x="134" y="616"/>
                    </a:lnTo>
                    <a:lnTo>
                      <a:pt x="0" y="696"/>
                    </a:lnTo>
                    <a:lnTo>
                      <a:pt x="120" y="924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rot="20692200">
                <a:off x="5067000" y="1917360"/>
                <a:ext cx="762120" cy="334800"/>
              </a:xfrm>
              <a:custGeom>
                <a:avLst/>
                <a:gdLst/>
                <a:ahLst/>
                <a:rect l="l" t="t" r="r" b="b"/>
                <a:pathLst>
                  <a:path w="2371" h="1018">
                    <a:moveTo>
                      <a:pt x="157" y="895"/>
                    </a:moveTo>
                    <a:lnTo>
                      <a:pt x="455" y="696"/>
                    </a:lnTo>
                    <a:lnTo>
                      <a:pt x="710" y="603"/>
                    </a:lnTo>
                    <a:lnTo>
                      <a:pt x="924" y="589"/>
                    </a:lnTo>
                    <a:lnTo>
                      <a:pt x="1152" y="576"/>
                    </a:lnTo>
                    <a:lnTo>
                      <a:pt x="1379" y="589"/>
                    </a:lnTo>
                    <a:lnTo>
                      <a:pt x="1687" y="683"/>
                    </a:lnTo>
                    <a:lnTo>
                      <a:pt x="1942" y="790"/>
                    </a:lnTo>
                    <a:lnTo>
                      <a:pt x="2263" y="1018"/>
                    </a:lnTo>
                    <a:lnTo>
                      <a:pt x="2344" y="777"/>
                    </a:lnTo>
                    <a:lnTo>
                      <a:pt x="2156" y="696"/>
                    </a:lnTo>
                    <a:lnTo>
                      <a:pt x="2183" y="616"/>
                    </a:lnTo>
                    <a:lnTo>
                      <a:pt x="2371" y="683"/>
                    </a:lnTo>
                    <a:lnTo>
                      <a:pt x="2143" y="308"/>
                    </a:lnTo>
                    <a:lnTo>
                      <a:pt x="1728" y="335"/>
                    </a:lnTo>
                    <a:lnTo>
                      <a:pt x="1929" y="428"/>
                    </a:lnTo>
                    <a:lnTo>
                      <a:pt x="1888" y="536"/>
                    </a:lnTo>
                    <a:lnTo>
                      <a:pt x="1754" y="482"/>
                    </a:lnTo>
                    <a:lnTo>
                      <a:pt x="1594" y="428"/>
                    </a:lnTo>
                    <a:lnTo>
                      <a:pt x="1379" y="388"/>
                    </a:lnTo>
                    <a:lnTo>
                      <a:pt x="1366" y="268"/>
                    </a:lnTo>
                    <a:lnTo>
                      <a:pt x="1580" y="281"/>
                    </a:lnTo>
                    <a:lnTo>
                      <a:pt x="1178" y="0"/>
                    </a:lnTo>
                    <a:lnTo>
                      <a:pt x="857" y="227"/>
                    </a:lnTo>
                    <a:lnTo>
                      <a:pt x="1058" y="241"/>
                    </a:lnTo>
                    <a:lnTo>
                      <a:pt x="1058" y="361"/>
                    </a:lnTo>
                    <a:lnTo>
                      <a:pt x="750" y="388"/>
                    </a:lnTo>
                    <a:lnTo>
                      <a:pt x="562" y="455"/>
                    </a:lnTo>
                    <a:lnTo>
                      <a:pt x="495" y="348"/>
                    </a:lnTo>
                    <a:lnTo>
                      <a:pt x="750" y="268"/>
                    </a:lnTo>
                    <a:lnTo>
                      <a:pt x="281" y="147"/>
                    </a:lnTo>
                    <a:lnTo>
                      <a:pt x="0" y="536"/>
                    </a:lnTo>
                    <a:lnTo>
                      <a:pt x="254" y="455"/>
                    </a:lnTo>
                    <a:lnTo>
                      <a:pt x="294" y="562"/>
                    </a:lnTo>
                    <a:lnTo>
                      <a:pt x="134" y="616"/>
                    </a:lnTo>
                    <a:lnTo>
                      <a:pt x="0" y="696"/>
                    </a:lnTo>
                    <a:lnTo>
                      <a:pt x="120" y="924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rot="10422000">
                <a:off x="4765320" y="1157040"/>
                <a:ext cx="725400" cy="314280"/>
              </a:xfrm>
              <a:custGeom>
                <a:avLst/>
                <a:gdLst/>
                <a:ahLst/>
                <a:rect l="l" t="t" r="r" b="b"/>
                <a:pathLst>
                  <a:path w="2371" h="1018">
                    <a:moveTo>
                      <a:pt x="157" y="895"/>
                    </a:moveTo>
                    <a:lnTo>
                      <a:pt x="455" y="696"/>
                    </a:lnTo>
                    <a:lnTo>
                      <a:pt x="710" y="603"/>
                    </a:lnTo>
                    <a:lnTo>
                      <a:pt x="924" y="589"/>
                    </a:lnTo>
                    <a:lnTo>
                      <a:pt x="1152" y="576"/>
                    </a:lnTo>
                    <a:lnTo>
                      <a:pt x="1379" y="589"/>
                    </a:lnTo>
                    <a:lnTo>
                      <a:pt x="1687" y="683"/>
                    </a:lnTo>
                    <a:lnTo>
                      <a:pt x="1942" y="790"/>
                    </a:lnTo>
                    <a:lnTo>
                      <a:pt x="2263" y="1018"/>
                    </a:lnTo>
                    <a:lnTo>
                      <a:pt x="2344" y="777"/>
                    </a:lnTo>
                    <a:lnTo>
                      <a:pt x="2156" y="696"/>
                    </a:lnTo>
                    <a:lnTo>
                      <a:pt x="2183" y="616"/>
                    </a:lnTo>
                    <a:lnTo>
                      <a:pt x="2371" y="683"/>
                    </a:lnTo>
                    <a:lnTo>
                      <a:pt x="2143" y="308"/>
                    </a:lnTo>
                    <a:lnTo>
                      <a:pt x="1728" y="335"/>
                    </a:lnTo>
                    <a:lnTo>
                      <a:pt x="1929" y="428"/>
                    </a:lnTo>
                    <a:lnTo>
                      <a:pt x="1888" y="536"/>
                    </a:lnTo>
                    <a:lnTo>
                      <a:pt x="1754" y="482"/>
                    </a:lnTo>
                    <a:lnTo>
                      <a:pt x="1594" y="428"/>
                    </a:lnTo>
                    <a:lnTo>
                      <a:pt x="1379" y="388"/>
                    </a:lnTo>
                    <a:lnTo>
                      <a:pt x="1366" y="268"/>
                    </a:lnTo>
                    <a:lnTo>
                      <a:pt x="1580" y="281"/>
                    </a:lnTo>
                    <a:lnTo>
                      <a:pt x="1178" y="0"/>
                    </a:lnTo>
                    <a:lnTo>
                      <a:pt x="857" y="227"/>
                    </a:lnTo>
                    <a:lnTo>
                      <a:pt x="1058" y="241"/>
                    </a:lnTo>
                    <a:lnTo>
                      <a:pt x="1058" y="361"/>
                    </a:lnTo>
                    <a:lnTo>
                      <a:pt x="750" y="388"/>
                    </a:lnTo>
                    <a:lnTo>
                      <a:pt x="562" y="455"/>
                    </a:lnTo>
                    <a:lnTo>
                      <a:pt x="495" y="348"/>
                    </a:lnTo>
                    <a:lnTo>
                      <a:pt x="750" y="268"/>
                    </a:lnTo>
                    <a:lnTo>
                      <a:pt x="281" y="147"/>
                    </a:lnTo>
                    <a:lnTo>
                      <a:pt x="0" y="536"/>
                    </a:lnTo>
                    <a:lnTo>
                      <a:pt x="254" y="455"/>
                    </a:lnTo>
                    <a:lnTo>
                      <a:pt x="294" y="562"/>
                    </a:lnTo>
                    <a:lnTo>
                      <a:pt x="134" y="616"/>
                    </a:lnTo>
                    <a:lnTo>
                      <a:pt x="0" y="696"/>
                    </a:lnTo>
                    <a:lnTo>
                      <a:pt x="120" y="924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rot="9640200">
                <a:off x="2352240" y="1784520"/>
                <a:ext cx="828720" cy="334800"/>
              </a:xfrm>
              <a:custGeom>
                <a:avLst/>
                <a:gdLst/>
                <a:ahLst/>
                <a:rect l="l" t="t" r="r" b="b"/>
                <a:pathLst>
                  <a:path w="2371" h="1018">
                    <a:moveTo>
                      <a:pt x="157" y="895"/>
                    </a:moveTo>
                    <a:lnTo>
                      <a:pt x="455" y="696"/>
                    </a:lnTo>
                    <a:lnTo>
                      <a:pt x="710" y="603"/>
                    </a:lnTo>
                    <a:lnTo>
                      <a:pt x="924" y="589"/>
                    </a:lnTo>
                    <a:lnTo>
                      <a:pt x="1152" y="576"/>
                    </a:lnTo>
                    <a:lnTo>
                      <a:pt x="1379" y="589"/>
                    </a:lnTo>
                    <a:lnTo>
                      <a:pt x="1687" y="683"/>
                    </a:lnTo>
                    <a:lnTo>
                      <a:pt x="1942" y="790"/>
                    </a:lnTo>
                    <a:lnTo>
                      <a:pt x="2263" y="1018"/>
                    </a:lnTo>
                    <a:lnTo>
                      <a:pt x="2344" y="777"/>
                    </a:lnTo>
                    <a:lnTo>
                      <a:pt x="2156" y="696"/>
                    </a:lnTo>
                    <a:lnTo>
                      <a:pt x="2183" y="616"/>
                    </a:lnTo>
                    <a:lnTo>
                      <a:pt x="2371" y="683"/>
                    </a:lnTo>
                    <a:lnTo>
                      <a:pt x="2143" y="308"/>
                    </a:lnTo>
                    <a:lnTo>
                      <a:pt x="1728" y="335"/>
                    </a:lnTo>
                    <a:lnTo>
                      <a:pt x="1929" y="428"/>
                    </a:lnTo>
                    <a:lnTo>
                      <a:pt x="1888" y="536"/>
                    </a:lnTo>
                    <a:lnTo>
                      <a:pt x="1754" y="482"/>
                    </a:lnTo>
                    <a:lnTo>
                      <a:pt x="1594" y="428"/>
                    </a:lnTo>
                    <a:lnTo>
                      <a:pt x="1379" y="388"/>
                    </a:lnTo>
                    <a:lnTo>
                      <a:pt x="1366" y="268"/>
                    </a:lnTo>
                    <a:lnTo>
                      <a:pt x="1580" y="281"/>
                    </a:lnTo>
                    <a:lnTo>
                      <a:pt x="1178" y="0"/>
                    </a:lnTo>
                    <a:lnTo>
                      <a:pt x="857" y="227"/>
                    </a:lnTo>
                    <a:lnTo>
                      <a:pt x="1058" y="241"/>
                    </a:lnTo>
                    <a:lnTo>
                      <a:pt x="1058" y="361"/>
                    </a:lnTo>
                    <a:lnTo>
                      <a:pt x="750" y="388"/>
                    </a:lnTo>
                    <a:lnTo>
                      <a:pt x="562" y="455"/>
                    </a:lnTo>
                    <a:lnTo>
                      <a:pt x="495" y="348"/>
                    </a:lnTo>
                    <a:lnTo>
                      <a:pt x="750" y="268"/>
                    </a:lnTo>
                    <a:lnTo>
                      <a:pt x="281" y="147"/>
                    </a:lnTo>
                    <a:lnTo>
                      <a:pt x="0" y="536"/>
                    </a:lnTo>
                    <a:lnTo>
                      <a:pt x="254" y="455"/>
                    </a:lnTo>
                    <a:lnTo>
                      <a:pt x="294" y="562"/>
                    </a:lnTo>
                    <a:lnTo>
                      <a:pt x="134" y="616"/>
                    </a:lnTo>
                    <a:lnTo>
                      <a:pt x="0" y="696"/>
                    </a:lnTo>
                    <a:lnTo>
                      <a:pt x="120" y="924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rot="8961600">
                <a:off x="3371400" y="1397160"/>
                <a:ext cx="879480" cy="334800"/>
              </a:xfrm>
              <a:custGeom>
                <a:avLst/>
                <a:gdLst/>
                <a:ahLst/>
                <a:rect l="l" t="t" r="r" b="b"/>
                <a:pathLst>
                  <a:path w="2371" h="1018">
                    <a:moveTo>
                      <a:pt x="157" y="895"/>
                    </a:moveTo>
                    <a:lnTo>
                      <a:pt x="455" y="696"/>
                    </a:lnTo>
                    <a:lnTo>
                      <a:pt x="710" y="603"/>
                    </a:lnTo>
                    <a:lnTo>
                      <a:pt x="924" y="589"/>
                    </a:lnTo>
                    <a:lnTo>
                      <a:pt x="1152" y="576"/>
                    </a:lnTo>
                    <a:lnTo>
                      <a:pt x="1379" y="589"/>
                    </a:lnTo>
                    <a:lnTo>
                      <a:pt x="1687" y="683"/>
                    </a:lnTo>
                    <a:lnTo>
                      <a:pt x="1942" y="790"/>
                    </a:lnTo>
                    <a:lnTo>
                      <a:pt x="2263" y="1018"/>
                    </a:lnTo>
                    <a:lnTo>
                      <a:pt x="2344" y="777"/>
                    </a:lnTo>
                    <a:lnTo>
                      <a:pt x="2156" y="696"/>
                    </a:lnTo>
                    <a:lnTo>
                      <a:pt x="2183" y="616"/>
                    </a:lnTo>
                    <a:lnTo>
                      <a:pt x="2371" y="683"/>
                    </a:lnTo>
                    <a:lnTo>
                      <a:pt x="2143" y="308"/>
                    </a:lnTo>
                    <a:lnTo>
                      <a:pt x="1728" y="335"/>
                    </a:lnTo>
                    <a:lnTo>
                      <a:pt x="1929" y="428"/>
                    </a:lnTo>
                    <a:lnTo>
                      <a:pt x="1888" y="536"/>
                    </a:lnTo>
                    <a:lnTo>
                      <a:pt x="1754" y="482"/>
                    </a:lnTo>
                    <a:lnTo>
                      <a:pt x="1594" y="428"/>
                    </a:lnTo>
                    <a:lnTo>
                      <a:pt x="1379" y="388"/>
                    </a:lnTo>
                    <a:lnTo>
                      <a:pt x="1366" y="268"/>
                    </a:lnTo>
                    <a:lnTo>
                      <a:pt x="1580" y="281"/>
                    </a:lnTo>
                    <a:lnTo>
                      <a:pt x="1178" y="0"/>
                    </a:lnTo>
                    <a:lnTo>
                      <a:pt x="857" y="227"/>
                    </a:lnTo>
                    <a:lnTo>
                      <a:pt x="1058" y="241"/>
                    </a:lnTo>
                    <a:lnTo>
                      <a:pt x="1058" y="361"/>
                    </a:lnTo>
                    <a:lnTo>
                      <a:pt x="750" y="388"/>
                    </a:lnTo>
                    <a:lnTo>
                      <a:pt x="562" y="455"/>
                    </a:lnTo>
                    <a:lnTo>
                      <a:pt x="495" y="348"/>
                    </a:lnTo>
                    <a:lnTo>
                      <a:pt x="750" y="268"/>
                    </a:lnTo>
                    <a:lnTo>
                      <a:pt x="281" y="147"/>
                    </a:lnTo>
                    <a:lnTo>
                      <a:pt x="0" y="536"/>
                    </a:lnTo>
                    <a:lnTo>
                      <a:pt x="254" y="455"/>
                    </a:lnTo>
                    <a:lnTo>
                      <a:pt x="294" y="562"/>
                    </a:lnTo>
                    <a:lnTo>
                      <a:pt x="134" y="616"/>
                    </a:lnTo>
                    <a:lnTo>
                      <a:pt x="0" y="696"/>
                    </a:lnTo>
                    <a:lnTo>
                      <a:pt x="120" y="924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3" name=""/>
          <p:cNvSpPr/>
          <p:nvPr/>
        </p:nvSpPr>
        <p:spPr>
          <a:xfrm rot="10800000">
            <a:off x="101520" y="4939920"/>
            <a:ext cx="609840" cy="152280"/>
          </a:xfrm>
          <a:custGeom>
            <a:avLst/>
            <a:gdLst/>
            <a:ahLst/>
            <a:rect l="l" t="t" r="r" b="b"/>
            <a:pathLst>
              <a:path w="5052" h="1071">
                <a:moveTo>
                  <a:pt x="665" y="722"/>
                </a:moveTo>
                <a:lnTo>
                  <a:pt x="777" y="503"/>
                </a:lnTo>
                <a:lnTo>
                  <a:pt x="2692" y="612"/>
                </a:lnTo>
                <a:lnTo>
                  <a:pt x="3386" y="810"/>
                </a:lnTo>
                <a:lnTo>
                  <a:pt x="4331" y="1071"/>
                </a:lnTo>
                <a:lnTo>
                  <a:pt x="3871" y="509"/>
                </a:lnTo>
                <a:lnTo>
                  <a:pt x="5052" y="263"/>
                </a:lnTo>
                <a:lnTo>
                  <a:pt x="3442" y="109"/>
                </a:lnTo>
                <a:lnTo>
                  <a:pt x="2692" y="88"/>
                </a:lnTo>
                <a:lnTo>
                  <a:pt x="860" y="263"/>
                </a:lnTo>
                <a:lnTo>
                  <a:pt x="638" y="0"/>
                </a:lnTo>
                <a:lnTo>
                  <a:pt x="0" y="438"/>
                </a:lnTo>
                <a:lnTo>
                  <a:pt x="638" y="70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279720" y="1613160"/>
            <a:ext cx="8030520" cy="1504440"/>
            <a:chOff x="279720" y="1613160"/>
            <a:chExt cx="8030520" cy="1504440"/>
          </a:xfrm>
        </p:grpSpPr>
        <p:grpSp>
          <p:nvGrpSpPr>
            <p:cNvPr id="515" name=""/>
            <p:cNvGrpSpPr/>
            <p:nvPr/>
          </p:nvGrpSpPr>
          <p:grpSpPr>
            <a:xfrm>
              <a:off x="6002640" y="1613160"/>
              <a:ext cx="2307600" cy="385200"/>
              <a:chOff x="6002640" y="1613160"/>
              <a:chExt cx="2307600" cy="385200"/>
            </a:xfrm>
          </p:grpSpPr>
          <p:sp>
            <p:nvSpPr>
              <p:cNvPr id="516" name=""/>
              <p:cNvSpPr/>
              <p:nvPr/>
            </p:nvSpPr>
            <p:spPr>
              <a:xfrm rot="21372600">
                <a:off x="7035480" y="1654560"/>
                <a:ext cx="1266840" cy="274680"/>
              </a:xfrm>
              <a:custGeom>
                <a:avLst/>
                <a:gdLst/>
                <a:ahLst/>
                <a:rect l="l" t="t" r="r" b="b"/>
                <a:pathLst>
                  <a:path w="5052" h="1071">
                    <a:moveTo>
                      <a:pt x="665" y="722"/>
                    </a:moveTo>
                    <a:lnTo>
                      <a:pt x="777" y="503"/>
                    </a:lnTo>
                    <a:lnTo>
                      <a:pt x="2692" y="612"/>
                    </a:lnTo>
                    <a:lnTo>
                      <a:pt x="3386" y="810"/>
                    </a:lnTo>
                    <a:lnTo>
                      <a:pt x="4331" y="1071"/>
                    </a:lnTo>
                    <a:lnTo>
                      <a:pt x="3871" y="509"/>
                    </a:lnTo>
                    <a:lnTo>
                      <a:pt x="5052" y="263"/>
                    </a:lnTo>
                    <a:lnTo>
                      <a:pt x="3442" y="109"/>
                    </a:lnTo>
                    <a:lnTo>
                      <a:pt x="2692" y="88"/>
                    </a:lnTo>
                    <a:lnTo>
                      <a:pt x="860" y="263"/>
                    </a:lnTo>
                    <a:lnTo>
                      <a:pt x="638" y="0"/>
                    </a:lnTo>
                    <a:lnTo>
                      <a:pt x="0" y="438"/>
                    </a:lnTo>
                    <a:lnTo>
                      <a:pt x="638" y="700"/>
                    </a:lnTo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rot="21372600">
                <a:off x="6009120" y="1728720"/>
                <a:ext cx="1013400" cy="235800"/>
              </a:xfrm>
              <a:custGeom>
                <a:avLst/>
                <a:gdLst/>
                <a:ahLst/>
                <a:rect l="l" t="t" r="r" b="b"/>
                <a:pathLst>
                  <a:path w="5052" h="1071">
                    <a:moveTo>
                      <a:pt x="665" y="722"/>
                    </a:moveTo>
                    <a:lnTo>
                      <a:pt x="777" y="503"/>
                    </a:lnTo>
                    <a:lnTo>
                      <a:pt x="2692" y="612"/>
                    </a:lnTo>
                    <a:lnTo>
                      <a:pt x="3386" y="810"/>
                    </a:lnTo>
                    <a:lnTo>
                      <a:pt x="4331" y="1071"/>
                    </a:lnTo>
                    <a:lnTo>
                      <a:pt x="3871" y="509"/>
                    </a:lnTo>
                    <a:lnTo>
                      <a:pt x="5052" y="263"/>
                    </a:lnTo>
                    <a:lnTo>
                      <a:pt x="3442" y="109"/>
                    </a:lnTo>
                    <a:lnTo>
                      <a:pt x="2692" y="88"/>
                    </a:lnTo>
                    <a:lnTo>
                      <a:pt x="860" y="263"/>
                    </a:lnTo>
                    <a:lnTo>
                      <a:pt x="638" y="0"/>
                    </a:lnTo>
                    <a:lnTo>
                      <a:pt x="0" y="438"/>
                    </a:lnTo>
                    <a:lnTo>
                      <a:pt x="638" y="700"/>
                    </a:lnTo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18" name=""/>
            <p:cNvGrpSpPr/>
            <p:nvPr/>
          </p:nvGrpSpPr>
          <p:grpSpPr>
            <a:xfrm>
              <a:off x="279720" y="2348280"/>
              <a:ext cx="2295360" cy="769320"/>
              <a:chOff x="279720" y="2348280"/>
              <a:chExt cx="2295360" cy="769320"/>
            </a:xfrm>
          </p:grpSpPr>
          <p:sp>
            <p:nvSpPr>
              <p:cNvPr id="519" name=""/>
              <p:cNvSpPr/>
              <p:nvPr/>
            </p:nvSpPr>
            <p:spPr>
              <a:xfrm rot="20781600">
                <a:off x="1293480" y="2493360"/>
                <a:ext cx="1266840" cy="275040"/>
              </a:xfrm>
              <a:custGeom>
                <a:avLst/>
                <a:gdLst/>
                <a:ahLst/>
                <a:rect l="l" t="t" r="r" b="b"/>
                <a:pathLst>
                  <a:path w="5052" h="1071">
                    <a:moveTo>
                      <a:pt x="665" y="722"/>
                    </a:moveTo>
                    <a:lnTo>
                      <a:pt x="777" y="503"/>
                    </a:lnTo>
                    <a:lnTo>
                      <a:pt x="2692" y="612"/>
                    </a:lnTo>
                    <a:lnTo>
                      <a:pt x="3386" y="810"/>
                    </a:lnTo>
                    <a:lnTo>
                      <a:pt x="4331" y="1071"/>
                    </a:lnTo>
                    <a:lnTo>
                      <a:pt x="3871" y="509"/>
                    </a:lnTo>
                    <a:lnTo>
                      <a:pt x="5052" y="263"/>
                    </a:lnTo>
                    <a:lnTo>
                      <a:pt x="3442" y="109"/>
                    </a:lnTo>
                    <a:lnTo>
                      <a:pt x="2692" y="88"/>
                    </a:lnTo>
                    <a:lnTo>
                      <a:pt x="860" y="263"/>
                    </a:lnTo>
                    <a:lnTo>
                      <a:pt x="638" y="0"/>
                    </a:lnTo>
                    <a:lnTo>
                      <a:pt x="0" y="438"/>
                    </a:lnTo>
                    <a:lnTo>
                      <a:pt x="638" y="700"/>
                    </a:lnTo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rot="20781600">
                <a:off x="293040" y="2765160"/>
                <a:ext cx="1013400" cy="236160"/>
              </a:xfrm>
              <a:custGeom>
                <a:avLst/>
                <a:gdLst/>
                <a:ahLst/>
                <a:rect l="l" t="t" r="r" b="b"/>
                <a:pathLst>
                  <a:path w="5052" h="1071">
                    <a:moveTo>
                      <a:pt x="665" y="722"/>
                    </a:moveTo>
                    <a:lnTo>
                      <a:pt x="777" y="503"/>
                    </a:lnTo>
                    <a:lnTo>
                      <a:pt x="2692" y="612"/>
                    </a:lnTo>
                    <a:lnTo>
                      <a:pt x="3386" y="810"/>
                    </a:lnTo>
                    <a:lnTo>
                      <a:pt x="4331" y="1071"/>
                    </a:lnTo>
                    <a:lnTo>
                      <a:pt x="3871" y="509"/>
                    </a:lnTo>
                    <a:lnTo>
                      <a:pt x="5052" y="263"/>
                    </a:lnTo>
                    <a:lnTo>
                      <a:pt x="3442" y="109"/>
                    </a:lnTo>
                    <a:lnTo>
                      <a:pt x="2692" y="88"/>
                    </a:lnTo>
                    <a:lnTo>
                      <a:pt x="860" y="263"/>
                    </a:lnTo>
                    <a:lnTo>
                      <a:pt x="638" y="0"/>
                    </a:lnTo>
                    <a:lnTo>
                      <a:pt x="0" y="438"/>
                    </a:lnTo>
                    <a:lnTo>
                      <a:pt x="638" y="700"/>
                    </a:lnTo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1" name=""/>
            <p:cNvGrpSpPr/>
            <p:nvPr/>
          </p:nvGrpSpPr>
          <p:grpSpPr>
            <a:xfrm>
              <a:off x="3123360" y="1701000"/>
              <a:ext cx="2297520" cy="743040"/>
              <a:chOff x="3123360" y="1701000"/>
              <a:chExt cx="2297520" cy="743040"/>
            </a:xfrm>
          </p:grpSpPr>
          <p:sp>
            <p:nvSpPr>
              <p:cNvPr id="522" name=""/>
              <p:cNvSpPr/>
              <p:nvPr/>
            </p:nvSpPr>
            <p:spPr>
              <a:xfrm rot="20820600">
                <a:off x="4139280" y="1839600"/>
                <a:ext cx="1266840" cy="274680"/>
              </a:xfrm>
              <a:custGeom>
                <a:avLst/>
                <a:gdLst/>
                <a:ahLst/>
                <a:rect l="l" t="t" r="r" b="b"/>
                <a:pathLst>
                  <a:path w="5052" h="1071">
                    <a:moveTo>
                      <a:pt x="665" y="722"/>
                    </a:moveTo>
                    <a:lnTo>
                      <a:pt x="777" y="503"/>
                    </a:lnTo>
                    <a:lnTo>
                      <a:pt x="2692" y="612"/>
                    </a:lnTo>
                    <a:lnTo>
                      <a:pt x="3386" y="810"/>
                    </a:lnTo>
                    <a:lnTo>
                      <a:pt x="4331" y="1071"/>
                    </a:lnTo>
                    <a:lnTo>
                      <a:pt x="3871" y="509"/>
                    </a:lnTo>
                    <a:lnTo>
                      <a:pt x="5052" y="263"/>
                    </a:lnTo>
                    <a:lnTo>
                      <a:pt x="3442" y="109"/>
                    </a:lnTo>
                    <a:lnTo>
                      <a:pt x="2692" y="88"/>
                    </a:lnTo>
                    <a:lnTo>
                      <a:pt x="860" y="263"/>
                    </a:lnTo>
                    <a:lnTo>
                      <a:pt x="638" y="0"/>
                    </a:lnTo>
                    <a:lnTo>
                      <a:pt x="0" y="438"/>
                    </a:lnTo>
                    <a:lnTo>
                      <a:pt x="638" y="700"/>
                    </a:lnTo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rot="20820600">
                <a:off x="3136680" y="2097360"/>
                <a:ext cx="1013400" cy="235800"/>
              </a:xfrm>
              <a:custGeom>
                <a:avLst/>
                <a:gdLst/>
                <a:ahLst/>
                <a:rect l="l" t="t" r="r" b="b"/>
                <a:pathLst>
                  <a:path w="5052" h="1071">
                    <a:moveTo>
                      <a:pt x="665" y="722"/>
                    </a:moveTo>
                    <a:lnTo>
                      <a:pt x="777" y="503"/>
                    </a:lnTo>
                    <a:lnTo>
                      <a:pt x="2692" y="612"/>
                    </a:lnTo>
                    <a:lnTo>
                      <a:pt x="3386" y="810"/>
                    </a:lnTo>
                    <a:lnTo>
                      <a:pt x="4331" y="1071"/>
                    </a:lnTo>
                    <a:lnTo>
                      <a:pt x="3871" y="509"/>
                    </a:lnTo>
                    <a:lnTo>
                      <a:pt x="5052" y="263"/>
                    </a:lnTo>
                    <a:lnTo>
                      <a:pt x="3442" y="109"/>
                    </a:lnTo>
                    <a:lnTo>
                      <a:pt x="2692" y="88"/>
                    </a:lnTo>
                    <a:lnTo>
                      <a:pt x="860" y="263"/>
                    </a:lnTo>
                    <a:lnTo>
                      <a:pt x="638" y="0"/>
                    </a:lnTo>
                    <a:lnTo>
                      <a:pt x="0" y="438"/>
                    </a:lnTo>
                    <a:lnTo>
                      <a:pt x="638" y="700"/>
                    </a:lnTo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4" name=""/>
          <p:cNvGrpSpPr/>
          <p:nvPr/>
        </p:nvGrpSpPr>
        <p:grpSpPr>
          <a:xfrm>
            <a:off x="-12960" y="1486800"/>
            <a:ext cx="6039720" cy="1679400"/>
            <a:chOff x="-12960" y="1486800"/>
            <a:chExt cx="6039720" cy="1679400"/>
          </a:xfrm>
        </p:grpSpPr>
        <p:sp>
          <p:nvSpPr>
            <p:cNvPr id="525" name=""/>
            <p:cNvSpPr/>
            <p:nvPr/>
          </p:nvSpPr>
          <p:spPr>
            <a:xfrm flipV="1" rot="10129800">
              <a:off x="3072960" y="1827720"/>
              <a:ext cx="1521000" cy="302040"/>
            </a:xfrm>
            <a:custGeom>
              <a:avLst/>
              <a:gdLst/>
              <a:ahLst/>
              <a:rect l="l" t="t" r="r" b="b"/>
              <a:pathLst>
                <a:path w="5052" h="1071">
                  <a:moveTo>
                    <a:pt x="665" y="722"/>
                  </a:moveTo>
                  <a:lnTo>
                    <a:pt x="777" y="503"/>
                  </a:lnTo>
                  <a:lnTo>
                    <a:pt x="2692" y="612"/>
                  </a:lnTo>
                  <a:lnTo>
                    <a:pt x="3386" y="810"/>
                  </a:lnTo>
                  <a:lnTo>
                    <a:pt x="4331" y="1071"/>
                  </a:lnTo>
                  <a:lnTo>
                    <a:pt x="3871" y="509"/>
                  </a:lnTo>
                  <a:lnTo>
                    <a:pt x="5052" y="263"/>
                  </a:lnTo>
                  <a:lnTo>
                    <a:pt x="3442" y="109"/>
                  </a:lnTo>
                  <a:lnTo>
                    <a:pt x="2692" y="88"/>
                  </a:lnTo>
                  <a:lnTo>
                    <a:pt x="860" y="263"/>
                  </a:lnTo>
                  <a:lnTo>
                    <a:pt x="638" y="0"/>
                  </a:lnTo>
                  <a:lnTo>
                    <a:pt x="0" y="438"/>
                  </a:lnTo>
                  <a:lnTo>
                    <a:pt x="638" y="700"/>
                  </a:lnTo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V="1" rot="10559400">
              <a:off x="4952880" y="1523520"/>
              <a:ext cx="1067040" cy="232200"/>
            </a:xfrm>
            <a:custGeom>
              <a:avLst/>
              <a:gdLst/>
              <a:ahLst/>
              <a:rect l="l" t="t" r="r" b="b"/>
              <a:pathLst>
                <a:path w="5052" h="1071">
                  <a:moveTo>
                    <a:pt x="665" y="722"/>
                  </a:moveTo>
                  <a:lnTo>
                    <a:pt x="777" y="503"/>
                  </a:lnTo>
                  <a:lnTo>
                    <a:pt x="2692" y="612"/>
                  </a:lnTo>
                  <a:lnTo>
                    <a:pt x="3386" y="810"/>
                  </a:lnTo>
                  <a:lnTo>
                    <a:pt x="4331" y="1071"/>
                  </a:lnTo>
                  <a:lnTo>
                    <a:pt x="3871" y="509"/>
                  </a:lnTo>
                  <a:lnTo>
                    <a:pt x="5052" y="263"/>
                  </a:lnTo>
                  <a:lnTo>
                    <a:pt x="3442" y="109"/>
                  </a:lnTo>
                  <a:lnTo>
                    <a:pt x="2692" y="88"/>
                  </a:lnTo>
                  <a:lnTo>
                    <a:pt x="860" y="263"/>
                  </a:lnTo>
                  <a:lnTo>
                    <a:pt x="638" y="0"/>
                  </a:lnTo>
                  <a:lnTo>
                    <a:pt x="0" y="438"/>
                  </a:lnTo>
                  <a:lnTo>
                    <a:pt x="638" y="700"/>
                  </a:lnTo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V="1" rot="9869400">
              <a:off x="-360" y="2666160"/>
              <a:ext cx="1521000" cy="301680"/>
            </a:xfrm>
            <a:custGeom>
              <a:avLst/>
              <a:gdLst/>
              <a:ahLst/>
              <a:rect l="l" t="t" r="r" b="b"/>
              <a:pathLst>
                <a:path w="5052" h="1071">
                  <a:moveTo>
                    <a:pt x="665" y="722"/>
                  </a:moveTo>
                  <a:lnTo>
                    <a:pt x="777" y="503"/>
                  </a:lnTo>
                  <a:lnTo>
                    <a:pt x="2692" y="612"/>
                  </a:lnTo>
                  <a:lnTo>
                    <a:pt x="3386" y="810"/>
                  </a:lnTo>
                  <a:lnTo>
                    <a:pt x="4331" y="1071"/>
                  </a:lnTo>
                  <a:lnTo>
                    <a:pt x="3871" y="509"/>
                  </a:lnTo>
                  <a:lnTo>
                    <a:pt x="5052" y="263"/>
                  </a:lnTo>
                  <a:lnTo>
                    <a:pt x="3442" y="109"/>
                  </a:lnTo>
                  <a:lnTo>
                    <a:pt x="2692" y="88"/>
                  </a:lnTo>
                  <a:lnTo>
                    <a:pt x="860" y="263"/>
                  </a:lnTo>
                  <a:lnTo>
                    <a:pt x="638" y="0"/>
                  </a:lnTo>
                  <a:lnTo>
                    <a:pt x="0" y="438"/>
                  </a:lnTo>
                  <a:lnTo>
                    <a:pt x="638" y="700"/>
                  </a:lnTo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V="1" rot="10160400">
              <a:off x="1676160" y="2271960"/>
              <a:ext cx="1066680" cy="231840"/>
            </a:xfrm>
            <a:custGeom>
              <a:avLst/>
              <a:gdLst/>
              <a:ahLst/>
              <a:rect l="l" t="t" r="r" b="b"/>
              <a:pathLst>
                <a:path w="5052" h="1071">
                  <a:moveTo>
                    <a:pt x="665" y="722"/>
                  </a:moveTo>
                  <a:lnTo>
                    <a:pt x="777" y="503"/>
                  </a:lnTo>
                  <a:lnTo>
                    <a:pt x="2692" y="612"/>
                  </a:lnTo>
                  <a:lnTo>
                    <a:pt x="3386" y="810"/>
                  </a:lnTo>
                  <a:lnTo>
                    <a:pt x="4331" y="1071"/>
                  </a:lnTo>
                  <a:lnTo>
                    <a:pt x="3871" y="509"/>
                  </a:lnTo>
                  <a:lnTo>
                    <a:pt x="5052" y="263"/>
                  </a:lnTo>
                  <a:lnTo>
                    <a:pt x="3442" y="109"/>
                  </a:lnTo>
                  <a:lnTo>
                    <a:pt x="2692" y="88"/>
                  </a:lnTo>
                  <a:lnTo>
                    <a:pt x="860" y="263"/>
                  </a:lnTo>
                  <a:lnTo>
                    <a:pt x="638" y="0"/>
                  </a:lnTo>
                  <a:lnTo>
                    <a:pt x="0" y="438"/>
                  </a:lnTo>
                  <a:lnTo>
                    <a:pt x="638" y="700"/>
                  </a:lnTo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-89280" y="1655280"/>
            <a:ext cx="6039720" cy="1679400"/>
            <a:chOff x="-89280" y="1655280"/>
            <a:chExt cx="6039720" cy="1679400"/>
          </a:xfrm>
        </p:grpSpPr>
        <p:sp>
          <p:nvSpPr>
            <p:cNvPr id="530" name=""/>
            <p:cNvSpPr/>
            <p:nvPr/>
          </p:nvSpPr>
          <p:spPr>
            <a:xfrm flipV="1" rot="10129800">
              <a:off x="2996640" y="1996200"/>
              <a:ext cx="1521000" cy="302040"/>
            </a:xfrm>
            <a:custGeom>
              <a:avLst/>
              <a:gdLst/>
              <a:ahLst/>
              <a:rect l="l" t="t" r="r" b="b"/>
              <a:pathLst>
                <a:path w="5052" h="1071">
                  <a:moveTo>
                    <a:pt x="665" y="722"/>
                  </a:moveTo>
                  <a:lnTo>
                    <a:pt x="777" y="503"/>
                  </a:lnTo>
                  <a:lnTo>
                    <a:pt x="2692" y="612"/>
                  </a:lnTo>
                  <a:lnTo>
                    <a:pt x="3386" y="810"/>
                  </a:lnTo>
                  <a:lnTo>
                    <a:pt x="4331" y="1071"/>
                  </a:lnTo>
                  <a:lnTo>
                    <a:pt x="3871" y="509"/>
                  </a:lnTo>
                  <a:lnTo>
                    <a:pt x="5052" y="263"/>
                  </a:lnTo>
                  <a:lnTo>
                    <a:pt x="3442" y="109"/>
                  </a:lnTo>
                  <a:lnTo>
                    <a:pt x="2692" y="88"/>
                  </a:lnTo>
                  <a:lnTo>
                    <a:pt x="860" y="263"/>
                  </a:lnTo>
                  <a:lnTo>
                    <a:pt x="638" y="0"/>
                  </a:lnTo>
                  <a:lnTo>
                    <a:pt x="0" y="438"/>
                  </a:lnTo>
                  <a:lnTo>
                    <a:pt x="638" y="700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 rot="10559400">
              <a:off x="4876560" y="1692000"/>
              <a:ext cx="1067040" cy="232200"/>
            </a:xfrm>
            <a:custGeom>
              <a:avLst/>
              <a:gdLst/>
              <a:ahLst/>
              <a:rect l="l" t="t" r="r" b="b"/>
              <a:pathLst>
                <a:path w="5052" h="1071">
                  <a:moveTo>
                    <a:pt x="665" y="722"/>
                  </a:moveTo>
                  <a:lnTo>
                    <a:pt x="777" y="503"/>
                  </a:lnTo>
                  <a:lnTo>
                    <a:pt x="2692" y="612"/>
                  </a:lnTo>
                  <a:lnTo>
                    <a:pt x="3386" y="810"/>
                  </a:lnTo>
                  <a:lnTo>
                    <a:pt x="4331" y="1071"/>
                  </a:lnTo>
                  <a:lnTo>
                    <a:pt x="3871" y="509"/>
                  </a:lnTo>
                  <a:lnTo>
                    <a:pt x="5052" y="263"/>
                  </a:lnTo>
                  <a:lnTo>
                    <a:pt x="3442" y="109"/>
                  </a:lnTo>
                  <a:lnTo>
                    <a:pt x="2692" y="88"/>
                  </a:lnTo>
                  <a:lnTo>
                    <a:pt x="860" y="263"/>
                  </a:lnTo>
                  <a:lnTo>
                    <a:pt x="638" y="0"/>
                  </a:lnTo>
                  <a:lnTo>
                    <a:pt x="0" y="438"/>
                  </a:lnTo>
                  <a:lnTo>
                    <a:pt x="638" y="700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 rot="9869400">
              <a:off x="-76680" y="2834640"/>
              <a:ext cx="1521000" cy="301680"/>
            </a:xfrm>
            <a:custGeom>
              <a:avLst/>
              <a:gdLst/>
              <a:ahLst/>
              <a:rect l="l" t="t" r="r" b="b"/>
              <a:pathLst>
                <a:path w="5052" h="1071">
                  <a:moveTo>
                    <a:pt x="665" y="722"/>
                  </a:moveTo>
                  <a:lnTo>
                    <a:pt x="777" y="503"/>
                  </a:lnTo>
                  <a:lnTo>
                    <a:pt x="2692" y="612"/>
                  </a:lnTo>
                  <a:lnTo>
                    <a:pt x="3386" y="810"/>
                  </a:lnTo>
                  <a:lnTo>
                    <a:pt x="4331" y="1071"/>
                  </a:lnTo>
                  <a:lnTo>
                    <a:pt x="3871" y="509"/>
                  </a:lnTo>
                  <a:lnTo>
                    <a:pt x="5052" y="263"/>
                  </a:lnTo>
                  <a:lnTo>
                    <a:pt x="3442" y="109"/>
                  </a:lnTo>
                  <a:lnTo>
                    <a:pt x="2692" y="88"/>
                  </a:lnTo>
                  <a:lnTo>
                    <a:pt x="860" y="263"/>
                  </a:lnTo>
                  <a:lnTo>
                    <a:pt x="638" y="0"/>
                  </a:lnTo>
                  <a:lnTo>
                    <a:pt x="0" y="438"/>
                  </a:lnTo>
                  <a:lnTo>
                    <a:pt x="638" y="700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 rot="10160400">
              <a:off x="1599840" y="2440440"/>
              <a:ext cx="1066680" cy="231840"/>
            </a:xfrm>
            <a:custGeom>
              <a:avLst/>
              <a:gdLst/>
              <a:ahLst/>
              <a:rect l="l" t="t" r="r" b="b"/>
              <a:pathLst>
                <a:path w="5052" h="1071">
                  <a:moveTo>
                    <a:pt x="665" y="722"/>
                  </a:moveTo>
                  <a:lnTo>
                    <a:pt x="777" y="503"/>
                  </a:lnTo>
                  <a:lnTo>
                    <a:pt x="2692" y="612"/>
                  </a:lnTo>
                  <a:lnTo>
                    <a:pt x="3386" y="810"/>
                  </a:lnTo>
                  <a:lnTo>
                    <a:pt x="4331" y="1071"/>
                  </a:lnTo>
                  <a:lnTo>
                    <a:pt x="3871" y="509"/>
                  </a:lnTo>
                  <a:lnTo>
                    <a:pt x="5052" y="263"/>
                  </a:lnTo>
                  <a:lnTo>
                    <a:pt x="3442" y="109"/>
                  </a:lnTo>
                  <a:lnTo>
                    <a:pt x="2692" y="88"/>
                  </a:lnTo>
                  <a:lnTo>
                    <a:pt x="860" y="263"/>
                  </a:lnTo>
                  <a:lnTo>
                    <a:pt x="638" y="0"/>
                  </a:lnTo>
                  <a:lnTo>
                    <a:pt x="0" y="438"/>
                  </a:lnTo>
                  <a:lnTo>
                    <a:pt x="638" y="700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4" name=""/>
          <p:cNvSpPr/>
          <p:nvPr/>
        </p:nvSpPr>
        <p:spPr>
          <a:xfrm flipV="1" rot="10800000">
            <a:off x="152280" y="4190040"/>
            <a:ext cx="533520" cy="152280"/>
          </a:xfrm>
          <a:custGeom>
            <a:avLst/>
            <a:gdLst/>
            <a:ahLst/>
            <a:rect l="l" t="t" r="r" b="b"/>
            <a:pathLst>
              <a:path w="5052" h="1071">
                <a:moveTo>
                  <a:pt x="665" y="722"/>
                </a:moveTo>
                <a:lnTo>
                  <a:pt x="777" y="503"/>
                </a:lnTo>
                <a:lnTo>
                  <a:pt x="2692" y="612"/>
                </a:lnTo>
                <a:lnTo>
                  <a:pt x="3386" y="810"/>
                </a:lnTo>
                <a:lnTo>
                  <a:pt x="4331" y="1071"/>
                </a:lnTo>
                <a:lnTo>
                  <a:pt x="3871" y="509"/>
                </a:lnTo>
                <a:lnTo>
                  <a:pt x="5052" y="263"/>
                </a:lnTo>
                <a:lnTo>
                  <a:pt x="3442" y="109"/>
                </a:lnTo>
                <a:lnTo>
                  <a:pt x="2692" y="88"/>
                </a:lnTo>
                <a:lnTo>
                  <a:pt x="860" y="263"/>
                </a:lnTo>
                <a:lnTo>
                  <a:pt x="638" y="0"/>
                </a:lnTo>
                <a:lnTo>
                  <a:pt x="0" y="438"/>
                </a:lnTo>
                <a:lnTo>
                  <a:pt x="638" y="700"/>
                </a:lnTo>
              </a:path>
            </a:pathLst>
          </a:custGeom>
          <a:solidFill>
            <a:srgbClr val="000000"/>
          </a:solidFill>
          <a:ln w="9360">
            <a:solidFill>
              <a:srgbClr val="00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rot="21301200">
            <a:off x="210960" y="4571640"/>
            <a:ext cx="398520" cy="233280"/>
          </a:xfrm>
          <a:custGeom>
            <a:avLst/>
            <a:gdLst/>
            <a:ahLst/>
            <a:rect l="l" t="t" r="r" b="b"/>
            <a:pathLst>
              <a:path w="2371" h="1018">
                <a:moveTo>
                  <a:pt x="157" y="895"/>
                </a:moveTo>
                <a:lnTo>
                  <a:pt x="455" y="696"/>
                </a:lnTo>
                <a:lnTo>
                  <a:pt x="710" y="603"/>
                </a:lnTo>
                <a:lnTo>
                  <a:pt x="924" y="589"/>
                </a:lnTo>
                <a:lnTo>
                  <a:pt x="1152" y="576"/>
                </a:lnTo>
                <a:lnTo>
                  <a:pt x="1379" y="589"/>
                </a:lnTo>
                <a:lnTo>
                  <a:pt x="1687" y="683"/>
                </a:lnTo>
                <a:lnTo>
                  <a:pt x="1942" y="790"/>
                </a:lnTo>
                <a:lnTo>
                  <a:pt x="2263" y="1018"/>
                </a:lnTo>
                <a:lnTo>
                  <a:pt x="2344" y="777"/>
                </a:lnTo>
                <a:lnTo>
                  <a:pt x="2156" y="696"/>
                </a:lnTo>
                <a:lnTo>
                  <a:pt x="2183" y="616"/>
                </a:lnTo>
                <a:lnTo>
                  <a:pt x="2371" y="683"/>
                </a:lnTo>
                <a:lnTo>
                  <a:pt x="2143" y="308"/>
                </a:lnTo>
                <a:lnTo>
                  <a:pt x="1728" y="335"/>
                </a:lnTo>
                <a:lnTo>
                  <a:pt x="1929" y="428"/>
                </a:lnTo>
                <a:lnTo>
                  <a:pt x="1888" y="536"/>
                </a:lnTo>
                <a:lnTo>
                  <a:pt x="1754" y="482"/>
                </a:lnTo>
                <a:lnTo>
                  <a:pt x="1594" y="428"/>
                </a:lnTo>
                <a:lnTo>
                  <a:pt x="1379" y="388"/>
                </a:lnTo>
                <a:lnTo>
                  <a:pt x="1366" y="268"/>
                </a:lnTo>
                <a:lnTo>
                  <a:pt x="1580" y="281"/>
                </a:lnTo>
                <a:lnTo>
                  <a:pt x="1178" y="0"/>
                </a:lnTo>
                <a:lnTo>
                  <a:pt x="857" y="227"/>
                </a:lnTo>
                <a:lnTo>
                  <a:pt x="1058" y="241"/>
                </a:lnTo>
                <a:lnTo>
                  <a:pt x="1058" y="361"/>
                </a:lnTo>
                <a:lnTo>
                  <a:pt x="750" y="388"/>
                </a:lnTo>
                <a:lnTo>
                  <a:pt x="562" y="455"/>
                </a:lnTo>
                <a:lnTo>
                  <a:pt x="495" y="348"/>
                </a:lnTo>
                <a:lnTo>
                  <a:pt x="750" y="268"/>
                </a:lnTo>
                <a:lnTo>
                  <a:pt x="281" y="147"/>
                </a:lnTo>
                <a:lnTo>
                  <a:pt x="0" y="536"/>
                </a:lnTo>
                <a:lnTo>
                  <a:pt x="254" y="455"/>
                </a:lnTo>
                <a:lnTo>
                  <a:pt x="294" y="562"/>
                </a:lnTo>
                <a:lnTo>
                  <a:pt x="134" y="616"/>
                </a:lnTo>
                <a:lnTo>
                  <a:pt x="0" y="696"/>
                </a:lnTo>
                <a:lnTo>
                  <a:pt x="120" y="924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 rot="11154600">
            <a:off x="75600" y="5588640"/>
            <a:ext cx="609480" cy="228240"/>
          </a:xfrm>
          <a:custGeom>
            <a:avLst/>
            <a:gdLst/>
            <a:ahLst/>
            <a:rect l="l" t="t" r="r" b="b"/>
            <a:pathLst>
              <a:path w="5052" h="1071">
                <a:moveTo>
                  <a:pt x="665" y="722"/>
                </a:moveTo>
                <a:lnTo>
                  <a:pt x="777" y="503"/>
                </a:lnTo>
                <a:lnTo>
                  <a:pt x="2692" y="612"/>
                </a:lnTo>
                <a:lnTo>
                  <a:pt x="3386" y="810"/>
                </a:lnTo>
                <a:lnTo>
                  <a:pt x="4331" y="1071"/>
                </a:lnTo>
                <a:lnTo>
                  <a:pt x="3871" y="509"/>
                </a:lnTo>
                <a:lnTo>
                  <a:pt x="5052" y="263"/>
                </a:lnTo>
                <a:lnTo>
                  <a:pt x="3442" y="109"/>
                </a:lnTo>
                <a:lnTo>
                  <a:pt x="2692" y="88"/>
                </a:lnTo>
                <a:lnTo>
                  <a:pt x="860" y="263"/>
                </a:lnTo>
                <a:lnTo>
                  <a:pt x="638" y="0"/>
                </a:lnTo>
                <a:lnTo>
                  <a:pt x="0" y="438"/>
                </a:lnTo>
                <a:lnTo>
                  <a:pt x="638" y="700"/>
                </a:lnTo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1998360" y="279360"/>
            <a:ext cx="6094080" cy="2555280"/>
            <a:chOff x="1998360" y="279360"/>
            <a:chExt cx="6094080" cy="2555280"/>
          </a:xfrm>
        </p:grpSpPr>
        <p:sp>
          <p:nvSpPr>
            <p:cNvPr id="538" name=""/>
            <p:cNvSpPr/>
            <p:nvPr/>
          </p:nvSpPr>
          <p:spPr>
            <a:xfrm flipV="1" rot="16304400">
              <a:off x="1788480" y="876600"/>
              <a:ext cx="762120" cy="226440"/>
            </a:xfrm>
            <a:custGeom>
              <a:avLst/>
              <a:gdLst/>
              <a:ahLst/>
              <a:rect l="l" t="t" r="r" b="b"/>
              <a:pathLst>
                <a:path w="5052" h="1071">
                  <a:moveTo>
                    <a:pt x="665" y="722"/>
                  </a:moveTo>
                  <a:lnTo>
                    <a:pt x="777" y="503"/>
                  </a:lnTo>
                  <a:lnTo>
                    <a:pt x="2692" y="612"/>
                  </a:lnTo>
                  <a:lnTo>
                    <a:pt x="3386" y="810"/>
                  </a:lnTo>
                  <a:lnTo>
                    <a:pt x="4331" y="1071"/>
                  </a:lnTo>
                  <a:lnTo>
                    <a:pt x="3871" y="509"/>
                  </a:lnTo>
                  <a:lnTo>
                    <a:pt x="5052" y="263"/>
                  </a:lnTo>
                  <a:lnTo>
                    <a:pt x="3442" y="109"/>
                  </a:lnTo>
                  <a:lnTo>
                    <a:pt x="2692" y="88"/>
                  </a:lnTo>
                  <a:lnTo>
                    <a:pt x="860" y="263"/>
                  </a:lnTo>
                  <a:lnTo>
                    <a:pt x="638" y="0"/>
                  </a:lnTo>
                  <a:lnTo>
                    <a:pt x="0" y="438"/>
                  </a:lnTo>
                  <a:lnTo>
                    <a:pt x="638" y="70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 rot="16743600">
              <a:off x="1789200" y="1639080"/>
              <a:ext cx="762120" cy="227160"/>
            </a:xfrm>
            <a:custGeom>
              <a:avLst/>
              <a:gdLst/>
              <a:ahLst/>
              <a:rect l="l" t="t" r="r" b="b"/>
              <a:pathLst>
                <a:path w="5052" h="1071">
                  <a:moveTo>
                    <a:pt x="665" y="722"/>
                  </a:moveTo>
                  <a:lnTo>
                    <a:pt x="777" y="503"/>
                  </a:lnTo>
                  <a:lnTo>
                    <a:pt x="2692" y="612"/>
                  </a:lnTo>
                  <a:lnTo>
                    <a:pt x="3386" y="810"/>
                  </a:lnTo>
                  <a:lnTo>
                    <a:pt x="4331" y="1071"/>
                  </a:lnTo>
                  <a:lnTo>
                    <a:pt x="3871" y="509"/>
                  </a:lnTo>
                  <a:lnTo>
                    <a:pt x="5052" y="263"/>
                  </a:lnTo>
                  <a:lnTo>
                    <a:pt x="3442" y="109"/>
                  </a:lnTo>
                  <a:lnTo>
                    <a:pt x="2692" y="88"/>
                  </a:lnTo>
                  <a:lnTo>
                    <a:pt x="860" y="263"/>
                  </a:lnTo>
                  <a:lnTo>
                    <a:pt x="638" y="0"/>
                  </a:lnTo>
                  <a:lnTo>
                    <a:pt x="0" y="438"/>
                  </a:lnTo>
                  <a:lnTo>
                    <a:pt x="638" y="70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rot="14092800">
              <a:off x="5294160" y="1155240"/>
              <a:ext cx="612720" cy="152280"/>
            </a:xfrm>
            <a:custGeom>
              <a:avLst/>
              <a:gdLst/>
              <a:ahLst/>
              <a:rect l="l" t="t" r="r" b="b"/>
              <a:pathLst>
                <a:path w="5052" h="1071">
                  <a:moveTo>
                    <a:pt x="665" y="722"/>
                  </a:moveTo>
                  <a:lnTo>
                    <a:pt x="777" y="503"/>
                  </a:lnTo>
                  <a:lnTo>
                    <a:pt x="2692" y="612"/>
                  </a:lnTo>
                  <a:lnTo>
                    <a:pt x="3386" y="810"/>
                  </a:lnTo>
                  <a:lnTo>
                    <a:pt x="4331" y="1071"/>
                  </a:lnTo>
                  <a:lnTo>
                    <a:pt x="3871" y="509"/>
                  </a:lnTo>
                  <a:lnTo>
                    <a:pt x="5052" y="263"/>
                  </a:lnTo>
                  <a:lnTo>
                    <a:pt x="3442" y="109"/>
                  </a:lnTo>
                  <a:lnTo>
                    <a:pt x="2692" y="88"/>
                  </a:lnTo>
                  <a:lnTo>
                    <a:pt x="860" y="263"/>
                  </a:lnTo>
                  <a:lnTo>
                    <a:pt x="638" y="0"/>
                  </a:lnTo>
                  <a:lnTo>
                    <a:pt x="0" y="438"/>
                  </a:lnTo>
                  <a:lnTo>
                    <a:pt x="638" y="70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 flipV="1" rot="4770600">
              <a:off x="5008680" y="539280"/>
              <a:ext cx="721800" cy="230400"/>
            </a:xfrm>
            <a:custGeom>
              <a:avLst/>
              <a:gdLst/>
              <a:ahLst/>
              <a:rect l="l" t="t" r="r" b="b"/>
              <a:pathLst>
                <a:path w="5052" h="1071">
                  <a:moveTo>
                    <a:pt x="665" y="722"/>
                  </a:moveTo>
                  <a:lnTo>
                    <a:pt x="777" y="503"/>
                  </a:lnTo>
                  <a:lnTo>
                    <a:pt x="2692" y="612"/>
                  </a:lnTo>
                  <a:lnTo>
                    <a:pt x="3386" y="810"/>
                  </a:lnTo>
                  <a:lnTo>
                    <a:pt x="4331" y="1071"/>
                  </a:lnTo>
                  <a:lnTo>
                    <a:pt x="3871" y="509"/>
                  </a:lnTo>
                  <a:lnTo>
                    <a:pt x="5052" y="263"/>
                  </a:lnTo>
                  <a:lnTo>
                    <a:pt x="3442" y="109"/>
                  </a:lnTo>
                  <a:lnTo>
                    <a:pt x="2692" y="88"/>
                  </a:lnTo>
                  <a:lnTo>
                    <a:pt x="860" y="263"/>
                  </a:lnTo>
                  <a:lnTo>
                    <a:pt x="638" y="0"/>
                  </a:lnTo>
                  <a:lnTo>
                    <a:pt x="0" y="438"/>
                  </a:lnTo>
                  <a:lnTo>
                    <a:pt x="638" y="70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 rot="4002000">
              <a:off x="4304160" y="2323440"/>
              <a:ext cx="762120" cy="227160"/>
            </a:xfrm>
            <a:custGeom>
              <a:avLst/>
              <a:gdLst/>
              <a:ahLst/>
              <a:rect l="l" t="t" r="r" b="b"/>
              <a:pathLst>
                <a:path w="5052" h="1071">
                  <a:moveTo>
                    <a:pt x="665" y="722"/>
                  </a:moveTo>
                  <a:lnTo>
                    <a:pt x="777" y="503"/>
                  </a:lnTo>
                  <a:lnTo>
                    <a:pt x="2692" y="612"/>
                  </a:lnTo>
                  <a:lnTo>
                    <a:pt x="3386" y="810"/>
                  </a:lnTo>
                  <a:lnTo>
                    <a:pt x="4331" y="1071"/>
                  </a:lnTo>
                  <a:lnTo>
                    <a:pt x="3871" y="509"/>
                  </a:lnTo>
                  <a:lnTo>
                    <a:pt x="5052" y="263"/>
                  </a:lnTo>
                  <a:lnTo>
                    <a:pt x="3442" y="109"/>
                  </a:lnTo>
                  <a:lnTo>
                    <a:pt x="2692" y="88"/>
                  </a:lnTo>
                  <a:lnTo>
                    <a:pt x="860" y="263"/>
                  </a:lnTo>
                  <a:lnTo>
                    <a:pt x="638" y="0"/>
                  </a:lnTo>
                  <a:lnTo>
                    <a:pt x="0" y="438"/>
                  </a:lnTo>
                  <a:lnTo>
                    <a:pt x="638" y="70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 rot="16743600">
              <a:off x="5904000" y="1105560"/>
              <a:ext cx="762120" cy="227160"/>
            </a:xfrm>
            <a:custGeom>
              <a:avLst/>
              <a:gdLst/>
              <a:ahLst/>
              <a:rect l="l" t="t" r="r" b="b"/>
              <a:pathLst>
                <a:path w="5052" h="1071">
                  <a:moveTo>
                    <a:pt x="665" y="722"/>
                  </a:moveTo>
                  <a:lnTo>
                    <a:pt x="777" y="503"/>
                  </a:lnTo>
                  <a:lnTo>
                    <a:pt x="2692" y="612"/>
                  </a:lnTo>
                  <a:lnTo>
                    <a:pt x="3386" y="810"/>
                  </a:lnTo>
                  <a:lnTo>
                    <a:pt x="4331" y="1071"/>
                  </a:lnTo>
                  <a:lnTo>
                    <a:pt x="3871" y="509"/>
                  </a:lnTo>
                  <a:lnTo>
                    <a:pt x="5052" y="263"/>
                  </a:lnTo>
                  <a:lnTo>
                    <a:pt x="3442" y="109"/>
                  </a:lnTo>
                  <a:lnTo>
                    <a:pt x="2692" y="88"/>
                  </a:lnTo>
                  <a:lnTo>
                    <a:pt x="860" y="263"/>
                  </a:lnTo>
                  <a:lnTo>
                    <a:pt x="638" y="0"/>
                  </a:lnTo>
                  <a:lnTo>
                    <a:pt x="0" y="438"/>
                  </a:lnTo>
                  <a:lnTo>
                    <a:pt x="638" y="70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 rot="1726200">
              <a:off x="3429000" y="2437920"/>
              <a:ext cx="762120" cy="227160"/>
            </a:xfrm>
            <a:custGeom>
              <a:avLst/>
              <a:gdLst/>
              <a:ahLst/>
              <a:rect l="l" t="t" r="r" b="b"/>
              <a:pathLst>
                <a:path w="5052" h="1071">
                  <a:moveTo>
                    <a:pt x="665" y="722"/>
                  </a:moveTo>
                  <a:lnTo>
                    <a:pt x="777" y="503"/>
                  </a:lnTo>
                  <a:lnTo>
                    <a:pt x="2692" y="612"/>
                  </a:lnTo>
                  <a:lnTo>
                    <a:pt x="3386" y="810"/>
                  </a:lnTo>
                  <a:lnTo>
                    <a:pt x="4331" y="1071"/>
                  </a:lnTo>
                  <a:lnTo>
                    <a:pt x="3871" y="509"/>
                  </a:lnTo>
                  <a:lnTo>
                    <a:pt x="5052" y="263"/>
                  </a:lnTo>
                  <a:lnTo>
                    <a:pt x="3442" y="109"/>
                  </a:lnTo>
                  <a:lnTo>
                    <a:pt x="2692" y="88"/>
                  </a:lnTo>
                  <a:lnTo>
                    <a:pt x="860" y="263"/>
                  </a:lnTo>
                  <a:lnTo>
                    <a:pt x="638" y="0"/>
                  </a:lnTo>
                  <a:lnTo>
                    <a:pt x="0" y="438"/>
                  </a:lnTo>
                  <a:lnTo>
                    <a:pt x="638" y="70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 rot="3381000">
              <a:off x="6438240" y="2018880"/>
              <a:ext cx="762120" cy="226800"/>
            </a:xfrm>
            <a:custGeom>
              <a:avLst/>
              <a:gdLst/>
              <a:ahLst/>
              <a:rect l="l" t="t" r="r" b="b"/>
              <a:pathLst>
                <a:path w="5052" h="1071">
                  <a:moveTo>
                    <a:pt x="665" y="722"/>
                  </a:moveTo>
                  <a:lnTo>
                    <a:pt x="777" y="503"/>
                  </a:lnTo>
                  <a:lnTo>
                    <a:pt x="2692" y="612"/>
                  </a:lnTo>
                  <a:lnTo>
                    <a:pt x="3386" y="810"/>
                  </a:lnTo>
                  <a:lnTo>
                    <a:pt x="4331" y="1071"/>
                  </a:lnTo>
                  <a:lnTo>
                    <a:pt x="3871" y="509"/>
                  </a:lnTo>
                  <a:lnTo>
                    <a:pt x="5052" y="263"/>
                  </a:lnTo>
                  <a:lnTo>
                    <a:pt x="3442" y="109"/>
                  </a:lnTo>
                  <a:lnTo>
                    <a:pt x="2692" y="88"/>
                  </a:lnTo>
                  <a:lnTo>
                    <a:pt x="860" y="263"/>
                  </a:lnTo>
                  <a:lnTo>
                    <a:pt x="638" y="0"/>
                  </a:lnTo>
                  <a:lnTo>
                    <a:pt x="0" y="438"/>
                  </a:lnTo>
                  <a:lnTo>
                    <a:pt x="638" y="70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 flipV="1" rot="10291200">
              <a:off x="7020360" y="1535760"/>
              <a:ext cx="1055880" cy="292320"/>
            </a:xfrm>
            <a:custGeom>
              <a:avLst/>
              <a:gdLst/>
              <a:ahLst/>
              <a:rect l="l" t="t" r="r" b="b"/>
              <a:pathLst>
                <a:path w="5052" h="1071">
                  <a:moveTo>
                    <a:pt x="665" y="722"/>
                  </a:moveTo>
                  <a:lnTo>
                    <a:pt x="777" y="503"/>
                  </a:lnTo>
                  <a:lnTo>
                    <a:pt x="2692" y="612"/>
                  </a:lnTo>
                  <a:lnTo>
                    <a:pt x="3386" y="810"/>
                  </a:lnTo>
                  <a:lnTo>
                    <a:pt x="4331" y="1071"/>
                  </a:lnTo>
                  <a:lnTo>
                    <a:pt x="3871" y="509"/>
                  </a:lnTo>
                  <a:lnTo>
                    <a:pt x="5052" y="263"/>
                  </a:lnTo>
                  <a:lnTo>
                    <a:pt x="3442" y="109"/>
                  </a:lnTo>
                  <a:lnTo>
                    <a:pt x="2692" y="88"/>
                  </a:lnTo>
                  <a:lnTo>
                    <a:pt x="860" y="263"/>
                  </a:lnTo>
                  <a:lnTo>
                    <a:pt x="638" y="0"/>
                  </a:lnTo>
                  <a:lnTo>
                    <a:pt x="0" y="438"/>
                  </a:lnTo>
                  <a:lnTo>
                    <a:pt x="638" y="70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7" dur="3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1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3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1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3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3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88920" y="152280"/>
            <a:ext cx="8991720" cy="5639040"/>
          </a:xfrm>
          <a:prstGeom prst="rect">
            <a:avLst/>
          </a:prstGeom>
          <a:ln w="28440">
            <a:solidFill>
              <a:srgbClr val="ff00ff"/>
            </a:solidFill>
            <a:miter/>
          </a:ln>
        </p:spPr>
      </p:pic>
      <p:sp>
        <p:nvSpPr>
          <p:cNvPr id="548" name=""/>
          <p:cNvSpPr/>
          <p:nvPr/>
        </p:nvSpPr>
        <p:spPr>
          <a:xfrm flipV="1" rot="10800000">
            <a:off x="2817360" y="607932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Trận Rạch Gầm- Xoài Mú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0" y="76320"/>
            <a:ext cx="9144000" cy="2362680"/>
          </a:xfrm>
          <a:prstGeom prst="rect">
            <a:avLst/>
          </a:prstGeom>
          <a:solidFill>
            <a:srgbClr val="b3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71840" indent="-2571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NI-Times"/>
              </a:rPr>
              <a:t> 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VNI-Times"/>
              </a:rPr>
              <a:t>BAØI 25</a:t>
            </a:r>
            <a:r>
              <a:rPr b="1" lang="en-US" sz="3200" spc="-1" strike="noStrike">
                <a:solidFill>
                  <a:srgbClr val="ff0000"/>
                </a:solidFill>
                <a:latin typeface="VNI-Times"/>
              </a:rPr>
              <a:t>:             PHONG TRAØO TAÂY SÔN </a:t>
            </a:r>
            <a:r>
              <a:rPr b="1" i="1" lang="en-US" sz="2400" spc="-1" strike="noStrike">
                <a:solidFill>
                  <a:srgbClr val="ff0000"/>
                </a:solidFill>
                <a:latin typeface=".VnTime"/>
              </a:rPr>
              <a:t>(TiÕ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71840" indent="-25718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VNI-Times"/>
              </a:rPr>
              <a:t>       </a:t>
            </a:r>
            <a:r>
              <a:rPr b="1" lang="en-US" sz="2200" spc="-1" strike="noStrike" u="sng">
                <a:solidFill>
                  <a:srgbClr val="f907ba"/>
                </a:solidFill>
                <a:uFillTx/>
                <a:latin typeface="VNI-Times"/>
              </a:rPr>
              <a:t>TIEÁT 52:</a:t>
            </a:r>
            <a:r>
              <a:rPr b="1" lang="en-US" sz="2600" spc="-1" strike="noStrike">
                <a:solidFill>
                  <a:srgbClr val="f907ba"/>
                </a:solidFill>
                <a:latin typeface="VNI-Times"/>
              </a:rPr>
              <a:t>                    </a:t>
            </a:r>
            <a:r>
              <a:rPr b="1" lang="en-US" sz="2200" spc="-1" strike="noStrike">
                <a:solidFill>
                  <a:srgbClr val="f907ba"/>
                </a:solidFill>
                <a:latin typeface="VNI-Univer"/>
              </a:rPr>
              <a:t>II.</a:t>
            </a:r>
            <a:r>
              <a:rPr b="1" lang="en-US" sz="2600" spc="-1" strike="noStrike">
                <a:solidFill>
                  <a:srgbClr val="f907ba"/>
                </a:solidFill>
                <a:latin typeface="VNI-Times"/>
              </a:rPr>
              <a:t> </a:t>
            </a:r>
            <a:r>
              <a:rPr b="1" lang="en-US" sz="2200" spc="-1" strike="noStrike">
                <a:solidFill>
                  <a:srgbClr val="f907ba"/>
                </a:solidFill>
                <a:latin typeface="VNI-Univer"/>
              </a:rPr>
              <a:t>TAÂY SÔN LAÄT ÑOÅ CHÍNH QUYEÀN HOÏ NGUYEÃN VAØ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571840" indent="-2571840"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907ba"/>
                </a:solidFill>
                <a:latin typeface="VNI-Univer"/>
              </a:rPr>
              <a:t>                                         </a:t>
            </a:r>
            <a:r>
              <a:rPr b="1" lang="en-US" sz="2200" spc="-1" strike="noStrike">
                <a:solidFill>
                  <a:srgbClr val="f907ba"/>
                </a:solidFill>
                <a:latin typeface="VNI-Univer"/>
              </a:rPr>
              <a:t>ÑAÙNH TAN QUAÂN XAÂM LÖÔÏC XIEÂM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28600" y="203976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.VnAvant"/>
              </a:rPr>
              <a:t>1. LËt ®æ chÝnh quyÒn hä NguyÔ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-165240" y="25146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.VnAvant"/>
              </a:rPr>
              <a:t>2. ChiÕn th¾ng R¹ch GÇm – Xoµi Mó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-762120" y="3048120"/>
            <a:ext cx="41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.VnAvant"/>
              </a:rPr>
              <a:t>a. Nguyªn nh©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16000" y="335268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.VnAvant"/>
              </a:rPr>
              <a:t>Do NguyÔn </a:t>
            </a:r>
            <a:r>
              <a:rPr b="1" lang="en-US" sz="2000" spc="-1" strike="noStrike">
                <a:solidFill>
                  <a:srgbClr val="3333ff"/>
                </a:solidFill>
                <a:latin typeface=".VnAvantH"/>
              </a:rPr>
              <a:t>¸</a:t>
            </a:r>
            <a:r>
              <a:rPr b="1" lang="en-US" sz="2000" spc="-1" strike="noStrike">
                <a:solidFill>
                  <a:srgbClr val="3333ff"/>
                </a:solidFill>
                <a:latin typeface=".VnAvant"/>
              </a:rPr>
              <a:t>nh cÇu cøu vua Xiª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-685800" y="3794040"/>
            <a:ext cx="41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.VnAvant"/>
              </a:rPr>
              <a:t>b. DiÔn biÕn:   SG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-165240" y="414036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.VnAvant"/>
              </a:rPr>
              <a:t>c. KÕt qu¶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-1447920" y="441972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.VnAvant"/>
              </a:rPr>
              <a:t>Qu©n Xiªm bÞ ®¸nh t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-152280" y="47242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.VnAvant"/>
              </a:rPr>
              <a:t>d</a:t>
            </a:r>
            <a:r>
              <a:rPr b="1" lang="en-US" sz="2400" spc="-1" strike="noStrike">
                <a:solidFill>
                  <a:srgbClr val="3333ff"/>
                </a:solidFill>
                <a:latin typeface=".VnAvant"/>
              </a:rPr>
              <a:t>. </a:t>
            </a:r>
            <a:r>
              <a:rPr b="1" lang="en-US" sz="2400" spc="-1" strike="noStrike">
                <a:solidFill>
                  <a:srgbClr val="3333ff"/>
                </a:solidFill>
                <a:latin typeface=".VnArial"/>
              </a:rPr>
              <a:t>ý</a:t>
            </a:r>
            <a:r>
              <a:rPr b="1" lang="en-US" sz="2000" spc="-1" strike="noStrike">
                <a:solidFill>
                  <a:srgbClr val="3333ff"/>
                </a:solidFill>
                <a:latin typeface=".VnArial"/>
              </a:rPr>
              <a:t> </a:t>
            </a:r>
            <a:r>
              <a:rPr b="1" lang="en-US" sz="2000" spc="-1" strike="noStrike">
                <a:solidFill>
                  <a:srgbClr val="3333ff"/>
                </a:solidFill>
                <a:latin typeface=".VnAvant"/>
              </a:rPr>
              <a:t>nghÜ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04920" y="5791320"/>
            <a:ext cx="57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.VnAvant"/>
              </a:rPr>
              <a:t>- §Ëp tan ©m m­u x©m l­îc cña qu©n Xiªm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43080" y="5105520"/>
            <a:ext cx="849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.VnAvant"/>
              </a:rPr>
              <a:t>- Lµ mét trong nh÷ng trËn thñy chiÕn lín nhÊt trong lÞch sö chèng giÆc ngo¹i x©m cña d©n té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-228600" y="6156360"/>
            <a:ext cx="67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.VnAvant"/>
              </a:rPr>
              <a:t>- §­a phong trµo b­íc vµo mét thêi kú míi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2169360" y="1298520"/>
            <a:ext cx="512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ff"/>
                </a:solidFill>
                <a:uFillTx/>
                <a:latin typeface="VNI-Times"/>
              </a:rPr>
              <a:t>BAØI TAÄP TRAÉC NGHIEÄ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81160" y="1843200"/>
            <a:ext cx="8634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VNI-Ariston"/>
              </a:rPr>
              <a:t>Traän Gaïch Gaàm – Xoaøi Muùt thaéng lôïi laø d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53080" y="3351240"/>
            <a:ext cx="823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NI-Franko"/>
              </a:rPr>
              <a:t>b</a:t>
            </a:r>
            <a:r>
              <a:rPr b="0" i="1" lang="en-US" sz="2800" spc="-1" strike="noStrike">
                <a:solidFill>
                  <a:srgbClr val="cc3300"/>
                </a:solidFill>
                <a:latin typeface="VNI-Franko"/>
              </a:rPr>
              <a:t>    </a:t>
            </a:r>
            <a:r>
              <a:rPr b="1" i="1" lang="en-US" sz="2800" spc="-1" strike="noStrike">
                <a:solidFill>
                  <a:srgbClr val="ff0000"/>
                </a:solidFill>
                <a:latin typeface="VNI-Helve-Condense"/>
              </a:rPr>
              <a:t>Söï laõnh ñaïo taøi tình cuûa Nguyeãn Hueä</a:t>
            </a:r>
            <a:r>
              <a:rPr b="1" i="1" lang="en-US" sz="2800" spc="-1" strike="noStrike">
                <a:solidFill>
                  <a:srgbClr val="ff0000"/>
                </a:solidFill>
                <a:latin typeface="VNI-Franko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26960" y="3900600"/>
            <a:ext cx="768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NI-Franko"/>
              </a:rPr>
              <a:t>c</a:t>
            </a:r>
            <a:r>
              <a:rPr b="0" i="1" lang="en-US" sz="2800" spc="-1" strike="noStrike">
                <a:solidFill>
                  <a:srgbClr val="cc3300"/>
                </a:solidFill>
                <a:latin typeface="VNI-Franko"/>
              </a:rPr>
              <a:t>    </a:t>
            </a:r>
            <a:r>
              <a:rPr b="1" i="1" lang="en-US" sz="2800" spc="-1" strike="noStrike">
                <a:solidFill>
                  <a:srgbClr val="ff0000"/>
                </a:solidFill>
                <a:latin typeface="VNI-Helve-Condense"/>
              </a:rPr>
              <a:t>Löïc löôïng nghóa quaân Taây Sôn maïn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143000" y="2590920"/>
            <a:ext cx="609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NI-Franko"/>
              </a:rPr>
              <a:t>a </a:t>
            </a:r>
            <a:r>
              <a:rPr b="0" i="1" lang="en-US" sz="2800" spc="-1" strike="noStrike">
                <a:solidFill>
                  <a:srgbClr val="cc3300"/>
                </a:solidFill>
                <a:latin typeface="VNI-Franko"/>
              </a:rPr>
              <a:t>    </a:t>
            </a:r>
            <a:r>
              <a:rPr b="1" i="1" lang="en-US" sz="2800" spc="-1" strike="noStrike">
                <a:solidFill>
                  <a:srgbClr val="ff0000"/>
                </a:solidFill>
                <a:latin typeface="VNI-Helve-Condense"/>
              </a:rPr>
              <a:t>Nhaân daân uûng hoä nhieät tình</a:t>
            </a:r>
            <a:r>
              <a:rPr b="1" i="1" lang="en-US" sz="2800" spc="-1" strike="noStrike">
                <a:solidFill>
                  <a:srgbClr val="ff0000"/>
                </a:solidFill>
                <a:latin typeface="VNI-Franko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054080" y="4635360"/>
            <a:ext cx="457200" cy="45720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43400" y="4572000"/>
            <a:ext cx="38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NI-Franko"/>
              </a:rPr>
              <a:t>d    </a:t>
            </a:r>
            <a:r>
              <a:rPr b="1" i="1" lang="en-US" sz="2800" spc="-1" strike="noStrike">
                <a:solidFill>
                  <a:srgbClr val="ff0000"/>
                </a:solidFill>
                <a:latin typeface="VNI-Helve-Condense"/>
              </a:rPr>
              <a:t>Caû ba yù treân.</a:t>
            </a:r>
            <a:r>
              <a:rPr b="1" i="1" lang="en-US" sz="2800" spc="-1" strike="noStrike">
                <a:solidFill>
                  <a:srgbClr val="cc3300"/>
                </a:solidFill>
                <a:latin typeface="VNI-Helve-Condense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375080" y="316944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NI-Helve-Condense"/>
              </a:rPr>
              <a:t>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/>
          <p:nvPr/>
        </p:nvSpPr>
        <p:spPr>
          <a:xfrm>
            <a:off x="2362320" y="586728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.VnAvant"/>
              </a:rPr>
              <a:t>S«ng TiÒn vµ cï lao Thíi S¬n ngµy na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-609480" y="1157400"/>
            <a:ext cx="952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0240" indent="-12002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NI-Helve-Condense"/>
              </a:rPr>
              <a:t>       </a:t>
            </a:r>
            <a:r>
              <a:rPr b="1" lang="en-US" sz="2800" spc="-1" strike="noStrike">
                <a:solidFill>
                  <a:srgbClr val="3333ff"/>
                </a:solidFill>
                <a:latin typeface="VNI-Helve-Condense"/>
              </a:rPr>
              <a:t>1. Haõy neâu nhöõng neùt chung veà khôûi nghóa Taây Sô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1943280"/>
            <a:ext cx="2895480" cy="1595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VNI-Helve-Condense"/>
              </a:rPr>
              <a:t>Ngöôøi laõnh ñaï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2895480"/>
            <a:ext cx="2895480" cy="93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VNI-Helve-Condense"/>
              </a:rPr>
              <a:t>Caên cöù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VNI-Helve-Condense"/>
              </a:rPr>
              <a:t>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520" y="3848040"/>
            <a:ext cx="2895480" cy="116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VNI-Helve-Condense"/>
              </a:rPr>
              <a:t>Söï chuaån b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4800600"/>
            <a:ext cx="2895480" cy="1595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VNI-Helve-Condense"/>
              </a:rPr>
              <a:t>Löïc löôïng tham g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1943280"/>
            <a:ext cx="5334120" cy="94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69da"/>
                </a:solidFill>
                <a:latin typeface="VNI-Helve-Condense"/>
              </a:rPr>
              <a:t>Nguyeãn Nhaïc, Nguyeãn Hueä, Nguyeãn Lö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895480"/>
            <a:ext cx="5315040" cy="1373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cc"/>
                </a:solidFill>
                <a:latin typeface="VNI-Helve-Condense"/>
              </a:rPr>
              <a:t>  </a:t>
            </a:r>
            <a:r>
              <a:rPr b="1" lang="en-US" sz="2800" spc="-1" strike="noStrike">
                <a:solidFill>
                  <a:srgbClr val="f569da"/>
                </a:solidFill>
                <a:latin typeface="VNI-Helve-Condense"/>
              </a:rPr>
              <a:t>Taây Sôn thöôïng ñaïo, sau ñoù chuyeån xuoáng Taây Sôn haï ñaï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3848040"/>
            <a:ext cx="5334120" cy="1373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cc"/>
                </a:solidFill>
                <a:latin typeface="VNI-Helve-Condense"/>
              </a:rPr>
              <a:t>  </a:t>
            </a:r>
            <a:r>
              <a:rPr b="1" lang="en-US" sz="2800" spc="-1" strike="noStrike">
                <a:solidFill>
                  <a:srgbClr val="f569da"/>
                </a:solidFill>
                <a:latin typeface="VNI-Helve-Condense"/>
              </a:rPr>
              <a:t>Döïng thaønh luõy, laäp kho taøng, luyeän nghóa quaâ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29000" y="4800600"/>
            <a:ext cx="5334120" cy="2449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569da"/>
              </a:buClr>
              <a:buFont typeface="VNI-Helve-Condens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69da"/>
                </a:solidFill>
                <a:latin typeface="VNI-Helve-Condense"/>
              </a:rPr>
              <a:t> </a:t>
            </a:r>
            <a:r>
              <a:rPr b="1" lang="en-US" sz="2800" spc="-1" strike="noStrike">
                <a:solidFill>
                  <a:srgbClr val="f569da"/>
                </a:solidFill>
                <a:latin typeface="VNI-Helve-Condense"/>
              </a:rPr>
              <a:t>Daân ngheøo, ñoàng baøo daân toäc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69da"/>
                </a:solidFill>
                <a:latin typeface="VNI-Helve-Condense"/>
              </a:rPr>
              <a:t>- Thôï thuû coâng, thöông nhaân, haøo muïc caùc ñòa phöô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47920" y="0"/>
            <a:ext cx="6095880" cy="1143000"/>
          </a:xfrm>
          <a:prstGeom prst="irregularSeal1">
            <a:avLst/>
          </a:prstGeom>
          <a:solidFill>
            <a:srgbClr val="b3ffff"/>
          </a:solidFill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NI-Brush"/>
              </a:rPr>
              <a:t>KIEÅM TRA BAØI CU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1828800" y="618660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.VnAvant"/>
              </a:rPr>
              <a:t>Cï lao Thíi S¬n- §iÓm du lÞch hÊp dÉ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1295280" y="76320"/>
            <a:ext cx="6782040" cy="4848120"/>
          </a:xfrm>
          <a:prstGeom prst="rect">
            <a:avLst/>
          </a:prstGeom>
          <a:ln w="0">
            <a:noFill/>
          </a:ln>
        </p:spPr>
      </p:pic>
      <p:sp>
        <p:nvSpPr>
          <p:cNvPr id="576" name=""/>
          <p:cNvSpPr/>
          <p:nvPr/>
        </p:nvSpPr>
        <p:spPr>
          <a:xfrm>
            <a:off x="1295280" y="4800600"/>
            <a:ext cx="6782040" cy="99072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ễ hội tưởng nhớ đến vua Quang Tr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7" name=""/>
          <p:cNvGraphicFramePr/>
          <p:nvPr/>
        </p:nvGraphicFramePr>
        <p:xfrm>
          <a:off x="5318280" y="4305240"/>
          <a:ext cx="2377800" cy="533520"/>
        </p:xfrm>
        <a:graphic>
          <a:graphicData uri="http://schemas.openxmlformats.org/drawingml/2006/table">
            <a:tbl>
              <a:tblPr/>
              <a:tblGrid>
                <a:gridCol w="596880"/>
                <a:gridCol w="590400"/>
                <a:gridCol w="595440"/>
                <a:gridCol w="59508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sp>
        <p:nvSpPr>
          <p:cNvPr id="578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33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2362320" y="20520"/>
            <a:ext cx="43434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GIẢI Ô CHỮ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graphicFrame>
        <p:nvGraphicFramePr>
          <p:cNvPr id="580" name=""/>
          <p:cNvGraphicFramePr/>
          <p:nvPr/>
        </p:nvGraphicFramePr>
        <p:xfrm>
          <a:off x="3276720" y="1206360"/>
          <a:ext cx="5216400" cy="533520"/>
        </p:xfrm>
        <a:graphic>
          <a:graphicData uri="http://schemas.openxmlformats.org/drawingml/2006/table">
            <a:tbl>
              <a:tblPr/>
              <a:tblGrid>
                <a:gridCol w="746280"/>
                <a:gridCol w="745920"/>
                <a:gridCol w="743040"/>
                <a:gridCol w="745920"/>
                <a:gridCol w="746280"/>
                <a:gridCol w="743040"/>
                <a:gridCol w="7459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graphicFrame>
        <p:nvGraphicFramePr>
          <p:cNvPr id="581" name=""/>
          <p:cNvGraphicFramePr/>
          <p:nvPr/>
        </p:nvGraphicFramePr>
        <p:xfrm>
          <a:off x="5006880" y="2209680"/>
          <a:ext cx="4137120" cy="533520"/>
        </p:xfrm>
        <a:graphic>
          <a:graphicData uri="http://schemas.openxmlformats.org/drawingml/2006/table">
            <a:tbl>
              <a:tblPr/>
              <a:tblGrid>
                <a:gridCol w="460440"/>
                <a:gridCol w="460440"/>
                <a:gridCol w="458640"/>
                <a:gridCol w="460440"/>
                <a:gridCol w="460440"/>
                <a:gridCol w="457200"/>
                <a:gridCol w="460440"/>
                <a:gridCol w="460080"/>
                <a:gridCol w="4590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graphicFrame>
        <p:nvGraphicFramePr>
          <p:cNvPr id="582" name=""/>
          <p:cNvGraphicFramePr/>
          <p:nvPr/>
        </p:nvGraphicFramePr>
        <p:xfrm>
          <a:off x="1060560" y="2743200"/>
          <a:ext cx="5949720" cy="533160"/>
        </p:xfrm>
        <a:graphic>
          <a:graphicData uri="http://schemas.openxmlformats.org/drawingml/2006/table">
            <a:tbl>
              <a:tblPr/>
              <a:tblGrid>
                <a:gridCol w="595080"/>
                <a:gridCol w="596880"/>
                <a:gridCol w="592200"/>
                <a:gridCol w="595440"/>
                <a:gridCol w="596880"/>
                <a:gridCol w="593640"/>
                <a:gridCol w="595440"/>
                <a:gridCol w="595080"/>
                <a:gridCol w="457200"/>
                <a:gridCol w="73188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sp>
        <p:nvSpPr>
          <p:cNvPr id="583" name=""/>
          <p:cNvSpPr/>
          <p:nvPr/>
        </p:nvSpPr>
        <p:spPr>
          <a:xfrm>
            <a:off x="228600" y="558720"/>
            <a:ext cx="609480" cy="53352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33"/>
                </a:solidFill>
                <a:latin typeface="Times New Roman"/>
                <a:ea typeface="Times New Roman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0" y="6324480"/>
            <a:ext cx="9144000" cy="459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Quân Tây Sơn đánh tan quân xâm lược Xiêm trên dòng sông nà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3414600" y="673200"/>
          <a:ext cx="5653080" cy="533160"/>
        </p:xfrm>
        <a:graphic>
          <a:graphicData uri="http://schemas.openxmlformats.org/drawingml/2006/table">
            <a:tbl>
              <a:tblPr/>
              <a:tblGrid>
                <a:gridCol w="708120"/>
                <a:gridCol w="706320"/>
                <a:gridCol w="704880"/>
                <a:gridCol w="708120"/>
                <a:gridCol w="706320"/>
                <a:gridCol w="704880"/>
                <a:gridCol w="706680"/>
                <a:gridCol w="70776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graphicFrame>
        <p:nvGraphicFramePr>
          <p:cNvPr id="586" name=""/>
          <p:cNvGraphicFramePr/>
          <p:nvPr/>
        </p:nvGraphicFramePr>
        <p:xfrm>
          <a:off x="3414600" y="647640"/>
          <a:ext cx="5653080" cy="533520"/>
        </p:xfrm>
        <a:graphic>
          <a:graphicData uri="http://schemas.openxmlformats.org/drawingml/2006/table">
            <a:tbl>
              <a:tblPr/>
              <a:tblGrid>
                <a:gridCol w="708120"/>
                <a:gridCol w="706320"/>
                <a:gridCol w="704880"/>
                <a:gridCol w="943200"/>
                <a:gridCol w="533160"/>
                <a:gridCol w="642960"/>
                <a:gridCol w="706680"/>
                <a:gridCol w="707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ff"/>
                          </a:solidFill>
                          <a:latin typeface="Times New Roman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ff"/>
                          </a:solidFill>
                          <a:latin typeface="Times New Roman"/>
                        </a:rPr>
                        <a:t>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ff"/>
                          </a:solidFill>
                          <a:latin typeface="Times New Roman"/>
                        </a:rPr>
                        <a:t>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graphicFrame>
        <p:nvGraphicFramePr>
          <p:cNvPr id="587" name=""/>
          <p:cNvGraphicFramePr/>
          <p:nvPr/>
        </p:nvGraphicFramePr>
        <p:xfrm>
          <a:off x="3276720" y="1184400"/>
          <a:ext cx="5216400" cy="517320"/>
        </p:xfrm>
        <a:graphic>
          <a:graphicData uri="http://schemas.openxmlformats.org/drawingml/2006/table">
            <a:tbl>
              <a:tblPr/>
              <a:tblGrid>
                <a:gridCol w="745920"/>
                <a:gridCol w="746280"/>
                <a:gridCol w="743040"/>
                <a:gridCol w="965160"/>
                <a:gridCol w="527040"/>
                <a:gridCol w="742680"/>
                <a:gridCol w="746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ff"/>
                          </a:solidFill>
                          <a:latin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ff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ff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ff"/>
                          </a:solidFill>
                          <a:latin typeface="Times New Roman"/>
                        </a:rPr>
                        <a:t>Ơ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sp>
        <p:nvSpPr>
          <p:cNvPr id="588" name=""/>
          <p:cNvSpPr/>
          <p:nvPr/>
        </p:nvSpPr>
        <p:spPr>
          <a:xfrm>
            <a:off x="228600" y="1117440"/>
            <a:ext cx="609480" cy="53352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33"/>
                </a:solidFill>
                <a:latin typeface="Times New Roman"/>
                <a:ea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0" y="6324480"/>
            <a:ext cx="9144000" cy="459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Tháng 9-1773, nghĩa quân Tây Sơn đã chiếm được phủ thành nà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28600" y="2184480"/>
            <a:ext cx="609480" cy="53316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33"/>
                </a:solidFill>
                <a:latin typeface="Times New Roman"/>
                <a:ea typeface="Times New Roman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0" y="6286680"/>
            <a:ext cx="9144000" cy="459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Ai là người đã chỉ huy quân Tây Sơn đánh quân Xiêm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92" name=""/>
          <p:cNvGraphicFramePr/>
          <p:nvPr/>
        </p:nvGraphicFramePr>
        <p:xfrm>
          <a:off x="4876920" y="2222640"/>
          <a:ext cx="4267080" cy="533160"/>
        </p:xfrm>
        <a:graphic>
          <a:graphicData uri="http://schemas.openxmlformats.org/drawingml/2006/table">
            <a:tbl>
              <a:tblPr/>
              <a:tblGrid>
                <a:gridCol w="474480"/>
                <a:gridCol w="474840"/>
                <a:gridCol w="650880"/>
                <a:gridCol w="522000"/>
                <a:gridCol w="392400"/>
                <a:gridCol w="380880"/>
                <a:gridCol w="423720"/>
                <a:gridCol w="474840"/>
                <a:gridCol w="47304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ff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ff"/>
                          </a:solidFill>
                          <a:latin typeface="Times New Roman"/>
                        </a:rPr>
                        <a:t>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ff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ff"/>
                          </a:solidFill>
                          <a:latin typeface="Times New Roman"/>
                        </a:rPr>
                        <a:t>Ệ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sp>
        <p:nvSpPr>
          <p:cNvPr id="593" name=""/>
          <p:cNvSpPr/>
          <p:nvPr/>
        </p:nvSpPr>
        <p:spPr>
          <a:xfrm>
            <a:off x="228600" y="2717640"/>
            <a:ext cx="609480" cy="53352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33"/>
                </a:solidFill>
                <a:latin typeface="Times New Roman"/>
                <a:ea typeface="Times New Roman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94" name=""/>
          <p:cNvGraphicFramePr/>
          <p:nvPr/>
        </p:nvGraphicFramePr>
        <p:xfrm>
          <a:off x="1066680" y="2743200"/>
          <a:ext cx="5950080" cy="533160"/>
        </p:xfrm>
        <a:graphic>
          <a:graphicData uri="http://schemas.openxmlformats.org/drawingml/2006/table">
            <a:tbl>
              <a:tblPr/>
              <a:tblGrid>
                <a:gridCol w="595440"/>
                <a:gridCol w="596880"/>
                <a:gridCol w="592200"/>
                <a:gridCol w="595440"/>
                <a:gridCol w="596880"/>
                <a:gridCol w="593640"/>
                <a:gridCol w="595080"/>
                <a:gridCol w="595440"/>
                <a:gridCol w="649440"/>
                <a:gridCol w="53964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ff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ff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ff"/>
                          </a:solidFill>
                          <a:latin typeface="Times New Roman"/>
                        </a:rPr>
                        <a:t>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ff"/>
                          </a:solidFill>
                          <a:latin typeface="Times New Roman"/>
                        </a:rPr>
                        <a:t>Ạ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sp>
        <p:nvSpPr>
          <p:cNvPr id="595" name=""/>
          <p:cNvSpPr/>
          <p:nvPr/>
        </p:nvSpPr>
        <p:spPr>
          <a:xfrm>
            <a:off x="0" y="6324480"/>
            <a:ext cx="9144000" cy="459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Trong tình thế bất lợi, ai là người đã đưa ra đề nghị giảng hò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96" name=""/>
          <p:cNvGraphicFramePr/>
          <p:nvPr/>
        </p:nvGraphicFramePr>
        <p:xfrm>
          <a:off x="4724280" y="3251160"/>
          <a:ext cx="2971800" cy="609480"/>
        </p:xfrm>
        <a:graphic>
          <a:graphicData uri="http://schemas.openxmlformats.org/drawingml/2006/table">
            <a:tbl>
              <a:tblPr/>
              <a:tblGrid>
                <a:gridCol w="594000"/>
                <a:gridCol w="596880"/>
                <a:gridCol w="590400"/>
                <a:gridCol w="595440"/>
                <a:gridCol w="59508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sp>
        <p:nvSpPr>
          <p:cNvPr id="597" name=""/>
          <p:cNvSpPr/>
          <p:nvPr/>
        </p:nvSpPr>
        <p:spPr>
          <a:xfrm>
            <a:off x="228600" y="3251160"/>
            <a:ext cx="609480" cy="53352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33"/>
                </a:solidFill>
                <a:latin typeface="Times New Roman"/>
                <a:ea typeface="Times New Roman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4495680" y="3263760"/>
          <a:ext cx="3200400" cy="533520"/>
        </p:xfrm>
        <a:graphic>
          <a:graphicData uri="http://schemas.openxmlformats.org/drawingml/2006/table">
            <a:tbl>
              <a:tblPr/>
              <a:tblGrid>
                <a:gridCol w="822600"/>
                <a:gridCol w="596880"/>
                <a:gridCol w="590400"/>
                <a:gridCol w="504720"/>
                <a:gridCol w="6858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ff"/>
                          </a:solidFill>
                          <a:latin typeface="Times New Roman"/>
                        </a:rPr>
                        <a:t>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sp>
        <p:nvSpPr>
          <p:cNvPr id="599" name=""/>
          <p:cNvSpPr/>
          <p:nvPr/>
        </p:nvSpPr>
        <p:spPr>
          <a:xfrm>
            <a:off x="0" y="6324480"/>
            <a:ext cx="9144000" cy="398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Sau khi tiến quân vào Gia Định, Nguyễn Huệ đã đóng đại bản doanh tại đâu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00" name=""/>
          <p:cNvGraphicFramePr/>
          <p:nvPr/>
        </p:nvGraphicFramePr>
        <p:xfrm>
          <a:off x="4711680" y="3809880"/>
          <a:ext cx="4176360" cy="533520"/>
        </p:xfrm>
        <a:graphic>
          <a:graphicData uri="http://schemas.openxmlformats.org/drawingml/2006/table">
            <a:tbl>
              <a:tblPr/>
              <a:tblGrid>
                <a:gridCol w="596520"/>
                <a:gridCol w="598320"/>
                <a:gridCol w="594000"/>
                <a:gridCol w="596880"/>
                <a:gridCol w="598680"/>
                <a:gridCol w="595080"/>
                <a:gridCol w="596880"/>
              </a:tblGrid>
              <a:tr h="435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                                          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graphicFrame>
        <p:nvGraphicFramePr>
          <p:cNvPr id="601" name=""/>
          <p:cNvGraphicFramePr/>
          <p:nvPr/>
        </p:nvGraphicFramePr>
        <p:xfrm>
          <a:off x="5410080" y="1676520"/>
          <a:ext cx="3733920" cy="533160"/>
        </p:xfrm>
        <a:graphic>
          <a:graphicData uri="http://schemas.openxmlformats.org/drawingml/2006/table">
            <a:tbl>
              <a:tblPr/>
              <a:tblGrid>
                <a:gridCol w="533160"/>
                <a:gridCol w="534960"/>
                <a:gridCol w="531000"/>
                <a:gridCol w="533880"/>
                <a:gridCol w="534960"/>
                <a:gridCol w="532080"/>
                <a:gridCol w="53388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sp>
        <p:nvSpPr>
          <p:cNvPr id="602" name=""/>
          <p:cNvSpPr/>
          <p:nvPr/>
        </p:nvSpPr>
        <p:spPr>
          <a:xfrm>
            <a:off x="228600" y="1663560"/>
            <a:ext cx="609480" cy="53352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33"/>
                </a:solidFill>
                <a:latin typeface="Times New Roman"/>
                <a:ea typeface="Times New Roman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03" name=""/>
          <p:cNvGraphicFramePr/>
          <p:nvPr/>
        </p:nvGraphicFramePr>
        <p:xfrm>
          <a:off x="5410080" y="1689120"/>
          <a:ext cx="3733560" cy="533160"/>
        </p:xfrm>
        <a:graphic>
          <a:graphicData uri="http://schemas.openxmlformats.org/drawingml/2006/table">
            <a:tbl>
              <a:tblPr/>
              <a:tblGrid>
                <a:gridCol w="533160"/>
                <a:gridCol w="534960"/>
                <a:gridCol w="530280"/>
                <a:gridCol w="534960"/>
                <a:gridCol w="534960"/>
                <a:gridCol w="532080"/>
                <a:gridCol w="53316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.VnTimeH"/>
                        </a:rPr>
                        <a:t>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ff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ff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ff"/>
                          </a:solidFill>
                          <a:latin typeface="Times New Roman"/>
                        </a:rPr>
                        <a:t>Â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sp>
        <p:nvSpPr>
          <p:cNvPr id="604" name=""/>
          <p:cNvSpPr/>
          <p:nvPr/>
        </p:nvSpPr>
        <p:spPr>
          <a:xfrm>
            <a:off x="0" y="6324480"/>
            <a:ext cx="9144000" cy="459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Chính quyền họ Nguyễn ở Đàng Trong đóng tại nơi nà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28600" y="3784680"/>
            <a:ext cx="609480" cy="53316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33"/>
                </a:solidFill>
                <a:latin typeface="Times New Roman"/>
                <a:ea typeface="Times New Roman"/>
              </a:rPr>
              <a:t>7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06" name=""/>
          <p:cNvGraphicFramePr/>
          <p:nvPr/>
        </p:nvGraphicFramePr>
        <p:xfrm>
          <a:off x="4724280" y="3809880"/>
          <a:ext cx="4165560" cy="533520"/>
        </p:xfrm>
        <a:graphic>
          <a:graphicData uri="http://schemas.openxmlformats.org/drawingml/2006/table">
            <a:tbl>
              <a:tblPr/>
              <a:tblGrid>
                <a:gridCol w="595440"/>
                <a:gridCol w="596880"/>
                <a:gridCol w="591840"/>
                <a:gridCol w="476280"/>
                <a:gridCol w="716040"/>
                <a:gridCol w="593640"/>
                <a:gridCol w="59544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ff"/>
                          </a:solidFill>
                          <a:latin typeface="Times New Roman"/>
                        </a:rPr>
                        <a:t>Ớ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ff"/>
                          </a:solidFill>
                          <a:latin typeface="Times New Roman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ff"/>
                          </a:solidFill>
                          <a:latin typeface="Times New Roman"/>
                        </a:rPr>
                        <a:t>Ơ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sp>
        <p:nvSpPr>
          <p:cNvPr id="607" name=""/>
          <p:cNvSpPr/>
          <p:nvPr/>
        </p:nvSpPr>
        <p:spPr>
          <a:xfrm>
            <a:off x="0" y="6286680"/>
            <a:ext cx="9144000" cy="459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Đây là một trong những cù lao lớn nhất tại Rạch Gầm – Xoài Mú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28600" y="4317840"/>
            <a:ext cx="609480" cy="53352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33"/>
                </a:solidFill>
                <a:latin typeface="Times New Roman"/>
                <a:ea typeface="Times New Roman"/>
              </a:rPr>
              <a:t>8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28600" y="4876920"/>
            <a:ext cx="609480" cy="53316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33"/>
                </a:solidFill>
                <a:latin typeface="Times New Roman"/>
                <a:ea typeface="Times New Roman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10" name=""/>
          <p:cNvGraphicFramePr/>
          <p:nvPr/>
        </p:nvGraphicFramePr>
        <p:xfrm>
          <a:off x="5294160" y="4343400"/>
          <a:ext cx="2376360" cy="533160"/>
        </p:xfrm>
        <a:graphic>
          <a:graphicData uri="http://schemas.openxmlformats.org/drawingml/2006/table">
            <a:tbl>
              <a:tblPr/>
              <a:tblGrid>
                <a:gridCol w="623880"/>
                <a:gridCol w="566640"/>
                <a:gridCol w="590760"/>
                <a:gridCol w="59508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ff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sp>
        <p:nvSpPr>
          <p:cNvPr id="611" name=""/>
          <p:cNvSpPr/>
          <p:nvPr/>
        </p:nvSpPr>
        <p:spPr>
          <a:xfrm>
            <a:off x="0" y="6286680"/>
            <a:ext cx="9144000" cy="459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Nguyễn Ánh đã cầu cứu vua nước nào để đánh quân Tây Sơ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12" name=""/>
          <p:cNvGraphicFramePr/>
          <p:nvPr/>
        </p:nvGraphicFramePr>
        <p:xfrm>
          <a:off x="4267080" y="4876920"/>
          <a:ext cx="4137120" cy="533160"/>
        </p:xfrm>
        <a:graphic>
          <a:graphicData uri="http://schemas.openxmlformats.org/drawingml/2006/table">
            <a:tbl>
              <a:tblPr/>
              <a:tblGrid>
                <a:gridCol w="460440"/>
                <a:gridCol w="460440"/>
                <a:gridCol w="458640"/>
                <a:gridCol w="460440"/>
                <a:gridCol w="460440"/>
                <a:gridCol w="457200"/>
                <a:gridCol w="460440"/>
                <a:gridCol w="460080"/>
                <a:gridCol w="45900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graphicFrame>
        <p:nvGraphicFramePr>
          <p:cNvPr id="613" name=""/>
          <p:cNvGraphicFramePr/>
          <p:nvPr/>
        </p:nvGraphicFramePr>
        <p:xfrm>
          <a:off x="4257720" y="4876920"/>
          <a:ext cx="4137120" cy="533160"/>
        </p:xfrm>
        <a:graphic>
          <a:graphicData uri="http://schemas.openxmlformats.org/drawingml/2006/table">
            <a:tbl>
              <a:tblPr/>
              <a:tblGrid>
                <a:gridCol w="460440"/>
                <a:gridCol w="460440"/>
                <a:gridCol w="458640"/>
                <a:gridCol w="460440"/>
                <a:gridCol w="460440"/>
                <a:gridCol w="457200"/>
                <a:gridCol w="460440"/>
                <a:gridCol w="460080"/>
                <a:gridCol w="45900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ff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ff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ff"/>
                          </a:solidFill>
                          <a:latin typeface="Times New Roman"/>
                        </a:rPr>
                        <a:t>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ff"/>
                          </a:solidFill>
                          <a:latin typeface="Times New Roman"/>
                        </a:rPr>
                        <a:t>Á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33"/>
                        </a:gs>
                        <a:gs pos="100000">
                          <a:srgbClr val="75751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sp>
        <p:nvSpPr>
          <p:cNvPr id="614" name=""/>
          <p:cNvSpPr/>
          <p:nvPr/>
        </p:nvSpPr>
        <p:spPr>
          <a:xfrm>
            <a:off x="0" y="6286680"/>
            <a:ext cx="9144000" cy="459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Ai là người cầu cứu vua Xiêm đưa quân xâm lược nước t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5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517680" cy="533520"/>
          </a:xfrm>
          <a:prstGeom prst="rect">
            <a:avLst/>
          </a:prstGeom>
          <a:ln w="0">
            <a:noFill/>
          </a:ln>
        </p:spPr>
      </p:pic>
      <p:sp>
        <p:nvSpPr>
          <p:cNvPr id="616" name=""/>
          <p:cNvSpPr/>
          <p:nvPr/>
        </p:nvSpPr>
        <p:spPr>
          <a:xfrm>
            <a:off x="6477120" y="635040"/>
            <a:ext cx="533160" cy="533520"/>
          </a:xfrm>
          <a:prstGeom prst="rect">
            <a:avLst/>
          </a:prstGeom>
          <a:gradFill rotWithShape="0">
            <a:gsLst>
              <a:gs pos="0">
                <a:srgbClr val="ffff33"/>
              </a:gs>
              <a:gs pos="100000">
                <a:srgbClr val="75751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477120" y="1143000"/>
            <a:ext cx="533160" cy="533520"/>
          </a:xfrm>
          <a:prstGeom prst="rect">
            <a:avLst/>
          </a:prstGeom>
          <a:gradFill rotWithShape="0">
            <a:gsLst>
              <a:gs pos="0">
                <a:srgbClr val="ffff33"/>
              </a:gs>
              <a:gs pos="100000">
                <a:srgbClr val="75751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477120" y="1676520"/>
            <a:ext cx="533160" cy="533160"/>
          </a:xfrm>
          <a:prstGeom prst="rect">
            <a:avLst/>
          </a:prstGeom>
          <a:gradFill rotWithShape="0">
            <a:gsLst>
              <a:gs pos="0">
                <a:srgbClr val="ffff33"/>
              </a:gs>
              <a:gs pos="100000">
                <a:srgbClr val="75751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Ủ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477120" y="2209680"/>
            <a:ext cx="533160" cy="533520"/>
          </a:xfrm>
          <a:prstGeom prst="rect">
            <a:avLst/>
          </a:prstGeom>
          <a:gradFill rotWithShape="0">
            <a:gsLst>
              <a:gs pos="0">
                <a:srgbClr val="ffff33"/>
              </a:gs>
              <a:gs pos="100000">
                <a:srgbClr val="75751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477120" y="2743200"/>
            <a:ext cx="533160" cy="533520"/>
          </a:xfrm>
          <a:prstGeom prst="rect">
            <a:avLst/>
          </a:prstGeom>
          <a:gradFill rotWithShape="0">
            <a:gsLst>
              <a:gs pos="0">
                <a:srgbClr val="ffff33"/>
              </a:gs>
              <a:gs pos="100000">
                <a:srgbClr val="75751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477120" y="3276720"/>
            <a:ext cx="533160" cy="533160"/>
          </a:xfrm>
          <a:prstGeom prst="rect">
            <a:avLst/>
          </a:prstGeom>
          <a:gradFill rotWithShape="0">
            <a:gsLst>
              <a:gs pos="0">
                <a:srgbClr val="ffff33"/>
              </a:gs>
              <a:gs pos="100000">
                <a:srgbClr val="75751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477120" y="3809880"/>
            <a:ext cx="533160" cy="533520"/>
          </a:xfrm>
          <a:prstGeom prst="rect">
            <a:avLst/>
          </a:prstGeom>
          <a:gradFill rotWithShape="0">
            <a:gsLst>
              <a:gs pos="0">
                <a:srgbClr val="ffff33"/>
              </a:gs>
              <a:gs pos="100000">
                <a:srgbClr val="75751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477120" y="4343400"/>
            <a:ext cx="533160" cy="533520"/>
          </a:xfrm>
          <a:prstGeom prst="rect">
            <a:avLst/>
          </a:prstGeom>
          <a:gradFill rotWithShape="0">
            <a:gsLst>
              <a:gs pos="0">
                <a:srgbClr val="ffff33"/>
              </a:gs>
              <a:gs pos="100000">
                <a:srgbClr val="75751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Ế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477120" y="4876920"/>
            <a:ext cx="533160" cy="533160"/>
          </a:xfrm>
          <a:prstGeom prst="rect">
            <a:avLst/>
          </a:prstGeom>
          <a:gradFill rotWithShape="0">
            <a:gsLst>
              <a:gs pos="0">
                <a:srgbClr val="ffff33"/>
              </a:gs>
              <a:gs pos="100000">
                <a:srgbClr val="75751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0" y="6286680"/>
            <a:ext cx="9144000" cy="459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ĐẶC ĐIỂM CỦA TRẬN RẠCH GẦM – XOÀI MÚ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restart="whenNotActive" nodeType="interactiveSeq" fill="hold">
                <p:stCondLst>
                  <p:cond evt="onClick">
                    <p:tgtEl>
                      <p:spTgt spid="583"/>
                    </p:tgtEl>
                  </p:cond>
                </p:stCondLst>
                <p:childTnLst>
                  <p:par>
                    <p:cTn id="274" fill="hold">
                      <p:stCondLst>
                        <p:cond evt="onClick">
                          <p:tgtEl>
                            <p:spTgt spid="583"/>
                          </p:tgtEl>
                        </p:cond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evt="onClick">
                          <p:tgtEl>
                            <p:spTgt spid="583"/>
                          </p:tgtEl>
                        </p:cond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5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7" restart="whenNotActive" nodeType="interactiveSeq" fill="hold">
                <p:stCondLst>
                  <p:cond evt="onClick">
                    <p:tgtEl>
                      <p:spTgt spid="588"/>
                    </p:tgtEl>
                  </p:cond>
                </p:stCondLst>
                <p:childTnLst>
                  <p:par>
                    <p:cTn id="288" fill="hold">
                      <p:stCondLst>
                        <p:cond evt="onClick">
                          <p:tgtEl>
                            <p:spTgt spid="588"/>
                          </p:tgtEl>
                        </p:cond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evt="onClick">
                          <p:tgtEl>
                            <p:spTgt spid="588"/>
                          </p:tgtEl>
                        </p:cond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99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1" restart="whenNotActive" nodeType="interactiveSeq" fill="hold">
                <p:stCondLst>
                  <p:cond evt="onClick">
                    <p:tgtEl>
                      <p:spTgt spid="590"/>
                    </p:tgtEl>
                  </p:cond>
                </p:stCondLst>
                <p:childTnLst>
                  <p:par>
                    <p:cTn id="302" fill="hold">
                      <p:stCondLst>
                        <p:cond evt="onClick">
                          <p:tgtEl>
                            <p:spTgt spid="590"/>
                          </p:tgtEl>
                        </p:cond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evt="onClick">
                          <p:tgtEl>
                            <p:spTgt spid="590"/>
                          </p:tgtEl>
                        </p:cond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3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5" restart="whenNotActive" nodeType="interactiveSeq" fill="hold">
                <p:stCondLst>
                  <p:cond evt="onClick">
                    <p:tgtEl>
                      <p:spTgt spid="593"/>
                    </p:tgtEl>
                  </p:cond>
                </p:stCondLst>
                <p:childTnLst>
                  <p:par>
                    <p:cTn id="316" fill="hold">
                      <p:stCondLst>
                        <p:cond evt="onClick">
                          <p:tgtEl>
                            <p:spTgt spid="593"/>
                          </p:tgtEl>
                        </p:cond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evt="onClick">
                          <p:tgtEl>
                            <p:spTgt spid="593"/>
                          </p:tgtEl>
                        </p:cond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27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" restart="whenNotActive" nodeType="interactiveSeq" fill="hold">
                <p:stCondLst>
                  <p:cond evt="onClick">
                    <p:tgtEl>
                      <p:spTgt spid="597"/>
                    </p:tgtEl>
                  </p:cond>
                </p:stCondLst>
                <p:childTnLst>
                  <p:par>
                    <p:cTn id="330" fill="hold">
                      <p:stCondLst>
                        <p:cond evt="onClick">
                          <p:tgtEl>
                            <p:spTgt spid="597"/>
                          </p:tgtEl>
                        </p:cond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evt="onClick">
                          <p:tgtEl>
                            <p:spTgt spid="597"/>
                          </p:tgtEl>
                        </p:cond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41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3" restart="whenNotActive" nodeType="interactiveSeq" fill="hold">
                <p:stCondLst>
                  <p:cond evt="onClick">
                    <p:tgtEl>
                      <p:spTgt spid="602"/>
                    </p:tgtEl>
                  </p:cond>
                </p:stCondLst>
                <p:childTnLst>
                  <p:par>
                    <p:cTn id="344" fill="hold">
                      <p:stCondLst>
                        <p:cond evt="onClick">
                          <p:tgtEl>
                            <p:spTgt spid="602"/>
                          </p:tgtEl>
                        </p:cond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evt="onClick">
                          <p:tgtEl>
                            <p:spTgt spid="602"/>
                          </p:tgtEl>
                        </p:cond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55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7" restart="whenNotActive" nodeType="interactiveSeq" fill="hold">
                <p:stCondLst>
                  <p:cond evt="onClick">
                    <p:tgtEl>
                      <p:spTgt spid="605"/>
                    </p:tgtEl>
                  </p:cond>
                </p:stCondLst>
                <p:childTnLst>
                  <p:par>
                    <p:cTn id="358" fill="hold">
                      <p:stCondLst>
                        <p:cond evt="onClick">
                          <p:tgtEl>
                            <p:spTgt spid="605"/>
                          </p:tgtEl>
                        </p:cond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evt="onClick">
                          <p:tgtEl>
                            <p:spTgt spid="605"/>
                          </p:tgtEl>
                        </p:cond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69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1" restart="whenNotActive" nodeType="interactiveSeq" fill="hold">
                <p:stCondLst>
                  <p:cond evt="onClick">
                    <p:tgtEl>
                      <p:spTgt spid="608"/>
                    </p:tgtEl>
                  </p:cond>
                </p:stCondLst>
                <p:childTnLst>
                  <p:par>
                    <p:cTn id="372" fill="hold">
                      <p:stCondLst>
                        <p:cond evt="onClick">
                          <p:tgtEl>
                            <p:spTgt spid="608"/>
                          </p:tgtEl>
                        </p:cond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evt="onClick">
                          <p:tgtEl>
                            <p:spTgt spid="608"/>
                          </p:tgtEl>
                        </p:cond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83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5" restart="whenNotActive" nodeType="interactiveSeq" fill="hold">
                <p:stCondLst>
                  <p:cond evt="onClick">
                    <p:tgtEl>
                      <p:spTgt spid="609"/>
                    </p:tgtEl>
                  </p:cond>
                </p:stCondLst>
                <p:childTnLst>
                  <p:par>
                    <p:cTn id="386" fill="hold">
                      <p:stCondLst>
                        <p:cond evt="onClick">
                          <p:tgtEl>
                            <p:spTgt spid="609"/>
                          </p:tgtEl>
                        </p:cond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evt="onClick">
                          <p:tgtEl>
                            <p:spTgt spid="609"/>
                          </p:tgtEl>
                        </p:cond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97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9" restart="whenNotActive" nodeType="interactiveSeq" fill="hold">
                <p:stCondLst>
                  <p:cond evt="onClick">
                    <p:tgtEl>
                      <p:spTgt spid="615"/>
                    </p:tgtEl>
                  </p:cond>
                </p:stCondLst>
                <p:childTnLst>
                  <p:par>
                    <p:cTn id="400" fill="hold">
                      <p:stCondLst>
                        <p:cond evt="onClick">
                          <p:tgtEl>
                            <p:spTgt spid="615"/>
                          </p:tgtEl>
                        </p:cond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evt="onClick">
                          <p:tgtEl>
                            <p:spTgt spid="615"/>
                          </p:tgtEl>
                        </p:cond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0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3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1123920" y="3867120"/>
            <a:ext cx="2990880" cy="2751120"/>
          </a:xfrm>
          <a:custGeom>
            <a:avLst/>
            <a:gdLst/>
            <a:ahLst/>
            <a:rect l="l" t="t" r="r" b="b"/>
            <a:pathLst>
              <a:path w="1884" h="1733">
                <a:moveTo>
                  <a:pt x="0" y="0"/>
                </a:moveTo>
                <a:cubicBezTo>
                  <a:pt x="15" y="60"/>
                  <a:pt x="34" y="74"/>
                  <a:pt x="72" y="120"/>
                </a:cubicBezTo>
                <a:cubicBezTo>
                  <a:pt x="81" y="131"/>
                  <a:pt x="83" y="151"/>
                  <a:pt x="96" y="156"/>
                </a:cubicBezTo>
                <a:cubicBezTo>
                  <a:pt x="126" y="168"/>
                  <a:pt x="160" y="164"/>
                  <a:pt x="192" y="168"/>
                </a:cubicBezTo>
                <a:cubicBezTo>
                  <a:pt x="219" y="249"/>
                  <a:pt x="177" y="160"/>
                  <a:pt x="276" y="216"/>
                </a:cubicBezTo>
                <a:cubicBezTo>
                  <a:pt x="287" y="222"/>
                  <a:pt x="279" y="243"/>
                  <a:pt x="288" y="252"/>
                </a:cubicBezTo>
                <a:cubicBezTo>
                  <a:pt x="297" y="261"/>
                  <a:pt x="312" y="260"/>
                  <a:pt x="324" y="264"/>
                </a:cubicBezTo>
                <a:cubicBezTo>
                  <a:pt x="354" y="382"/>
                  <a:pt x="463" y="374"/>
                  <a:pt x="564" y="384"/>
                </a:cubicBezTo>
                <a:cubicBezTo>
                  <a:pt x="568" y="396"/>
                  <a:pt x="566" y="413"/>
                  <a:pt x="576" y="420"/>
                </a:cubicBezTo>
                <a:cubicBezTo>
                  <a:pt x="588" y="429"/>
                  <a:pt x="712" y="473"/>
                  <a:pt x="732" y="480"/>
                </a:cubicBezTo>
                <a:cubicBezTo>
                  <a:pt x="762" y="571"/>
                  <a:pt x="705" y="674"/>
                  <a:pt x="792" y="732"/>
                </a:cubicBezTo>
                <a:cubicBezTo>
                  <a:pt x="800" y="744"/>
                  <a:pt x="810" y="755"/>
                  <a:pt x="816" y="768"/>
                </a:cubicBezTo>
                <a:cubicBezTo>
                  <a:pt x="866" y="879"/>
                  <a:pt x="794" y="835"/>
                  <a:pt x="960" y="852"/>
                </a:cubicBezTo>
                <a:cubicBezTo>
                  <a:pt x="1044" y="880"/>
                  <a:pt x="1040" y="852"/>
                  <a:pt x="1020" y="912"/>
                </a:cubicBezTo>
                <a:cubicBezTo>
                  <a:pt x="1008" y="904"/>
                  <a:pt x="997" y="882"/>
                  <a:pt x="984" y="888"/>
                </a:cubicBezTo>
                <a:cubicBezTo>
                  <a:pt x="973" y="894"/>
                  <a:pt x="990" y="913"/>
                  <a:pt x="996" y="924"/>
                </a:cubicBezTo>
                <a:cubicBezTo>
                  <a:pt x="1010" y="949"/>
                  <a:pt x="1044" y="996"/>
                  <a:pt x="1044" y="996"/>
                </a:cubicBezTo>
                <a:cubicBezTo>
                  <a:pt x="1048" y="1040"/>
                  <a:pt x="1043" y="1086"/>
                  <a:pt x="1056" y="1128"/>
                </a:cubicBezTo>
                <a:cubicBezTo>
                  <a:pt x="1060" y="1142"/>
                  <a:pt x="1086" y="1139"/>
                  <a:pt x="1092" y="1152"/>
                </a:cubicBezTo>
                <a:cubicBezTo>
                  <a:pt x="1093" y="1154"/>
                  <a:pt x="1103" y="1244"/>
                  <a:pt x="1116" y="1260"/>
                </a:cubicBezTo>
                <a:cubicBezTo>
                  <a:pt x="1146" y="1297"/>
                  <a:pt x="1219" y="1300"/>
                  <a:pt x="1260" y="1308"/>
                </a:cubicBezTo>
                <a:cubicBezTo>
                  <a:pt x="1287" y="1402"/>
                  <a:pt x="1274" y="1433"/>
                  <a:pt x="1368" y="1464"/>
                </a:cubicBezTo>
                <a:cubicBezTo>
                  <a:pt x="1410" y="1506"/>
                  <a:pt x="1404" y="1528"/>
                  <a:pt x="1452" y="1560"/>
                </a:cubicBezTo>
                <a:cubicBezTo>
                  <a:pt x="1495" y="1688"/>
                  <a:pt x="1884" y="1733"/>
                  <a:pt x="1884" y="1572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09480" y="6248520"/>
            <a:ext cx="7925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2247840" y="-558720"/>
            <a:ext cx="9372600" cy="845820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28600" y="623556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VNI-Helve-Condense"/>
              </a:rPr>
              <a:t>LÖÔÏC ÑOÀ TAÂY SÔN KHÔÛI NGHÓA CHOÁNG CAÙC THEÁ LÖÏC PHONG KIEÁN VAØ CHOÁNG QUAÂN XAÂM LÖÔÏC NÖÔÙC NGOAØ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496200" y="36720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VNI-Helve-Condense"/>
              </a:rPr>
              <a:t>QUY NHÔ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562720" y="2838600"/>
            <a:ext cx="152280" cy="1332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791320" y="266688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VNI-Helve-Condense"/>
              </a:rPr>
              <a:t>PHUÙ XUAÂ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572000" y="8827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VNI-Helve-Condense"/>
              </a:rPr>
              <a:t>THAÊNG LO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610160" y="1200240"/>
            <a:ext cx="228600" cy="1522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57800" y="5105520"/>
            <a:ext cx="152280" cy="759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724280" y="481320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VNI-Helve-Condense"/>
              </a:rPr>
              <a:t>GIA ÑÒN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80880" y="457200"/>
            <a:ext cx="198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VNI-Helve-Condense"/>
              </a:rPr>
              <a:t>Quaân Xieâm keùo         vaøo nöôùc 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0" y="1295280"/>
            <a:ext cx="512640" cy="401760"/>
          </a:xfrm>
          <a:custGeom>
            <a:avLst/>
            <a:gdLst/>
            <a:ahLst/>
            <a:rect l="l" t="t" r="r" b="b"/>
            <a:pathLst>
              <a:path w="323" h="253">
                <a:moveTo>
                  <a:pt x="65" y="25"/>
                </a:moveTo>
                <a:cubicBezTo>
                  <a:pt x="54" y="33"/>
                  <a:pt x="0" y="61"/>
                  <a:pt x="5" y="85"/>
                </a:cubicBezTo>
                <a:cubicBezTo>
                  <a:pt x="8" y="99"/>
                  <a:pt x="30" y="100"/>
                  <a:pt x="41" y="109"/>
                </a:cubicBezTo>
                <a:cubicBezTo>
                  <a:pt x="54" y="120"/>
                  <a:pt x="65" y="133"/>
                  <a:pt x="77" y="145"/>
                </a:cubicBezTo>
                <a:cubicBezTo>
                  <a:pt x="73" y="157"/>
                  <a:pt x="71" y="170"/>
                  <a:pt x="65" y="181"/>
                </a:cubicBezTo>
                <a:cubicBezTo>
                  <a:pt x="59" y="194"/>
                  <a:pt x="36" y="203"/>
                  <a:pt x="41" y="217"/>
                </a:cubicBezTo>
                <a:cubicBezTo>
                  <a:pt x="47" y="236"/>
                  <a:pt x="73" y="241"/>
                  <a:pt x="89" y="253"/>
                </a:cubicBezTo>
                <a:cubicBezTo>
                  <a:pt x="125" y="248"/>
                  <a:pt x="201" y="246"/>
                  <a:pt x="209" y="217"/>
                </a:cubicBezTo>
                <a:cubicBezTo>
                  <a:pt x="215" y="197"/>
                  <a:pt x="201" y="177"/>
                  <a:pt x="197" y="157"/>
                </a:cubicBezTo>
                <a:cubicBezTo>
                  <a:pt x="229" y="141"/>
                  <a:pt x="323" y="129"/>
                  <a:pt x="293" y="109"/>
                </a:cubicBezTo>
                <a:cubicBezTo>
                  <a:pt x="213" y="56"/>
                  <a:pt x="165" y="0"/>
                  <a:pt x="65" y="25"/>
                </a:cubicBezTo>
                <a:close/>
              </a:path>
            </a:pathLst>
          </a:custGeom>
          <a:solidFill>
            <a:srgbClr val="fa66da"/>
          </a:solidFill>
          <a:ln w="12600">
            <a:solidFill>
              <a:srgbClr val="fa66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57200" y="1295280"/>
            <a:ext cx="198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VNI-Helve-Condense"/>
              </a:rPr>
              <a:t>Vuøng bò quaân Xieâm chieá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419720" y="5410080"/>
            <a:ext cx="75960" cy="76320"/>
          </a:xfrm>
          <a:prstGeom prst="flowChartConnector">
            <a:avLst/>
          </a:prstGeom>
          <a:solidFill>
            <a:srgbClr val="f907ba"/>
          </a:solidFill>
          <a:ln w="12600">
            <a:solidFill>
              <a:srgbClr val="f907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724280" y="5410080"/>
            <a:ext cx="76320" cy="76320"/>
          </a:xfrm>
          <a:prstGeom prst="flowChartConnector">
            <a:avLst/>
          </a:prstGeom>
          <a:solidFill>
            <a:srgbClr val="f907ba"/>
          </a:solidFill>
          <a:ln w="12600">
            <a:solidFill>
              <a:srgbClr val="f907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181480" y="5257800"/>
            <a:ext cx="76320" cy="763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076640" y="5057640"/>
            <a:ext cx="1079640" cy="936720"/>
          </a:xfrm>
          <a:custGeom>
            <a:avLst/>
            <a:gdLst/>
            <a:ahLst/>
            <a:rect l="l" t="t" r="r" b="b"/>
            <a:pathLst>
              <a:path w="680" h="590">
                <a:moveTo>
                  <a:pt x="392" y="126"/>
                </a:moveTo>
                <a:cubicBezTo>
                  <a:pt x="389" y="150"/>
                  <a:pt x="395" y="176"/>
                  <a:pt x="384" y="198"/>
                </a:cubicBezTo>
                <a:cubicBezTo>
                  <a:pt x="383" y="200"/>
                  <a:pt x="320" y="169"/>
                  <a:pt x="312" y="166"/>
                </a:cubicBezTo>
                <a:cubicBezTo>
                  <a:pt x="283" y="122"/>
                  <a:pt x="286" y="69"/>
                  <a:pt x="240" y="38"/>
                </a:cubicBezTo>
                <a:cubicBezTo>
                  <a:pt x="235" y="30"/>
                  <a:pt x="233" y="18"/>
                  <a:pt x="224" y="14"/>
                </a:cubicBezTo>
                <a:cubicBezTo>
                  <a:pt x="189" y="0"/>
                  <a:pt x="192" y="66"/>
                  <a:pt x="184" y="78"/>
                </a:cubicBezTo>
                <a:cubicBezTo>
                  <a:pt x="175" y="91"/>
                  <a:pt x="150" y="97"/>
                  <a:pt x="136" y="102"/>
                </a:cubicBezTo>
                <a:cubicBezTo>
                  <a:pt x="91" y="169"/>
                  <a:pt x="25" y="84"/>
                  <a:pt x="0" y="158"/>
                </a:cubicBezTo>
                <a:cubicBezTo>
                  <a:pt x="64" y="200"/>
                  <a:pt x="29" y="193"/>
                  <a:pt x="104" y="182"/>
                </a:cubicBezTo>
                <a:cubicBezTo>
                  <a:pt x="173" y="199"/>
                  <a:pt x="171" y="184"/>
                  <a:pt x="192" y="246"/>
                </a:cubicBezTo>
                <a:cubicBezTo>
                  <a:pt x="176" y="257"/>
                  <a:pt x="160" y="267"/>
                  <a:pt x="144" y="278"/>
                </a:cubicBezTo>
                <a:cubicBezTo>
                  <a:pt x="136" y="283"/>
                  <a:pt x="120" y="294"/>
                  <a:pt x="120" y="294"/>
                </a:cubicBezTo>
                <a:cubicBezTo>
                  <a:pt x="72" y="366"/>
                  <a:pt x="77" y="461"/>
                  <a:pt x="104" y="542"/>
                </a:cubicBezTo>
                <a:cubicBezTo>
                  <a:pt x="101" y="555"/>
                  <a:pt x="92" y="569"/>
                  <a:pt x="96" y="582"/>
                </a:cubicBezTo>
                <a:cubicBezTo>
                  <a:pt x="99" y="590"/>
                  <a:pt x="112" y="590"/>
                  <a:pt x="120" y="590"/>
                </a:cubicBezTo>
                <a:cubicBezTo>
                  <a:pt x="140" y="590"/>
                  <a:pt x="152" y="574"/>
                  <a:pt x="168" y="566"/>
                </a:cubicBezTo>
                <a:cubicBezTo>
                  <a:pt x="193" y="554"/>
                  <a:pt x="234" y="553"/>
                  <a:pt x="256" y="550"/>
                </a:cubicBezTo>
                <a:cubicBezTo>
                  <a:pt x="259" y="542"/>
                  <a:pt x="259" y="533"/>
                  <a:pt x="264" y="526"/>
                </a:cubicBezTo>
                <a:cubicBezTo>
                  <a:pt x="270" y="518"/>
                  <a:pt x="284" y="519"/>
                  <a:pt x="288" y="510"/>
                </a:cubicBezTo>
                <a:cubicBezTo>
                  <a:pt x="295" y="495"/>
                  <a:pt x="289" y="477"/>
                  <a:pt x="296" y="462"/>
                </a:cubicBezTo>
                <a:cubicBezTo>
                  <a:pt x="314" y="426"/>
                  <a:pt x="375" y="441"/>
                  <a:pt x="416" y="438"/>
                </a:cubicBezTo>
                <a:cubicBezTo>
                  <a:pt x="436" y="378"/>
                  <a:pt x="481" y="395"/>
                  <a:pt x="544" y="390"/>
                </a:cubicBezTo>
                <a:cubicBezTo>
                  <a:pt x="560" y="385"/>
                  <a:pt x="589" y="391"/>
                  <a:pt x="592" y="374"/>
                </a:cubicBezTo>
                <a:cubicBezTo>
                  <a:pt x="595" y="358"/>
                  <a:pt x="586" y="335"/>
                  <a:pt x="600" y="326"/>
                </a:cubicBezTo>
                <a:cubicBezTo>
                  <a:pt x="623" y="312"/>
                  <a:pt x="653" y="321"/>
                  <a:pt x="680" y="318"/>
                </a:cubicBezTo>
                <a:cubicBezTo>
                  <a:pt x="669" y="286"/>
                  <a:pt x="655" y="280"/>
                  <a:pt x="624" y="270"/>
                </a:cubicBezTo>
                <a:cubicBezTo>
                  <a:pt x="595" y="227"/>
                  <a:pt x="563" y="206"/>
                  <a:pt x="520" y="182"/>
                </a:cubicBezTo>
                <a:cubicBezTo>
                  <a:pt x="466" y="152"/>
                  <a:pt x="453" y="126"/>
                  <a:pt x="392" y="126"/>
                </a:cubicBezTo>
                <a:close/>
              </a:path>
            </a:pathLst>
          </a:custGeom>
          <a:solidFill>
            <a:srgbClr val="fa66da"/>
          </a:solidFill>
          <a:ln w="12600">
            <a:solidFill>
              <a:srgbClr val="fa66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77820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VNI-Helve-Condense"/>
              </a:rPr>
              <a:t>1/178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464160" y="3886200"/>
            <a:ext cx="190800" cy="763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130720" y="516888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VNI-Helve-Condense"/>
              </a:rPr>
              <a:t>MYÕ TH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902120" y="5202360"/>
            <a:ext cx="281160" cy="93600"/>
          </a:xfrm>
          <a:custGeom>
            <a:avLst/>
            <a:gdLst/>
            <a:ahLst/>
            <a:rect l="l" t="t" r="r" b="b"/>
            <a:pathLst>
              <a:path w="177" h="59">
                <a:moveTo>
                  <a:pt x="168" y="59"/>
                </a:moveTo>
                <a:cubicBezTo>
                  <a:pt x="148" y="0"/>
                  <a:pt x="177" y="59"/>
                  <a:pt x="136" y="43"/>
                </a:cubicBezTo>
                <a:cubicBezTo>
                  <a:pt x="127" y="39"/>
                  <a:pt x="125" y="27"/>
                  <a:pt x="120" y="19"/>
                </a:cubicBezTo>
                <a:cubicBezTo>
                  <a:pt x="115" y="27"/>
                  <a:pt x="114" y="42"/>
                  <a:pt x="104" y="43"/>
                </a:cubicBezTo>
                <a:cubicBezTo>
                  <a:pt x="87" y="45"/>
                  <a:pt x="56" y="27"/>
                  <a:pt x="56" y="27"/>
                </a:cubicBezTo>
                <a:cubicBezTo>
                  <a:pt x="4" y="44"/>
                  <a:pt x="20" y="31"/>
                  <a:pt x="0" y="51"/>
                </a:cubicBezTo>
              </a:path>
            </a:pathLst>
          </a:custGeom>
          <a:noFill/>
          <a:ln w="38160">
            <a:solidFill>
              <a:srgbClr val="008e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708360" y="5384880"/>
            <a:ext cx="9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VNI-Helve-Condense"/>
              </a:rPr>
              <a:t>RAÏCH GIA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495680" y="542916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VNI-Helve-Condense"/>
              </a:rPr>
              <a:t>CAÀN THÔ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971800" y="30481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VNI-Helve-Condense"/>
              </a:rPr>
              <a:t>XIEÂ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06440" y="21337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VNI-Helve-Condense"/>
              </a:rPr>
              <a:t>Ñöôøng tieán quaân cuûa Nguyeãn Hueä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6320" y="3048120"/>
            <a:ext cx="457200" cy="93600"/>
          </a:xfrm>
          <a:custGeom>
            <a:avLst/>
            <a:gdLst/>
            <a:ahLst/>
            <a:rect l="l" t="t" r="r" b="b"/>
            <a:pathLst>
              <a:path w="177" h="59">
                <a:moveTo>
                  <a:pt x="168" y="59"/>
                </a:moveTo>
                <a:cubicBezTo>
                  <a:pt x="148" y="0"/>
                  <a:pt x="177" y="59"/>
                  <a:pt x="136" y="43"/>
                </a:cubicBezTo>
                <a:cubicBezTo>
                  <a:pt x="127" y="39"/>
                  <a:pt x="125" y="27"/>
                  <a:pt x="120" y="19"/>
                </a:cubicBezTo>
                <a:cubicBezTo>
                  <a:pt x="115" y="27"/>
                  <a:pt x="114" y="42"/>
                  <a:pt x="104" y="43"/>
                </a:cubicBezTo>
                <a:cubicBezTo>
                  <a:pt x="87" y="45"/>
                  <a:pt x="56" y="27"/>
                  <a:pt x="56" y="27"/>
                </a:cubicBezTo>
                <a:cubicBezTo>
                  <a:pt x="4" y="44"/>
                  <a:pt x="20" y="31"/>
                  <a:pt x="0" y="51"/>
                </a:cubicBezTo>
              </a:path>
            </a:pathLst>
          </a:custGeom>
          <a:noFill/>
          <a:ln w="57240">
            <a:solidFill>
              <a:srgbClr val="008e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33520" y="2895480"/>
            <a:ext cx="167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VNI-Helve-Condense"/>
              </a:rPr>
              <a:t>Soâng Tieà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rot="12032400">
            <a:off x="2666880" y="4971600"/>
            <a:ext cx="1067040" cy="209520"/>
          </a:xfrm>
          <a:custGeom>
            <a:avLst/>
            <a:gdLst/>
            <a:ahLst/>
            <a:rect l="l" t="t" r="r" b="b"/>
            <a:pathLst>
              <a:path w="5052" h="1071">
                <a:moveTo>
                  <a:pt x="665" y="722"/>
                </a:moveTo>
                <a:lnTo>
                  <a:pt x="777" y="503"/>
                </a:lnTo>
                <a:lnTo>
                  <a:pt x="2692" y="612"/>
                </a:lnTo>
                <a:lnTo>
                  <a:pt x="3386" y="810"/>
                </a:lnTo>
                <a:lnTo>
                  <a:pt x="4331" y="1071"/>
                </a:lnTo>
                <a:lnTo>
                  <a:pt x="3871" y="509"/>
                </a:lnTo>
                <a:lnTo>
                  <a:pt x="5052" y="263"/>
                </a:lnTo>
                <a:lnTo>
                  <a:pt x="3442" y="109"/>
                </a:lnTo>
                <a:lnTo>
                  <a:pt x="2692" y="88"/>
                </a:lnTo>
                <a:lnTo>
                  <a:pt x="860" y="263"/>
                </a:lnTo>
                <a:lnTo>
                  <a:pt x="638" y="0"/>
                </a:lnTo>
                <a:lnTo>
                  <a:pt x="0" y="438"/>
                </a:lnTo>
                <a:lnTo>
                  <a:pt x="638" y="700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V="1" rot="13962000">
            <a:off x="3909240" y="4911480"/>
            <a:ext cx="1003320" cy="145800"/>
          </a:xfrm>
          <a:custGeom>
            <a:avLst/>
            <a:gdLst/>
            <a:ahLst/>
            <a:rect l="l" t="t" r="r" b="b"/>
            <a:pathLst>
              <a:path w="5052" h="1071">
                <a:moveTo>
                  <a:pt x="665" y="722"/>
                </a:moveTo>
                <a:lnTo>
                  <a:pt x="777" y="503"/>
                </a:lnTo>
                <a:lnTo>
                  <a:pt x="2692" y="612"/>
                </a:lnTo>
                <a:lnTo>
                  <a:pt x="3386" y="810"/>
                </a:lnTo>
                <a:lnTo>
                  <a:pt x="4331" y="1071"/>
                </a:lnTo>
                <a:lnTo>
                  <a:pt x="3871" y="509"/>
                </a:lnTo>
                <a:lnTo>
                  <a:pt x="5052" y="263"/>
                </a:lnTo>
                <a:lnTo>
                  <a:pt x="3442" y="109"/>
                </a:lnTo>
                <a:lnTo>
                  <a:pt x="2692" y="88"/>
                </a:lnTo>
                <a:lnTo>
                  <a:pt x="860" y="263"/>
                </a:lnTo>
                <a:lnTo>
                  <a:pt x="638" y="0"/>
                </a:lnTo>
                <a:lnTo>
                  <a:pt x="0" y="438"/>
                </a:lnTo>
                <a:lnTo>
                  <a:pt x="638" y="700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V="1" rot="14338200">
            <a:off x="3047760" y="3903480"/>
            <a:ext cx="1353960" cy="287280"/>
          </a:xfrm>
          <a:custGeom>
            <a:avLst/>
            <a:gdLst/>
            <a:ahLst/>
            <a:rect l="l" t="t" r="r" b="b"/>
            <a:pathLst>
              <a:path w="5052" h="1071">
                <a:moveTo>
                  <a:pt x="665" y="722"/>
                </a:moveTo>
                <a:lnTo>
                  <a:pt x="777" y="503"/>
                </a:lnTo>
                <a:lnTo>
                  <a:pt x="2692" y="612"/>
                </a:lnTo>
                <a:lnTo>
                  <a:pt x="3386" y="810"/>
                </a:lnTo>
                <a:lnTo>
                  <a:pt x="4331" y="1071"/>
                </a:lnTo>
                <a:lnTo>
                  <a:pt x="3871" y="509"/>
                </a:lnTo>
                <a:lnTo>
                  <a:pt x="5052" y="263"/>
                </a:lnTo>
                <a:lnTo>
                  <a:pt x="3442" y="109"/>
                </a:lnTo>
                <a:lnTo>
                  <a:pt x="2692" y="88"/>
                </a:lnTo>
                <a:lnTo>
                  <a:pt x="860" y="263"/>
                </a:lnTo>
                <a:lnTo>
                  <a:pt x="638" y="0"/>
                </a:lnTo>
                <a:lnTo>
                  <a:pt x="0" y="438"/>
                </a:lnTo>
                <a:lnTo>
                  <a:pt x="638" y="700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rot="11451000">
            <a:off x="3707640" y="5276880"/>
            <a:ext cx="685800" cy="133200"/>
          </a:xfrm>
          <a:custGeom>
            <a:avLst/>
            <a:gdLst/>
            <a:ahLst/>
            <a:rect l="l" t="t" r="r" b="b"/>
            <a:pathLst>
              <a:path w="5052" h="1071">
                <a:moveTo>
                  <a:pt x="665" y="722"/>
                </a:moveTo>
                <a:lnTo>
                  <a:pt x="777" y="503"/>
                </a:lnTo>
                <a:lnTo>
                  <a:pt x="2692" y="612"/>
                </a:lnTo>
                <a:lnTo>
                  <a:pt x="3386" y="810"/>
                </a:lnTo>
                <a:lnTo>
                  <a:pt x="4331" y="1071"/>
                </a:lnTo>
                <a:lnTo>
                  <a:pt x="3871" y="509"/>
                </a:lnTo>
                <a:lnTo>
                  <a:pt x="5052" y="263"/>
                </a:lnTo>
                <a:lnTo>
                  <a:pt x="3442" y="109"/>
                </a:lnTo>
                <a:lnTo>
                  <a:pt x="2692" y="88"/>
                </a:lnTo>
                <a:lnTo>
                  <a:pt x="860" y="263"/>
                </a:lnTo>
                <a:lnTo>
                  <a:pt x="638" y="0"/>
                </a:lnTo>
                <a:lnTo>
                  <a:pt x="0" y="438"/>
                </a:lnTo>
                <a:lnTo>
                  <a:pt x="638" y="700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H="1" rot="9168000">
            <a:off x="5242320" y="5014080"/>
            <a:ext cx="814680" cy="129240"/>
          </a:xfrm>
          <a:custGeom>
            <a:avLst/>
            <a:gdLst/>
            <a:ahLst/>
            <a:rect l="l" t="t" r="r" b="b"/>
            <a:pathLst>
              <a:path w="5052" h="1071">
                <a:moveTo>
                  <a:pt x="665" y="722"/>
                </a:moveTo>
                <a:lnTo>
                  <a:pt x="777" y="503"/>
                </a:lnTo>
                <a:lnTo>
                  <a:pt x="2692" y="612"/>
                </a:lnTo>
                <a:lnTo>
                  <a:pt x="3386" y="810"/>
                </a:lnTo>
                <a:lnTo>
                  <a:pt x="4331" y="1071"/>
                </a:lnTo>
                <a:lnTo>
                  <a:pt x="3871" y="509"/>
                </a:lnTo>
                <a:lnTo>
                  <a:pt x="5052" y="263"/>
                </a:lnTo>
                <a:lnTo>
                  <a:pt x="3442" y="109"/>
                </a:lnTo>
                <a:lnTo>
                  <a:pt x="2692" y="88"/>
                </a:lnTo>
                <a:lnTo>
                  <a:pt x="860" y="263"/>
                </a:lnTo>
                <a:lnTo>
                  <a:pt x="638" y="0"/>
                </a:lnTo>
                <a:lnTo>
                  <a:pt x="0" y="438"/>
                </a:lnTo>
                <a:lnTo>
                  <a:pt x="638" y="700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H="1" rot="7865400">
            <a:off x="5801400" y="4337640"/>
            <a:ext cx="1073160" cy="156600"/>
          </a:xfrm>
          <a:custGeom>
            <a:avLst/>
            <a:gdLst/>
            <a:ahLst/>
            <a:rect l="l" t="t" r="r" b="b"/>
            <a:pathLst>
              <a:path w="5052" h="1071">
                <a:moveTo>
                  <a:pt x="665" y="722"/>
                </a:moveTo>
                <a:lnTo>
                  <a:pt x="777" y="503"/>
                </a:lnTo>
                <a:lnTo>
                  <a:pt x="2692" y="612"/>
                </a:lnTo>
                <a:lnTo>
                  <a:pt x="3386" y="810"/>
                </a:lnTo>
                <a:lnTo>
                  <a:pt x="4331" y="1071"/>
                </a:lnTo>
                <a:lnTo>
                  <a:pt x="3871" y="509"/>
                </a:lnTo>
                <a:lnTo>
                  <a:pt x="5052" y="263"/>
                </a:lnTo>
                <a:lnTo>
                  <a:pt x="3442" y="109"/>
                </a:lnTo>
                <a:lnTo>
                  <a:pt x="2692" y="88"/>
                </a:lnTo>
                <a:lnTo>
                  <a:pt x="860" y="263"/>
                </a:lnTo>
                <a:lnTo>
                  <a:pt x="638" y="0"/>
                </a:lnTo>
                <a:lnTo>
                  <a:pt x="0" y="438"/>
                </a:lnTo>
                <a:lnTo>
                  <a:pt x="638" y="700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rot="10800000">
            <a:off x="-3240" y="588960"/>
            <a:ext cx="403200" cy="114480"/>
          </a:xfrm>
          <a:custGeom>
            <a:avLst/>
            <a:gdLst/>
            <a:ahLst/>
            <a:rect l="l" t="t" r="r" b="b"/>
            <a:pathLst>
              <a:path w="5052" h="1071">
                <a:moveTo>
                  <a:pt x="665" y="722"/>
                </a:moveTo>
                <a:lnTo>
                  <a:pt x="777" y="503"/>
                </a:lnTo>
                <a:lnTo>
                  <a:pt x="2692" y="612"/>
                </a:lnTo>
                <a:lnTo>
                  <a:pt x="3386" y="810"/>
                </a:lnTo>
                <a:lnTo>
                  <a:pt x="4331" y="1071"/>
                </a:lnTo>
                <a:lnTo>
                  <a:pt x="3871" y="509"/>
                </a:lnTo>
                <a:lnTo>
                  <a:pt x="5052" y="263"/>
                </a:lnTo>
                <a:lnTo>
                  <a:pt x="3442" y="109"/>
                </a:lnTo>
                <a:lnTo>
                  <a:pt x="2692" y="88"/>
                </a:lnTo>
                <a:lnTo>
                  <a:pt x="860" y="263"/>
                </a:lnTo>
                <a:lnTo>
                  <a:pt x="638" y="0"/>
                </a:lnTo>
                <a:lnTo>
                  <a:pt x="0" y="438"/>
                </a:lnTo>
                <a:lnTo>
                  <a:pt x="638" y="700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rot="10422600">
            <a:off x="23400" y="2250360"/>
            <a:ext cx="397080" cy="157320"/>
          </a:xfrm>
          <a:custGeom>
            <a:avLst/>
            <a:gdLst/>
            <a:ahLst/>
            <a:rect l="l" t="t" r="r" b="b"/>
            <a:pathLst>
              <a:path w="5052" h="1071">
                <a:moveTo>
                  <a:pt x="665" y="722"/>
                </a:moveTo>
                <a:lnTo>
                  <a:pt x="777" y="503"/>
                </a:lnTo>
                <a:lnTo>
                  <a:pt x="2692" y="612"/>
                </a:lnTo>
                <a:lnTo>
                  <a:pt x="3386" y="810"/>
                </a:lnTo>
                <a:lnTo>
                  <a:pt x="4331" y="1071"/>
                </a:lnTo>
                <a:lnTo>
                  <a:pt x="3871" y="509"/>
                </a:lnTo>
                <a:lnTo>
                  <a:pt x="5052" y="263"/>
                </a:lnTo>
                <a:lnTo>
                  <a:pt x="3442" y="109"/>
                </a:lnTo>
                <a:lnTo>
                  <a:pt x="2692" y="88"/>
                </a:lnTo>
                <a:lnTo>
                  <a:pt x="860" y="263"/>
                </a:lnTo>
                <a:lnTo>
                  <a:pt x="638" y="0"/>
                </a:lnTo>
                <a:lnTo>
                  <a:pt x="0" y="438"/>
                </a:lnTo>
                <a:lnTo>
                  <a:pt x="638" y="700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" descr=""/>
          <p:cNvPicPr/>
          <p:nvPr/>
        </p:nvPicPr>
        <p:blipFill>
          <a:blip r:embed="rId1"/>
          <a:stretch/>
        </p:blipFill>
        <p:spPr>
          <a:xfrm>
            <a:off x="0" y="-1219320"/>
            <a:ext cx="8839080" cy="6838920"/>
          </a:xfrm>
          <a:prstGeom prst="rect">
            <a:avLst/>
          </a:prstGeom>
          <a:ln w="0">
            <a:noFill/>
          </a:ln>
        </p:spPr>
      </p:pic>
      <p:sp>
        <p:nvSpPr>
          <p:cNvPr id="663" name=""/>
          <p:cNvSpPr/>
          <p:nvPr/>
        </p:nvSpPr>
        <p:spPr>
          <a:xfrm>
            <a:off x="1447920" y="6461280"/>
            <a:ext cx="617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VNI-Helve-Condense"/>
              </a:rPr>
              <a:t>LÖÔÏC ÑOÀ CHIEÁN THAÉNG RAÏCH GAÀM – XOAØI MUÙ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521320" y="438120"/>
            <a:ext cx="501480" cy="1123920"/>
          </a:xfrm>
          <a:custGeom>
            <a:avLst/>
            <a:gdLst/>
            <a:ahLst/>
            <a:rect l="l" t="t" r="r" b="b"/>
            <a:pathLst>
              <a:path w="316" h="708">
                <a:moveTo>
                  <a:pt x="314" y="708"/>
                </a:moveTo>
                <a:cubicBezTo>
                  <a:pt x="310" y="652"/>
                  <a:pt x="316" y="594"/>
                  <a:pt x="302" y="540"/>
                </a:cubicBezTo>
                <a:cubicBezTo>
                  <a:pt x="299" y="526"/>
                  <a:pt x="273" y="529"/>
                  <a:pt x="266" y="516"/>
                </a:cubicBezTo>
                <a:cubicBezTo>
                  <a:pt x="207" y="412"/>
                  <a:pt x="302" y="488"/>
                  <a:pt x="218" y="432"/>
                </a:cubicBezTo>
                <a:cubicBezTo>
                  <a:pt x="174" y="367"/>
                  <a:pt x="134" y="381"/>
                  <a:pt x="50" y="372"/>
                </a:cubicBezTo>
                <a:cubicBezTo>
                  <a:pt x="34" y="348"/>
                  <a:pt x="0" y="329"/>
                  <a:pt x="2" y="300"/>
                </a:cubicBezTo>
                <a:cubicBezTo>
                  <a:pt x="16" y="72"/>
                  <a:pt x="14" y="172"/>
                  <a:pt x="14" y="0"/>
                </a:cubicBezTo>
              </a:path>
            </a:pathLst>
          </a:custGeom>
          <a:noFill/>
          <a:ln w="12600">
            <a:solidFill>
              <a:srgbClr val="008e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473800" y="68580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VNI-Helve-Condense"/>
              </a:rPr>
              <a:t>XOAØI MUÙ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09480" y="141588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VNI-Helve-Condense"/>
              </a:rPr>
              <a:t>RAÏCH GAÀ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391520" y="533520"/>
            <a:ext cx="13716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NI-Helve-Condense"/>
              </a:rPr>
              <a:t>MÓ TH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172200" y="114300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NI-Helve-Condense"/>
              </a:rPr>
              <a:t>BÌNH ÑÖÙ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-114480" y="838080"/>
            <a:ext cx="8972640" cy="2614680"/>
          </a:xfrm>
          <a:custGeom>
            <a:avLst/>
            <a:gdLst/>
            <a:ahLst/>
            <a:rect l="l" t="t" r="r" b="b"/>
            <a:pathLst>
              <a:path w="5652" h="1647">
                <a:moveTo>
                  <a:pt x="5606" y="1361"/>
                </a:moveTo>
                <a:cubicBezTo>
                  <a:pt x="5582" y="1357"/>
                  <a:pt x="5555" y="1361"/>
                  <a:pt x="5534" y="1349"/>
                </a:cubicBezTo>
                <a:cubicBezTo>
                  <a:pt x="5466" y="1310"/>
                  <a:pt x="5601" y="1293"/>
                  <a:pt x="5474" y="1325"/>
                </a:cubicBezTo>
                <a:cubicBezTo>
                  <a:pt x="5377" y="1314"/>
                  <a:pt x="5296" y="1298"/>
                  <a:pt x="5198" y="1289"/>
                </a:cubicBezTo>
                <a:cubicBezTo>
                  <a:pt x="5138" y="1293"/>
                  <a:pt x="5077" y="1291"/>
                  <a:pt x="5018" y="1301"/>
                </a:cubicBezTo>
                <a:cubicBezTo>
                  <a:pt x="5004" y="1303"/>
                  <a:pt x="4996" y="1322"/>
                  <a:pt x="4982" y="1325"/>
                </a:cubicBezTo>
                <a:cubicBezTo>
                  <a:pt x="4935" y="1334"/>
                  <a:pt x="4886" y="1333"/>
                  <a:pt x="4838" y="1337"/>
                </a:cubicBezTo>
                <a:cubicBezTo>
                  <a:pt x="4694" y="1385"/>
                  <a:pt x="4791" y="1360"/>
                  <a:pt x="4538" y="1373"/>
                </a:cubicBezTo>
                <a:cubicBezTo>
                  <a:pt x="4458" y="1346"/>
                  <a:pt x="4463" y="1398"/>
                  <a:pt x="4394" y="1421"/>
                </a:cubicBezTo>
                <a:cubicBezTo>
                  <a:pt x="4311" y="1393"/>
                  <a:pt x="4409" y="1413"/>
                  <a:pt x="4322" y="1457"/>
                </a:cubicBezTo>
                <a:cubicBezTo>
                  <a:pt x="4311" y="1463"/>
                  <a:pt x="4298" y="1448"/>
                  <a:pt x="4286" y="1445"/>
                </a:cubicBezTo>
                <a:cubicBezTo>
                  <a:pt x="4262" y="1440"/>
                  <a:pt x="4238" y="1437"/>
                  <a:pt x="4214" y="1433"/>
                </a:cubicBezTo>
                <a:cubicBezTo>
                  <a:pt x="4198" y="1384"/>
                  <a:pt x="4179" y="1365"/>
                  <a:pt x="4130" y="1349"/>
                </a:cubicBezTo>
                <a:cubicBezTo>
                  <a:pt x="4121" y="1352"/>
                  <a:pt x="4058" y="1369"/>
                  <a:pt x="4058" y="1385"/>
                </a:cubicBezTo>
                <a:cubicBezTo>
                  <a:pt x="4058" y="1398"/>
                  <a:pt x="4082" y="1395"/>
                  <a:pt x="4094" y="1397"/>
                </a:cubicBezTo>
                <a:cubicBezTo>
                  <a:pt x="4122" y="1403"/>
                  <a:pt x="4150" y="1405"/>
                  <a:pt x="4178" y="1409"/>
                </a:cubicBezTo>
                <a:cubicBezTo>
                  <a:pt x="4114" y="1413"/>
                  <a:pt x="4050" y="1414"/>
                  <a:pt x="3986" y="1421"/>
                </a:cubicBezTo>
                <a:cubicBezTo>
                  <a:pt x="3973" y="1422"/>
                  <a:pt x="3962" y="1435"/>
                  <a:pt x="3950" y="1433"/>
                </a:cubicBezTo>
                <a:cubicBezTo>
                  <a:pt x="3936" y="1431"/>
                  <a:pt x="3926" y="1417"/>
                  <a:pt x="3914" y="1409"/>
                </a:cubicBezTo>
                <a:cubicBezTo>
                  <a:pt x="3854" y="1429"/>
                  <a:pt x="3878" y="1449"/>
                  <a:pt x="3818" y="1469"/>
                </a:cubicBezTo>
                <a:cubicBezTo>
                  <a:pt x="3701" y="1430"/>
                  <a:pt x="3785" y="1437"/>
                  <a:pt x="3710" y="1469"/>
                </a:cubicBezTo>
                <a:cubicBezTo>
                  <a:pt x="3695" y="1475"/>
                  <a:pt x="3678" y="1477"/>
                  <a:pt x="3662" y="1481"/>
                </a:cubicBezTo>
                <a:cubicBezTo>
                  <a:pt x="3592" y="1435"/>
                  <a:pt x="3656" y="1459"/>
                  <a:pt x="3602" y="1493"/>
                </a:cubicBezTo>
                <a:cubicBezTo>
                  <a:pt x="3581" y="1506"/>
                  <a:pt x="3530" y="1517"/>
                  <a:pt x="3530" y="1517"/>
                </a:cubicBezTo>
                <a:cubicBezTo>
                  <a:pt x="3518" y="1529"/>
                  <a:pt x="3510" y="1548"/>
                  <a:pt x="3494" y="1553"/>
                </a:cubicBezTo>
                <a:cubicBezTo>
                  <a:pt x="3482" y="1557"/>
                  <a:pt x="3470" y="1539"/>
                  <a:pt x="3458" y="1541"/>
                </a:cubicBezTo>
                <a:cubicBezTo>
                  <a:pt x="3444" y="1543"/>
                  <a:pt x="3434" y="1557"/>
                  <a:pt x="3422" y="1565"/>
                </a:cubicBezTo>
                <a:cubicBezTo>
                  <a:pt x="3394" y="1561"/>
                  <a:pt x="3366" y="1553"/>
                  <a:pt x="3338" y="1553"/>
                </a:cubicBezTo>
                <a:cubicBezTo>
                  <a:pt x="3325" y="1553"/>
                  <a:pt x="3315" y="1565"/>
                  <a:pt x="3302" y="1565"/>
                </a:cubicBezTo>
                <a:cubicBezTo>
                  <a:pt x="3277" y="1565"/>
                  <a:pt x="3248" y="1541"/>
                  <a:pt x="3230" y="1529"/>
                </a:cubicBezTo>
                <a:cubicBezTo>
                  <a:pt x="3205" y="1537"/>
                  <a:pt x="3184" y="1557"/>
                  <a:pt x="3158" y="1565"/>
                </a:cubicBezTo>
                <a:cubicBezTo>
                  <a:pt x="3131" y="1573"/>
                  <a:pt x="3102" y="1573"/>
                  <a:pt x="3074" y="1577"/>
                </a:cubicBezTo>
                <a:cubicBezTo>
                  <a:pt x="3047" y="1586"/>
                  <a:pt x="2989" y="1607"/>
                  <a:pt x="2966" y="1601"/>
                </a:cubicBezTo>
                <a:cubicBezTo>
                  <a:pt x="2954" y="1598"/>
                  <a:pt x="2963" y="1574"/>
                  <a:pt x="2954" y="1565"/>
                </a:cubicBezTo>
                <a:cubicBezTo>
                  <a:pt x="2934" y="1545"/>
                  <a:pt x="2882" y="1517"/>
                  <a:pt x="2882" y="1517"/>
                </a:cubicBezTo>
                <a:cubicBezTo>
                  <a:pt x="2813" y="1620"/>
                  <a:pt x="2905" y="1499"/>
                  <a:pt x="2822" y="1565"/>
                </a:cubicBezTo>
                <a:cubicBezTo>
                  <a:pt x="2744" y="1627"/>
                  <a:pt x="2852" y="1583"/>
                  <a:pt x="2762" y="1613"/>
                </a:cubicBezTo>
                <a:cubicBezTo>
                  <a:pt x="2754" y="1597"/>
                  <a:pt x="2755" y="1572"/>
                  <a:pt x="2738" y="1565"/>
                </a:cubicBezTo>
                <a:cubicBezTo>
                  <a:pt x="2725" y="1560"/>
                  <a:pt x="2715" y="1583"/>
                  <a:pt x="2702" y="1589"/>
                </a:cubicBezTo>
                <a:cubicBezTo>
                  <a:pt x="2679" y="1599"/>
                  <a:pt x="2630" y="1613"/>
                  <a:pt x="2630" y="1613"/>
                </a:cubicBezTo>
                <a:cubicBezTo>
                  <a:pt x="2602" y="1609"/>
                  <a:pt x="2574" y="1598"/>
                  <a:pt x="2546" y="1601"/>
                </a:cubicBezTo>
                <a:cubicBezTo>
                  <a:pt x="2532" y="1602"/>
                  <a:pt x="2524" y="1624"/>
                  <a:pt x="2510" y="1625"/>
                </a:cubicBezTo>
                <a:cubicBezTo>
                  <a:pt x="2430" y="1628"/>
                  <a:pt x="2350" y="1617"/>
                  <a:pt x="2270" y="1613"/>
                </a:cubicBezTo>
                <a:cubicBezTo>
                  <a:pt x="2063" y="1647"/>
                  <a:pt x="2290" y="1627"/>
                  <a:pt x="2162" y="1601"/>
                </a:cubicBezTo>
                <a:cubicBezTo>
                  <a:pt x="2087" y="1586"/>
                  <a:pt x="2010" y="1588"/>
                  <a:pt x="1934" y="1577"/>
                </a:cubicBezTo>
                <a:cubicBezTo>
                  <a:pt x="1922" y="1565"/>
                  <a:pt x="1912" y="1550"/>
                  <a:pt x="1898" y="1541"/>
                </a:cubicBezTo>
                <a:cubicBezTo>
                  <a:pt x="1887" y="1534"/>
                  <a:pt x="1872" y="1537"/>
                  <a:pt x="1862" y="1529"/>
                </a:cubicBezTo>
                <a:cubicBezTo>
                  <a:pt x="1851" y="1520"/>
                  <a:pt x="1849" y="1502"/>
                  <a:pt x="1838" y="1493"/>
                </a:cubicBezTo>
                <a:cubicBezTo>
                  <a:pt x="1816" y="1474"/>
                  <a:pt x="1766" y="1445"/>
                  <a:pt x="1766" y="1445"/>
                </a:cubicBezTo>
                <a:cubicBezTo>
                  <a:pt x="1710" y="1361"/>
                  <a:pt x="1742" y="1389"/>
                  <a:pt x="1682" y="1349"/>
                </a:cubicBezTo>
                <a:cubicBezTo>
                  <a:pt x="1646" y="1353"/>
                  <a:pt x="1610" y="1354"/>
                  <a:pt x="1574" y="1361"/>
                </a:cubicBezTo>
                <a:cubicBezTo>
                  <a:pt x="1549" y="1366"/>
                  <a:pt x="1502" y="1385"/>
                  <a:pt x="1502" y="1385"/>
                </a:cubicBezTo>
                <a:cubicBezTo>
                  <a:pt x="1358" y="1364"/>
                  <a:pt x="1211" y="1384"/>
                  <a:pt x="1070" y="1349"/>
                </a:cubicBezTo>
                <a:cubicBezTo>
                  <a:pt x="978" y="1364"/>
                  <a:pt x="917" y="1377"/>
                  <a:pt x="818" y="1385"/>
                </a:cubicBezTo>
                <a:cubicBezTo>
                  <a:pt x="779" y="1398"/>
                  <a:pt x="749" y="1420"/>
                  <a:pt x="710" y="1433"/>
                </a:cubicBezTo>
                <a:cubicBezTo>
                  <a:pt x="706" y="1445"/>
                  <a:pt x="708" y="1462"/>
                  <a:pt x="698" y="1469"/>
                </a:cubicBezTo>
                <a:cubicBezTo>
                  <a:pt x="634" y="1514"/>
                  <a:pt x="476" y="1523"/>
                  <a:pt x="410" y="1529"/>
                </a:cubicBezTo>
                <a:cubicBezTo>
                  <a:pt x="327" y="1557"/>
                  <a:pt x="245" y="1577"/>
                  <a:pt x="158" y="1589"/>
                </a:cubicBezTo>
                <a:cubicBezTo>
                  <a:pt x="138" y="1585"/>
                  <a:pt x="100" y="1597"/>
                  <a:pt x="98" y="1577"/>
                </a:cubicBezTo>
                <a:cubicBezTo>
                  <a:pt x="45" y="1099"/>
                  <a:pt x="0" y="1084"/>
                  <a:pt x="146" y="1181"/>
                </a:cubicBezTo>
                <a:cubicBezTo>
                  <a:pt x="230" y="1153"/>
                  <a:pt x="210" y="1181"/>
                  <a:pt x="230" y="1121"/>
                </a:cubicBezTo>
                <a:cubicBezTo>
                  <a:pt x="326" y="1153"/>
                  <a:pt x="206" y="1121"/>
                  <a:pt x="302" y="1121"/>
                </a:cubicBezTo>
                <a:cubicBezTo>
                  <a:pt x="322" y="1121"/>
                  <a:pt x="342" y="1129"/>
                  <a:pt x="362" y="1133"/>
                </a:cubicBezTo>
                <a:cubicBezTo>
                  <a:pt x="394" y="1085"/>
                  <a:pt x="414" y="1075"/>
                  <a:pt x="470" y="1061"/>
                </a:cubicBezTo>
                <a:cubicBezTo>
                  <a:pt x="474" y="1045"/>
                  <a:pt x="472" y="1026"/>
                  <a:pt x="482" y="1013"/>
                </a:cubicBezTo>
                <a:cubicBezTo>
                  <a:pt x="490" y="1003"/>
                  <a:pt x="507" y="1007"/>
                  <a:pt x="518" y="1001"/>
                </a:cubicBezTo>
                <a:cubicBezTo>
                  <a:pt x="531" y="995"/>
                  <a:pt x="542" y="985"/>
                  <a:pt x="554" y="977"/>
                </a:cubicBezTo>
                <a:cubicBezTo>
                  <a:pt x="598" y="910"/>
                  <a:pt x="622" y="948"/>
                  <a:pt x="686" y="905"/>
                </a:cubicBezTo>
                <a:cubicBezTo>
                  <a:pt x="701" y="910"/>
                  <a:pt x="757" y="930"/>
                  <a:pt x="770" y="929"/>
                </a:cubicBezTo>
                <a:cubicBezTo>
                  <a:pt x="819" y="926"/>
                  <a:pt x="914" y="905"/>
                  <a:pt x="914" y="905"/>
                </a:cubicBezTo>
                <a:cubicBezTo>
                  <a:pt x="955" y="946"/>
                  <a:pt x="967" y="959"/>
                  <a:pt x="1022" y="941"/>
                </a:cubicBezTo>
                <a:cubicBezTo>
                  <a:pt x="1067" y="952"/>
                  <a:pt x="1093" y="966"/>
                  <a:pt x="1142" y="941"/>
                </a:cubicBezTo>
                <a:cubicBezTo>
                  <a:pt x="1155" y="935"/>
                  <a:pt x="1155" y="914"/>
                  <a:pt x="1166" y="905"/>
                </a:cubicBezTo>
                <a:cubicBezTo>
                  <a:pt x="1180" y="894"/>
                  <a:pt x="1198" y="889"/>
                  <a:pt x="1214" y="881"/>
                </a:cubicBezTo>
                <a:cubicBezTo>
                  <a:pt x="1201" y="764"/>
                  <a:pt x="1180" y="767"/>
                  <a:pt x="1214" y="665"/>
                </a:cubicBezTo>
                <a:cubicBezTo>
                  <a:pt x="1219" y="649"/>
                  <a:pt x="1246" y="657"/>
                  <a:pt x="1262" y="653"/>
                </a:cubicBezTo>
                <a:cubicBezTo>
                  <a:pt x="1281" y="595"/>
                  <a:pt x="1252" y="554"/>
                  <a:pt x="1238" y="497"/>
                </a:cubicBezTo>
                <a:cubicBezTo>
                  <a:pt x="1255" y="412"/>
                  <a:pt x="1287" y="362"/>
                  <a:pt x="1202" y="305"/>
                </a:cubicBezTo>
                <a:cubicBezTo>
                  <a:pt x="1181" y="242"/>
                  <a:pt x="1183" y="280"/>
                  <a:pt x="1238" y="197"/>
                </a:cubicBezTo>
                <a:cubicBezTo>
                  <a:pt x="1252" y="176"/>
                  <a:pt x="1262" y="125"/>
                  <a:pt x="1262" y="125"/>
                </a:cubicBezTo>
                <a:cubicBezTo>
                  <a:pt x="1258" y="105"/>
                  <a:pt x="1261" y="82"/>
                  <a:pt x="1250" y="65"/>
                </a:cubicBezTo>
                <a:cubicBezTo>
                  <a:pt x="1243" y="54"/>
                  <a:pt x="1223" y="62"/>
                  <a:pt x="1214" y="53"/>
                </a:cubicBezTo>
                <a:cubicBezTo>
                  <a:pt x="1205" y="44"/>
                  <a:pt x="1206" y="29"/>
                  <a:pt x="1202" y="17"/>
                </a:cubicBezTo>
                <a:cubicBezTo>
                  <a:pt x="1214" y="13"/>
                  <a:pt x="1226" y="0"/>
                  <a:pt x="1238" y="5"/>
                </a:cubicBezTo>
                <a:cubicBezTo>
                  <a:pt x="1251" y="10"/>
                  <a:pt x="1251" y="32"/>
                  <a:pt x="1262" y="41"/>
                </a:cubicBezTo>
                <a:cubicBezTo>
                  <a:pt x="1272" y="49"/>
                  <a:pt x="1286" y="49"/>
                  <a:pt x="1298" y="53"/>
                </a:cubicBezTo>
                <a:cubicBezTo>
                  <a:pt x="1362" y="40"/>
                  <a:pt x="1400" y="16"/>
                  <a:pt x="1466" y="5"/>
                </a:cubicBezTo>
                <a:cubicBezTo>
                  <a:pt x="1446" y="104"/>
                  <a:pt x="1478" y="41"/>
                  <a:pt x="1406" y="77"/>
                </a:cubicBezTo>
                <a:cubicBezTo>
                  <a:pt x="1380" y="90"/>
                  <a:pt x="1334" y="125"/>
                  <a:pt x="1334" y="125"/>
                </a:cubicBezTo>
                <a:cubicBezTo>
                  <a:pt x="1326" y="137"/>
                  <a:pt x="1316" y="148"/>
                  <a:pt x="1310" y="161"/>
                </a:cubicBezTo>
                <a:cubicBezTo>
                  <a:pt x="1300" y="184"/>
                  <a:pt x="1286" y="233"/>
                  <a:pt x="1286" y="233"/>
                </a:cubicBezTo>
                <a:cubicBezTo>
                  <a:pt x="1312" y="365"/>
                  <a:pt x="1297" y="314"/>
                  <a:pt x="1322" y="389"/>
                </a:cubicBezTo>
                <a:cubicBezTo>
                  <a:pt x="1318" y="401"/>
                  <a:pt x="1308" y="413"/>
                  <a:pt x="1310" y="425"/>
                </a:cubicBezTo>
                <a:cubicBezTo>
                  <a:pt x="1326" y="518"/>
                  <a:pt x="1352" y="407"/>
                  <a:pt x="1322" y="497"/>
                </a:cubicBezTo>
                <a:cubicBezTo>
                  <a:pt x="1315" y="591"/>
                  <a:pt x="1317" y="703"/>
                  <a:pt x="1262" y="785"/>
                </a:cubicBezTo>
                <a:cubicBezTo>
                  <a:pt x="1266" y="797"/>
                  <a:pt x="1271" y="809"/>
                  <a:pt x="1274" y="821"/>
                </a:cubicBezTo>
                <a:cubicBezTo>
                  <a:pt x="1279" y="837"/>
                  <a:pt x="1271" y="862"/>
                  <a:pt x="1286" y="869"/>
                </a:cubicBezTo>
                <a:cubicBezTo>
                  <a:pt x="1299" y="875"/>
                  <a:pt x="1309" y="851"/>
                  <a:pt x="1322" y="845"/>
                </a:cubicBezTo>
                <a:cubicBezTo>
                  <a:pt x="1333" y="839"/>
                  <a:pt x="1346" y="837"/>
                  <a:pt x="1358" y="833"/>
                </a:cubicBezTo>
                <a:cubicBezTo>
                  <a:pt x="1453" y="845"/>
                  <a:pt x="1541" y="826"/>
                  <a:pt x="1634" y="845"/>
                </a:cubicBezTo>
                <a:cubicBezTo>
                  <a:pt x="1730" y="813"/>
                  <a:pt x="1610" y="845"/>
                  <a:pt x="1706" y="845"/>
                </a:cubicBezTo>
                <a:cubicBezTo>
                  <a:pt x="1722" y="845"/>
                  <a:pt x="1738" y="837"/>
                  <a:pt x="1754" y="833"/>
                </a:cubicBezTo>
                <a:cubicBezTo>
                  <a:pt x="1836" y="778"/>
                  <a:pt x="1735" y="838"/>
                  <a:pt x="1898" y="797"/>
                </a:cubicBezTo>
                <a:cubicBezTo>
                  <a:pt x="1912" y="794"/>
                  <a:pt x="1921" y="779"/>
                  <a:pt x="1934" y="773"/>
                </a:cubicBezTo>
                <a:cubicBezTo>
                  <a:pt x="1945" y="767"/>
                  <a:pt x="1958" y="764"/>
                  <a:pt x="1970" y="761"/>
                </a:cubicBezTo>
                <a:cubicBezTo>
                  <a:pt x="2010" y="752"/>
                  <a:pt x="2090" y="737"/>
                  <a:pt x="2090" y="737"/>
                </a:cubicBezTo>
                <a:cubicBezTo>
                  <a:pt x="2095" y="734"/>
                  <a:pt x="2207" y="678"/>
                  <a:pt x="2210" y="677"/>
                </a:cubicBezTo>
                <a:cubicBezTo>
                  <a:pt x="2273" y="662"/>
                  <a:pt x="2338" y="664"/>
                  <a:pt x="2402" y="653"/>
                </a:cubicBezTo>
                <a:cubicBezTo>
                  <a:pt x="2414" y="641"/>
                  <a:pt x="2422" y="622"/>
                  <a:pt x="2438" y="617"/>
                </a:cubicBezTo>
                <a:cubicBezTo>
                  <a:pt x="2450" y="613"/>
                  <a:pt x="2462" y="633"/>
                  <a:pt x="2474" y="629"/>
                </a:cubicBezTo>
                <a:cubicBezTo>
                  <a:pt x="2503" y="619"/>
                  <a:pt x="2515" y="576"/>
                  <a:pt x="2534" y="557"/>
                </a:cubicBezTo>
                <a:cubicBezTo>
                  <a:pt x="2544" y="547"/>
                  <a:pt x="2558" y="541"/>
                  <a:pt x="2570" y="533"/>
                </a:cubicBezTo>
                <a:cubicBezTo>
                  <a:pt x="2696" y="565"/>
                  <a:pt x="2553" y="545"/>
                  <a:pt x="2642" y="509"/>
                </a:cubicBezTo>
                <a:cubicBezTo>
                  <a:pt x="2672" y="497"/>
                  <a:pt x="2706" y="501"/>
                  <a:pt x="2738" y="497"/>
                </a:cubicBezTo>
                <a:cubicBezTo>
                  <a:pt x="2766" y="441"/>
                  <a:pt x="2753" y="420"/>
                  <a:pt x="2810" y="401"/>
                </a:cubicBezTo>
                <a:cubicBezTo>
                  <a:pt x="2865" y="412"/>
                  <a:pt x="2896" y="419"/>
                  <a:pt x="2942" y="449"/>
                </a:cubicBezTo>
                <a:cubicBezTo>
                  <a:pt x="2962" y="445"/>
                  <a:pt x="2983" y="444"/>
                  <a:pt x="3002" y="437"/>
                </a:cubicBezTo>
                <a:cubicBezTo>
                  <a:pt x="3016" y="432"/>
                  <a:pt x="3024" y="415"/>
                  <a:pt x="3038" y="413"/>
                </a:cubicBezTo>
                <a:cubicBezTo>
                  <a:pt x="3058" y="410"/>
                  <a:pt x="3078" y="421"/>
                  <a:pt x="3098" y="425"/>
                </a:cubicBezTo>
                <a:cubicBezTo>
                  <a:pt x="3185" y="396"/>
                  <a:pt x="3085" y="417"/>
                  <a:pt x="3158" y="449"/>
                </a:cubicBezTo>
                <a:cubicBezTo>
                  <a:pt x="3184" y="460"/>
                  <a:pt x="3214" y="457"/>
                  <a:pt x="3242" y="461"/>
                </a:cubicBezTo>
                <a:cubicBezTo>
                  <a:pt x="3302" y="441"/>
                  <a:pt x="3278" y="421"/>
                  <a:pt x="3338" y="401"/>
                </a:cubicBezTo>
                <a:cubicBezTo>
                  <a:pt x="3404" y="423"/>
                  <a:pt x="3449" y="424"/>
                  <a:pt x="3518" y="413"/>
                </a:cubicBezTo>
                <a:cubicBezTo>
                  <a:pt x="3615" y="445"/>
                  <a:pt x="3729" y="462"/>
                  <a:pt x="3830" y="473"/>
                </a:cubicBezTo>
                <a:cubicBezTo>
                  <a:pt x="3866" y="461"/>
                  <a:pt x="3902" y="449"/>
                  <a:pt x="3938" y="437"/>
                </a:cubicBezTo>
                <a:cubicBezTo>
                  <a:pt x="3950" y="433"/>
                  <a:pt x="3974" y="425"/>
                  <a:pt x="3974" y="425"/>
                </a:cubicBezTo>
                <a:cubicBezTo>
                  <a:pt x="4049" y="475"/>
                  <a:pt x="3971" y="437"/>
                  <a:pt x="4046" y="437"/>
                </a:cubicBezTo>
                <a:cubicBezTo>
                  <a:pt x="4126" y="437"/>
                  <a:pt x="4206" y="455"/>
                  <a:pt x="4286" y="461"/>
                </a:cubicBezTo>
                <a:cubicBezTo>
                  <a:pt x="4346" y="457"/>
                  <a:pt x="4406" y="458"/>
                  <a:pt x="4466" y="449"/>
                </a:cubicBezTo>
                <a:cubicBezTo>
                  <a:pt x="4491" y="445"/>
                  <a:pt x="4513" y="428"/>
                  <a:pt x="4538" y="425"/>
                </a:cubicBezTo>
                <a:cubicBezTo>
                  <a:pt x="4578" y="421"/>
                  <a:pt x="4618" y="417"/>
                  <a:pt x="4658" y="413"/>
                </a:cubicBezTo>
                <a:cubicBezTo>
                  <a:pt x="4761" y="344"/>
                  <a:pt x="4640" y="436"/>
                  <a:pt x="4706" y="353"/>
                </a:cubicBezTo>
                <a:cubicBezTo>
                  <a:pt x="4769" y="274"/>
                  <a:pt x="4905" y="322"/>
                  <a:pt x="5006" y="317"/>
                </a:cubicBezTo>
                <a:cubicBezTo>
                  <a:pt x="4994" y="313"/>
                  <a:pt x="4970" y="318"/>
                  <a:pt x="4970" y="305"/>
                </a:cubicBezTo>
                <a:cubicBezTo>
                  <a:pt x="4970" y="292"/>
                  <a:pt x="4993" y="294"/>
                  <a:pt x="5006" y="293"/>
                </a:cubicBezTo>
                <a:cubicBezTo>
                  <a:pt x="5118" y="281"/>
                  <a:pt x="5230" y="278"/>
                  <a:pt x="5342" y="269"/>
                </a:cubicBezTo>
                <a:cubicBezTo>
                  <a:pt x="5382" y="259"/>
                  <a:pt x="5423" y="258"/>
                  <a:pt x="5462" y="245"/>
                </a:cubicBezTo>
                <a:cubicBezTo>
                  <a:pt x="5476" y="240"/>
                  <a:pt x="5484" y="226"/>
                  <a:pt x="5498" y="221"/>
                </a:cubicBezTo>
                <a:cubicBezTo>
                  <a:pt x="5521" y="213"/>
                  <a:pt x="5546" y="213"/>
                  <a:pt x="5570" y="209"/>
                </a:cubicBezTo>
                <a:cubicBezTo>
                  <a:pt x="5652" y="154"/>
                  <a:pt x="5607" y="225"/>
                  <a:pt x="5606" y="257"/>
                </a:cubicBezTo>
                <a:cubicBezTo>
                  <a:pt x="5598" y="625"/>
                  <a:pt x="5606" y="993"/>
                  <a:pt x="5606" y="1361"/>
                </a:cubicBezTo>
                <a:close/>
              </a:path>
            </a:pathLst>
          </a:custGeom>
          <a:solidFill>
            <a:srgbClr val="75c7ff"/>
          </a:solidFill>
          <a:ln w="12600">
            <a:solidFill>
              <a:srgbClr val="00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962760" y="1905120"/>
            <a:ext cx="1647720" cy="615960"/>
          </a:xfrm>
          <a:custGeom>
            <a:avLst/>
            <a:gdLst/>
            <a:ahLst/>
            <a:rect l="l" t="t" r="r" b="b"/>
            <a:pathLst>
              <a:path w="1038" h="388">
                <a:moveTo>
                  <a:pt x="993" y="196"/>
                </a:moveTo>
                <a:cubicBezTo>
                  <a:pt x="1022" y="110"/>
                  <a:pt x="1038" y="138"/>
                  <a:pt x="981" y="100"/>
                </a:cubicBezTo>
                <a:cubicBezTo>
                  <a:pt x="973" y="88"/>
                  <a:pt x="971" y="69"/>
                  <a:pt x="957" y="64"/>
                </a:cubicBezTo>
                <a:cubicBezTo>
                  <a:pt x="941" y="59"/>
                  <a:pt x="925" y="76"/>
                  <a:pt x="909" y="76"/>
                </a:cubicBezTo>
                <a:cubicBezTo>
                  <a:pt x="877" y="76"/>
                  <a:pt x="845" y="68"/>
                  <a:pt x="813" y="64"/>
                </a:cubicBezTo>
                <a:cubicBezTo>
                  <a:pt x="711" y="30"/>
                  <a:pt x="742" y="46"/>
                  <a:pt x="633" y="64"/>
                </a:cubicBezTo>
                <a:cubicBezTo>
                  <a:pt x="549" y="8"/>
                  <a:pt x="585" y="0"/>
                  <a:pt x="525" y="40"/>
                </a:cubicBezTo>
                <a:cubicBezTo>
                  <a:pt x="457" y="36"/>
                  <a:pt x="389" y="28"/>
                  <a:pt x="321" y="28"/>
                </a:cubicBezTo>
                <a:cubicBezTo>
                  <a:pt x="193" y="28"/>
                  <a:pt x="353" y="60"/>
                  <a:pt x="225" y="28"/>
                </a:cubicBezTo>
                <a:cubicBezTo>
                  <a:pt x="213" y="20"/>
                  <a:pt x="203" y="1"/>
                  <a:pt x="189" y="4"/>
                </a:cubicBezTo>
                <a:cubicBezTo>
                  <a:pt x="175" y="7"/>
                  <a:pt x="175" y="30"/>
                  <a:pt x="165" y="40"/>
                </a:cubicBezTo>
                <a:cubicBezTo>
                  <a:pt x="155" y="50"/>
                  <a:pt x="142" y="58"/>
                  <a:pt x="129" y="64"/>
                </a:cubicBezTo>
                <a:cubicBezTo>
                  <a:pt x="106" y="74"/>
                  <a:pt x="81" y="80"/>
                  <a:pt x="57" y="88"/>
                </a:cubicBezTo>
                <a:cubicBezTo>
                  <a:pt x="45" y="92"/>
                  <a:pt x="21" y="100"/>
                  <a:pt x="21" y="100"/>
                </a:cubicBezTo>
                <a:cubicBezTo>
                  <a:pt x="0" y="163"/>
                  <a:pt x="24" y="195"/>
                  <a:pt x="57" y="244"/>
                </a:cubicBezTo>
                <a:cubicBezTo>
                  <a:pt x="80" y="335"/>
                  <a:pt x="47" y="274"/>
                  <a:pt x="105" y="280"/>
                </a:cubicBezTo>
                <a:cubicBezTo>
                  <a:pt x="130" y="283"/>
                  <a:pt x="177" y="304"/>
                  <a:pt x="177" y="304"/>
                </a:cubicBezTo>
                <a:cubicBezTo>
                  <a:pt x="181" y="316"/>
                  <a:pt x="196" y="373"/>
                  <a:pt x="213" y="376"/>
                </a:cubicBezTo>
                <a:cubicBezTo>
                  <a:pt x="227" y="379"/>
                  <a:pt x="237" y="360"/>
                  <a:pt x="249" y="352"/>
                </a:cubicBezTo>
                <a:cubicBezTo>
                  <a:pt x="265" y="356"/>
                  <a:pt x="282" y="358"/>
                  <a:pt x="297" y="364"/>
                </a:cubicBezTo>
                <a:cubicBezTo>
                  <a:pt x="310" y="370"/>
                  <a:pt x="319" y="388"/>
                  <a:pt x="333" y="388"/>
                </a:cubicBezTo>
                <a:cubicBezTo>
                  <a:pt x="363" y="388"/>
                  <a:pt x="388" y="362"/>
                  <a:pt x="417" y="352"/>
                </a:cubicBezTo>
                <a:cubicBezTo>
                  <a:pt x="441" y="360"/>
                  <a:pt x="465" y="368"/>
                  <a:pt x="489" y="376"/>
                </a:cubicBezTo>
                <a:cubicBezTo>
                  <a:pt x="520" y="386"/>
                  <a:pt x="585" y="352"/>
                  <a:pt x="585" y="352"/>
                </a:cubicBezTo>
                <a:cubicBezTo>
                  <a:pt x="597" y="340"/>
                  <a:pt x="606" y="323"/>
                  <a:pt x="621" y="316"/>
                </a:cubicBezTo>
                <a:cubicBezTo>
                  <a:pt x="651" y="302"/>
                  <a:pt x="717" y="292"/>
                  <a:pt x="717" y="292"/>
                </a:cubicBezTo>
                <a:cubicBezTo>
                  <a:pt x="756" y="266"/>
                  <a:pt x="790" y="253"/>
                  <a:pt x="837" y="244"/>
                </a:cubicBezTo>
                <a:cubicBezTo>
                  <a:pt x="885" y="235"/>
                  <a:pt x="981" y="220"/>
                  <a:pt x="981" y="220"/>
                </a:cubicBezTo>
                <a:cubicBezTo>
                  <a:pt x="1008" y="179"/>
                  <a:pt x="1015" y="174"/>
                  <a:pt x="993" y="19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670280" y="1828800"/>
            <a:ext cx="2033640" cy="909720"/>
          </a:xfrm>
          <a:custGeom>
            <a:avLst/>
            <a:gdLst/>
            <a:ahLst/>
            <a:rect l="l" t="t" r="r" b="b"/>
            <a:pathLst>
              <a:path w="1281" h="573">
                <a:moveTo>
                  <a:pt x="1246" y="369"/>
                </a:moveTo>
                <a:cubicBezTo>
                  <a:pt x="1242" y="345"/>
                  <a:pt x="1246" y="318"/>
                  <a:pt x="1234" y="297"/>
                </a:cubicBezTo>
                <a:cubicBezTo>
                  <a:pt x="1228" y="286"/>
                  <a:pt x="1207" y="294"/>
                  <a:pt x="1198" y="285"/>
                </a:cubicBezTo>
                <a:cubicBezTo>
                  <a:pt x="1172" y="259"/>
                  <a:pt x="1190" y="210"/>
                  <a:pt x="1174" y="177"/>
                </a:cubicBezTo>
                <a:cubicBezTo>
                  <a:pt x="1168" y="164"/>
                  <a:pt x="1150" y="161"/>
                  <a:pt x="1138" y="153"/>
                </a:cubicBezTo>
                <a:cubicBezTo>
                  <a:pt x="1087" y="77"/>
                  <a:pt x="1028" y="92"/>
                  <a:pt x="958" y="45"/>
                </a:cubicBezTo>
                <a:cubicBezTo>
                  <a:pt x="820" y="65"/>
                  <a:pt x="850" y="70"/>
                  <a:pt x="682" y="57"/>
                </a:cubicBezTo>
                <a:cubicBezTo>
                  <a:pt x="633" y="41"/>
                  <a:pt x="598" y="53"/>
                  <a:pt x="550" y="69"/>
                </a:cubicBezTo>
                <a:cubicBezTo>
                  <a:pt x="546" y="57"/>
                  <a:pt x="550" y="38"/>
                  <a:pt x="538" y="33"/>
                </a:cubicBezTo>
                <a:cubicBezTo>
                  <a:pt x="523" y="27"/>
                  <a:pt x="506" y="41"/>
                  <a:pt x="490" y="45"/>
                </a:cubicBezTo>
                <a:cubicBezTo>
                  <a:pt x="403" y="64"/>
                  <a:pt x="458" y="48"/>
                  <a:pt x="394" y="69"/>
                </a:cubicBezTo>
                <a:cubicBezTo>
                  <a:pt x="291" y="0"/>
                  <a:pt x="421" y="74"/>
                  <a:pt x="322" y="57"/>
                </a:cubicBezTo>
                <a:cubicBezTo>
                  <a:pt x="308" y="55"/>
                  <a:pt x="298" y="41"/>
                  <a:pt x="286" y="33"/>
                </a:cubicBezTo>
                <a:cubicBezTo>
                  <a:pt x="206" y="60"/>
                  <a:pt x="128" y="95"/>
                  <a:pt x="58" y="141"/>
                </a:cubicBezTo>
                <a:cubicBezTo>
                  <a:pt x="35" y="176"/>
                  <a:pt x="0" y="231"/>
                  <a:pt x="34" y="273"/>
                </a:cubicBezTo>
                <a:cubicBezTo>
                  <a:pt x="42" y="283"/>
                  <a:pt x="58" y="281"/>
                  <a:pt x="70" y="285"/>
                </a:cubicBezTo>
                <a:cubicBezTo>
                  <a:pt x="123" y="392"/>
                  <a:pt x="57" y="297"/>
                  <a:pt x="142" y="285"/>
                </a:cubicBezTo>
                <a:cubicBezTo>
                  <a:pt x="159" y="283"/>
                  <a:pt x="166" y="309"/>
                  <a:pt x="178" y="321"/>
                </a:cubicBezTo>
                <a:cubicBezTo>
                  <a:pt x="194" y="387"/>
                  <a:pt x="200" y="384"/>
                  <a:pt x="262" y="405"/>
                </a:cubicBezTo>
                <a:cubicBezTo>
                  <a:pt x="291" y="449"/>
                  <a:pt x="309" y="486"/>
                  <a:pt x="322" y="537"/>
                </a:cubicBezTo>
                <a:cubicBezTo>
                  <a:pt x="338" y="529"/>
                  <a:pt x="354" y="520"/>
                  <a:pt x="370" y="513"/>
                </a:cubicBezTo>
                <a:cubicBezTo>
                  <a:pt x="382" y="508"/>
                  <a:pt x="397" y="492"/>
                  <a:pt x="406" y="501"/>
                </a:cubicBezTo>
                <a:cubicBezTo>
                  <a:pt x="424" y="519"/>
                  <a:pt x="430" y="573"/>
                  <a:pt x="430" y="573"/>
                </a:cubicBezTo>
                <a:cubicBezTo>
                  <a:pt x="466" y="519"/>
                  <a:pt x="470" y="512"/>
                  <a:pt x="526" y="549"/>
                </a:cubicBezTo>
                <a:cubicBezTo>
                  <a:pt x="543" y="532"/>
                  <a:pt x="567" y="498"/>
                  <a:pt x="598" y="501"/>
                </a:cubicBezTo>
                <a:cubicBezTo>
                  <a:pt x="623" y="504"/>
                  <a:pt x="670" y="525"/>
                  <a:pt x="670" y="525"/>
                </a:cubicBezTo>
                <a:cubicBezTo>
                  <a:pt x="717" y="494"/>
                  <a:pt x="755" y="500"/>
                  <a:pt x="802" y="477"/>
                </a:cubicBezTo>
                <a:cubicBezTo>
                  <a:pt x="895" y="430"/>
                  <a:pt x="784" y="471"/>
                  <a:pt x="874" y="441"/>
                </a:cubicBezTo>
                <a:cubicBezTo>
                  <a:pt x="957" y="379"/>
                  <a:pt x="1010" y="395"/>
                  <a:pt x="1114" y="405"/>
                </a:cubicBezTo>
                <a:cubicBezTo>
                  <a:pt x="1123" y="411"/>
                  <a:pt x="1169" y="447"/>
                  <a:pt x="1186" y="441"/>
                </a:cubicBezTo>
                <a:cubicBezTo>
                  <a:pt x="1213" y="432"/>
                  <a:pt x="1258" y="393"/>
                  <a:pt x="1258" y="393"/>
                </a:cubicBezTo>
                <a:cubicBezTo>
                  <a:pt x="1273" y="349"/>
                  <a:pt x="1281" y="351"/>
                  <a:pt x="1246" y="369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502160" y="2819520"/>
            <a:ext cx="858960" cy="428400"/>
          </a:xfrm>
          <a:custGeom>
            <a:avLst/>
            <a:gdLst/>
            <a:ahLst/>
            <a:rect l="l" t="t" r="r" b="b"/>
            <a:pathLst>
              <a:path w="541" h="270">
                <a:moveTo>
                  <a:pt x="464" y="120"/>
                </a:moveTo>
                <a:cubicBezTo>
                  <a:pt x="418" y="89"/>
                  <a:pt x="366" y="79"/>
                  <a:pt x="320" y="48"/>
                </a:cubicBezTo>
                <a:cubicBezTo>
                  <a:pt x="276" y="52"/>
                  <a:pt x="232" y="66"/>
                  <a:pt x="188" y="60"/>
                </a:cubicBezTo>
                <a:cubicBezTo>
                  <a:pt x="171" y="58"/>
                  <a:pt x="167" y="32"/>
                  <a:pt x="152" y="24"/>
                </a:cubicBezTo>
                <a:cubicBezTo>
                  <a:pt x="130" y="12"/>
                  <a:pt x="80" y="0"/>
                  <a:pt x="80" y="0"/>
                </a:cubicBezTo>
                <a:cubicBezTo>
                  <a:pt x="64" y="8"/>
                  <a:pt x="43" y="10"/>
                  <a:pt x="32" y="24"/>
                </a:cubicBezTo>
                <a:cubicBezTo>
                  <a:pt x="17" y="44"/>
                  <a:pt x="8" y="96"/>
                  <a:pt x="8" y="96"/>
                </a:cubicBezTo>
                <a:cubicBezTo>
                  <a:pt x="29" y="179"/>
                  <a:pt x="0" y="132"/>
                  <a:pt x="56" y="132"/>
                </a:cubicBezTo>
                <a:cubicBezTo>
                  <a:pt x="72" y="132"/>
                  <a:pt x="88" y="140"/>
                  <a:pt x="104" y="144"/>
                </a:cubicBezTo>
                <a:cubicBezTo>
                  <a:pt x="108" y="156"/>
                  <a:pt x="106" y="173"/>
                  <a:pt x="116" y="180"/>
                </a:cubicBezTo>
                <a:cubicBezTo>
                  <a:pt x="149" y="204"/>
                  <a:pt x="237" y="211"/>
                  <a:pt x="272" y="216"/>
                </a:cubicBezTo>
                <a:cubicBezTo>
                  <a:pt x="280" y="232"/>
                  <a:pt x="279" y="260"/>
                  <a:pt x="296" y="264"/>
                </a:cubicBezTo>
                <a:cubicBezTo>
                  <a:pt x="321" y="270"/>
                  <a:pt x="343" y="243"/>
                  <a:pt x="368" y="240"/>
                </a:cubicBezTo>
                <a:cubicBezTo>
                  <a:pt x="404" y="236"/>
                  <a:pt x="440" y="232"/>
                  <a:pt x="476" y="228"/>
                </a:cubicBezTo>
                <a:cubicBezTo>
                  <a:pt x="533" y="209"/>
                  <a:pt x="541" y="190"/>
                  <a:pt x="524" y="132"/>
                </a:cubicBezTo>
                <a:cubicBezTo>
                  <a:pt x="521" y="120"/>
                  <a:pt x="524" y="98"/>
                  <a:pt x="512" y="96"/>
                </a:cubicBezTo>
                <a:cubicBezTo>
                  <a:pt x="494" y="92"/>
                  <a:pt x="480" y="112"/>
                  <a:pt x="464" y="120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811600" y="2666880"/>
            <a:ext cx="1744560" cy="604800"/>
          </a:xfrm>
          <a:custGeom>
            <a:avLst/>
            <a:gdLst/>
            <a:ahLst/>
            <a:rect l="l" t="t" r="r" b="b"/>
            <a:pathLst>
              <a:path w="1099" h="381">
                <a:moveTo>
                  <a:pt x="1061" y="318"/>
                </a:moveTo>
                <a:cubicBezTo>
                  <a:pt x="974" y="296"/>
                  <a:pt x="917" y="226"/>
                  <a:pt x="833" y="198"/>
                </a:cubicBezTo>
                <a:cubicBezTo>
                  <a:pt x="780" y="119"/>
                  <a:pt x="702" y="127"/>
                  <a:pt x="629" y="78"/>
                </a:cubicBezTo>
                <a:cubicBezTo>
                  <a:pt x="490" y="95"/>
                  <a:pt x="560" y="91"/>
                  <a:pt x="461" y="54"/>
                </a:cubicBezTo>
                <a:cubicBezTo>
                  <a:pt x="415" y="37"/>
                  <a:pt x="254" y="31"/>
                  <a:pt x="245" y="30"/>
                </a:cubicBezTo>
                <a:cubicBezTo>
                  <a:pt x="233" y="22"/>
                  <a:pt x="223" y="8"/>
                  <a:pt x="209" y="6"/>
                </a:cubicBezTo>
                <a:cubicBezTo>
                  <a:pt x="170" y="0"/>
                  <a:pt x="125" y="42"/>
                  <a:pt x="89" y="54"/>
                </a:cubicBezTo>
                <a:cubicBezTo>
                  <a:pt x="65" y="48"/>
                  <a:pt x="22" y="25"/>
                  <a:pt x="5" y="66"/>
                </a:cubicBezTo>
                <a:cubicBezTo>
                  <a:pt x="0" y="78"/>
                  <a:pt x="11" y="91"/>
                  <a:pt x="17" y="102"/>
                </a:cubicBezTo>
                <a:cubicBezTo>
                  <a:pt x="31" y="127"/>
                  <a:pt x="41" y="158"/>
                  <a:pt x="65" y="174"/>
                </a:cubicBezTo>
                <a:cubicBezTo>
                  <a:pt x="89" y="190"/>
                  <a:pt x="137" y="222"/>
                  <a:pt x="137" y="222"/>
                </a:cubicBezTo>
                <a:cubicBezTo>
                  <a:pt x="158" y="285"/>
                  <a:pt x="201" y="299"/>
                  <a:pt x="257" y="318"/>
                </a:cubicBezTo>
                <a:cubicBezTo>
                  <a:pt x="312" y="300"/>
                  <a:pt x="322" y="297"/>
                  <a:pt x="341" y="354"/>
                </a:cubicBezTo>
                <a:cubicBezTo>
                  <a:pt x="353" y="350"/>
                  <a:pt x="366" y="348"/>
                  <a:pt x="377" y="342"/>
                </a:cubicBezTo>
                <a:cubicBezTo>
                  <a:pt x="390" y="336"/>
                  <a:pt x="399" y="318"/>
                  <a:pt x="413" y="318"/>
                </a:cubicBezTo>
                <a:cubicBezTo>
                  <a:pt x="438" y="318"/>
                  <a:pt x="461" y="334"/>
                  <a:pt x="485" y="342"/>
                </a:cubicBezTo>
                <a:cubicBezTo>
                  <a:pt x="497" y="346"/>
                  <a:pt x="521" y="354"/>
                  <a:pt x="521" y="354"/>
                </a:cubicBezTo>
                <a:cubicBezTo>
                  <a:pt x="537" y="350"/>
                  <a:pt x="554" y="336"/>
                  <a:pt x="569" y="342"/>
                </a:cubicBezTo>
                <a:cubicBezTo>
                  <a:pt x="581" y="347"/>
                  <a:pt x="569" y="373"/>
                  <a:pt x="581" y="378"/>
                </a:cubicBezTo>
                <a:cubicBezTo>
                  <a:pt x="588" y="381"/>
                  <a:pt x="654" y="358"/>
                  <a:pt x="665" y="354"/>
                </a:cubicBezTo>
                <a:cubicBezTo>
                  <a:pt x="771" y="369"/>
                  <a:pt x="770" y="380"/>
                  <a:pt x="881" y="366"/>
                </a:cubicBezTo>
                <a:cubicBezTo>
                  <a:pt x="962" y="339"/>
                  <a:pt x="862" y="366"/>
                  <a:pt x="989" y="366"/>
                </a:cubicBezTo>
                <a:cubicBezTo>
                  <a:pt x="1013" y="366"/>
                  <a:pt x="1037" y="358"/>
                  <a:pt x="1061" y="354"/>
                </a:cubicBezTo>
                <a:cubicBezTo>
                  <a:pt x="1089" y="311"/>
                  <a:pt x="1099" y="318"/>
                  <a:pt x="1061" y="318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952880" y="217800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NI-Helve-Condense"/>
              </a:rPr>
              <a:t>Cuø lao Thôùi Sô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162920" y="198108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NI-Helve-Condense"/>
              </a:rPr>
              <a:t>Thôùi Thaïc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819520" y="283860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NI-Helve-Condense"/>
              </a:rPr>
              <a:t>Coàn Baø Kieà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419720" y="289548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NI-Helve-Condense"/>
              </a:rPr>
              <a:t>Boán Thoâ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286000" y="76212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NI-Helve-Condense"/>
              </a:rPr>
              <a:t>CHÔÏ GIÖÕ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943600" y="25909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VNI-Helve-Condense"/>
              </a:rPr>
              <a:t>S OÂ N G  T I EÀ 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9480" y="4419720"/>
            <a:ext cx="27622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VNI-Helve-Condense"/>
              </a:rPr>
              <a:t> </a:t>
            </a:r>
            <a:r>
              <a:rPr b="1" lang="en-US" sz="1800" spc="-1" strike="noStrike">
                <a:solidFill>
                  <a:srgbClr val="3333ff"/>
                </a:solidFill>
                <a:latin typeface="VNI-Helve-Condense"/>
              </a:rPr>
              <a:t>Quaân Taây</a:t>
            </a:r>
            <a:r>
              <a:rPr b="1" lang="en-US" sz="2800" spc="-1" strike="noStrike">
                <a:solidFill>
                  <a:srgbClr val="ffffff"/>
                </a:solidFill>
                <a:latin typeface="VNI-Helve-Condense"/>
              </a:rPr>
              <a:t> </a:t>
            </a:r>
            <a:r>
              <a:rPr b="1" lang="en-US" sz="1800" spc="-1" strike="noStrike">
                <a:solidFill>
                  <a:srgbClr val="3333ff"/>
                </a:solidFill>
                <a:latin typeface="VNI-Helve-Condense"/>
              </a:rPr>
              <a:t>Sôn mai phuïc</a:t>
            </a:r>
            <a:r>
              <a:rPr b="1" lang="en-US" sz="1600" spc="-1" strike="noStrike">
                <a:solidFill>
                  <a:srgbClr val="3333ff"/>
                </a:solidFill>
                <a:latin typeface="VNI-Helve-Condense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85800" y="41148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VNI-Helve-Condense"/>
              </a:rPr>
              <a:t>Quaân Xieâm tieán coâng</a:t>
            </a:r>
            <a:r>
              <a:rPr b="1" lang="en-US" sz="1600" spc="-1" strike="noStrike">
                <a:solidFill>
                  <a:srgbClr val="3333ff"/>
                </a:solidFill>
                <a:latin typeface="VNI-Helve-Condense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57200" y="55008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VNI-Helve-Condense"/>
              </a:rPr>
              <a:t>Quaân Taây Sôn taán coâ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28600" y="59436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8e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43080" y="5981760"/>
            <a:ext cx="1440" cy="190440"/>
          </a:xfrm>
          <a:custGeom>
            <a:avLst/>
            <a:gdLst/>
            <a:ahLst/>
            <a:rect l="l" t="t" r="r" b="b"/>
            <a:pathLst>
              <a:path w="1" h="120">
                <a:moveTo>
                  <a:pt x="0" y="0"/>
                </a:moveTo>
                <a:cubicBezTo>
                  <a:pt x="0" y="40"/>
                  <a:pt x="0" y="80"/>
                  <a:pt x="0" y="120"/>
                </a:cubicBezTo>
              </a:path>
            </a:pathLst>
          </a:custGeom>
          <a:solidFill>
            <a:srgbClr val="008eee"/>
          </a:solidFill>
          <a:ln w="12600">
            <a:solidFill>
              <a:srgbClr val="00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61800" y="5969160"/>
            <a:ext cx="171720" cy="144360"/>
          </a:xfrm>
          <a:custGeom>
            <a:avLst/>
            <a:gdLst/>
            <a:ahLst/>
            <a:rect l="l" t="t" r="r" b="b"/>
            <a:pathLst>
              <a:path w="108" h="91">
                <a:moveTo>
                  <a:pt x="0" y="7"/>
                </a:moveTo>
                <a:cubicBezTo>
                  <a:pt x="57" y="26"/>
                  <a:pt x="51" y="0"/>
                  <a:pt x="108" y="19"/>
                </a:cubicBezTo>
                <a:cubicBezTo>
                  <a:pt x="27" y="73"/>
                  <a:pt x="56" y="47"/>
                  <a:pt x="12" y="91"/>
                </a:cubicBezTo>
              </a:path>
            </a:pathLst>
          </a:custGeom>
          <a:noFill/>
          <a:ln w="12600">
            <a:solidFill>
              <a:srgbClr val="008e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09480" y="58816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VNI-Helve-Condense"/>
              </a:rPr>
              <a:t>Ñaïi baûn doanh cuûa Taây Sô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962520" y="39625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-360" y="6248520"/>
            <a:ext cx="3962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85800" y="48769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VNI-Helve-Condense"/>
              </a:rPr>
              <a:t>Quaân Taây Sôn nhöû ñòch vaøo traän ñò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495760" y="369720"/>
            <a:ext cx="584280" cy="1204920"/>
          </a:xfrm>
          <a:custGeom>
            <a:avLst/>
            <a:gdLst/>
            <a:ahLst/>
            <a:rect l="l" t="t" r="r" b="b"/>
            <a:pathLst>
              <a:path w="368" h="759">
                <a:moveTo>
                  <a:pt x="266" y="7"/>
                </a:moveTo>
                <a:cubicBezTo>
                  <a:pt x="179" y="12"/>
                  <a:pt x="149" y="0"/>
                  <a:pt x="90" y="39"/>
                </a:cubicBezTo>
                <a:cubicBezTo>
                  <a:pt x="85" y="47"/>
                  <a:pt x="74" y="53"/>
                  <a:pt x="74" y="63"/>
                </a:cubicBezTo>
                <a:cubicBezTo>
                  <a:pt x="74" y="80"/>
                  <a:pt x="90" y="111"/>
                  <a:pt x="90" y="111"/>
                </a:cubicBezTo>
                <a:cubicBezTo>
                  <a:pt x="75" y="184"/>
                  <a:pt x="41" y="302"/>
                  <a:pt x="114" y="351"/>
                </a:cubicBezTo>
                <a:cubicBezTo>
                  <a:pt x="129" y="396"/>
                  <a:pt x="188" y="429"/>
                  <a:pt x="226" y="455"/>
                </a:cubicBezTo>
                <a:cubicBezTo>
                  <a:pt x="242" y="466"/>
                  <a:pt x="274" y="487"/>
                  <a:pt x="274" y="487"/>
                </a:cubicBezTo>
                <a:cubicBezTo>
                  <a:pt x="310" y="541"/>
                  <a:pt x="296" y="585"/>
                  <a:pt x="322" y="631"/>
                </a:cubicBezTo>
                <a:cubicBezTo>
                  <a:pt x="368" y="714"/>
                  <a:pt x="344" y="649"/>
                  <a:pt x="362" y="703"/>
                </a:cubicBezTo>
                <a:cubicBezTo>
                  <a:pt x="359" y="714"/>
                  <a:pt x="363" y="729"/>
                  <a:pt x="354" y="735"/>
                </a:cubicBezTo>
                <a:cubicBezTo>
                  <a:pt x="329" y="752"/>
                  <a:pt x="295" y="749"/>
                  <a:pt x="266" y="759"/>
                </a:cubicBezTo>
                <a:cubicBezTo>
                  <a:pt x="190" y="721"/>
                  <a:pt x="221" y="741"/>
                  <a:pt x="170" y="703"/>
                </a:cubicBezTo>
                <a:cubicBezTo>
                  <a:pt x="186" y="692"/>
                  <a:pt x="227" y="688"/>
                  <a:pt x="218" y="671"/>
                </a:cubicBezTo>
                <a:cubicBezTo>
                  <a:pt x="189" y="612"/>
                  <a:pt x="158" y="557"/>
                  <a:pt x="122" y="503"/>
                </a:cubicBezTo>
                <a:cubicBezTo>
                  <a:pt x="115" y="493"/>
                  <a:pt x="114" y="479"/>
                  <a:pt x="106" y="471"/>
                </a:cubicBezTo>
                <a:cubicBezTo>
                  <a:pt x="92" y="457"/>
                  <a:pt x="58" y="439"/>
                  <a:pt x="58" y="439"/>
                </a:cubicBezTo>
                <a:cubicBezTo>
                  <a:pt x="53" y="428"/>
                  <a:pt x="50" y="415"/>
                  <a:pt x="42" y="407"/>
                </a:cubicBezTo>
                <a:cubicBezTo>
                  <a:pt x="34" y="399"/>
                  <a:pt x="12" y="403"/>
                  <a:pt x="10" y="391"/>
                </a:cubicBezTo>
                <a:cubicBezTo>
                  <a:pt x="0" y="329"/>
                  <a:pt x="15" y="265"/>
                  <a:pt x="34" y="207"/>
                </a:cubicBezTo>
                <a:cubicBezTo>
                  <a:pt x="29" y="194"/>
                  <a:pt x="24" y="180"/>
                  <a:pt x="18" y="167"/>
                </a:cubicBezTo>
                <a:cubicBezTo>
                  <a:pt x="14" y="158"/>
                  <a:pt x="2" y="153"/>
                  <a:pt x="2" y="143"/>
                </a:cubicBezTo>
                <a:cubicBezTo>
                  <a:pt x="2" y="132"/>
                  <a:pt x="37" y="100"/>
                  <a:pt x="42" y="95"/>
                </a:cubicBezTo>
                <a:cubicBezTo>
                  <a:pt x="54" y="59"/>
                  <a:pt x="56" y="33"/>
                  <a:pt x="82" y="7"/>
                </a:cubicBezTo>
              </a:path>
            </a:pathLst>
          </a:custGeom>
          <a:solidFill>
            <a:srgbClr val="00ccff"/>
          </a:solidFill>
          <a:ln w="12600">
            <a:solidFill>
              <a:srgbClr val="00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1181520" y="1118160"/>
            <a:ext cx="4678200" cy="2304000"/>
            <a:chOff x="1181520" y="1118160"/>
            <a:chExt cx="4678200" cy="2304000"/>
          </a:xfrm>
        </p:grpSpPr>
        <p:sp>
          <p:nvSpPr>
            <p:cNvPr id="692" name=""/>
            <p:cNvSpPr/>
            <p:nvPr/>
          </p:nvSpPr>
          <p:spPr>
            <a:xfrm rot="226800">
              <a:off x="2892240" y="2652480"/>
              <a:ext cx="761760" cy="304560"/>
            </a:xfrm>
            <a:custGeom>
              <a:avLst/>
              <a:gdLst/>
              <a:ahLst/>
              <a:rect l="l" t="t" r="r" b="b"/>
              <a:pathLst>
                <a:path w="2371" h="1018">
                  <a:moveTo>
                    <a:pt x="157" y="895"/>
                  </a:moveTo>
                  <a:lnTo>
                    <a:pt x="455" y="696"/>
                  </a:lnTo>
                  <a:lnTo>
                    <a:pt x="710" y="603"/>
                  </a:lnTo>
                  <a:lnTo>
                    <a:pt x="924" y="589"/>
                  </a:lnTo>
                  <a:lnTo>
                    <a:pt x="1152" y="576"/>
                  </a:lnTo>
                  <a:lnTo>
                    <a:pt x="1379" y="589"/>
                  </a:lnTo>
                  <a:lnTo>
                    <a:pt x="1687" y="683"/>
                  </a:lnTo>
                  <a:lnTo>
                    <a:pt x="1942" y="790"/>
                  </a:lnTo>
                  <a:lnTo>
                    <a:pt x="2263" y="1018"/>
                  </a:lnTo>
                  <a:lnTo>
                    <a:pt x="2344" y="777"/>
                  </a:lnTo>
                  <a:lnTo>
                    <a:pt x="2156" y="696"/>
                  </a:lnTo>
                  <a:lnTo>
                    <a:pt x="2183" y="616"/>
                  </a:lnTo>
                  <a:lnTo>
                    <a:pt x="2371" y="683"/>
                  </a:lnTo>
                  <a:lnTo>
                    <a:pt x="2143" y="308"/>
                  </a:lnTo>
                  <a:lnTo>
                    <a:pt x="1728" y="335"/>
                  </a:lnTo>
                  <a:lnTo>
                    <a:pt x="1929" y="428"/>
                  </a:lnTo>
                  <a:lnTo>
                    <a:pt x="1888" y="536"/>
                  </a:lnTo>
                  <a:lnTo>
                    <a:pt x="1754" y="482"/>
                  </a:lnTo>
                  <a:lnTo>
                    <a:pt x="1594" y="428"/>
                  </a:lnTo>
                  <a:lnTo>
                    <a:pt x="1379" y="388"/>
                  </a:lnTo>
                  <a:lnTo>
                    <a:pt x="1366" y="268"/>
                  </a:lnTo>
                  <a:lnTo>
                    <a:pt x="1580" y="281"/>
                  </a:lnTo>
                  <a:lnTo>
                    <a:pt x="1178" y="0"/>
                  </a:lnTo>
                  <a:lnTo>
                    <a:pt x="857" y="227"/>
                  </a:lnTo>
                  <a:lnTo>
                    <a:pt x="1058" y="241"/>
                  </a:lnTo>
                  <a:lnTo>
                    <a:pt x="1058" y="361"/>
                  </a:lnTo>
                  <a:lnTo>
                    <a:pt x="750" y="388"/>
                  </a:lnTo>
                  <a:lnTo>
                    <a:pt x="562" y="455"/>
                  </a:lnTo>
                  <a:lnTo>
                    <a:pt x="495" y="348"/>
                  </a:lnTo>
                  <a:lnTo>
                    <a:pt x="750" y="268"/>
                  </a:lnTo>
                  <a:lnTo>
                    <a:pt x="281" y="147"/>
                  </a:lnTo>
                  <a:lnTo>
                    <a:pt x="0" y="536"/>
                  </a:lnTo>
                  <a:lnTo>
                    <a:pt x="254" y="455"/>
                  </a:lnTo>
                  <a:lnTo>
                    <a:pt x="294" y="562"/>
                  </a:lnTo>
                  <a:lnTo>
                    <a:pt x="134" y="616"/>
                  </a:lnTo>
                  <a:lnTo>
                    <a:pt x="0" y="696"/>
                  </a:lnTo>
                  <a:lnTo>
                    <a:pt x="120" y="924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93" name=""/>
            <p:cNvGrpSpPr/>
            <p:nvPr/>
          </p:nvGrpSpPr>
          <p:grpSpPr>
            <a:xfrm>
              <a:off x="1181520" y="1118160"/>
              <a:ext cx="4678200" cy="2304000"/>
              <a:chOff x="1181520" y="1118160"/>
              <a:chExt cx="4678200" cy="2304000"/>
            </a:xfrm>
          </p:grpSpPr>
          <p:sp>
            <p:nvSpPr>
              <p:cNvPr id="694" name=""/>
              <p:cNvSpPr/>
              <p:nvPr/>
            </p:nvSpPr>
            <p:spPr>
              <a:xfrm rot="20970600">
                <a:off x="1206000" y="2989080"/>
                <a:ext cx="685800" cy="334800"/>
              </a:xfrm>
              <a:custGeom>
                <a:avLst/>
                <a:gdLst/>
                <a:ahLst/>
                <a:rect l="l" t="t" r="r" b="b"/>
                <a:pathLst>
                  <a:path w="2371" h="1018">
                    <a:moveTo>
                      <a:pt x="157" y="895"/>
                    </a:moveTo>
                    <a:lnTo>
                      <a:pt x="455" y="696"/>
                    </a:lnTo>
                    <a:lnTo>
                      <a:pt x="710" y="603"/>
                    </a:lnTo>
                    <a:lnTo>
                      <a:pt x="924" y="589"/>
                    </a:lnTo>
                    <a:lnTo>
                      <a:pt x="1152" y="576"/>
                    </a:lnTo>
                    <a:lnTo>
                      <a:pt x="1379" y="589"/>
                    </a:lnTo>
                    <a:lnTo>
                      <a:pt x="1687" y="683"/>
                    </a:lnTo>
                    <a:lnTo>
                      <a:pt x="1942" y="790"/>
                    </a:lnTo>
                    <a:lnTo>
                      <a:pt x="2263" y="1018"/>
                    </a:lnTo>
                    <a:lnTo>
                      <a:pt x="2344" y="777"/>
                    </a:lnTo>
                    <a:lnTo>
                      <a:pt x="2156" y="696"/>
                    </a:lnTo>
                    <a:lnTo>
                      <a:pt x="2183" y="616"/>
                    </a:lnTo>
                    <a:lnTo>
                      <a:pt x="2371" y="683"/>
                    </a:lnTo>
                    <a:lnTo>
                      <a:pt x="2143" y="308"/>
                    </a:lnTo>
                    <a:lnTo>
                      <a:pt x="1728" y="335"/>
                    </a:lnTo>
                    <a:lnTo>
                      <a:pt x="1929" y="428"/>
                    </a:lnTo>
                    <a:lnTo>
                      <a:pt x="1888" y="536"/>
                    </a:lnTo>
                    <a:lnTo>
                      <a:pt x="1754" y="482"/>
                    </a:lnTo>
                    <a:lnTo>
                      <a:pt x="1594" y="428"/>
                    </a:lnTo>
                    <a:lnTo>
                      <a:pt x="1379" y="388"/>
                    </a:lnTo>
                    <a:lnTo>
                      <a:pt x="1366" y="268"/>
                    </a:lnTo>
                    <a:lnTo>
                      <a:pt x="1580" y="281"/>
                    </a:lnTo>
                    <a:lnTo>
                      <a:pt x="1178" y="0"/>
                    </a:lnTo>
                    <a:lnTo>
                      <a:pt x="857" y="227"/>
                    </a:lnTo>
                    <a:lnTo>
                      <a:pt x="1058" y="241"/>
                    </a:lnTo>
                    <a:lnTo>
                      <a:pt x="1058" y="361"/>
                    </a:lnTo>
                    <a:lnTo>
                      <a:pt x="750" y="388"/>
                    </a:lnTo>
                    <a:lnTo>
                      <a:pt x="562" y="455"/>
                    </a:lnTo>
                    <a:lnTo>
                      <a:pt x="495" y="348"/>
                    </a:lnTo>
                    <a:lnTo>
                      <a:pt x="750" y="268"/>
                    </a:lnTo>
                    <a:lnTo>
                      <a:pt x="281" y="147"/>
                    </a:lnTo>
                    <a:lnTo>
                      <a:pt x="0" y="536"/>
                    </a:lnTo>
                    <a:lnTo>
                      <a:pt x="254" y="455"/>
                    </a:lnTo>
                    <a:lnTo>
                      <a:pt x="294" y="562"/>
                    </a:lnTo>
                    <a:lnTo>
                      <a:pt x="134" y="616"/>
                    </a:lnTo>
                    <a:lnTo>
                      <a:pt x="0" y="696"/>
                    </a:lnTo>
                    <a:lnTo>
                      <a:pt x="120" y="924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583200">
                <a:off x="2118960" y="3047760"/>
                <a:ext cx="682560" cy="318960"/>
              </a:xfrm>
              <a:custGeom>
                <a:avLst/>
                <a:gdLst/>
                <a:ahLst/>
                <a:rect l="l" t="t" r="r" b="b"/>
                <a:pathLst>
                  <a:path w="2371" h="1018">
                    <a:moveTo>
                      <a:pt x="157" y="895"/>
                    </a:moveTo>
                    <a:lnTo>
                      <a:pt x="455" y="696"/>
                    </a:lnTo>
                    <a:lnTo>
                      <a:pt x="710" y="603"/>
                    </a:lnTo>
                    <a:lnTo>
                      <a:pt x="924" y="589"/>
                    </a:lnTo>
                    <a:lnTo>
                      <a:pt x="1152" y="576"/>
                    </a:lnTo>
                    <a:lnTo>
                      <a:pt x="1379" y="589"/>
                    </a:lnTo>
                    <a:lnTo>
                      <a:pt x="1687" y="683"/>
                    </a:lnTo>
                    <a:lnTo>
                      <a:pt x="1942" y="790"/>
                    </a:lnTo>
                    <a:lnTo>
                      <a:pt x="2263" y="1018"/>
                    </a:lnTo>
                    <a:lnTo>
                      <a:pt x="2344" y="777"/>
                    </a:lnTo>
                    <a:lnTo>
                      <a:pt x="2156" y="696"/>
                    </a:lnTo>
                    <a:lnTo>
                      <a:pt x="2183" y="616"/>
                    </a:lnTo>
                    <a:lnTo>
                      <a:pt x="2371" y="683"/>
                    </a:lnTo>
                    <a:lnTo>
                      <a:pt x="2143" y="308"/>
                    </a:lnTo>
                    <a:lnTo>
                      <a:pt x="1728" y="335"/>
                    </a:lnTo>
                    <a:lnTo>
                      <a:pt x="1929" y="428"/>
                    </a:lnTo>
                    <a:lnTo>
                      <a:pt x="1888" y="536"/>
                    </a:lnTo>
                    <a:lnTo>
                      <a:pt x="1754" y="482"/>
                    </a:lnTo>
                    <a:lnTo>
                      <a:pt x="1594" y="428"/>
                    </a:lnTo>
                    <a:lnTo>
                      <a:pt x="1379" y="388"/>
                    </a:lnTo>
                    <a:lnTo>
                      <a:pt x="1366" y="268"/>
                    </a:lnTo>
                    <a:lnTo>
                      <a:pt x="1580" y="281"/>
                    </a:lnTo>
                    <a:lnTo>
                      <a:pt x="1178" y="0"/>
                    </a:lnTo>
                    <a:lnTo>
                      <a:pt x="857" y="227"/>
                    </a:lnTo>
                    <a:lnTo>
                      <a:pt x="1058" y="241"/>
                    </a:lnTo>
                    <a:lnTo>
                      <a:pt x="1058" y="361"/>
                    </a:lnTo>
                    <a:lnTo>
                      <a:pt x="750" y="388"/>
                    </a:lnTo>
                    <a:lnTo>
                      <a:pt x="562" y="455"/>
                    </a:lnTo>
                    <a:lnTo>
                      <a:pt x="495" y="348"/>
                    </a:lnTo>
                    <a:lnTo>
                      <a:pt x="750" y="268"/>
                    </a:lnTo>
                    <a:lnTo>
                      <a:pt x="281" y="147"/>
                    </a:lnTo>
                    <a:lnTo>
                      <a:pt x="0" y="536"/>
                    </a:lnTo>
                    <a:lnTo>
                      <a:pt x="254" y="455"/>
                    </a:lnTo>
                    <a:lnTo>
                      <a:pt x="294" y="562"/>
                    </a:lnTo>
                    <a:lnTo>
                      <a:pt x="134" y="616"/>
                    </a:lnTo>
                    <a:lnTo>
                      <a:pt x="0" y="696"/>
                    </a:lnTo>
                    <a:lnTo>
                      <a:pt x="120" y="924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20692200">
                <a:off x="5067000" y="1917360"/>
                <a:ext cx="762120" cy="334800"/>
              </a:xfrm>
              <a:custGeom>
                <a:avLst/>
                <a:gdLst/>
                <a:ahLst/>
                <a:rect l="l" t="t" r="r" b="b"/>
                <a:pathLst>
                  <a:path w="2371" h="1018">
                    <a:moveTo>
                      <a:pt x="157" y="895"/>
                    </a:moveTo>
                    <a:lnTo>
                      <a:pt x="455" y="696"/>
                    </a:lnTo>
                    <a:lnTo>
                      <a:pt x="710" y="603"/>
                    </a:lnTo>
                    <a:lnTo>
                      <a:pt x="924" y="589"/>
                    </a:lnTo>
                    <a:lnTo>
                      <a:pt x="1152" y="576"/>
                    </a:lnTo>
                    <a:lnTo>
                      <a:pt x="1379" y="589"/>
                    </a:lnTo>
                    <a:lnTo>
                      <a:pt x="1687" y="683"/>
                    </a:lnTo>
                    <a:lnTo>
                      <a:pt x="1942" y="790"/>
                    </a:lnTo>
                    <a:lnTo>
                      <a:pt x="2263" y="1018"/>
                    </a:lnTo>
                    <a:lnTo>
                      <a:pt x="2344" y="777"/>
                    </a:lnTo>
                    <a:lnTo>
                      <a:pt x="2156" y="696"/>
                    </a:lnTo>
                    <a:lnTo>
                      <a:pt x="2183" y="616"/>
                    </a:lnTo>
                    <a:lnTo>
                      <a:pt x="2371" y="683"/>
                    </a:lnTo>
                    <a:lnTo>
                      <a:pt x="2143" y="308"/>
                    </a:lnTo>
                    <a:lnTo>
                      <a:pt x="1728" y="335"/>
                    </a:lnTo>
                    <a:lnTo>
                      <a:pt x="1929" y="428"/>
                    </a:lnTo>
                    <a:lnTo>
                      <a:pt x="1888" y="536"/>
                    </a:lnTo>
                    <a:lnTo>
                      <a:pt x="1754" y="482"/>
                    </a:lnTo>
                    <a:lnTo>
                      <a:pt x="1594" y="428"/>
                    </a:lnTo>
                    <a:lnTo>
                      <a:pt x="1379" y="388"/>
                    </a:lnTo>
                    <a:lnTo>
                      <a:pt x="1366" y="268"/>
                    </a:lnTo>
                    <a:lnTo>
                      <a:pt x="1580" y="281"/>
                    </a:lnTo>
                    <a:lnTo>
                      <a:pt x="1178" y="0"/>
                    </a:lnTo>
                    <a:lnTo>
                      <a:pt x="857" y="227"/>
                    </a:lnTo>
                    <a:lnTo>
                      <a:pt x="1058" y="241"/>
                    </a:lnTo>
                    <a:lnTo>
                      <a:pt x="1058" y="361"/>
                    </a:lnTo>
                    <a:lnTo>
                      <a:pt x="750" y="388"/>
                    </a:lnTo>
                    <a:lnTo>
                      <a:pt x="562" y="455"/>
                    </a:lnTo>
                    <a:lnTo>
                      <a:pt x="495" y="348"/>
                    </a:lnTo>
                    <a:lnTo>
                      <a:pt x="750" y="268"/>
                    </a:lnTo>
                    <a:lnTo>
                      <a:pt x="281" y="147"/>
                    </a:lnTo>
                    <a:lnTo>
                      <a:pt x="0" y="536"/>
                    </a:lnTo>
                    <a:lnTo>
                      <a:pt x="254" y="455"/>
                    </a:lnTo>
                    <a:lnTo>
                      <a:pt x="294" y="562"/>
                    </a:lnTo>
                    <a:lnTo>
                      <a:pt x="134" y="616"/>
                    </a:lnTo>
                    <a:lnTo>
                      <a:pt x="0" y="696"/>
                    </a:lnTo>
                    <a:lnTo>
                      <a:pt x="120" y="924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0422000">
                <a:off x="4765320" y="1157040"/>
                <a:ext cx="725400" cy="314280"/>
              </a:xfrm>
              <a:custGeom>
                <a:avLst/>
                <a:gdLst/>
                <a:ahLst/>
                <a:rect l="l" t="t" r="r" b="b"/>
                <a:pathLst>
                  <a:path w="2371" h="1018">
                    <a:moveTo>
                      <a:pt x="157" y="895"/>
                    </a:moveTo>
                    <a:lnTo>
                      <a:pt x="455" y="696"/>
                    </a:lnTo>
                    <a:lnTo>
                      <a:pt x="710" y="603"/>
                    </a:lnTo>
                    <a:lnTo>
                      <a:pt x="924" y="589"/>
                    </a:lnTo>
                    <a:lnTo>
                      <a:pt x="1152" y="576"/>
                    </a:lnTo>
                    <a:lnTo>
                      <a:pt x="1379" y="589"/>
                    </a:lnTo>
                    <a:lnTo>
                      <a:pt x="1687" y="683"/>
                    </a:lnTo>
                    <a:lnTo>
                      <a:pt x="1942" y="790"/>
                    </a:lnTo>
                    <a:lnTo>
                      <a:pt x="2263" y="1018"/>
                    </a:lnTo>
                    <a:lnTo>
                      <a:pt x="2344" y="777"/>
                    </a:lnTo>
                    <a:lnTo>
                      <a:pt x="2156" y="696"/>
                    </a:lnTo>
                    <a:lnTo>
                      <a:pt x="2183" y="616"/>
                    </a:lnTo>
                    <a:lnTo>
                      <a:pt x="2371" y="683"/>
                    </a:lnTo>
                    <a:lnTo>
                      <a:pt x="2143" y="308"/>
                    </a:lnTo>
                    <a:lnTo>
                      <a:pt x="1728" y="335"/>
                    </a:lnTo>
                    <a:lnTo>
                      <a:pt x="1929" y="428"/>
                    </a:lnTo>
                    <a:lnTo>
                      <a:pt x="1888" y="536"/>
                    </a:lnTo>
                    <a:lnTo>
                      <a:pt x="1754" y="482"/>
                    </a:lnTo>
                    <a:lnTo>
                      <a:pt x="1594" y="428"/>
                    </a:lnTo>
                    <a:lnTo>
                      <a:pt x="1379" y="388"/>
                    </a:lnTo>
                    <a:lnTo>
                      <a:pt x="1366" y="268"/>
                    </a:lnTo>
                    <a:lnTo>
                      <a:pt x="1580" y="281"/>
                    </a:lnTo>
                    <a:lnTo>
                      <a:pt x="1178" y="0"/>
                    </a:lnTo>
                    <a:lnTo>
                      <a:pt x="857" y="227"/>
                    </a:lnTo>
                    <a:lnTo>
                      <a:pt x="1058" y="241"/>
                    </a:lnTo>
                    <a:lnTo>
                      <a:pt x="1058" y="361"/>
                    </a:lnTo>
                    <a:lnTo>
                      <a:pt x="750" y="388"/>
                    </a:lnTo>
                    <a:lnTo>
                      <a:pt x="562" y="455"/>
                    </a:lnTo>
                    <a:lnTo>
                      <a:pt x="495" y="348"/>
                    </a:lnTo>
                    <a:lnTo>
                      <a:pt x="750" y="268"/>
                    </a:lnTo>
                    <a:lnTo>
                      <a:pt x="281" y="147"/>
                    </a:lnTo>
                    <a:lnTo>
                      <a:pt x="0" y="536"/>
                    </a:lnTo>
                    <a:lnTo>
                      <a:pt x="254" y="455"/>
                    </a:lnTo>
                    <a:lnTo>
                      <a:pt x="294" y="562"/>
                    </a:lnTo>
                    <a:lnTo>
                      <a:pt x="134" y="616"/>
                    </a:lnTo>
                    <a:lnTo>
                      <a:pt x="0" y="696"/>
                    </a:lnTo>
                    <a:lnTo>
                      <a:pt x="120" y="924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9640200">
                <a:off x="2352240" y="1784520"/>
                <a:ext cx="828720" cy="334800"/>
              </a:xfrm>
              <a:custGeom>
                <a:avLst/>
                <a:gdLst/>
                <a:ahLst/>
                <a:rect l="l" t="t" r="r" b="b"/>
                <a:pathLst>
                  <a:path w="2371" h="1018">
                    <a:moveTo>
                      <a:pt x="157" y="895"/>
                    </a:moveTo>
                    <a:lnTo>
                      <a:pt x="455" y="696"/>
                    </a:lnTo>
                    <a:lnTo>
                      <a:pt x="710" y="603"/>
                    </a:lnTo>
                    <a:lnTo>
                      <a:pt x="924" y="589"/>
                    </a:lnTo>
                    <a:lnTo>
                      <a:pt x="1152" y="576"/>
                    </a:lnTo>
                    <a:lnTo>
                      <a:pt x="1379" y="589"/>
                    </a:lnTo>
                    <a:lnTo>
                      <a:pt x="1687" y="683"/>
                    </a:lnTo>
                    <a:lnTo>
                      <a:pt x="1942" y="790"/>
                    </a:lnTo>
                    <a:lnTo>
                      <a:pt x="2263" y="1018"/>
                    </a:lnTo>
                    <a:lnTo>
                      <a:pt x="2344" y="777"/>
                    </a:lnTo>
                    <a:lnTo>
                      <a:pt x="2156" y="696"/>
                    </a:lnTo>
                    <a:lnTo>
                      <a:pt x="2183" y="616"/>
                    </a:lnTo>
                    <a:lnTo>
                      <a:pt x="2371" y="683"/>
                    </a:lnTo>
                    <a:lnTo>
                      <a:pt x="2143" y="308"/>
                    </a:lnTo>
                    <a:lnTo>
                      <a:pt x="1728" y="335"/>
                    </a:lnTo>
                    <a:lnTo>
                      <a:pt x="1929" y="428"/>
                    </a:lnTo>
                    <a:lnTo>
                      <a:pt x="1888" y="536"/>
                    </a:lnTo>
                    <a:lnTo>
                      <a:pt x="1754" y="482"/>
                    </a:lnTo>
                    <a:lnTo>
                      <a:pt x="1594" y="428"/>
                    </a:lnTo>
                    <a:lnTo>
                      <a:pt x="1379" y="388"/>
                    </a:lnTo>
                    <a:lnTo>
                      <a:pt x="1366" y="268"/>
                    </a:lnTo>
                    <a:lnTo>
                      <a:pt x="1580" y="281"/>
                    </a:lnTo>
                    <a:lnTo>
                      <a:pt x="1178" y="0"/>
                    </a:lnTo>
                    <a:lnTo>
                      <a:pt x="857" y="227"/>
                    </a:lnTo>
                    <a:lnTo>
                      <a:pt x="1058" y="241"/>
                    </a:lnTo>
                    <a:lnTo>
                      <a:pt x="1058" y="361"/>
                    </a:lnTo>
                    <a:lnTo>
                      <a:pt x="750" y="388"/>
                    </a:lnTo>
                    <a:lnTo>
                      <a:pt x="562" y="455"/>
                    </a:lnTo>
                    <a:lnTo>
                      <a:pt x="495" y="348"/>
                    </a:lnTo>
                    <a:lnTo>
                      <a:pt x="750" y="268"/>
                    </a:lnTo>
                    <a:lnTo>
                      <a:pt x="281" y="147"/>
                    </a:lnTo>
                    <a:lnTo>
                      <a:pt x="0" y="536"/>
                    </a:lnTo>
                    <a:lnTo>
                      <a:pt x="254" y="455"/>
                    </a:lnTo>
                    <a:lnTo>
                      <a:pt x="294" y="562"/>
                    </a:lnTo>
                    <a:lnTo>
                      <a:pt x="134" y="616"/>
                    </a:lnTo>
                    <a:lnTo>
                      <a:pt x="0" y="696"/>
                    </a:lnTo>
                    <a:lnTo>
                      <a:pt x="120" y="924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8961600">
                <a:off x="3371400" y="1397160"/>
                <a:ext cx="879480" cy="334800"/>
              </a:xfrm>
              <a:custGeom>
                <a:avLst/>
                <a:gdLst/>
                <a:ahLst/>
                <a:rect l="l" t="t" r="r" b="b"/>
                <a:pathLst>
                  <a:path w="2371" h="1018">
                    <a:moveTo>
                      <a:pt x="157" y="895"/>
                    </a:moveTo>
                    <a:lnTo>
                      <a:pt x="455" y="696"/>
                    </a:lnTo>
                    <a:lnTo>
                      <a:pt x="710" y="603"/>
                    </a:lnTo>
                    <a:lnTo>
                      <a:pt x="924" y="589"/>
                    </a:lnTo>
                    <a:lnTo>
                      <a:pt x="1152" y="576"/>
                    </a:lnTo>
                    <a:lnTo>
                      <a:pt x="1379" y="589"/>
                    </a:lnTo>
                    <a:lnTo>
                      <a:pt x="1687" y="683"/>
                    </a:lnTo>
                    <a:lnTo>
                      <a:pt x="1942" y="790"/>
                    </a:lnTo>
                    <a:lnTo>
                      <a:pt x="2263" y="1018"/>
                    </a:lnTo>
                    <a:lnTo>
                      <a:pt x="2344" y="777"/>
                    </a:lnTo>
                    <a:lnTo>
                      <a:pt x="2156" y="696"/>
                    </a:lnTo>
                    <a:lnTo>
                      <a:pt x="2183" y="616"/>
                    </a:lnTo>
                    <a:lnTo>
                      <a:pt x="2371" y="683"/>
                    </a:lnTo>
                    <a:lnTo>
                      <a:pt x="2143" y="308"/>
                    </a:lnTo>
                    <a:lnTo>
                      <a:pt x="1728" y="335"/>
                    </a:lnTo>
                    <a:lnTo>
                      <a:pt x="1929" y="428"/>
                    </a:lnTo>
                    <a:lnTo>
                      <a:pt x="1888" y="536"/>
                    </a:lnTo>
                    <a:lnTo>
                      <a:pt x="1754" y="482"/>
                    </a:lnTo>
                    <a:lnTo>
                      <a:pt x="1594" y="428"/>
                    </a:lnTo>
                    <a:lnTo>
                      <a:pt x="1379" y="388"/>
                    </a:lnTo>
                    <a:lnTo>
                      <a:pt x="1366" y="268"/>
                    </a:lnTo>
                    <a:lnTo>
                      <a:pt x="1580" y="281"/>
                    </a:lnTo>
                    <a:lnTo>
                      <a:pt x="1178" y="0"/>
                    </a:lnTo>
                    <a:lnTo>
                      <a:pt x="857" y="227"/>
                    </a:lnTo>
                    <a:lnTo>
                      <a:pt x="1058" y="241"/>
                    </a:lnTo>
                    <a:lnTo>
                      <a:pt x="1058" y="361"/>
                    </a:lnTo>
                    <a:lnTo>
                      <a:pt x="750" y="388"/>
                    </a:lnTo>
                    <a:lnTo>
                      <a:pt x="562" y="455"/>
                    </a:lnTo>
                    <a:lnTo>
                      <a:pt x="495" y="348"/>
                    </a:lnTo>
                    <a:lnTo>
                      <a:pt x="750" y="268"/>
                    </a:lnTo>
                    <a:lnTo>
                      <a:pt x="281" y="147"/>
                    </a:lnTo>
                    <a:lnTo>
                      <a:pt x="0" y="536"/>
                    </a:lnTo>
                    <a:lnTo>
                      <a:pt x="254" y="455"/>
                    </a:lnTo>
                    <a:lnTo>
                      <a:pt x="294" y="562"/>
                    </a:lnTo>
                    <a:lnTo>
                      <a:pt x="134" y="616"/>
                    </a:lnTo>
                    <a:lnTo>
                      <a:pt x="0" y="696"/>
                    </a:lnTo>
                    <a:lnTo>
                      <a:pt x="120" y="924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0" name=""/>
          <p:cNvSpPr/>
          <p:nvPr/>
        </p:nvSpPr>
        <p:spPr>
          <a:xfrm rot="10800000">
            <a:off x="101520" y="4939920"/>
            <a:ext cx="609840" cy="152280"/>
          </a:xfrm>
          <a:custGeom>
            <a:avLst/>
            <a:gdLst/>
            <a:ahLst/>
            <a:rect l="l" t="t" r="r" b="b"/>
            <a:pathLst>
              <a:path w="5052" h="1071">
                <a:moveTo>
                  <a:pt x="665" y="722"/>
                </a:moveTo>
                <a:lnTo>
                  <a:pt x="777" y="503"/>
                </a:lnTo>
                <a:lnTo>
                  <a:pt x="2692" y="612"/>
                </a:lnTo>
                <a:lnTo>
                  <a:pt x="3386" y="810"/>
                </a:lnTo>
                <a:lnTo>
                  <a:pt x="4331" y="1071"/>
                </a:lnTo>
                <a:lnTo>
                  <a:pt x="3871" y="509"/>
                </a:lnTo>
                <a:lnTo>
                  <a:pt x="5052" y="263"/>
                </a:lnTo>
                <a:lnTo>
                  <a:pt x="3442" y="109"/>
                </a:lnTo>
                <a:lnTo>
                  <a:pt x="2692" y="88"/>
                </a:lnTo>
                <a:lnTo>
                  <a:pt x="860" y="263"/>
                </a:lnTo>
                <a:lnTo>
                  <a:pt x="638" y="0"/>
                </a:lnTo>
                <a:lnTo>
                  <a:pt x="0" y="438"/>
                </a:lnTo>
                <a:lnTo>
                  <a:pt x="638" y="70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279720" y="1689480"/>
            <a:ext cx="8030520" cy="1504440"/>
            <a:chOff x="279720" y="1689480"/>
            <a:chExt cx="8030520" cy="1504440"/>
          </a:xfrm>
        </p:grpSpPr>
        <p:grpSp>
          <p:nvGrpSpPr>
            <p:cNvPr id="702" name=""/>
            <p:cNvGrpSpPr/>
            <p:nvPr/>
          </p:nvGrpSpPr>
          <p:grpSpPr>
            <a:xfrm>
              <a:off x="6002640" y="1689480"/>
              <a:ext cx="2307600" cy="385200"/>
              <a:chOff x="6002640" y="1689480"/>
              <a:chExt cx="2307600" cy="385200"/>
            </a:xfrm>
          </p:grpSpPr>
          <p:sp>
            <p:nvSpPr>
              <p:cNvPr id="703" name=""/>
              <p:cNvSpPr/>
              <p:nvPr/>
            </p:nvSpPr>
            <p:spPr>
              <a:xfrm rot="21372600">
                <a:off x="7035480" y="1730880"/>
                <a:ext cx="1266840" cy="274680"/>
              </a:xfrm>
              <a:custGeom>
                <a:avLst/>
                <a:gdLst/>
                <a:ahLst/>
                <a:rect l="l" t="t" r="r" b="b"/>
                <a:pathLst>
                  <a:path w="5052" h="1071">
                    <a:moveTo>
                      <a:pt x="665" y="722"/>
                    </a:moveTo>
                    <a:lnTo>
                      <a:pt x="777" y="503"/>
                    </a:lnTo>
                    <a:lnTo>
                      <a:pt x="2692" y="612"/>
                    </a:lnTo>
                    <a:lnTo>
                      <a:pt x="3386" y="810"/>
                    </a:lnTo>
                    <a:lnTo>
                      <a:pt x="4331" y="1071"/>
                    </a:lnTo>
                    <a:lnTo>
                      <a:pt x="3871" y="509"/>
                    </a:lnTo>
                    <a:lnTo>
                      <a:pt x="5052" y="263"/>
                    </a:lnTo>
                    <a:lnTo>
                      <a:pt x="3442" y="109"/>
                    </a:lnTo>
                    <a:lnTo>
                      <a:pt x="2692" y="88"/>
                    </a:lnTo>
                    <a:lnTo>
                      <a:pt x="860" y="263"/>
                    </a:lnTo>
                    <a:lnTo>
                      <a:pt x="638" y="0"/>
                    </a:lnTo>
                    <a:lnTo>
                      <a:pt x="0" y="438"/>
                    </a:lnTo>
                    <a:lnTo>
                      <a:pt x="638" y="700"/>
                    </a:lnTo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1372600">
                <a:off x="6009120" y="1805040"/>
                <a:ext cx="1013400" cy="235800"/>
              </a:xfrm>
              <a:custGeom>
                <a:avLst/>
                <a:gdLst/>
                <a:ahLst/>
                <a:rect l="l" t="t" r="r" b="b"/>
                <a:pathLst>
                  <a:path w="5052" h="1071">
                    <a:moveTo>
                      <a:pt x="665" y="722"/>
                    </a:moveTo>
                    <a:lnTo>
                      <a:pt x="777" y="503"/>
                    </a:lnTo>
                    <a:lnTo>
                      <a:pt x="2692" y="612"/>
                    </a:lnTo>
                    <a:lnTo>
                      <a:pt x="3386" y="810"/>
                    </a:lnTo>
                    <a:lnTo>
                      <a:pt x="4331" y="1071"/>
                    </a:lnTo>
                    <a:lnTo>
                      <a:pt x="3871" y="509"/>
                    </a:lnTo>
                    <a:lnTo>
                      <a:pt x="5052" y="263"/>
                    </a:lnTo>
                    <a:lnTo>
                      <a:pt x="3442" y="109"/>
                    </a:lnTo>
                    <a:lnTo>
                      <a:pt x="2692" y="88"/>
                    </a:lnTo>
                    <a:lnTo>
                      <a:pt x="860" y="263"/>
                    </a:lnTo>
                    <a:lnTo>
                      <a:pt x="638" y="0"/>
                    </a:lnTo>
                    <a:lnTo>
                      <a:pt x="0" y="438"/>
                    </a:lnTo>
                    <a:lnTo>
                      <a:pt x="638" y="700"/>
                    </a:lnTo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05" name=""/>
            <p:cNvGrpSpPr/>
            <p:nvPr/>
          </p:nvGrpSpPr>
          <p:grpSpPr>
            <a:xfrm>
              <a:off x="279720" y="2424600"/>
              <a:ext cx="2295360" cy="769320"/>
              <a:chOff x="279720" y="2424600"/>
              <a:chExt cx="2295360" cy="769320"/>
            </a:xfrm>
          </p:grpSpPr>
          <p:sp>
            <p:nvSpPr>
              <p:cNvPr id="706" name=""/>
              <p:cNvSpPr/>
              <p:nvPr/>
            </p:nvSpPr>
            <p:spPr>
              <a:xfrm rot="20781600">
                <a:off x="1293480" y="2569680"/>
                <a:ext cx="1266840" cy="275040"/>
              </a:xfrm>
              <a:custGeom>
                <a:avLst/>
                <a:gdLst/>
                <a:ahLst/>
                <a:rect l="l" t="t" r="r" b="b"/>
                <a:pathLst>
                  <a:path w="5052" h="1071">
                    <a:moveTo>
                      <a:pt x="665" y="722"/>
                    </a:moveTo>
                    <a:lnTo>
                      <a:pt x="777" y="503"/>
                    </a:lnTo>
                    <a:lnTo>
                      <a:pt x="2692" y="612"/>
                    </a:lnTo>
                    <a:lnTo>
                      <a:pt x="3386" y="810"/>
                    </a:lnTo>
                    <a:lnTo>
                      <a:pt x="4331" y="1071"/>
                    </a:lnTo>
                    <a:lnTo>
                      <a:pt x="3871" y="509"/>
                    </a:lnTo>
                    <a:lnTo>
                      <a:pt x="5052" y="263"/>
                    </a:lnTo>
                    <a:lnTo>
                      <a:pt x="3442" y="109"/>
                    </a:lnTo>
                    <a:lnTo>
                      <a:pt x="2692" y="88"/>
                    </a:lnTo>
                    <a:lnTo>
                      <a:pt x="860" y="263"/>
                    </a:lnTo>
                    <a:lnTo>
                      <a:pt x="638" y="0"/>
                    </a:lnTo>
                    <a:lnTo>
                      <a:pt x="0" y="438"/>
                    </a:lnTo>
                    <a:lnTo>
                      <a:pt x="638" y="700"/>
                    </a:lnTo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20781600">
                <a:off x="293040" y="2841480"/>
                <a:ext cx="1013400" cy="236160"/>
              </a:xfrm>
              <a:custGeom>
                <a:avLst/>
                <a:gdLst/>
                <a:ahLst/>
                <a:rect l="l" t="t" r="r" b="b"/>
                <a:pathLst>
                  <a:path w="5052" h="1071">
                    <a:moveTo>
                      <a:pt x="665" y="722"/>
                    </a:moveTo>
                    <a:lnTo>
                      <a:pt x="777" y="503"/>
                    </a:lnTo>
                    <a:lnTo>
                      <a:pt x="2692" y="612"/>
                    </a:lnTo>
                    <a:lnTo>
                      <a:pt x="3386" y="810"/>
                    </a:lnTo>
                    <a:lnTo>
                      <a:pt x="4331" y="1071"/>
                    </a:lnTo>
                    <a:lnTo>
                      <a:pt x="3871" y="509"/>
                    </a:lnTo>
                    <a:lnTo>
                      <a:pt x="5052" y="263"/>
                    </a:lnTo>
                    <a:lnTo>
                      <a:pt x="3442" y="109"/>
                    </a:lnTo>
                    <a:lnTo>
                      <a:pt x="2692" y="88"/>
                    </a:lnTo>
                    <a:lnTo>
                      <a:pt x="860" y="263"/>
                    </a:lnTo>
                    <a:lnTo>
                      <a:pt x="638" y="0"/>
                    </a:lnTo>
                    <a:lnTo>
                      <a:pt x="0" y="438"/>
                    </a:lnTo>
                    <a:lnTo>
                      <a:pt x="638" y="700"/>
                    </a:lnTo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08" name=""/>
            <p:cNvGrpSpPr/>
            <p:nvPr/>
          </p:nvGrpSpPr>
          <p:grpSpPr>
            <a:xfrm>
              <a:off x="3123360" y="1777320"/>
              <a:ext cx="2297520" cy="743040"/>
              <a:chOff x="3123360" y="1777320"/>
              <a:chExt cx="2297520" cy="743040"/>
            </a:xfrm>
          </p:grpSpPr>
          <p:sp>
            <p:nvSpPr>
              <p:cNvPr id="709" name=""/>
              <p:cNvSpPr/>
              <p:nvPr/>
            </p:nvSpPr>
            <p:spPr>
              <a:xfrm rot="20820600">
                <a:off x="4139280" y="1915920"/>
                <a:ext cx="1266840" cy="274680"/>
              </a:xfrm>
              <a:custGeom>
                <a:avLst/>
                <a:gdLst/>
                <a:ahLst/>
                <a:rect l="l" t="t" r="r" b="b"/>
                <a:pathLst>
                  <a:path w="5052" h="1071">
                    <a:moveTo>
                      <a:pt x="665" y="722"/>
                    </a:moveTo>
                    <a:lnTo>
                      <a:pt x="777" y="503"/>
                    </a:lnTo>
                    <a:lnTo>
                      <a:pt x="2692" y="612"/>
                    </a:lnTo>
                    <a:lnTo>
                      <a:pt x="3386" y="810"/>
                    </a:lnTo>
                    <a:lnTo>
                      <a:pt x="4331" y="1071"/>
                    </a:lnTo>
                    <a:lnTo>
                      <a:pt x="3871" y="509"/>
                    </a:lnTo>
                    <a:lnTo>
                      <a:pt x="5052" y="263"/>
                    </a:lnTo>
                    <a:lnTo>
                      <a:pt x="3442" y="109"/>
                    </a:lnTo>
                    <a:lnTo>
                      <a:pt x="2692" y="88"/>
                    </a:lnTo>
                    <a:lnTo>
                      <a:pt x="860" y="263"/>
                    </a:lnTo>
                    <a:lnTo>
                      <a:pt x="638" y="0"/>
                    </a:lnTo>
                    <a:lnTo>
                      <a:pt x="0" y="438"/>
                    </a:lnTo>
                    <a:lnTo>
                      <a:pt x="638" y="700"/>
                    </a:lnTo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rot="20820600">
                <a:off x="3136680" y="2173680"/>
                <a:ext cx="1013400" cy="235800"/>
              </a:xfrm>
              <a:custGeom>
                <a:avLst/>
                <a:gdLst/>
                <a:ahLst/>
                <a:rect l="l" t="t" r="r" b="b"/>
                <a:pathLst>
                  <a:path w="5052" h="1071">
                    <a:moveTo>
                      <a:pt x="665" y="722"/>
                    </a:moveTo>
                    <a:lnTo>
                      <a:pt x="777" y="503"/>
                    </a:lnTo>
                    <a:lnTo>
                      <a:pt x="2692" y="612"/>
                    </a:lnTo>
                    <a:lnTo>
                      <a:pt x="3386" y="810"/>
                    </a:lnTo>
                    <a:lnTo>
                      <a:pt x="4331" y="1071"/>
                    </a:lnTo>
                    <a:lnTo>
                      <a:pt x="3871" y="509"/>
                    </a:lnTo>
                    <a:lnTo>
                      <a:pt x="5052" y="263"/>
                    </a:lnTo>
                    <a:lnTo>
                      <a:pt x="3442" y="109"/>
                    </a:lnTo>
                    <a:lnTo>
                      <a:pt x="2692" y="88"/>
                    </a:lnTo>
                    <a:lnTo>
                      <a:pt x="860" y="263"/>
                    </a:lnTo>
                    <a:lnTo>
                      <a:pt x="638" y="0"/>
                    </a:lnTo>
                    <a:lnTo>
                      <a:pt x="0" y="438"/>
                    </a:lnTo>
                    <a:lnTo>
                      <a:pt x="638" y="700"/>
                    </a:lnTo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1" name=""/>
          <p:cNvGrpSpPr/>
          <p:nvPr/>
        </p:nvGrpSpPr>
        <p:grpSpPr>
          <a:xfrm>
            <a:off x="-12960" y="1486800"/>
            <a:ext cx="6039720" cy="1679400"/>
            <a:chOff x="-12960" y="1486800"/>
            <a:chExt cx="6039720" cy="1679400"/>
          </a:xfrm>
        </p:grpSpPr>
        <p:sp>
          <p:nvSpPr>
            <p:cNvPr id="712" name=""/>
            <p:cNvSpPr/>
            <p:nvPr/>
          </p:nvSpPr>
          <p:spPr>
            <a:xfrm flipV="1" rot="10129800">
              <a:off x="3072960" y="1827720"/>
              <a:ext cx="1521000" cy="302040"/>
            </a:xfrm>
            <a:custGeom>
              <a:avLst/>
              <a:gdLst/>
              <a:ahLst/>
              <a:rect l="l" t="t" r="r" b="b"/>
              <a:pathLst>
                <a:path w="5052" h="1071">
                  <a:moveTo>
                    <a:pt x="665" y="722"/>
                  </a:moveTo>
                  <a:lnTo>
                    <a:pt x="777" y="503"/>
                  </a:lnTo>
                  <a:lnTo>
                    <a:pt x="2692" y="612"/>
                  </a:lnTo>
                  <a:lnTo>
                    <a:pt x="3386" y="810"/>
                  </a:lnTo>
                  <a:lnTo>
                    <a:pt x="4331" y="1071"/>
                  </a:lnTo>
                  <a:lnTo>
                    <a:pt x="3871" y="509"/>
                  </a:lnTo>
                  <a:lnTo>
                    <a:pt x="5052" y="263"/>
                  </a:lnTo>
                  <a:lnTo>
                    <a:pt x="3442" y="109"/>
                  </a:lnTo>
                  <a:lnTo>
                    <a:pt x="2692" y="88"/>
                  </a:lnTo>
                  <a:lnTo>
                    <a:pt x="860" y="263"/>
                  </a:lnTo>
                  <a:lnTo>
                    <a:pt x="638" y="0"/>
                  </a:lnTo>
                  <a:lnTo>
                    <a:pt x="0" y="438"/>
                  </a:lnTo>
                  <a:lnTo>
                    <a:pt x="638" y="700"/>
                  </a:lnTo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V="1" rot="10559400">
              <a:off x="4952880" y="1523520"/>
              <a:ext cx="1067040" cy="232200"/>
            </a:xfrm>
            <a:custGeom>
              <a:avLst/>
              <a:gdLst/>
              <a:ahLst/>
              <a:rect l="l" t="t" r="r" b="b"/>
              <a:pathLst>
                <a:path w="5052" h="1071">
                  <a:moveTo>
                    <a:pt x="665" y="722"/>
                  </a:moveTo>
                  <a:lnTo>
                    <a:pt x="777" y="503"/>
                  </a:lnTo>
                  <a:lnTo>
                    <a:pt x="2692" y="612"/>
                  </a:lnTo>
                  <a:lnTo>
                    <a:pt x="3386" y="810"/>
                  </a:lnTo>
                  <a:lnTo>
                    <a:pt x="4331" y="1071"/>
                  </a:lnTo>
                  <a:lnTo>
                    <a:pt x="3871" y="509"/>
                  </a:lnTo>
                  <a:lnTo>
                    <a:pt x="5052" y="263"/>
                  </a:lnTo>
                  <a:lnTo>
                    <a:pt x="3442" y="109"/>
                  </a:lnTo>
                  <a:lnTo>
                    <a:pt x="2692" y="88"/>
                  </a:lnTo>
                  <a:lnTo>
                    <a:pt x="860" y="263"/>
                  </a:lnTo>
                  <a:lnTo>
                    <a:pt x="638" y="0"/>
                  </a:lnTo>
                  <a:lnTo>
                    <a:pt x="0" y="438"/>
                  </a:lnTo>
                  <a:lnTo>
                    <a:pt x="638" y="700"/>
                  </a:lnTo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V="1" rot="9869400">
              <a:off x="-360" y="2666160"/>
              <a:ext cx="1521000" cy="301680"/>
            </a:xfrm>
            <a:custGeom>
              <a:avLst/>
              <a:gdLst/>
              <a:ahLst/>
              <a:rect l="l" t="t" r="r" b="b"/>
              <a:pathLst>
                <a:path w="5052" h="1071">
                  <a:moveTo>
                    <a:pt x="665" y="722"/>
                  </a:moveTo>
                  <a:lnTo>
                    <a:pt x="777" y="503"/>
                  </a:lnTo>
                  <a:lnTo>
                    <a:pt x="2692" y="612"/>
                  </a:lnTo>
                  <a:lnTo>
                    <a:pt x="3386" y="810"/>
                  </a:lnTo>
                  <a:lnTo>
                    <a:pt x="4331" y="1071"/>
                  </a:lnTo>
                  <a:lnTo>
                    <a:pt x="3871" y="509"/>
                  </a:lnTo>
                  <a:lnTo>
                    <a:pt x="5052" y="263"/>
                  </a:lnTo>
                  <a:lnTo>
                    <a:pt x="3442" y="109"/>
                  </a:lnTo>
                  <a:lnTo>
                    <a:pt x="2692" y="88"/>
                  </a:lnTo>
                  <a:lnTo>
                    <a:pt x="860" y="263"/>
                  </a:lnTo>
                  <a:lnTo>
                    <a:pt x="638" y="0"/>
                  </a:lnTo>
                  <a:lnTo>
                    <a:pt x="0" y="438"/>
                  </a:lnTo>
                  <a:lnTo>
                    <a:pt x="638" y="700"/>
                  </a:lnTo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V="1" rot="10160400">
              <a:off x="1676160" y="2271960"/>
              <a:ext cx="1066680" cy="231840"/>
            </a:xfrm>
            <a:custGeom>
              <a:avLst/>
              <a:gdLst/>
              <a:ahLst/>
              <a:rect l="l" t="t" r="r" b="b"/>
              <a:pathLst>
                <a:path w="5052" h="1071">
                  <a:moveTo>
                    <a:pt x="665" y="722"/>
                  </a:moveTo>
                  <a:lnTo>
                    <a:pt x="777" y="503"/>
                  </a:lnTo>
                  <a:lnTo>
                    <a:pt x="2692" y="612"/>
                  </a:lnTo>
                  <a:lnTo>
                    <a:pt x="3386" y="810"/>
                  </a:lnTo>
                  <a:lnTo>
                    <a:pt x="4331" y="1071"/>
                  </a:lnTo>
                  <a:lnTo>
                    <a:pt x="3871" y="509"/>
                  </a:lnTo>
                  <a:lnTo>
                    <a:pt x="5052" y="263"/>
                  </a:lnTo>
                  <a:lnTo>
                    <a:pt x="3442" y="109"/>
                  </a:lnTo>
                  <a:lnTo>
                    <a:pt x="2692" y="88"/>
                  </a:lnTo>
                  <a:lnTo>
                    <a:pt x="860" y="263"/>
                  </a:lnTo>
                  <a:lnTo>
                    <a:pt x="638" y="0"/>
                  </a:lnTo>
                  <a:lnTo>
                    <a:pt x="0" y="438"/>
                  </a:lnTo>
                  <a:lnTo>
                    <a:pt x="638" y="700"/>
                  </a:lnTo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-89280" y="1642320"/>
            <a:ext cx="6039720" cy="1679400"/>
            <a:chOff x="-89280" y="1642320"/>
            <a:chExt cx="6039720" cy="1679400"/>
          </a:xfrm>
        </p:grpSpPr>
        <p:sp>
          <p:nvSpPr>
            <p:cNvPr id="717" name=""/>
            <p:cNvSpPr/>
            <p:nvPr/>
          </p:nvSpPr>
          <p:spPr>
            <a:xfrm flipV="1" rot="10129800">
              <a:off x="2996640" y="1983240"/>
              <a:ext cx="1521000" cy="302040"/>
            </a:xfrm>
            <a:custGeom>
              <a:avLst/>
              <a:gdLst/>
              <a:ahLst/>
              <a:rect l="l" t="t" r="r" b="b"/>
              <a:pathLst>
                <a:path w="5052" h="1071">
                  <a:moveTo>
                    <a:pt x="665" y="722"/>
                  </a:moveTo>
                  <a:lnTo>
                    <a:pt x="777" y="503"/>
                  </a:lnTo>
                  <a:lnTo>
                    <a:pt x="2692" y="612"/>
                  </a:lnTo>
                  <a:lnTo>
                    <a:pt x="3386" y="810"/>
                  </a:lnTo>
                  <a:lnTo>
                    <a:pt x="4331" y="1071"/>
                  </a:lnTo>
                  <a:lnTo>
                    <a:pt x="3871" y="509"/>
                  </a:lnTo>
                  <a:lnTo>
                    <a:pt x="5052" y="263"/>
                  </a:lnTo>
                  <a:lnTo>
                    <a:pt x="3442" y="109"/>
                  </a:lnTo>
                  <a:lnTo>
                    <a:pt x="2692" y="88"/>
                  </a:lnTo>
                  <a:lnTo>
                    <a:pt x="860" y="263"/>
                  </a:lnTo>
                  <a:lnTo>
                    <a:pt x="638" y="0"/>
                  </a:lnTo>
                  <a:lnTo>
                    <a:pt x="0" y="438"/>
                  </a:lnTo>
                  <a:lnTo>
                    <a:pt x="638" y="700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 rot="10559400">
              <a:off x="4876560" y="1679040"/>
              <a:ext cx="1067040" cy="232200"/>
            </a:xfrm>
            <a:custGeom>
              <a:avLst/>
              <a:gdLst/>
              <a:ahLst/>
              <a:rect l="l" t="t" r="r" b="b"/>
              <a:pathLst>
                <a:path w="5052" h="1071">
                  <a:moveTo>
                    <a:pt x="665" y="722"/>
                  </a:moveTo>
                  <a:lnTo>
                    <a:pt x="777" y="503"/>
                  </a:lnTo>
                  <a:lnTo>
                    <a:pt x="2692" y="612"/>
                  </a:lnTo>
                  <a:lnTo>
                    <a:pt x="3386" y="810"/>
                  </a:lnTo>
                  <a:lnTo>
                    <a:pt x="4331" y="1071"/>
                  </a:lnTo>
                  <a:lnTo>
                    <a:pt x="3871" y="509"/>
                  </a:lnTo>
                  <a:lnTo>
                    <a:pt x="5052" y="263"/>
                  </a:lnTo>
                  <a:lnTo>
                    <a:pt x="3442" y="109"/>
                  </a:lnTo>
                  <a:lnTo>
                    <a:pt x="2692" y="88"/>
                  </a:lnTo>
                  <a:lnTo>
                    <a:pt x="860" y="263"/>
                  </a:lnTo>
                  <a:lnTo>
                    <a:pt x="638" y="0"/>
                  </a:lnTo>
                  <a:lnTo>
                    <a:pt x="0" y="438"/>
                  </a:lnTo>
                  <a:lnTo>
                    <a:pt x="638" y="700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V="1" rot="9869400">
              <a:off x="-76680" y="2821680"/>
              <a:ext cx="1521000" cy="301680"/>
            </a:xfrm>
            <a:custGeom>
              <a:avLst/>
              <a:gdLst/>
              <a:ahLst/>
              <a:rect l="l" t="t" r="r" b="b"/>
              <a:pathLst>
                <a:path w="5052" h="1071">
                  <a:moveTo>
                    <a:pt x="665" y="722"/>
                  </a:moveTo>
                  <a:lnTo>
                    <a:pt x="777" y="503"/>
                  </a:lnTo>
                  <a:lnTo>
                    <a:pt x="2692" y="612"/>
                  </a:lnTo>
                  <a:lnTo>
                    <a:pt x="3386" y="810"/>
                  </a:lnTo>
                  <a:lnTo>
                    <a:pt x="4331" y="1071"/>
                  </a:lnTo>
                  <a:lnTo>
                    <a:pt x="3871" y="509"/>
                  </a:lnTo>
                  <a:lnTo>
                    <a:pt x="5052" y="263"/>
                  </a:lnTo>
                  <a:lnTo>
                    <a:pt x="3442" y="109"/>
                  </a:lnTo>
                  <a:lnTo>
                    <a:pt x="2692" y="88"/>
                  </a:lnTo>
                  <a:lnTo>
                    <a:pt x="860" y="263"/>
                  </a:lnTo>
                  <a:lnTo>
                    <a:pt x="638" y="0"/>
                  </a:lnTo>
                  <a:lnTo>
                    <a:pt x="0" y="438"/>
                  </a:lnTo>
                  <a:lnTo>
                    <a:pt x="638" y="700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V="1" rot="10160400">
              <a:off x="1599840" y="2427480"/>
              <a:ext cx="1066680" cy="231840"/>
            </a:xfrm>
            <a:custGeom>
              <a:avLst/>
              <a:gdLst/>
              <a:ahLst/>
              <a:rect l="l" t="t" r="r" b="b"/>
              <a:pathLst>
                <a:path w="5052" h="1071">
                  <a:moveTo>
                    <a:pt x="665" y="722"/>
                  </a:moveTo>
                  <a:lnTo>
                    <a:pt x="777" y="503"/>
                  </a:lnTo>
                  <a:lnTo>
                    <a:pt x="2692" y="612"/>
                  </a:lnTo>
                  <a:lnTo>
                    <a:pt x="3386" y="810"/>
                  </a:lnTo>
                  <a:lnTo>
                    <a:pt x="4331" y="1071"/>
                  </a:lnTo>
                  <a:lnTo>
                    <a:pt x="3871" y="509"/>
                  </a:lnTo>
                  <a:lnTo>
                    <a:pt x="5052" y="263"/>
                  </a:lnTo>
                  <a:lnTo>
                    <a:pt x="3442" y="109"/>
                  </a:lnTo>
                  <a:lnTo>
                    <a:pt x="2692" y="88"/>
                  </a:lnTo>
                  <a:lnTo>
                    <a:pt x="860" y="263"/>
                  </a:lnTo>
                  <a:lnTo>
                    <a:pt x="638" y="0"/>
                  </a:lnTo>
                  <a:lnTo>
                    <a:pt x="0" y="438"/>
                  </a:lnTo>
                  <a:lnTo>
                    <a:pt x="638" y="700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1" name=""/>
          <p:cNvSpPr/>
          <p:nvPr/>
        </p:nvSpPr>
        <p:spPr>
          <a:xfrm flipV="1" rot="10800000">
            <a:off x="152280" y="4190040"/>
            <a:ext cx="533520" cy="152280"/>
          </a:xfrm>
          <a:custGeom>
            <a:avLst/>
            <a:gdLst/>
            <a:ahLst/>
            <a:rect l="l" t="t" r="r" b="b"/>
            <a:pathLst>
              <a:path w="5052" h="1071">
                <a:moveTo>
                  <a:pt x="665" y="722"/>
                </a:moveTo>
                <a:lnTo>
                  <a:pt x="777" y="503"/>
                </a:lnTo>
                <a:lnTo>
                  <a:pt x="2692" y="612"/>
                </a:lnTo>
                <a:lnTo>
                  <a:pt x="3386" y="810"/>
                </a:lnTo>
                <a:lnTo>
                  <a:pt x="4331" y="1071"/>
                </a:lnTo>
                <a:lnTo>
                  <a:pt x="3871" y="509"/>
                </a:lnTo>
                <a:lnTo>
                  <a:pt x="5052" y="263"/>
                </a:lnTo>
                <a:lnTo>
                  <a:pt x="3442" y="109"/>
                </a:lnTo>
                <a:lnTo>
                  <a:pt x="2692" y="88"/>
                </a:lnTo>
                <a:lnTo>
                  <a:pt x="860" y="263"/>
                </a:lnTo>
                <a:lnTo>
                  <a:pt x="638" y="0"/>
                </a:lnTo>
                <a:lnTo>
                  <a:pt x="0" y="438"/>
                </a:lnTo>
                <a:lnTo>
                  <a:pt x="638" y="700"/>
                </a:lnTo>
              </a:path>
            </a:pathLst>
          </a:custGeom>
          <a:solidFill>
            <a:srgbClr val="000000"/>
          </a:solidFill>
          <a:ln w="9360">
            <a:solidFill>
              <a:srgbClr val="00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rot="21301200">
            <a:off x="210960" y="4571640"/>
            <a:ext cx="398520" cy="233280"/>
          </a:xfrm>
          <a:custGeom>
            <a:avLst/>
            <a:gdLst/>
            <a:ahLst/>
            <a:rect l="l" t="t" r="r" b="b"/>
            <a:pathLst>
              <a:path w="2371" h="1018">
                <a:moveTo>
                  <a:pt x="157" y="895"/>
                </a:moveTo>
                <a:lnTo>
                  <a:pt x="455" y="696"/>
                </a:lnTo>
                <a:lnTo>
                  <a:pt x="710" y="603"/>
                </a:lnTo>
                <a:lnTo>
                  <a:pt x="924" y="589"/>
                </a:lnTo>
                <a:lnTo>
                  <a:pt x="1152" y="576"/>
                </a:lnTo>
                <a:lnTo>
                  <a:pt x="1379" y="589"/>
                </a:lnTo>
                <a:lnTo>
                  <a:pt x="1687" y="683"/>
                </a:lnTo>
                <a:lnTo>
                  <a:pt x="1942" y="790"/>
                </a:lnTo>
                <a:lnTo>
                  <a:pt x="2263" y="1018"/>
                </a:lnTo>
                <a:lnTo>
                  <a:pt x="2344" y="777"/>
                </a:lnTo>
                <a:lnTo>
                  <a:pt x="2156" y="696"/>
                </a:lnTo>
                <a:lnTo>
                  <a:pt x="2183" y="616"/>
                </a:lnTo>
                <a:lnTo>
                  <a:pt x="2371" y="683"/>
                </a:lnTo>
                <a:lnTo>
                  <a:pt x="2143" y="308"/>
                </a:lnTo>
                <a:lnTo>
                  <a:pt x="1728" y="335"/>
                </a:lnTo>
                <a:lnTo>
                  <a:pt x="1929" y="428"/>
                </a:lnTo>
                <a:lnTo>
                  <a:pt x="1888" y="536"/>
                </a:lnTo>
                <a:lnTo>
                  <a:pt x="1754" y="482"/>
                </a:lnTo>
                <a:lnTo>
                  <a:pt x="1594" y="428"/>
                </a:lnTo>
                <a:lnTo>
                  <a:pt x="1379" y="388"/>
                </a:lnTo>
                <a:lnTo>
                  <a:pt x="1366" y="268"/>
                </a:lnTo>
                <a:lnTo>
                  <a:pt x="1580" y="281"/>
                </a:lnTo>
                <a:lnTo>
                  <a:pt x="1178" y="0"/>
                </a:lnTo>
                <a:lnTo>
                  <a:pt x="857" y="227"/>
                </a:lnTo>
                <a:lnTo>
                  <a:pt x="1058" y="241"/>
                </a:lnTo>
                <a:lnTo>
                  <a:pt x="1058" y="361"/>
                </a:lnTo>
                <a:lnTo>
                  <a:pt x="750" y="388"/>
                </a:lnTo>
                <a:lnTo>
                  <a:pt x="562" y="455"/>
                </a:lnTo>
                <a:lnTo>
                  <a:pt x="495" y="348"/>
                </a:lnTo>
                <a:lnTo>
                  <a:pt x="750" y="268"/>
                </a:lnTo>
                <a:lnTo>
                  <a:pt x="281" y="147"/>
                </a:lnTo>
                <a:lnTo>
                  <a:pt x="0" y="536"/>
                </a:lnTo>
                <a:lnTo>
                  <a:pt x="254" y="455"/>
                </a:lnTo>
                <a:lnTo>
                  <a:pt x="294" y="562"/>
                </a:lnTo>
                <a:lnTo>
                  <a:pt x="134" y="616"/>
                </a:lnTo>
                <a:lnTo>
                  <a:pt x="0" y="696"/>
                </a:lnTo>
                <a:lnTo>
                  <a:pt x="120" y="924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 rot="11154600">
            <a:off x="75600" y="5588640"/>
            <a:ext cx="609480" cy="228240"/>
          </a:xfrm>
          <a:custGeom>
            <a:avLst/>
            <a:gdLst/>
            <a:ahLst/>
            <a:rect l="l" t="t" r="r" b="b"/>
            <a:pathLst>
              <a:path w="5052" h="1071">
                <a:moveTo>
                  <a:pt x="665" y="722"/>
                </a:moveTo>
                <a:lnTo>
                  <a:pt x="777" y="503"/>
                </a:lnTo>
                <a:lnTo>
                  <a:pt x="2692" y="612"/>
                </a:lnTo>
                <a:lnTo>
                  <a:pt x="3386" y="810"/>
                </a:lnTo>
                <a:lnTo>
                  <a:pt x="4331" y="1071"/>
                </a:lnTo>
                <a:lnTo>
                  <a:pt x="3871" y="509"/>
                </a:lnTo>
                <a:lnTo>
                  <a:pt x="5052" y="263"/>
                </a:lnTo>
                <a:lnTo>
                  <a:pt x="3442" y="109"/>
                </a:lnTo>
                <a:lnTo>
                  <a:pt x="2692" y="88"/>
                </a:lnTo>
                <a:lnTo>
                  <a:pt x="860" y="263"/>
                </a:lnTo>
                <a:lnTo>
                  <a:pt x="638" y="0"/>
                </a:lnTo>
                <a:lnTo>
                  <a:pt x="0" y="438"/>
                </a:lnTo>
                <a:lnTo>
                  <a:pt x="638" y="700"/>
                </a:lnTo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1998360" y="279360"/>
            <a:ext cx="6094080" cy="2555280"/>
            <a:chOff x="1998360" y="279360"/>
            <a:chExt cx="6094080" cy="2555280"/>
          </a:xfrm>
        </p:grpSpPr>
        <p:sp>
          <p:nvSpPr>
            <p:cNvPr id="725" name=""/>
            <p:cNvSpPr/>
            <p:nvPr/>
          </p:nvSpPr>
          <p:spPr>
            <a:xfrm flipV="1" rot="16304400">
              <a:off x="1788480" y="876600"/>
              <a:ext cx="762120" cy="226440"/>
            </a:xfrm>
            <a:custGeom>
              <a:avLst/>
              <a:gdLst/>
              <a:ahLst/>
              <a:rect l="l" t="t" r="r" b="b"/>
              <a:pathLst>
                <a:path w="5052" h="1071">
                  <a:moveTo>
                    <a:pt x="665" y="722"/>
                  </a:moveTo>
                  <a:lnTo>
                    <a:pt x="777" y="503"/>
                  </a:lnTo>
                  <a:lnTo>
                    <a:pt x="2692" y="612"/>
                  </a:lnTo>
                  <a:lnTo>
                    <a:pt x="3386" y="810"/>
                  </a:lnTo>
                  <a:lnTo>
                    <a:pt x="4331" y="1071"/>
                  </a:lnTo>
                  <a:lnTo>
                    <a:pt x="3871" y="509"/>
                  </a:lnTo>
                  <a:lnTo>
                    <a:pt x="5052" y="263"/>
                  </a:lnTo>
                  <a:lnTo>
                    <a:pt x="3442" y="109"/>
                  </a:lnTo>
                  <a:lnTo>
                    <a:pt x="2692" y="88"/>
                  </a:lnTo>
                  <a:lnTo>
                    <a:pt x="860" y="263"/>
                  </a:lnTo>
                  <a:lnTo>
                    <a:pt x="638" y="0"/>
                  </a:lnTo>
                  <a:lnTo>
                    <a:pt x="0" y="438"/>
                  </a:lnTo>
                  <a:lnTo>
                    <a:pt x="638" y="70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V="1" rot="16743600">
              <a:off x="1789200" y="1639080"/>
              <a:ext cx="762120" cy="227160"/>
            </a:xfrm>
            <a:custGeom>
              <a:avLst/>
              <a:gdLst/>
              <a:ahLst/>
              <a:rect l="l" t="t" r="r" b="b"/>
              <a:pathLst>
                <a:path w="5052" h="1071">
                  <a:moveTo>
                    <a:pt x="665" y="722"/>
                  </a:moveTo>
                  <a:lnTo>
                    <a:pt x="777" y="503"/>
                  </a:lnTo>
                  <a:lnTo>
                    <a:pt x="2692" y="612"/>
                  </a:lnTo>
                  <a:lnTo>
                    <a:pt x="3386" y="810"/>
                  </a:lnTo>
                  <a:lnTo>
                    <a:pt x="4331" y="1071"/>
                  </a:lnTo>
                  <a:lnTo>
                    <a:pt x="3871" y="509"/>
                  </a:lnTo>
                  <a:lnTo>
                    <a:pt x="5052" y="263"/>
                  </a:lnTo>
                  <a:lnTo>
                    <a:pt x="3442" y="109"/>
                  </a:lnTo>
                  <a:lnTo>
                    <a:pt x="2692" y="88"/>
                  </a:lnTo>
                  <a:lnTo>
                    <a:pt x="860" y="263"/>
                  </a:lnTo>
                  <a:lnTo>
                    <a:pt x="638" y="0"/>
                  </a:lnTo>
                  <a:lnTo>
                    <a:pt x="0" y="438"/>
                  </a:lnTo>
                  <a:lnTo>
                    <a:pt x="638" y="70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rot="14092800">
              <a:off x="5294160" y="1155240"/>
              <a:ext cx="612720" cy="152280"/>
            </a:xfrm>
            <a:custGeom>
              <a:avLst/>
              <a:gdLst/>
              <a:ahLst/>
              <a:rect l="l" t="t" r="r" b="b"/>
              <a:pathLst>
                <a:path w="5052" h="1071">
                  <a:moveTo>
                    <a:pt x="665" y="722"/>
                  </a:moveTo>
                  <a:lnTo>
                    <a:pt x="777" y="503"/>
                  </a:lnTo>
                  <a:lnTo>
                    <a:pt x="2692" y="612"/>
                  </a:lnTo>
                  <a:lnTo>
                    <a:pt x="3386" y="810"/>
                  </a:lnTo>
                  <a:lnTo>
                    <a:pt x="4331" y="1071"/>
                  </a:lnTo>
                  <a:lnTo>
                    <a:pt x="3871" y="509"/>
                  </a:lnTo>
                  <a:lnTo>
                    <a:pt x="5052" y="263"/>
                  </a:lnTo>
                  <a:lnTo>
                    <a:pt x="3442" y="109"/>
                  </a:lnTo>
                  <a:lnTo>
                    <a:pt x="2692" y="88"/>
                  </a:lnTo>
                  <a:lnTo>
                    <a:pt x="860" y="263"/>
                  </a:lnTo>
                  <a:lnTo>
                    <a:pt x="638" y="0"/>
                  </a:lnTo>
                  <a:lnTo>
                    <a:pt x="0" y="438"/>
                  </a:lnTo>
                  <a:lnTo>
                    <a:pt x="638" y="70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 flipV="1" rot="4770600">
              <a:off x="5008680" y="539280"/>
              <a:ext cx="721800" cy="230400"/>
            </a:xfrm>
            <a:custGeom>
              <a:avLst/>
              <a:gdLst/>
              <a:ahLst/>
              <a:rect l="l" t="t" r="r" b="b"/>
              <a:pathLst>
                <a:path w="5052" h="1071">
                  <a:moveTo>
                    <a:pt x="665" y="722"/>
                  </a:moveTo>
                  <a:lnTo>
                    <a:pt x="777" y="503"/>
                  </a:lnTo>
                  <a:lnTo>
                    <a:pt x="2692" y="612"/>
                  </a:lnTo>
                  <a:lnTo>
                    <a:pt x="3386" y="810"/>
                  </a:lnTo>
                  <a:lnTo>
                    <a:pt x="4331" y="1071"/>
                  </a:lnTo>
                  <a:lnTo>
                    <a:pt x="3871" y="509"/>
                  </a:lnTo>
                  <a:lnTo>
                    <a:pt x="5052" y="263"/>
                  </a:lnTo>
                  <a:lnTo>
                    <a:pt x="3442" y="109"/>
                  </a:lnTo>
                  <a:lnTo>
                    <a:pt x="2692" y="88"/>
                  </a:lnTo>
                  <a:lnTo>
                    <a:pt x="860" y="263"/>
                  </a:lnTo>
                  <a:lnTo>
                    <a:pt x="638" y="0"/>
                  </a:lnTo>
                  <a:lnTo>
                    <a:pt x="0" y="438"/>
                  </a:lnTo>
                  <a:lnTo>
                    <a:pt x="638" y="70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V="1" rot="4002000">
              <a:off x="4304160" y="2323440"/>
              <a:ext cx="762120" cy="227160"/>
            </a:xfrm>
            <a:custGeom>
              <a:avLst/>
              <a:gdLst/>
              <a:ahLst/>
              <a:rect l="l" t="t" r="r" b="b"/>
              <a:pathLst>
                <a:path w="5052" h="1071">
                  <a:moveTo>
                    <a:pt x="665" y="722"/>
                  </a:moveTo>
                  <a:lnTo>
                    <a:pt x="777" y="503"/>
                  </a:lnTo>
                  <a:lnTo>
                    <a:pt x="2692" y="612"/>
                  </a:lnTo>
                  <a:lnTo>
                    <a:pt x="3386" y="810"/>
                  </a:lnTo>
                  <a:lnTo>
                    <a:pt x="4331" y="1071"/>
                  </a:lnTo>
                  <a:lnTo>
                    <a:pt x="3871" y="509"/>
                  </a:lnTo>
                  <a:lnTo>
                    <a:pt x="5052" y="263"/>
                  </a:lnTo>
                  <a:lnTo>
                    <a:pt x="3442" y="109"/>
                  </a:lnTo>
                  <a:lnTo>
                    <a:pt x="2692" y="88"/>
                  </a:lnTo>
                  <a:lnTo>
                    <a:pt x="860" y="263"/>
                  </a:lnTo>
                  <a:lnTo>
                    <a:pt x="638" y="0"/>
                  </a:lnTo>
                  <a:lnTo>
                    <a:pt x="0" y="438"/>
                  </a:lnTo>
                  <a:lnTo>
                    <a:pt x="638" y="70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V="1" rot="16743600">
              <a:off x="5904000" y="1105560"/>
              <a:ext cx="762120" cy="227160"/>
            </a:xfrm>
            <a:custGeom>
              <a:avLst/>
              <a:gdLst/>
              <a:ahLst/>
              <a:rect l="l" t="t" r="r" b="b"/>
              <a:pathLst>
                <a:path w="5052" h="1071">
                  <a:moveTo>
                    <a:pt x="665" y="722"/>
                  </a:moveTo>
                  <a:lnTo>
                    <a:pt x="777" y="503"/>
                  </a:lnTo>
                  <a:lnTo>
                    <a:pt x="2692" y="612"/>
                  </a:lnTo>
                  <a:lnTo>
                    <a:pt x="3386" y="810"/>
                  </a:lnTo>
                  <a:lnTo>
                    <a:pt x="4331" y="1071"/>
                  </a:lnTo>
                  <a:lnTo>
                    <a:pt x="3871" y="509"/>
                  </a:lnTo>
                  <a:lnTo>
                    <a:pt x="5052" y="263"/>
                  </a:lnTo>
                  <a:lnTo>
                    <a:pt x="3442" y="109"/>
                  </a:lnTo>
                  <a:lnTo>
                    <a:pt x="2692" y="88"/>
                  </a:lnTo>
                  <a:lnTo>
                    <a:pt x="860" y="263"/>
                  </a:lnTo>
                  <a:lnTo>
                    <a:pt x="638" y="0"/>
                  </a:lnTo>
                  <a:lnTo>
                    <a:pt x="0" y="438"/>
                  </a:lnTo>
                  <a:lnTo>
                    <a:pt x="638" y="70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V="1" rot="1726200">
              <a:off x="3429000" y="2437920"/>
              <a:ext cx="762120" cy="227160"/>
            </a:xfrm>
            <a:custGeom>
              <a:avLst/>
              <a:gdLst/>
              <a:ahLst/>
              <a:rect l="l" t="t" r="r" b="b"/>
              <a:pathLst>
                <a:path w="5052" h="1071">
                  <a:moveTo>
                    <a:pt x="665" y="722"/>
                  </a:moveTo>
                  <a:lnTo>
                    <a:pt x="777" y="503"/>
                  </a:lnTo>
                  <a:lnTo>
                    <a:pt x="2692" y="612"/>
                  </a:lnTo>
                  <a:lnTo>
                    <a:pt x="3386" y="810"/>
                  </a:lnTo>
                  <a:lnTo>
                    <a:pt x="4331" y="1071"/>
                  </a:lnTo>
                  <a:lnTo>
                    <a:pt x="3871" y="509"/>
                  </a:lnTo>
                  <a:lnTo>
                    <a:pt x="5052" y="263"/>
                  </a:lnTo>
                  <a:lnTo>
                    <a:pt x="3442" y="109"/>
                  </a:lnTo>
                  <a:lnTo>
                    <a:pt x="2692" y="88"/>
                  </a:lnTo>
                  <a:lnTo>
                    <a:pt x="860" y="263"/>
                  </a:lnTo>
                  <a:lnTo>
                    <a:pt x="638" y="0"/>
                  </a:lnTo>
                  <a:lnTo>
                    <a:pt x="0" y="438"/>
                  </a:lnTo>
                  <a:lnTo>
                    <a:pt x="638" y="70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 rot="3381000">
              <a:off x="6438240" y="2018880"/>
              <a:ext cx="762120" cy="226800"/>
            </a:xfrm>
            <a:custGeom>
              <a:avLst/>
              <a:gdLst/>
              <a:ahLst/>
              <a:rect l="l" t="t" r="r" b="b"/>
              <a:pathLst>
                <a:path w="5052" h="1071">
                  <a:moveTo>
                    <a:pt x="665" y="722"/>
                  </a:moveTo>
                  <a:lnTo>
                    <a:pt x="777" y="503"/>
                  </a:lnTo>
                  <a:lnTo>
                    <a:pt x="2692" y="612"/>
                  </a:lnTo>
                  <a:lnTo>
                    <a:pt x="3386" y="810"/>
                  </a:lnTo>
                  <a:lnTo>
                    <a:pt x="4331" y="1071"/>
                  </a:lnTo>
                  <a:lnTo>
                    <a:pt x="3871" y="509"/>
                  </a:lnTo>
                  <a:lnTo>
                    <a:pt x="5052" y="263"/>
                  </a:lnTo>
                  <a:lnTo>
                    <a:pt x="3442" y="109"/>
                  </a:lnTo>
                  <a:lnTo>
                    <a:pt x="2692" y="88"/>
                  </a:lnTo>
                  <a:lnTo>
                    <a:pt x="860" y="263"/>
                  </a:lnTo>
                  <a:lnTo>
                    <a:pt x="638" y="0"/>
                  </a:lnTo>
                  <a:lnTo>
                    <a:pt x="0" y="438"/>
                  </a:lnTo>
                  <a:lnTo>
                    <a:pt x="638" y="70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 flipV="1" rot="10291200">
              <a:off x="7020360" y="1535760"/>
              <a:ext cx="1055880" cy="292320"/>
            </a:xfrm>
            <a:custGeom>
              <a:avLst/>
              <a:gdLst/>
              <a:ahLst/>
              <a:rect l="l" t="t" r="r" b="b"/>
              <a:pathLst>
                <a:path w="5052" h="1071">
                  <a:moveTo>
                    <a:pt x="665" y="722"/>
                  </a:moveTo>
                  <a:lnTo>
                    <a:pt x="777" y="503"/>
                  </a:lnTo>
                  <a:lnTo>
                    <a:pt x="2692" y="612"/>
                  </a:lnTo>
                  <a:lnTo>
                    <a:pt x="3386" y="810"/>
                  </a:lnTo>
                  <a:lnTo>
                    <a:pt x="4331" y="1071"/>
                  </a:lnTo>
                  <a:lnTo>
                    <a:pt x="3871" y="509"/>
                  </a:lnTo>
                  <a:lnTo>
                    <a:pt x="5052" y="263"/>
                  </a:lnTo>
                  <a:lnTo>
                    <a:pt x="3442" y="109"/>
                  </a:lnTo>
                  <a:lnTo>
                    <a:pt x="2692" y="88"/>
                  </a:lnTo>
                  <a:lnTo>
                    <a:pt x="860" y="263"/>
                  </a:lnTo>
                  <a:lnTo>
                    <a:pt x="638" y="0"/>
                  </a:lnTo>
                  <a:lnTo>
                    <a:pt x="0" y="438"/>
                  </a:lnTo>
                  <a:lnTo>
                    <a:pt x="638" y="70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/>
          <p:nvPr/>
        </p:nvSpPr>
        <p:spPr>
          <a:xfrm>
            <a:off x="304920" y="228600"/>
            <a:ext cx="8839080" cy="63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114800" indent="-411480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ff"/>
                </a:solidFill>
                <a:uFillTx/>
                <a:latin typeface="VNI-Brush"/>
              </a:rPr>
              <a:t>DAËN DO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4114800" indent="-411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4114800" indent="-411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VNI-Helve-Condense"/>
              </a:rPr>
              <a:t>-   Hoïc baøi cu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114800" indent="-411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VNI-Helve-Condense"/>
              </a:rPr>
              <a:t>-   Laøm baøi taäp trong saùch baøi taä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114800" indent="-411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VNI-Helve-Condense"/>
              </a:rPr>
              <a:t>-   Chuaån bò phaàn III:      Taây Sôn laät ñoå chính quyeàn    hoï Trònh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114800" indent="-411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VNI-Helve-Condense"/>
              </a:rPr>
              <a:t>1. Nhöõng hoaït ñoäng cuûa Nguyeãn Hueä ôû baéc Haø töø naêm 1786 ñeán naêm 1788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114800" indent="-411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VNI-Helve-Condense"/>
              </a:rPr>
              <a:t>2. Yeáu toá naøo giuùp quaân Taây Sôn laät ñoå ñöôïc caùc chính quyeàn phong kieá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5" name=""/>
          <p:cNvGrpSpPr/>
          <p:nvPr/>
        </p:nvGrpSpPr>
        <p:grpSpPr>
          <a:xfrm>
            <a:off x="0" y="762120"/>
            <a:ext cx="9144000" cy="6433920"/>
            <a:chOff x="0" y="762120"/>
            <a:chExt cx="9144000" cy="6433920"/>
          </a:xfrm>
        </p:grpSpPr>
        <p:pic>
          <p:nvPicPr>
            <p:cNvPr id="736" name="" descr=""/>
            <p:cNvPicPr/>
            <p:nvPr/>
          </p:nvPicPr>
          <p:blipFill>
            <a:blip r:embed="rId1"/>
            <a:stretch/>
          </p:blipFill>
          <p:spPr>
            <a:xfrm>
              <a:off x="0" y="762120"/>
              <a:ext cx="9144000" cy="643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7" name=""/>
            <p:cNvSpPr/>
            <p:nvPr/>
          </p:nvSpPr>
          <p:spPr>
            <a:xfrm>
              <a:off x="0" y="963720"/>
              <a:ext cx="7702560" cy="5051520"/>
            </a:xfrm>
            <a:prstGeom prst="ellipse">
              <a:avLst/>
            </a:prstGeom>
            <a:gradFill rotWithShape="0">
              <a:gsLst>
                <a:gs pos="0">
                  <a:srgbClr val="9900cc"/>
                </a:gs>
                <a:gs pos="50000">
                  <a:srgbClr val="3333ff"/>
                </a:gs>
                <a:gs pos="100000">
                  <a:srgbClr val="9900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8" name=""/>
          <p:cNvSpPr txBox="1"/>
          <p:nvPr/>
        </p:nvSpPr>
        <p:spPr>
          <a:xfrm>
            <a:off x="193680" y="0"/>
            <a:ext cx="81122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000000"/>
                  </a:outerShdw>
                </a:effectLst>
                <a:latin typeface="VNI-Brush"/>
              </a:rPr>
              <a:t>CHAÂN THAØNH CAÙM ÔN CAÙC EM ÑAÕ HÔP TAÙC</a:t>
            </a:r>
            <a:endParaRPr b="0" lang="en-US" sz="32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000000"/>
                </a:outerShdw>
              </a:effectLst>
              <a:latin typeface="VNI-Brush"/>
              <a:ea typeface="VNI-Brush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457200" y="2057400"/>
            <a:ext cx="6553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989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VNI-Souvir"/>
              </a:rPr>
              <a:t>HEÏN GAËP LAÏI ÔÛ TIEÁT SAU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VNI-Souvir"/>
              <a:ea typeface="VNI-Souvir"/>
            </a:endParaRPr>
          </a:p>
        </p:txBody>
      </p:sp>
      <p:pic>
        <p:nvPicPr>
          <p:cNvPr id="740" name="" descr=""/>
          <p:cNvPicPr/>
          <p:nvPr/>
        </p:nvPicPr>
        <p:blipFill>
          <a:blip r:embed="rId2"/>
          <a:stretch/>
        </p:blipFill>
        <p:spPr>
          <a:xfrm>
            <a:off x="8001000" y="6248520"/>
            <a:ext cx="533520" cy="53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2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2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5" dur="2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8" dur="224000" fill="hold"/>
                                        <p:tgtEl>
                                          <p:spTgt spid="7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76320"/>
            <a:ext cx="9144000" cy="2697840"/>
          </a:xfrm>
          <a:prstGeom prst="rect">
            <a:avLst/>
          </a:prstGeom>
          <a:solidFill>
            <a:srgbClr val="b3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71840" indent="-2571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NI-Times"/>
              </a:rPr>
              <a:t> 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VNI-Times"/>
              </a:rPr>
              <a:t>BAØI 25</a:t>
            </a:r>
            <a:r>
              <a:rPr b="1" lang="en-US" sz="3200" spc="-1" strike="noStrike">
                <a:solidFill>
                  <a:srgbClr val="ff0000"/>
                </a:solidFill>
                <a:latin typeface="VNI-Times"/>
              </a:rPr>
              <a:t>:             PHONG TRAØO TAÂY SÔN </a:t>
            </a:r>
            <a:r>
              <a:rPr b="1" i="1" lang="en-US" sz="2400" spc="-1" strike="noStrike">
                <a:solidFill>
                  <a:srgbClr val="ff0000"/>
                </a:solidFill>
                <a:latin typeface=".VnTime"/>
              </a:rPr>
              <a:t>(TiÕ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71840" indent="-25718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NI-Helve-Condense"/>
              </a:rPr>
              <a:t>  </a:t>
            </a:r>
            <a:r>
              <a:rPr b="1" lang="en-US" sz="2200" spc="-1" strike="noStrike" u="sng">
                <a:solidFill>
                  <a:srgbClr val="f907ba"/>
                </a:solidFill>
                <a:uFillTx/>
                <a:latin typeface="VNI-Times"/>
              </a:rPr>
              <a:t>TIEÁT 54:</a:t>
            </a:r>
            <a:r>
              <a:rPr b="1" lang="en-US" sz="2600" spc="-1" strike="noStrike">
                <a:solidFill>
                  <a:srgbClr val="f907ba"/>
                </a:solidFill>
                <a:latin typeface="VNI-Times"/>
              </a:rPr>
              <a:t>                  </a:t>
            </a:r>
            <a:r>
              <a:rPr b="1" lang="en-US" sz="2200" spc="-1" strike="noStrike">
                <a:solidFill>
                  <a:srgbClr val="f907ba"/>
                </a:solidFill>
                <a:latin typeface="VNI-Univer"/>
              </a:rPr>
              <a:t>II.</a:t>
            </a:r>
            <a:r>
              <a:rPr b="1" lang="en-US" sz="2600" spc="-1" strike="noStrike">
                <a:solidFill>
                  <a:srgbClr val="f907ba"/>
                </a:solidFill>
                <a:latin typeface="VNI-Times"/>
              </a:rPr>
              <a:t> </a:t>
            </a:r>
            <a:r>
              <a:rPr b="1" lang="en-US" sz="2200" spc="-1" strike="noStrike">
                <a:solidFill>
                  <a:srgbClr val="f907ba"/>
                </a:solidFill>
                <a:latin typeface="VNI-Univer"/>
              </a:rPr>
              <a:t>TAÂY SÔN LAÄT ÑOÅ CHÍNH QUYEÀN HOÏ NGUYEÃN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571840" indent="-25718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907ba"/>
                </a:solidFill>
                <a:latin typeface="VNI-Univer"/>
              </a:rPr>
              <a:t>                                          </a:t>
            </a:r>
            <a:r>
              <a:rPr b="1" lang="en-US" sz="2200" spc="-1" strike="noStrike">
                <a:solidFill>
                  <a:srgbClr val="f907ba"/>
                </a:solidFill>
                <a:latin typeface="VNI-Univer"/>
              </a:rPr>
              <a:t>VAØ  ÑAÙNH TAN QUAÂN XAÂM LÖÔÏC XIEÂM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03976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.VnAvant"/>
              </a:rPr>
              <a:t>1. LËt ®æ chÝnh quyÒn hä NguyÔ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123920" y="3867120"/>
            <a:ext cx="2990880" cy="2751120"/>
          </a:xfrm>
          <a:custGeom>
            <a:avLst/>
            <a:gdLst/>
            <a:ahLst/>
            <a:rect l="l" t="t" r="r" b="b"/>
            <a:pathLst>
              <a:path w="1884" h="1733">
                <a:moveTo>
                  <a:pt x="0" y="0"/>
                </a:moveTo>
                <a:cubicBezTo>
                  <a:pt x="15" y="60"/>
                  <a:pt x="34" y="74"/>
                  <a:pt x="72" y="120"/>
                </a:cubicBezTo>
                <a:cubicBezTo>
                  <a:pt x="81" y="131"/>
                  <a:pt x="83" y="151"/>
                  <a:pt x="96" y="156"/>
                </a:cubicBezTo>
                <a:cubicBezTo>
                  <a:pt x="126" y="168"/>
                  <a:pt x="160" y="164"/>
                  <a:pt x="192" y="168"/>
                </a:cubicBezTo>
                <a:cubicBezTo>
                  <a:pt x="219" y="249"/>
                  <a:pt x="177" y="160"/>
                  <a:pt x="276" y="216"/>
                </a:cubicBezTo>
                <a:cubicBezTo>
                  <a:pt x="287" y="222"/>
                  <a:pt x="279" y="243"/>
                  <a:pt x="288" y="252"/>
                </a:cubicBezTo>
                <a:cubicBezTo>
                  <a:pt x="297" y="261"/>
                  <a:pt x="312" y="260"/>
                  <a:pt x="324" y="264"/>
                </a:cubicBezTo>
                <a:cubicBezTo>
                  <a:pt x="354" y="382"/>
                  <a:pt x="463" y="374"/>
                  <a:pt x="564" y="384"/>
                </a:cubicBezTo>
                <a:cubicBezTo>
                  <a:pt x="568" y="396"/>
                  <a:pt x="566" y="413"/>
                  <a:pt x="576" y="420"/>
                </a:cubicBezTo>
                <a:cubicBezTo>
                  <a:pt x="588" y="429"/>
                  <a:pt x="712" y="473"/>
                  <a:pt x="732" y="480"/>
                </a:cubicBezTo>
                <a:cubicBezTo>
                  <a:pt x="762" y="571"/>
                  <a:pt x="705" y="674"/>
                  <a:pt x="792" y="732"/>
                </a:cubicBezTo>
                <a:cubicBezTo>
                  <a:pt x="800" y="744"/>
                  <a:pt x="810" y="755"/>
                  <a:pt x="816" y="768"/>
                </a:cubicBezTo>
                <a:cubicBezTo>
                  <a:pt x="866" y="879"/>
                  <a:pt x="794" y="835"/>
                  <a:pt x="960" y="852"/>
                </a:cubicBezTo>
                <a:cubicBezTo>
                  <a:pt x="1044" y="880"/>
                  <a:pt x="1040" y="852"/>
                  <a:pt x="1020" y="912"/>
                </a:cubicBezTo>
                <a:cubicBezTo>
                  <a:pt x="1008" y="904"/>
                  <a:pt x="997" y="882"/>
                  <a:pt x="984" y="888"/>
                </a:cubicBezTo>
                <a:cubicBezTo>
                  <a:pt x="973" y="894"/>
                  <a:pt x="990" y="913"/>
                  <a:pt x="996" y="924"/>
                </a:cubicBezTo>
                <a:cubicBezTo>
                  <a:pt x="1010" y="949"/>
                  <a:pt x="1044" y="996"/>
                  <a:pt x="1044" y="996"/>
                </a:cubicBezTo>
                <a:cubicBezTo>
                  <a:pt x="1048" y="1040"/>
                  <a:pt x="1043" y="1086"/>
                  <a:pt x="1056" y="1128"/>
                </a:cubicBezTo>
                <a:cubicBezTo>
                  <a:pt x="1060" y="1142"/>
                  <a:pt x="1086" y="1139"/>
                  <a:pt x="1092" y="1152"/>
                </a:cubicBezTo>
                <a:cubicBezTo>
                  <a:pt x="1093" y="1154"/>
                  <a:pt x="1103" y="1244"/>
                  <a:pt x="1116" y="1260"/>
                </a:cubicBezTo>
                <a:cubicBezTo>
                  <a:pt x="1146" y="1297"/>
                  <a:pt x="1219" y="1300"/>
                  <a:pt x="1260" y="1308"/>
                </a:cubicBezTo>
                <a:cubicBezTo>
                  <a:pt x="1287" y="1402"/>
                  <a:pt x="1274" y="1433"/>
                  <a:pt x="1368" y="1464"/>
                </a:cubicBezTo>
                <a:cubicBezTo>
                  <a:pt x="1410" y="1506"/>
                  <a:pt x="1404" y="1528"/>
                  <a:pt x="1452" y="1560"/>
                </a:cubicBezTo>
                <a:cubicBezTo>
                  <a:pt x="1495" y="1688"/>
                  <a:pt x="1884" y="1733"/>
                  <a:pt x="1884" y="1572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6248520"/>
            <a:ext cx="7925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-380880" y="-457200"/>
            <a:ext cx="8458200" cy="84582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28600" y="6369120"/>
            <a:ext cx="853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VNI-Helve-Condense"/>
              </a:rPr>
              <a:t>LÖÔÏC ÑOÀ TAÂY SÔN KHÔÛI NGHÓA CHOÁNG CAÙC THEÁ LÖÏC PHONG KIEÁN VAØ CHOÁNG QUAÂN XAÂM LÖÔÏC NÖÔÙC NGOAØ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352680" y="367200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VNI-Helve-Condense"/>
              </a:rPr>
              <a:t>QUY NHÔ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14600" y="2914560"/>
            <a:ext cx="152280" cy="76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24480" y="55468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VNI-Helve-Condense"/>
              </a:rPr>
              <a:t>   </a:t>
            </a:r>
            <a:r>
              <a:rPr b="1" lang="en-US" sz="2000" spc="-1" strike="noStrike">
                <a:solidFill>
                  <a:srgbClr val="3333ff"/>
                </a:solidFill>
                <a:latin typeface="VNI-Helve-Condense"/>
              </a:rPr>
              <a:t>Nôi kieåm soaùt cuûa ba anh em Taây Sô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743200" y="26668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VNI-Helve-Condense"/>
              </a:rPr>
              <a:t>PHUÙ XUAÂ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76520" y="8827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VNI-Helve-Condense"/>
              </a:rPr>
              <a:t>THAÊNG LO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65440" y="1301760"/>
            <a:ext cx="228600" cy="1522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09680" y="5105520"/>
            <a:ext cx="152640" cy="759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05120" y="47386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VNI-Helve-Condense"/>
              </a:rPr>
              <a:t>GIA ÑÒN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248520" y="5600880"/>
            <a:ext cx="439560" cy="342720"/>
          </a:xfrm>
          <a:custGeom>
            <a:avLst/>
            <a:gdLst/>
            <a:ahLst/>
            <a:rect l="l" t="t" r="r" b="b"/>
            <a:pathLst>
              <a:path w="277" h="216">
                <a:moveTo>
                  <a:pt x="97" y="32"/>
                </a:moveTo>
                <a:cubicBezTo>
                  <a:pt x="77" y="36"/>
                  <a:pt x="55" y="34"/>
                  <a:pt x="37" y="44"/>
                </a:cubicBezTo>
                <a:cubicBezTo>
                  <a:pt x="15" y="56"/>
                  <a:pt x="0" y="96"/>
                  <a:pt x="25" y="116"/>
                </a:cubicBezTo>
                <a:cubicBezTo>
                  <a:pt x="54" y="139"/>
                  <a:pt x="97" y="133"/>
                  <a:pt x="133" y="140"/>
                </a:cubicBezTo>
                <a:cubicBezTo>
                  <a:pt x="129" y="156"/>
                  <a:pt x="115" y="173"/>
                  <a:pt x="121" y="188"/>
                </a:cubicBezTo>
                <a:cubicBezTo>
                  <a:pt x="132" y="216"/>
                  <a:pt x="182" y="192"/>
                  <a:pt x="193" y="188"/>
                </a:cubicBezTo>
                <a:cubicBezTo>
                  <a:pt x="197" y="164"/>
                  <a:pt x="194" y="138"/>
                  <a:pt x="205" y="116"/>
                </a:cubicBezTo>
                <a:cubicBezTo>
                  <a:pt x="229" y="68"/>
                  <a:pt x="277" y="116"/>
                  <a:pt x="205" y="68"/>
                </a:cubicBezTo>
                <a:cubicBezTo>
                  <a:pt x="182" y="0"/>
                  <a:pt x="162" y="19"/>
                  <a:pt x="97" y="32"/>
                </a:cubicBezTo>
                <a:close/>
              </a:path>
            </a:pathLst>
          </a:custGeom>
          <a:solidFill>
            <a:srgbClr val="f789e2"/>
          </a:solidFill>
          <a:ln w="12600">
            <a:solidFill>
              <a:srgbClr val="f88c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151440" y="3213000"/>
            <a:ext cx="1559880" cy="1023840"/>
            <a:chOff x="3151440" y="3213000"/>
            <a:chExt cx="1559880" cy="1023840"/>
          </a:xfrm>
        </p:grpSpPr>
        <p:sp>
          <p:nvSpPr>
            <p:cNvPr id="175" name=""/>
            <p:cNvSpPr/>
            <p:nvPr/>
          </p:nvSpPr>
          <p:spPr>
            <a:xfrm rot="20637600">
              <a:off x="3211560" y="3717720"/>
              <a:ext cx="331560" cy="482400"/>
            </a:xfrm>
            <a:custGeom>
              <a:avLst/>
              <a:gdLst/>
              <a:ahLst/>
              <a:rect l="l" t="t" r="r" b="b"/>
              <a:pathLst>
                <a:path w="401" h="424">
                  <a:moveTo>
                    <a:pt x="312" y="4"/>
                  </a:moveTo>
                  <a:cubicBezTo>
                    <a:pt x="228" y="13"/>
                    <a:pt x="165" y="18"/>
                    <a:pt x="96" y="64"/>
                  </a:cubicBezTo>
                  <a:cubicBezTo>
                    <a:pt x="67" y="150"/>
                    <a:pt x="111" y="52"/>
                    <a:pt x="36" y="112"/>
                  </a:cubicBezTo>
                  <a:cubicBezTo>
                    <a:pt x="26" y="120"/>
                    <a:pt x="30" y="137"/>
                    <a:pt x="24" y="148"/>
                  </a:cubicBezTo>
                  <a:cubicBezTo>
                    <a:pt x="18" y="161"/>
                    <a:pt x="8" y="172"/>
                    <a:pt x="0" y="184"/>
                  </a:cubicBezTo>
                  <a:cubicBezTo>
                    <a:pt x="18" y="255"/>
                    <a:pt x="26" y="251"/>
                    <a:pt x="96" y="268"/>
                  </a:cubicBezTo>
                  <a:cubicBezTo>
                    <a:pt x="109" y="383"/>
                    <a:pt x="84" y="402"/>
                    <a:pt x="192" y="424"/>
                  </a:cubicBezTo>
                  <a:cubicBezTo>
                    <a:pt x="220" y="420"/>
                    <a:pt x="248" y="418"/>
                    <a:pt x="276" y="412"/>
                  </a:cubicBezTo>
                  <a:cubicBezTo>
                    <a:pt x="288" y="410"/>
                    <a:pt x="299" y="399"/>
                    <a:pt x="312" y="400"/>
                  </a:cubicBezTo>
                  <a:cubicBezTo>
                    <a:pt x="337" y="403"/>
                    <a:pt x="384" y="424"/>
                    <a:pt x="384" y="424"/>
                  </a:cubicBezTo>
                  <a:cubicBezTo>
                    <a:pt x="401" y="374"/>
                    <a:pt x="389" y="359"/>
                    <a:pt x="360" y="316"/>
                  </a:cubicBezTo>
                  <a:cubicBezTo>
                    <a:pt x="395" y="210"/>
                    <a:pt x="394" y="276"/>
                    <a:pt x="360" y="208"/>
                  </a:cubicBezTo>
                  <a:cubicBezTo>
                    <a:pt x="354" y="197"/>
                    <a:pt x="352" y="184"/>
                    <a:pt x="348" y="172"/>
                  </a:cubicBezTo>
                  <a:cubicBezTo>
                    <a:pt x="352" y="160"/>
                    <a:pt x="361" y="149"/>
                    <a:pt x="360" y="136"/>
                  </a:cubicBezTo>
                  <a:cubicBezTo>
                    <a:pt x="357" y="111"/>
                    <a:pt x="344" y="88"/>
                    <a:pt x="336" y="64"/>
                  </a:cubicBezTo>
                  <a:cubicBezTo>
                    <a:pt x="330" y="45"/>
                    <a:pt x="332" y="23"/>
                    <a:pt x="324" y="4"/>
                  </a:cubicBezTo>
                  <a:cubicBezTo>
                    <a:pt x="323" y="0"/>
                    <a:pt x="316" y="4"/>
                    <a:pt x="312" y="4"/>
                  </a:cubicBezTo>
                  <a:close/>
                </a:path>
              </a:pathLst>
            </a:custGeom>
            <a:solidFill>
              <a:srgbClr val="f789e2"/>
            </a:solidFill>
            <a:ln w="12600">
              <a:solidFill>
                <a:srgbClr val="f88c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3492360" y="3213000"/>
              <a:ext cx="1218960" cy="520200"/>
              <a:chOff x="3492360" y="3213000"/>
              <a:chExt cx="1218960" cy="520200"/>
            </a:xfrm>
          </p:grpSpPr>
          <p:sp>
            <p:nvSpPr>
              <p:cNvPr id="177" name=""/>
              <p:cNvSpPr/>
              <p:nvPr/>
            </p:nvSpPr>
            <p:spPr>
              <a:xfrm>
                <a:off x="3568320" y="3213000"/>
                <a:ext cx="1066320" cy="457200"/>
              </a:xfrm>
              <a:prstGeom prst="wedgeRoundRectCallout">
                <a:avLst>
                  <a:gd name="adj1" fmla="val -64583"/>
                  <a:gd name="adj2" fmla="val 90972"/>
                  <a:gd name="adj3" fmla="val 16667"/>
                </a:avLst>
              </a:prstGeom>
              <a:solidFill>
                <a:srgbClr val="ffff99"/>
              </a:solidFill>
              <a:ln w="12600">
                <a:solidFill>
                  <a:srgbClr val="00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492360" y="3213000"/>
                <a:ext cx="1218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.VnAvant"/>
                  </a:rPr>
                  <a:t>Mïa Thu 177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9" name=""/>
          <p:cNvGrpSpPr/>
          <p:nvPr/>
        </p:nvGrpSpPr>
        <p:grpSpPr>
          <a:xfrm>
            <a:off x="3276720" y="3886200"/>
            <a:ext cx="1676160" cy="762120"/>
            <a:chOff x="3276720" y="3886200"/>
            <a:chExt cx="1676160" cy="762120"/>
          </a:xfrm>
        </p:grpSpPr>
        <p:sp>
          <p:nvSpPr>
            <p:cNvPr id="180" name=""/>
            <p:cNvSpPr/>
            <p:nvPr/>
          </p:nvSpPr>
          <p:spPr>
            <a:xfrm>
              <a:off x="3276720" y="3886200"/>
              <a:ext cx="22860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917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3962160" y="4114800"/>
              <a:ext cx="990720" cy="533520"/>
              <a:chOff x="3962160" y="4114800"/>
              <a:chExt cx="990720" cy="533520"/>
            </a:xfrm>
          </p:grpSpPr>
          <p:sp>
            <p:nvSpPr>
              <p:cNvPr id="182" name=""/>
              <p:cNvSpPr/>
              <p:nvPr/>
            </p:nvSpPr>
            <p:spPr>
              <a:xfrm rot="5400000">
                <a:off x="4190400" y="3886200"/>
                <a:ext cx="533520" cy="990360"/>
              </a:xfrm>
              <a:prstGeom prst="wedgeRoundRectCallout">
                <a:avLst>
                  <a:gd name="adj1" fmla="val -81847"/>
                  <a:gd name="adj2" fmla="val 95351"/>
                  <a:gd name="adj3" fmla="val 16667"/>
                </a:avLst>
              </a:prstGeom>
              <a:solidFill>
                <a:srgbClr val="ffff99"/>
              </a:solidFill>
              <a:ln w="12600">
                <a:solidFill>
                  <a:srgbClr val="00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962520" y="4114800"/>
                <a:ext cx="9903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.VnAvant"/>
                  </a:rPr>
                  <a:t>Th¸ng 09.177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4" name=""/>
          <p:cNvGrpSpPr/>
          <p:nvPr/>
        </p:nvGrpSpPr>
        <p:grpSpPr>
          <a:xfrm>
            <a:off x="2514600" y="3035160"/>
            <a:ext cx="2311560" cy="2301480"/>
            <a:chOff x="2514600" y="3035160"/>
            <a:chExt cx="2311560" cy="2301480"/>
          </a:xfrm>
        </p:grpSpPr>
        <p:grpSp>
          <p:nvGrpSpPr>
            <p:cNvPr id="185" name=""/>
            <p:cNvGrpSpPr/>
            <p:nvPr/>
          </p:nvGrpSpPr>
          <p:grpSpPr>
            <a:xfrm>
              <a:off x="2514600" y="3035160"/>
              <a:ext cx="2311560" cy="2301480"/>
              <a:chOff x="2514600" y="3035160"/>
              <a:chExt cx="2311560" cy="2301480"/>
            </a:xfrm>
          </p:grpSpPr>
          <p:sp>
            <p:nvSpPr>
              <p:cNvPr id="186" name=""/>
              <p:cNvSpPr/>
              <p:nvPr/>
            </p:nvSpPr>
            <p:spPr>
              <a:xfrm>
                <a:off x="2514600" y="3161880"/>
                <a:ext cx="1143000" cy="1865520"/>
              </a:xfrm>
              <a:custGeom>
                <a:avLst/>
                <a:gdLst/>
                <a:ahLst/>
                <a:rect l="l" t="t" r="r" b="b"/>
                <a:pathLst>
                  <a:path w="720" h="1175">
                    <a:moveTo>
                      <a:pt x="376" y="51"/>
                    </a:moveTo>
                    <a:cubicBezTo>
                      <a:pt x="303" y="27"/>
                      <a:pt x="409" y="53"/>
                      <a:pt x="336" y="75"/>
                    </a:cubicBezTo>
                    <a:cubicBezTo>
                      <a:pt x="315" y="81"/>
                      <a:pt x="293" y="70"/>
                      <a:pt x="272" y="67"/>
                    </a:cubicBezTo>
                    <a:cubicBezTo>
                      <a:pt x="233" y="41"/>
                      <a:pt x="218" y="56"/>
                      <a:pt x="176" y="67"/>
                    </a:cubicBezTo>
                    <a:cubicBezTo>
                      <a:pt x="147" y="48"/>
                      <a:pt x="137" y="40"/>
                      <a:pt x="104" y="51"/>
                    </a:cubicBezTo>
                    <a:cubicBezTo>
                      <a:pt x="60" y="118"/>
                      <a:pt x="124" y="29"/>
                      <a:pt x="96" y="11"/>
                    </a:cubicBezTo>
                    <a:cubicBezTo>
                      <a:pt x="80" y="0"/>
                      <a:pt x="78" y="46"/>
                      <a:pt x="64" y="59"/>
                    </a:cubicBezTo>
                    <a:cubicBezTo>
                      <a:pt x="56" y="66"/>
                      <a:pt x="43" y="64"/>
                      <a:pt x="32" y="67"/>
                    </a:cubicBezTo>
                    <a:cubicBezTo>
                      <a:pt x="10" y="134"/>
                      <a:pt x="36" y="56"/>
                      <a:pt x="32" y="59"/>
                    </a:cubicBezTo>
                    <a:cubicBezTo>
                      <a:pt x="16" y="70"/>
                      <a:pt x="0" y="107"/>
                      <a:pt x="0" y="107"/>
                    </a:cubicBezTo>
                    <a:cubicBezTo>
                      <a:pt x="15" y="117"/>
                      <a:pt x="35" y="118"/>
                      <a:pt x="48" y="131"/>
                    </a:cubicBezTo>
                    <a:cubicBezTo>
                      <a:pt x="54" y="137"/>
                      <a:pt x="51" y="148"/>
                      <a:pt x="56" y="155"/>
                    </a:cubicBezTo>
                    <a:cubicBezTo>
                      <a:pt x="62" y="163"/>
                      <a:pt x="73" y="164"/>
                      <a:pt x="80" y="171"/>
                    </a:cubicBezTo>
                    <a:cubicBezTo>
                      <a:pt x="140" y="231"/>
                      <a:pt x="71" y="181"/>
                      <a:pt x="128" y="219"/>
                    </a:cubicBezTo>
                    <a:cubicBezTo>
                      <a:pt x="139" y="252"/>
                      <a:pt x="131" y="262"/>
                      <a:pt x="112" y="291"/>
                    </a:cubicBezTo>
                    <a:cubicBezTo>
                      <a:pt x="117" y="307"/>
                      <a:pt x="136" y="324"/>
                      <a:pt x="128" y="339"/>
                    </a:cubicBezTo>
                    <a:cubicBezTo>
                      <a:pt x="109" y="377"/>
                      <a:pt x="104" y="411"/>
                      <a:pt x="88" y="451"/>
                    </a:cubicBezTo>
                    <a:cubicBezTo>
                      <a:pt x="80" y="471"/>
                      <a:pt x="66" y="488"/>
                      <a:pt x="56" y="507"/>
                    </a:cubicBezTo>
                    <a:cubicBezTo>
                      <a:pt x="76" y="567"/>
                      <a:pt x="47" y="495"/>
                      <a:pt x="88" y="547"/>
                    </a:cubicBezTo>
                    <a:cubicBezTo>
                      <a:pt x="93" y="554"/>
                      <a:pt x="92" y="564"/>
                      <a:pt x="96" y="571"/>
                    </a:cubicBezTo>
                    <a:cubicBezTo>
                      <a:pt x="116" y="607"/>
                      <a:pt x="139" y="629"/>
                      <a:pt x="152" y="667"/>
                    </a:cubicBezTo>
                    <a:cubicBezTo>
                      <a:pt x="129" y="724"/>
                      <a:pt x="114" y="737"/>
                      <a:pt x="128" y="803"/>
                    </a:cubicBezTo>
                    <a:cubicBezTo>
                      <a:pt x="133" y="828"/>
                      <a:pt x="144" y="851"/>
                      <a:pt x="152" y="875"/>
                    </a:cubicBezTo>
                    <a:cubicBezTo>
                      <a:pt x="155" y="883"/>
                      <a:pt x="160" y="899"/>
                      <a:pt x="160" y="899"/>
                    </a:cubicBezTo>
                    <a:cubicBezTo>
                      <a:pt x="149" y="902"/>
                      <a:pt x="136" y="900"/>
                      <a:pt x="128" y="907"/>
                    </a:cubicBezTo>
                    <a:cubicBezTo>
                      <a:pt x="114" y="920"/>
                      <a:pt x="96" y="955"/>
                      <a:pt x="96" y="955"/>
                    </a:cubicBezTo>
                    <a:cubicBezTo>
                      <a:pt x="99" y="963"/>
                      <a:pt x="97" y="974"/>
                      <a:pt x="104" y="979"/>
                    </a:cubicBezTo>
                    <a:cubicBezTo>
                      <a:pt x="140" y="1003"/>
                      <a:pt x="189" y="991"/>
                      <a:pt x="232" y="995"/>
                    </a:cubicBezTo>
                    <a:cubicBezTo>
                      <a:pt x="232" y="995"/>
                      <a:pt x="284" y="1007"/>
                      <a:pt x="288" y="1011"/>
                    </a:cubicBezTo>
                    <a:cubicBezTo>
                      <a:pt x="299" y="1022"/>
                      <a:pt x="291" y="1053"/>
                      <a:pt x="312" y="1059"/>
                    </a:cubicBezTo>
                    <a:cubicBezTo>
                      <a:pt x="361" y="1073"/>
                      <a:pt x="414" y="1068"/>
                      <a:pt x="464" y="1075"/>
                    </a:cubicBezTo>
                    <a:cubicBezTo>
                      <a:pt x="493" y="1094"/>
                      <a:pt x="491" y="1112"/>
                      <a:pt x="520" y="1131"/>
                    </a:cubicBezTo>
                    <a:cubicBezTo>
                      <a:pt x="529" y="1159"/>
                      <a:pt x="527" y="1175"/>
                      <a:pt x="576" y="1163"/>
                    </a:cubicBezTo>
                    <a:cubicBezTo>
                      <a:pt x="593" y="1159"/>
                      <a:pt x="592" y="1125"/>
                      <a:pt x="600" y="1115"/>
                    </a:cubicBezTo>
                    <a:cubicBezTo>
                      <a:pt x="608" y="1106"/>
                      <a:pt x="648" y="1087"/>
                      <a:pt x="656" y="1083"/>
                    </a:cubicBezTo>
                    <a:cubicBezTo>
                      <a:pt x="684" y="1027"/>
                      <a:pt x="679" y="1001"/>
                      <a:pt x="664" y="939"/>
                    </a:cubicBezTo>
                    <a:cubicBezTo>
                      <a:pt x="677" y="886"/>
                      <a:pt x="696" y="850"/>
                      <a:pt x="720" y="803"/>
                    </a:cubicBezTo>
                    <a:cubicBezTo>
                      <a:pt x="686" y="792"/>
                      <a:pt x="683" y="768"/>
                      <a:pt x="664" y="739"/>
                    </a:cubicBezTo>
                    <a:cubicBezTo>
                      <a:pt x="683" y="683"/>
                      <a:pt x="667" y="742"/>
                      <a:pt x="656" y="635"/>
                    </a:cubicBezTo>
                    <a:cubicBezTo>
                      <a:pt x="641" y="500"/>
                      <a:pt x="661" y="482"/>
                      <a:pt x="592" y="379"/>
                    </a:cubicBezTo>
                    <a:cubicBezTo>
                      <a:pt x="595" y="358"/>
                      <a:pt x="602" y="336"/>
                      <a:pt x="600" y="315"/>
                    </a:cubicBezTo>
                    <a:cubicBezTo>
                      <a:pt x="599" y="303"/>
                      <a:pt x="596" y="286"/>
                      <a:pt x="584" y="283"/>
                    </a:cubicBezTo>
                    <a:cubicBezTo>
                      <a:pt x="568" y="279"/>
                      <a:pt x="536" y="299"/>
                      <a:pt x="536" y="299"/>
                    </a:cubicBezTo>
                    <a:cubicBezTo>
                      <a:pt x="531" y="291"/>
                      <a:pt x="521" y="285"/>
                      <a:pt x="520" y="275"/>
                    </a:cubicBezTo>
                    <a:cubicBezTo>
                      <a:pt x="514" y="235"/>
                      <a:pt x="555" y="246"/>
                      <a:pt x="512" y="203"/>
                    </a:cubicBezTo>
                    <a:cubicBezTo>
                      <a:pt x="502" y="193"/>
                      <a:pt x="485" y="192"/>
                      <a:pt x="472" y="187"/>
                    </a:cubicBezTo>
                    <a:cubicBezTo>
                      <a:pt x="467" y="179"/>
                      <a:pt x="463" y="170"/>
                      <a:pt x="456" y="163"/>
                    </a:cubicBezTo>
                    <a:cubicBezTo>
                      <a:pt x="449" y="156"/>
                      <a:pt x="438" y="154"/>
                      <a:pt x="432" y="147"/>
                    </a:cubicBezTo>
                    <a:cubicBezTo>
                      <a:pt x="386" y="92"/>
                      <a:pt x="451" y="133"/>
                      <a:pt x="384" y="99"/>
                    </a:cubicBezTo>
                    <a:cubicBezTo>
                      <a:pt x="367" y="29"/>
                      <a:pt x="358" y="15"/>
                      <a:pt x="376" y="51"/>
                    </a:cubicBezTo>
                    <a:close/>
                  </a:path>
                </a:pathLst>
              </a:custGeom>
              <a:solidFill>
                <a:srgbClr val="f789e2"/>
              </a:solidFill>
              <a:ln w="12600">
                <a:solidFill>
                  <a:srgbClr val="00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921040" y="3035160"/>
                <a:ext cx="15242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ff"/>
                    </a:solidFill>
                    <a:latin typeface="VNI-Helve-Condense"/>
                  </a:rPr>
                  <a:t>QUAÛNG NAM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02280" y="4755960"/>
                <a:ext cx="15238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ff"/>
                    </a:solidFill>
                    <a:latin typeface="VNI-Helve-Condense"/>
                  </a:rPr>
                  <a:t>BÌNH THUAÄN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2578320" y="3796920"/>
              <a:ext cx="106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.VnAvant"/>
                </a:rPr>
                <a:t>Gi÷a 177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6019920" y="22860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.VnAvant"/>
              </a:rPr>
              <a:t>1. LËt ®æ chÝnh quyÒn hä NguyÔ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19920" y="1019160"/>
            <a:ext cx="297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.VnAvant"/>
              </a:rPr>
              <a:t>- Th¸ng 09- 1773 h¹ thµnh Quy Nh¬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19920" y="1628640"/>
            <a:ext cx="3047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.VnAvant"/>
              </a:rPr>
              <a:t>- Gi÷a 1774 kiÓm so¸t tõ Qu¶ng Nam ®Õn B×nh ThuË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123920" y="3867120"/>
            <a:ext cx="2990880" cy="2751120"/>
          </a:xfrm>
          <a:custGeom>
            <a:avLst/>
            <a:gdLst/>
            <a:ahLst/>
            <a:rect l="l" t="t" r="r" b="b"/>
            <a:pathLst>
              <a:path w="1884" h="1733">
                <a:moveTo>
                  <a:pt x="0" y="0"/>
                </a:moveTo>
                <a:cubicBezTo>
                  <a:pt x="15" y="60"/>
                  <a:pt x="34" y="74"/>
                  <a:pt x="72" y="120"/>
                </a:cubicBezTo>
                <a:cubicBezTo>
                  <a:pt x="81" y="131"/>
                  <a:pt x="83" y="151"/>
                  <a:pt x="96" y="156"/>
                </a:cubicBezTo>
                <a:cubicBezTo>
                  <a:pt x="126" y="168"/>
                  <a:pt x="160" y="164"/>
                  <a:pt x="192" y="168"/>
                </a:cubicBezTo>
                <a:cubicBezTo>
                  <a:pt x="219" y="249"/>
                  <a:pt x="177" y="160"/>
                  <a:pt x="276" y="216"/>
                </a:cubicBezTo>
                <a:cubicBezTo>
                  <a:pt x="287" y="222"/>
                  <a:pt x="279" y="243"/>
                  <a:pt x="288" y="252"/>
                </a:cubicBezTo>
                <a:cubicBezTo>
                  <a:pt x="297" y="261"/>
                  <a:pt x="312" y="260"/>
                  <a:pt x="324" y="264"/>
                </a:cubicBezTo>
                <a:cubicBezTo>
                  <a:pt x="354" y="382"/>
                  <a:pt x="463" y="374"/>
                  <a:pt x="564" y="384"/>
                </a:cubicBezTo>
                <a:cubicBezTo>
                  <a:pt x="568" y="396"/>
                  <a:pt x="566" y="413"/>
                  <a:pt x="576" y="420"/>
                </a:cubicBezTo>
                <a:cubicBezTo>
                  <a:pt x="588" y="429"/>
                  <a:pt x="712" y="473"/>
                  <a:pt x="732" y="480"/>
                </a:cubicBezTo>
                <a:cubicBezTo>
                  <a:pt x="762" y="571"/>
                  <a:pt x="705" y="674"/>
                  <a:pt x="792" y="732"/>
                </a:cubicBezTo>
                <a:cubicBezTo>
                  <a:pt x="800" y="744"/>
                  <a:pt x="810" y="755"/>
                  <a:pt x="816" y="768"/>
                </a:cubicBezTo>
                <a:cubicBezTo>
                  <a:pt x="866" y="879"/>
                  <a:pt x="794" y="835"/>
                  <a:pt x="960" y="852"/>
                </a:cubicBezTo>
                <a:cubicBezTo>
                  <a:pt x="1044" y="880"/>
                  <a:pt x="1040" y="852"/>
                  <a:pt x="1020" y="912"/>
                </a:cubicBezTo>
                <a:cubicBezTo>
                  <a:pt x="1008" y="904"/>
                  <a:pt x="997" y="882"/>
                  <a:pt x="984" y="888"/>
                </a:cubicBezTo>
                <a:cubicBezTo>
                  <a:pt x="973" y="894"/>
                  <a:pt x="990" y="913"/>
                  <a:pt x="996" y="924"/>
                </a:cubicBezTo>
                <a:cubicBezTo>
                  <a:pt x="1010" y="949"/>
                  <a:pt x="1044" y="996"/>
                  <a:pt x="1044" y="996"/>
                </a:cubicBezTo>
                <a:cubicBezTo>
                  <a:pt x="1048" y="1040"/>
                  <a:pt x="1043" y="1086"/>
                  <a:pt x="1056" y="1128"/>
                </a:cubicBezTo>
                <a:cubicBezTo>
                  <a:pt x="1060" y="1142"/>
                  <a:pt x="1086" y="1139"/>
                  <a:pt x="1092" y="1152"/>
                </a:cubicBezTo>
                <a:cubicBezTo>
                  <a:pt x="1093" y="1154"/>
                  <a:pt x="1103" y="1244"/>
                  <a:pt x="1116" y="1260"/>
                </a:cubicBezTo>
                <a:cubicBezTo>
                  <a:pt x="1146" y="1297"/>
                  <a:pt x="1219" y="1300"/>
                  <a:pt x="1260" y="1308"/>
                </a:cubicBezTo>
                <a:cubicBezTo>
                  <a:pt x="1287" y="1402"/>
                  <a:pt x="1274" y="1433"/>
                  <a:pt x="1368" y="1464"/>
                </a:cubicBezTo>
                <a:cubicBezTo>
                  <a:pt x="1410" y="1506"/>
                  <a:pt x="1404" y="1528"/>
                  <a:pt x="1452" y="1560"/>
                </a:cubicBezTo>
                <a:cubicBezTo>
                  <a:pt x="1495" y="1688"/>
                  <a:pt x="1884" y="1733"/>
                  <a:pt x="1884" y="1572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6248520"/>
            <a:ext cx="7925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-419040" y="-571680"/>
            <a:ext cx="8381880" cy="84585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28600" y="623556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VNI-Helve-Condense"/>
              </a:rPr>
              <a:t>LÖÔÏC ÑOÀ TAÂY SÔN KHÔÛI NGHÓA CHOÁNG CAÙC THEÁ LÖÏC PHONG KIEÁN VAØ CHOÁNG QUAÂN XAÂM LÖÔÏC NÖÔÙC NGOAØ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52680" y="367200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VNI-Helve-Condense"/>
              </a:rPr>
              <a:t>QUY NHÔ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77960" y="2959200"/>
            <a:ext cx="228600" cy="759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324480" y="247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VNI-Helve-Condense"/>
              </a:rPr>
              <a:t>   </a:t>
            </a:r>
            <a:r>
              <a:rPr b="1" lang="en-US" sz="2000" spc="-1" strike="noStrike">
                <a:solidFill>
                  <a:srgbClr val="3333ff"/>
                </a:solidFill>
                <a:latin typeface="VNI-Helve-Condense"/>
              </a:rPr>
              <a:t>Nôi kieåm soaùt cuûa ba anh em Taây Sô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743200" y="26668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VNI-Helve-Condense"/>
              </a:rPr>
              <a:t>PHUÙ XUAÂ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886200"/>
            <a:ext cx="152640" cy="76320"/>
          </a:xfrm>
          <a:prstGeom prst="ellipse">
            <a:avLst/>
          </a:prstGeom>
          <a:solidFill>
            <a:srgbClr val="f91798"/>
          </a:solidFill>
          <a:ln w="12600">
            <a:solidFill>
              <a:srgbClr val="f917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76520" y="8827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VNI-Helve-Condense"/>
              </a:rPr>
              <a:t>THAÊNG LO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09680" y="5105520"/>
            <a:ext cx="15264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5120" y="47242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VNI-Helve-Condense"/>
              </a:rPr>
              <a:t>GIA ÑÒN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95480" y="3708360"/>
            <a:ext cx="636840" cy="673200"/>
          </a:xfrm>
          <a:custGeom>
            <a:avLst/>
            <a:gdLst/>
            <a:ahLst/>
            <a:rect l="l" t="t" r="r" b="b"/>
            <a:pathLst>
              <a:path w="401" h="424">
                <a:moveTo>
                  <a:pt x="312" y="4"/>
                </a:moveTo>
                <a:cubicBezTo>
                  <a:pt x="228" y="13"/>
                  <a:pt x="165" y="18"/>
                  <a:pt x="96" y="64"/>
                </a:cubicBezTo>
                <a:cubicBezTo>
                  <a:pt x="67" y="150"/>
                  <a:pt x="111" y="52"/>
                  <a:pt x="36" y="112"/>
                </a:cubicBezTo>
                <a:cubicBezTo>
                  <a:pt x="26" y="120"/>
                  <a:pt x="30" y="137"/>
                  <a:pt x="24" y="148"/>
                </a:cubicBezTo>
                <a:cubicBezTo>
                  <a:pt x="18" y="161"/>
                  <a:pt x="8" y="172"/>
                  <a:pt x="0" y="184"/>
                </a:cubicBezTo>
                <a:cubicBezTo>
                  <a:pt x="18" y="255"/>
                  <a:pt x="26" y="251"/>
                  <a:pt x="96" y="268"/>
                </a:cubicBezTo>
                <a:cubicBezTo>
                  <a:pt x="109" y="383"/>
                  <a:pt x="84" y="402"/>
                  <a:pt x="192" y="424"/>
                </a:cubicBezTo>
                <a:cubicBezTo>
                  <a:pt x="220" y="420"/>
                  <a:pt x="248" y="418"/>
                  <a:pt x="276" y="412"/>
                </a:cubicBezTo>
                <a:cubicBezTo>
                  <a:pt x="288" y="410"/>
                  <a:pt x="299" y="399"/>
                  <a:pt x="312" y="400"/>
                </a:cubicBezTo>
                <a:cubicBezTo>
                  <a:pt x="337" y="403"/>
                  <a:pt x="384" y="424"/>
                  <a:pt x="384" y="424"/>
                </a:cubicBezTo>
                <a:cubicBezTo>
                  <a:pt x="401" y="374"/>
                  <a:pt x="389" y="359"/>
                  <a:pt x="360" y="316"/>
                </a:cubicBezTo>
                <a:cubicBezTo>
                  <a:pt x="395" y="210"/>
                  <a:pt x="394" y="276"/>
                  <a:pt x="360" y="208"/>
                </a:cubicBezTo>
                <a:cubicBezTo>
                  <a:pt x="354" y="197"/>
                  <a:pt x="352" y="184"/>
                  <a:pt x="348" y="172"/>
                </a:cubicBezTo>
                <a:cubicBezTo>
                  <a:pt x="352" y="160"/>
                  <a:pt x="361" y="149"/>
                  <a:pt x="360" y="136"/>
                </a:cubicBezTo>
                <a:cubicBezTo>
                  <a:pt x="357" y="111"/>
                  <a:pt x="344" y="88"/>
                  <a:pt x="336" y="64"/>
                </a:cubicBezTo>
                <a:cubicBezTo>
                  <a:pt x="330" y="45"/>
                  <a:pt x="332" y="23"/>
                  <a:pt x="324" y="4"/>
                </a:cubicBezTo>
                <a:cubicBezTo>
                  <a:pt x="323" y="0"/>
                  <a:pt x="316" y="4"/>
                  <a:pt x="312" y="4"/>
                </a:cubicBezTo>
                <a:close/>
              </a:path>
            </a:pathLst>
          </a:custGeom>
          <a:solidFill>
            <a:srgbClr val="f9a3e9"/>
          </a:solidFill>
          <a:ln w="12600">
            <a:solidFill>
              <a:srgbClr val="f9a3e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2463840" y="2946240"/>
            <a:ext cx="2310840" cy="2301480"/>
            <a:chOff x="2463840" y="2946240"/>
            <a:chExt cx="2310840" cy="2301480"/>
          </a:xfrm>
        </p:grpSpPr>
        <p:sp>
          <p:nvSpPr>
            <p:cNvPr id="207" name=""/>
            <p:cNvSpPr/>
            <p:nvPr/>
          </p:nvSpPr>
          <p:spPr>
            <a:xfrm>
              <a:off x="2463840" y="3072960"/>
              <a:ext cx="1142640" cy="1865520"/>
            </a:xfrm>
            <a:custGeom>
              <a:avLst/>
              <a:gdLst/>
              <a:ahLst/>
              <a:rect l="l" t="t" r="r" b="b"/>
              <a:pathLst>
                <a:path w="720" h="1175">
                  <a:moveTo>
                    <a:pt x="376" y="51"/>
                  </a:moveTo>
                  <a:cubicBezTo>
                    <a:pt x="303" y="27"/>
                    <a:pt x="409" y="53"/>
                    <a:pt x="336" y="75"/>
                  </a:cubicBezTo>
                  <a:cubicBezTo>
                    <a:pt x="315" y="81"/>
                    <a:pt x="293" y="70"/>
                    <a:pt x="272" y="67"/>
                  </a:cubicBezTo>
                  <a:cubicBezTo>
                    <a:pt x="233" y="41"/>
                    <a:pt x="218" y="56"/>
                    <a:pt x="176" y="67"/>
                  </a:cubicBezTo>
                  <a:cubicBezTo>
                    <a:pt x="147" y="48"/>
                    <a:pt x="137" y="40"/>
                    <a:pt x="104" y="51"/>
                  </a:cubicBezTo>
                  <a:cubicBezTo>
                    <a:pt x="60" y="118"/>
                    <a:pt x="124" y="29"/>
                    <a:pt x="96" y="11"/>
                  </a:cubicBezTo>
                  <a:cubicBezTo>
                    <a:pt x="80" y="0"/>
                    <a:pt x="78" y="46"/>
                    <a:pt x="64" y="59"/>
                  </a:cubicBezTo>
                  <a:cubicBezTo>
                    <a:pt x="56" y="66"/>
                    <a:pt x="43" y="64"/>
                    <a:pt x="32" y="67"/>
                  </a:cubicBezTo>
                  <a:cubicBezTo>
                    <a:pt x="10" y="134"/>
                    <a:pt x="36" y="56"/>
                    <a:pt x="32" y="59"/>
                  </a:cubicBezTo>
                  <a:cubicBezTo>
                    <a:pt x="16" y="70"/>
                    <a:pt x="0" y="107"/>
                    <a:pt x="0" y="107"/>
                  </a:cubicBezTo>
                  <a:cubicBezTo>
                    <a:pt x="15" y="117"/>
                    <a:pt x="35" y="118"/>
                    <a:pt x="48" y="131"/>
                  </a:cubicBezTo>
                  <a:cubicBezTo>
                    <a:pt x="54" y="137"/>
                    <a:pt x="51" y="148"/>
                    <a:pt x="56" y="155"/>
                  </a:cubicBezTo>
                  <a:cubicBezTo>
                    <a:pt x="62" y="163"/>
                    <a:pt x="73" y="164"/>
                    <a:pt x="80" y="171"/>
                  </a:cubicBezTo>
                  <a:cubicBezTo>
                    <a:pt x="140" y="231"/>
                    <a:pt x="71" y="181"/>
                    <a:pt x="128" y="219"/>
                  </a:cubicBezTo>
                  <a:cubicBezTo>
                    <a:pt x="139" y="252"/>
                    <a:pt x="131" y="262"/>
                    <a:pt x="112" y="291"/>
                  </a:cubicBezTo>
                  <a:cubicBezTo>
                    <a:pt x="117" y="307"/>
                    <a:pt x="136" y="324"/>
                    <a:pt x="128" y="339"/>
                  </a:cubicBezTo>
                  <a:cubicBezTo>
                    <a:pt x="109" y="377"/>
                    <a:pt x="104" y="411"/>
                    <a:pt x="88" y="451"/>
                  </a:cubicBezTo>
                  <a:cubicBezTo>
                    <a:pt x="80" y="471"/>
                    <a:pt x="66" y="488"/>
                    <a:pt x="56" y="507"/>
                  </a:cubicBezTo>
                  <a:cubicBezTo>
                    <a:pt x="76" y="567"/>
                    <a:pt x="47" y="495"/>
                    <a:pt x="88" y="547"/>
                  </a:cubicBezTo>
                  <a:cubicBezTo>
                    <a:pt x="93" y="554"/>
                    <a:pt x="92" y="564"/>
                    <a:pt x="96" y="571"/>
                  </a:cubicBezTo>
                  <a:cubicBezTo>
                    <a:pt x="116" y="607"/>
                    <a:pt x="139" y="629"/>
                    <a:pt x="152" y="667"/>
                  </a:cubicBezTo>
                  <a:cubicBezTo>
                    <a:pt x="129" y="724"/>
                    <a:pt x="114" y="737"/>
                    <a:pt x="128" y="803"/>
                  </a:cubicBezTo>
                  <a:cubicBezTo>
                    <a:pt x="133" y="828"/>
                    <a:pt x="144" y="851"/>
                    <a:pt x="152" y="875"/>
                  </a:cubicBezTo>
                  <a:cubicBezTo>
                    <a:pt x="155" y="883"/>
                    <a:pt x="160" y="899"/>
                    <a:pt x="160" y="899"/>
                  </a:cubicBezTo>
                  <a:cubicBezTo>
                    <a:pt x="149" y="902"/>
                    <a:pt x="136" y="900"/>
                    <a:pt x="128" y="907"/>
                  </a:cubicBezTo>
                  <a:cubicBezTo>
                    <a:pt x="114" y="920"/>
                    <a:pt x="96" y="955"/>
                    <a:pt x="96" y="955"/>
                  </a:cubicBezTo>
                  <a:cubicBezTo>
                    <a:pt x="99" y="963"/>
                    <a:pt x="97" y="974"/>
                    <a:pt x="104" y="979"/>
                  </a:cubicBezTo>
                  <a:cubicBezTo>
                    <a:pt x="140" y="1003"/>
                    <a:pt x="189" y="991"/>
                    <a:pt x="232" y="995"/>
                  </a:cubicBezTo>
                  <a:cubicBezTo>
                    <a:pt x="232" y="995"/>
                    <a:pt x="284" y="1007"/>
                    <a:pt x="288" y="1011"/>
                  </a:cubicBezTo>
                  <a:cubicBezTo>
                    <a:pt x="299" y="1022"/>
                    <a:pt x="291" y="1053"/>
                    <a:pt x="312" y="1059"/>
                  </a:cubicBezTo>
                  <a:cubicBezTo>
                    <a:pt x="361" y="1073"/>
                    <a:pt x="414" y="1068"/>
                    <a:pt x="464" y="1075"/>
                  </a:cubicBezTo>
                  <a:cubicBezTo>
                    <a:pt x="493" y="1094"/>
                    <a:pt x="491" y="1112"/>
                    <a:pt x="520" y="1131"/>
                  </a:cubicBezTo>
                  <a:cubicBezTo>
                    <a:pt x="529" y="1159"/>
                    <a:pt x="527" y="1175"/>
                    <a:pt x="576" y="1163"/>
                  </a:cubicBezTo>
                  <a:cubicBezTo>
                    <a:pt x="593" y="1159"/>
                    <a:pt x="592" y="1125"/>
                    <a:pt x="600" y="1115"/>
                  </a:cubicBezTo>
                  <a:cubicBezTo>
                    <a:pt x="608" y="1106"/>
                    <a:pt x="648" y="1087"/>
                    <a:pt x="656" y="1083"/>
                  </a:cubicBezTo>
                  <a:cubicBezTo>
                    <a:pt x="684" y="1027"/>
                    <a:pt x="679" y="1001"/>
                    <a:pt x="664" y="939"/>
                  </a:cubicBezTo>
                  <a:cubicBezTo>
                    <a:pt x="677" y="886"/>
                    <a:pt x="696" y="850"/>
                    <a:pt x="720" y="803"/>
                  </a:cubicBezTo>
                  <a:cubicBezTo>
                    <a:pt x="686" y="792"/>
                    <a:pt x="683" y="768"/>
                    <a:pt x="664" y="739"/>
                  </a:cubicBezTo>
                  <a:cubicBezTo>
                    <a:pt x="683" y="683"/>
                    <a:pt x="667" y="742"/>
                    <a:pt x="656" y="635"/>
                  </a:cubicBezTo>
                  <a:cubicBezTo>
                    <a:pt x="641" y="500"/>
                    <a:pt x="661" y="482"/>
                    <a:pt x="592" y="379"/>
                  </a:cubicBezTo>
                  <a:cubicBezTo>
                    <a:pt x="595" y="358"/>
                    <a:pt x="602" y="336"/>
                    <a:pt x="600" y="315"/>
                  </a:cubicBezTo>
                  <a:cubicBezTo>
                    <a:pt x="599" y="303"/>
                    <a:pt x="596" y="286"/>
                    <a:pt x="584" y="283"/>
                  </a:cubicBezTo>
                  <a:cubicBezTo>
                    <a:pt x="568" y="279"/>
                    <a:pt x="536" y="299"/>
                    <a:pt x="536" y="299"/>
                  </a:cubicBezTo>
                  <a:cubicBezTo>
                    <a:pt x="531" y="291"/>
                    <a:pt x="521" y="285"/>
                    <a:pt x="520" y="275"/>
                  </a:cubicBezTo>
                  <a:cubicBezTo>
                    <a:pt x="514" y="235"/>
                    <a:pt x="555" y="246"/>
                    <a:pt x="512" y="203"/>
                  </a:cubicBezTo>
                  <a:cubicBezTo>
                    <a:pt x="502" y="193"/>
                    <a:pt x="485" y="192"/>
                    <a:pt x="472" y="187"/>
                  </a:cubicBezTo>
                  <a:cubicBezTo>
                    <a:pt x="467" y="179"/>
                    <a:pt x="463" y="170"/>
                    <a:pt x="456" y="163"/>
                  </a:cubicBezTo>
                  <a:cubicBezTo>
                    <a:pt x="449" y="156"/>
                    <a:pt x="438" y="154"/>
                    <a:pt x="432" y="147"/>
                  </a:cubicBezTo>
                  <a:cubicBezTo>
                    <a:pt x="386" y="92"/>
                    <a:pt x="451" y="133"/>
                    <a:pt x="384" y="99"/>
                  </a:cubicBezTo>
                  <a:cubicBezTo>
                    <a:pt x="367" y="29"/>
                    <a:pt x="358" y="15"/>
                    <a:pt x="376" y="51"/>
                  </a:cubicBezTo>
                  <a:close/>
                </a:path>
              </a:pathLst>
            </a:custGeom>
            <a:solidFill>
              <a:srgbClr val="f789e2"/>
            </a:solidFill>
            <a:ln w="12600">
              <a:solidFill>
                <a:srgbClr val="00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869920" y="2946240"/>
              <a:ext cx="1523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ff"/>
                  </a:solidFill>
                  <a:latin typeface="VNI-Helve-Condense"/>
                </a:rPr>
                <a:t>QUAÛNG NA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251160" y="4667040"/>
              <a:ext cx="1523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ff"/>
                  </a:solidFill>
                  <a:latin typeface="VNI-Helve-Condense"/>
                </a:rPr>
                <a:t>BÌNH THUAÄ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1689120" y="1187280"/>
            <a:ext cx="228600" cy="152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09680" y="5054760"/>
            <a:ext cx="15264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248520" y="266760"/>
            <a:ext cx="439560" cy="342720"/>
          </a:xfrm>
          <a:custGeom>
            <a:avLst/>
            <a:gdLst/>
            <a:ahLst/>
            <a:rect l="l" t="t" r="r" b="b"/>
            <a:pathLst>
              <a:path w="277" h="216">
                <a:moveTo>
                  <a:pt x="97" y="32"/>
                </a:moveTo>
                <a:cubicBezTo>
                  <a:pt x="77" y="36"/>
                  <a:pt x="55" y="34"/>
                  <a:pt x="37" y="44"/>
                </a:cubicBezTo>
                <a:cubicBezTo>
                  <a:pt x="15" y="56"/>
                  <a:pt x="0" y="96"/>
                  <a:pt x="25" y="116"/>
                </a:cubicBezTo>
                <a:cubicBezTo>
                  <a:pt x="54" y="139"/>
                  <a:pt x="97" y="133"/>
                  <a:pt x="133" y="140"/>
                </a:cubicBezTo>
                <a:cubicBezTo>
                  <a:pt x="129" y="156"/>
                  <a:pt x="115" y="173"/>
                  <a:pt x="121" y="188"/>
                </a:cubicBezTo>
                <a:cubicBezTo>
                  <a:pt x="132" y="216"/>
                  <a:pt x="182" y="192"/>
                  <a:pt x="193" y="188"/>
                </a:cubicBezTo>
                <a:cubicBezTo>
                  <a:pt x="197" y="164"/>
                  <a:pt x="194" y="138"/>
                  <a:pt x="205" y="116"/>
                </a:cubicBezTo>
                <a:cubicBezTo>
                  <a:pt x="229" y="68"/>
                  <a:pt x="277" y="116"/>
                  <a:pt x="205" y="68"/>
                </a:cubicBezTo>
                <a:cubicBezTo>
                  <a:pt x="182" y="0"/>
                  <a:pt x="162" y="19"/>
                  <a:pt x="97" y="32"/>
                </a:cubicBezTo>
                <a:close/>
              </a:path>
            </a:pathLst>
          </a:custGeom>
          <a:solidFill>
            <a:srgbClr val="f789e2"/>
          </a:solidFill>
          <a:ln w="12600">
            <a:solidFill>
              <a:srgbClr val="f88c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489040" y="372096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.VnAvant"/>
              </a:rPr>
              <a:t>T©y S¬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560960" y="1230840"/>
            <a:ext cx="2139480" cy="4813920"/>
            <a:chOff x="1560960" y="1230840"/>
            <a:chExt cx="2139480" cy="4813920"/>
          </a:xfrm>
        </p:grpSpPr>
        <p:grpSp>
          <p:nvGrpSpPr>
            <p:cNvPr id="215" name=""/>
            <p:cNvGrpSpPr/>
            <p:nvPr/>
          </p:nvGrpSpPr>
          <p:grpSpPr>
            <a:xfrm>
              <a:off x="2540160" y="2266920"/>
              <a:ext cx="838080" cy="599760"/>
              <a:chOff x="2540160" y="2266920"/>
              <a:chExt cx="838080" cy="599760"/>
            </a:xfrm>
          </p:grpSpPr>
          <p:sp>
            <p:nvSpPr>
              <p:cNvPr id="216" name=""/>
              <p:cNvSpPr/>
              <p:nvPr/>
            </p:nvSpPr>
            <p:spPr>
              <a:xfrm>
                <a:off x="2540160" y="2266920"/>
                <a:ext cx="838080" cy="399960"/>
              </a:xfrm>
              <a:prstGeom prst="wedgeRoundRectCallout">
                <a:avLst>
                  <a:gd name="adj1" fmla="val -33333"/>
                  <a:gd name="adj2" fmla="val 146824"/>
                  <a:gd name="adj3" fmla="val 16667"/>
                </a:avLst>
              </a:prstGeom>
              <a:solidFill>
                <a:srgbClr val="ffffff"/>
              </a:solidFill>
              <a:ln w="12600">
                <a:solidFill>
                  <a:srgbClr val="00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629080" y="2286000"/>
                <a:ext cx="6858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.VnAvant"/>
                  </a:rPr>
                  <a:t>TrÞn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2451240" y="5460840"/>
              <a:ext cx="914400" cy="583920"/>
              <a:chOff x="2451240" y="5460840"/>
              <a:chExt cx="914400" cy="583920"/>
            </a:xfrm>
          </p:grpSpPr>
          <p:sp>
            <p:nvSpPr>
              <p:cNvPr id="219" name=""/>
              <p:cNvSpPr/>
              <p:nvPr/>
            </p:nvSpPr>
            <p:spPr>
              <a:xfrm rot="5400000">
                <a:off x="2676240" y="5258880"/>
                <a:ext cx="457200" cy="860760"/>
              </a:xfrm>
              <a:prstGeom prst="wedgeRoundRectCallout">
                <a:avLst>
                  <a:gd name="adj1" fmla="val -102791"/>
                  <a:gd name="adj2" fmla="val 67444"/>
                  <a:gd name="adj3" fmla="val 16667"/>
                </a:avLst>
              </a:prstGeom>
              <a:solidFill>
                <a:srgbClr val="ffffff"/>
              </a:solidFill>
              <a:ln w="12600">
                <a:solidFill>
                  <a:srgbClr val="00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451240" y="5524560"/>
                <a:ext cx="9144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.VnAvant"/>
                  </a:rPr>
                  <a:t>NguyÔ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 flipV="1" rot="14044800">
              <a:off x="2679480" y="3067560"/>
              <a:ext cx="993600" cy="193680"/>
            </a:xfrm>
            <a:custGeom>
              <a:avLst/>
              <a:gdLst/>
              <a:ahLst/>
              <a:rect l="l" t="t" r="r" b="b"/>
              <a:pathLst>
                <a:path w="5052" h="1071">
                  <a:moveTo>
                    <a:pt x="665" y="722"/>
                  </a:moveTo>
                  <a:lnTo>
                    <a:pt x="777" y="503"/>
                  </a:lnTo>
                  <a:lnTo>
                    <a:pt x="2692" y="612"/>
                  </a:lnTo>
                  <a:lnTo>
                    <a:pt x="3386" y="810"/>
                  </a:lnTo>
                  <a:lnTo>
                    <a:pt x="4331" y="1071"/>
                  </a:lnTo>
                  <a:lnTo>
                    <a:pt x="3871" y="509"/>
                  </a:lnTo>
                  <a:lnTo>
                    <a:pt x="5052" y="263"/>
                  </a:lnTo>
                  <a:lnTo>
                    <a:pt x="3442" y="109"/>
                  </a:lnTo>
                  <a:lnTo>
                    <a:pt x="2692" y="88"/>
                  </a:lnTo>
                  <a:lnTo>
                    <a:pt x="860" y="263"/>
                  </a:lnTo>
                  <a:lnTo>
                    <a:pt x="638" y="0"/>
                  </a:lnTo>
                  <a:lnTo>
                    <a:pt x="0" y="438"/>
                  </a:lnTo>
                  <a:lnTo>
                    <a:pt x="638" y="700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1560960" y="1230840"/>
              <a:ext cx="1047600" cy="1755720"/>
              <a:chOff x="1560960" y="1230840"/>
              <a:chExt cx="1047600" cy="1755720"/>
            </a:xfrm>
          </p:grpSpPr>
          <p:sp>
            <p:nvSpPr>
              <p:cNvPr id="223" name=""/>
              <p:cNvSpPr/>
              <p:nvPr/>
            </p:nvSpPr>
            <p:spPr>
              <a:xfrm rot="15849600">
                <a:off x="1285920" y="1550520"/>
                <a:ext cx="782640" cy="154080"/>
              </a:xfrm>
              <a:custGeom>
                <a:avLst/>
                <a:gdLst/>
                <a:ahLst/>
                <a:rect l="l" t="t" r="r" b="b"/>
                <a:pathLst>
                  <a:path w="5052" h="1071">
                    <a:moveTo>
                      <a:pt x="665" y="722"/>
                    </a:moveTo>
                    <a:lnTo>
                      <a:pt x="777" y="503"/>
                    </a:lnTo>
                    <a:lnTo>
                      <a:pt x="2692" y="612"/>
                    </a:lnTo>
                    <a:lnTo>
                      <a:pt x="3386" y="810"/>
                    </a:lnTo>
                    <a:lnTo>
                      <a:pt x="4331" y="1071"/>
                    </a:lnTo>
                    <a:lnTo>
                      <a:pt x="3871" y="509"/>
                    </a:lnTo>
                    <a:lnTo>
                      <a:pt x="5052" y="263"/>
                    </a:lnTo>
                    <a:lnTo>
                      <a:pt x="3442" y="109"/>
                    </a:lnTo>
                    <a:lnTo>
                      <a:pt x="2692" y="88"/>
                    </a:lnTo>
                    <a:lnTo>
                      <a:pt x="860" y="263"/>
                    </a:lnTo>
                    <a:lnTo>
                      <a:pt x="638" y="0"/>
                    </a:lnTo>
                    <a:lnTo>
                      <a:pt x="0" y="438"/>
                    </a:lnTo>
                    <a:lnTo>
                      <a:pt x="638" y="700"/>
                    </a:lnTo>
                  </a:path>
                </a:pathLst>
              </a:custGeom>
              <a:solidFill>
                <a:srgbClr val="008080"/>
              </a:solidFill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13719000">
                <a:off x="1552320" y="2269800"/>
                <a:ext cx="685800" cy="133200"/>
              </a:xfrm>
              <a:custGeom>
                <a:avLst/>
                <a:gdLst/>
                <a:ahLst/>
                <a:rect l="l" t="t" r="r" b="b"/>
                <a:pathLst>
                  <a:path w="5052" h="1071">
                    <a:moveTo>
                      <a:pt x="665" y="722"/>
                    </a:moveTo>
                    <a:lnTo>
                      <a:pt x="777" y="503"/>
                    </a:lnTo>
                    <a:lnTo>
                      <a:pt x="2692" y="612"/>
                    </a:lnTo>
                    <a:lnTo>
                      <a:pt x="3386" y="810"/>
                    </a:lnTo>
                    <a:lnTo>
                      <a:pt x="4331" y="1071"/>
                    </a:lnTo>
                    <a:lnTo>
                      <a:pt x="3871" y="509"/>
                    </a:lnTo>
                    <a:lnTo>
                      <a:pt x="5052" y="263"/>
                    </a:lnTo>
                    <a:lnTo>
                      <a:pt x="3442" y="109"/>
                    </a:lnTo>
                    <a:lnTo>
                      <a:pt x="2692" y="88"/>
                    </a:lnTo>
                    <a:lnTo>
                      <a:pt x="860" y="263"/>
                    </a:lnTo>
                    <a:lnTo>
                      <a:pt x="638" y="0"/>
                    </a:lnTo>
                    <a:lnTo>
                      <a:pt x="0" y="438"/>
                    </a:lnTo>
                    <a:lnTo>
                      <a:pt x="638" y="700"/>
                    </a:lnTo>
                  </a:path>
                </a:pathLst>
              </a:custGeom>
              <a:solidFill>
                <a:srgbClr val="008080"/>
              </a:solidFill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12850200">
                <a:off x="2095560" y="2754000"/>
                <a:ext cx="533520" cy="90360"/>
              </a:xfrm>
              <a:custGeom>
                <a:avLst/>
                <a:gdLst/>
                <a:ahLst/>
                <a:rect l="l" t="t" r="r" b="b"/>
                <a:pathLst>
                  <a:path w="5052" h="1071">
                    <a:moveTo>
                      <a:pt x="665" y="722"/>
                    </a:moveTo>
                    <a:lnTo>
                      <a:pt x="777" y="503"/>
                    </a:lnTo>
                    <a:lnTo>
                      <a:pt x="2692" y="612"/>
                    </a:lnTo>
                    <a:lnTo>
                      <a:pt x="3386" y="810"/>
                    </a:lnTo>
                    <a:lnTo>
                      <a:pt x="4331" y="1071"/>
                    </a:lnTo>
                    <a:lnTo>
                      <a:pt x="3871" y="509"/>
                    </a:lnTo>
                    <a:lnTo>
                      <a:pt x="5052" y="263"/>
                    </a:lnTo>
                    <a:lnTo>
                      <a:pt x="3442" y="109"/>
                    </a:lnTo>
                    <a:lnTo>
                      <a:pt x="2692" y="88"/>
                    </a:lnTo>
                    <a:lnTo>
                      <a:pt x="860" y="263"/>
                    </a:lnTo>
                    <a:lnTo>
                      <a:pt x="638" y="0"/>
                    </a:lnTo>
                    <a:lnTo>
                      <a:pt x="0" y="438"/>
                    </a:lnTo>
                    <a:lnTo>
                      <a:pt x="638" y="700"/>
                    </a:lnTo>
                  </a:path>
                </a:pathLst>
              </a:custGeom>
              <a:solidFill>
                <a:srgbClr val="008080"/>
              </a:solidFill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 flipV="1" rot="16039800">
              <a:off x="3134880" y="4048920"/>
              <a:ext cx="892080" cy="152280"/>
            </a:xfrm>
            <a:custGeom>
              <a:avLst/>
              <a:gdLst/>
              <a:ahLst/>
              <a:rect l="l" t="t" r="r" b="b"/>
              <a:pathLst>
                <a:path w="5052" h="1071">
                  <a:moveTo>
                    <a:pt x="665" y="722"/>
                  </a:moveTo>
                  <a:lnTo>
                    <a:pt x="777" y="503"/>
                  </a:lnTo>
                  <a:lnTo>
                    <a:pt x="2692" y="612"/>
                  </a:lnTo>
                  <a:lnTo>
                    <a:pt x="3386" y="810"/>
                  </a:lnTo>
                  <a:lnTo>
                    <a:pt x="4331" y="1071"/>
                  </a:lnTo>
                  <a:lnTo>
                    <a:pt x="3871" y="509"/>
                  </a:lnTo>
                  <a:lnTo>
                    <a:pt x="5052" y="263"/>
                  </a:lnTo>
                  <a:lnTo>
                    <a:pt x="3442" y="109"/>
                  </a:lnTo>
                  <a:lnTo>
                    <a:pt x="2692" y="88"/>
                  </a:lnTo>
                  <a:lnTo>
                    <a:pt x="860" y="263"/>
                  </a:lnTo>
                  <a:lnTo>
                    <a:pt x="638" y="0"/>
                  </a:lnTo>
                  <a:lnTo>
                    <a:pt x="0" y="438"/>
                  </a:lnTo>
                  <a:lnTo>
                    <a:pt x="638" y="700"/>
                  </a:ln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 rot="19380000">
              <a:off x="3047760" y="4812840"/>
              <a:ext cx="685440" cy="119160"/>
            </a:xfrm>
            <a:custGeom>
              <a:avLst/>
              <a:gdLst/>
              <a:ahLst/>
              <a:rect l="l" t="t" r="r" b="b"/>
              <a:pathLst>
                <a:path w="5052" h="1071">
                  <a:moveTo>
                    <a:pt x="665" y="722"/>
                  </a:moveTo>
                  <a:lnTo>
                    <a:pt x="777" y="503"/>
                  </a:lnTo>
                  <a:lnTo>
                    <a:pt x="2692" y="612"/>
                  </a:lnTo>
                  <a:lnTo>
                    <a:pt x="3386" y="810"/>
                  </a:lnTo>
                  <a:lnTo>
                    <a:pt x="4331" y="1071"/>
                  </a:lnTo>
                  <a:lnTo>
                    <a:pt x="3871" y="509"/>
                  </a:lnTo>
                  <a:lnTo>
                    <a:pt x="5052" y="263"/>
                  </a:lnTo>
                  <a:lnTo>
                    <a:pt x="3442" y="109"/>
                  </a:lnTo>
                  <a:lnTo>
                    <a:pt x="2692" y="88"/>
                  </a:lnTo>
                  <a:lnTo>
                    <a:pt x="860" y="263"/>
                  </a:lnTo>
                  <a:lnTo>
                    <a:pt x="638" y="0"/>
                  </a:lnTo>
                  <a:lnTo>
                    <a:pt x="0" y="438"/>
                  </a:lnTo>
                  <a:lnTo>
                    <a:pt x="638" y="700"/>
                  </a:ln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 rot="21320400">
              <a:off x="2437920" y="5067360"/>
              <a:ext cx="611280" cy="120600"/>
            </a:xfrm>
            <a:custGeom>
              <a:avLst/>
              <a:gdLst/>
              <a:ahLst/>
              <a:rect l="l" t="t" r="r" b="b"/>
              <a:pathLst>
                <a:path w="5052" h="1071">
                  <a:moveTo>
                    <a:pt x="665" y="722"/>
                  </a:moveTo>
                  <a:lnTo>
                    <a:pt x="777" y="503"/>
                  </a:lnTo>
                  <a:lnTo>
                    <a:pt x="2692" y="612"/>
                  </a:lnTo>
                  <a:lnTo>
                    <a:pt x="3386" y="810"/>
                  </a:lnTo>
                  <a:lnTo>
                    <a:pt x="4331" y="1071"/>
                  </a:lnTo>
                  <a:lnTo>
                    <a:pt x="3871" y="509"/>
                  </a:lnTo>
                  <a:lnTo>
                    <a:pt x="5052" y="263"/>
                  </a:lnTo>
                  <a:lnTo>
                    <a:pt x="3442" y="109"/>
                  </a:lnTo>
                  <a:lnTo>
                    <a:pt x="2692" y="88"/>
                  </a:lnTo>
                  <a:lnTo>
                    <a:pt x="860" y="263"/>
                  </a:lnTo>
                  <a:lnTo>
                    <a:pt x="638" y="0"/>
                  </a:lnTo>
                  <a:lnTo>
                    <a:pt x="0" y="438"/>
                  </a:lnTo>
                  <a:lnTo>
                    <a:pt x="638" y="700"/>
                  </a:lnTo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6553080" y="1771560"/>
            <a:ext cx="236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VNI-Helve-Condense"/>
              </a:rPr>
              <a:t> </a:t>
            </a:r>
            <a:r>
              <a:rPr b="1" lang="en-US" sz="2000" spc="-1" strike="noStrike">
                <a:solidFill>
                  <a:srgbClr val="3333ff"/>
                </a:solidFill>
                <a:latin typeface="VNI-Helve-Condense"/>
              </a:rPr>
              <a:t>Chuùa Nguyeãn chaïy vaøo Gia Ñòn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477120" y="990720"/>
            <a:ext cx="2361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VNI-Helve-Condense"/>
              </a:rPr>
              <a:t> </a:t>
            </a:r>
            <a:r>
              <a:rPr b="1" lang="en-US" sz="2000" spc="-1" strike="noStrike">
                <a:solidFill>
                  <a:srgbClr val="3333ff"/>
                </a:solidFill>
                <a:latin typeface="VNI-Helve-Condense"/>
              </a:rPr>
              <a:t>Chuùa Trònh ñaùnh   Phuù Xuaâ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 rot="10936200">
            <a:off x="6095880" y="1142640"/>
            <a:ext cx="565200" cy="153720"/>
          </a:xfrm>
          <a:custGeom>
            <a:avLst/>
            <a:gdLst/>
            <a:ahLst/>
            <a:rect l="l" t="t" r="r" b="b"/>
            <a:pathLst>
              <a:path w="5052" h="1071">
                <a:moveTo>
                  <a:pt x="665" y="722"/>
                </a:moveTo>
                <a:lnTo>
                  <a:pt x="777" y="503"/>
                </a:lnTo>
                <a:lnTo>
                  <a:pt x="2692" y="612"/>
                </a:lnTo>
                <a:lnTo>
                  <a:pt x="3386" y="810"/>
                </a:lnTo>
                <a:lnTo>
                  <a:pt x="4331" y="1071"/>
                </a:lnTo>
                <a:lnTo>
                  <a:pt x="3871" y="509"/>
                </a:lnTo>
                <a:lnTo>
                  <a:pt x="5052" y="263"/>
                </a:lnTo>
                <a:lnTo>
                  <a:pt x="3442" y="109"/>
                </a:lnTo>
                <a:lnTo>
                  <a:pt x="2692" y="88"/>
                </a:lnTo>
                <a:lnTo>
                  <a:pt x="860" y="263"/>
                </a:lnTo>
                <a:lnTo>
                  <a:pt x="638" y="0"/>
                </a:lnTo>
                <a:lnTo>
                  <a:pt x="0" y="438"/>
                </a:lnTo>
                <a:lnTo>
                  <a:pt x="638" y="700"/>
                </a:lnTo>
              </a:path>
            </a:pathLst>
          </a:custGeom>
          <a:solidFill>
            <a:srgbClr val="008080"/>
          </a:solidFill>
          <a:ln w="936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 rot="10936800">
            <a:off x="6087600" y="1904400"/>
            <a:ext cx="538200" cy="134280"/>
          </a:xfrm>
          <a:custGeom>
            <a:avLst/>
            <a:gdLst/>
            <a:ahLst/>
            <a:rect l="l" t="t" r="r" b="b"/>
            <a:pathLst>
              <a:path w="5052" h="1071">
                <a:moveTo>
                  <a:pt x="665" y="722"/>
                </a:moveTo>
                <a:lnTo>
                  <a:pt x="777" y="503"/>
                </a:lnTo>
                <a:lnTo>
                  <a:pt x="2692" y="612"/>
                </a:lnTo>
                <a:lnTo>
                  <a:pt x="3386" y="810"/>
                </a:lnTo>
                <a:lnTo>
                  <a:pt x="4331" y="1071"/>
                </a:lnTo>
                <a:lnTo>
                  <a:pt x="3871" y="509"/>
                </a:lnTo>
                <a:lnTo>
                  <a:pt x="5052" y="263"/>
                </a:lnTo>
                <a:lnTo>
                  <a:pt x="3442" y="109"/>
                </a:lnTo>
                <a:lnTo>
                  <a:pt x="2692" y="88"/>
                </a:lnTo>
                <a:lnTo>
                  <a:pt x="860" y="263"/>
                </a:lnTo>
                <a:lnTo>
                  <a:pt x="638" y="0"/>
                </a:lnTo>
                <a:lnTo>
                  <a:pt x="0" y="438"/>
                </a:lnTo>
                <a:lnTo>
                  <a:pt x="638" y="700"/>
                </a:lnTo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228600"/>
            <a:ext cx="9144000" cy="2943720"/>
          </a:xfrm>
          <a:prstGeom prst="rect">
            <a:avLst/>
          </a:prstGeom>
          <a:solidFill>
            <a:srgbClr val="b3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71840" indent="-2571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NI-Times"/>
              </a:rPr>
              <a:t> 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VNI-Times"/>
              </a:rPr>
              <a:t>BAØI 25</a:t>
            </a:r>
            <a:r>
              <a:rPr b="1" lang="en-US" sz="3200" spc="-1" strike="noStrike">
                <a:solidFill>
                  <a:srgbClr val="ff0000"/>
                </a:solidFill>
                <a:latin typeface="VNI-Times"/>
              </a:rPr>
              <a:t>:             PHONG TRAØO TAÂY SÔN </a:t>
            </a:r>
            <a:r>
              <a:rPr b="1" i="1" lang="en-US" sz="2400" spc="-1" strike="noStrike">
                <a:solidFill>
                  <a:srgbClr val="ff0000"/>
                </a:solidFill>
                <a:latin typeface="VNI-Times"/>
              </a:rPr>
              <a:t>(Ti</a:t>
            </a:r>
            <a:r>
              <a:rPr b="1" i="1" lang="en-US" sz="2400" spc="-1" strike="noStrike">
                <a:solidFill>
                  <a:srgbClr val="ff0000"/>
                </a:solidFill>
                <a:latin typeface=".VnTime"/>
              </a:rPr>
              <a:t>Õ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71840" indent="-2571840"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ff0000"/>
                </a:solidFill>
                <a:latin typeface="VNI-Times"/>
              </a:rPr>
              <a:t>           </a:t>
            </a:r>
            <a:r>
              <a:rPr b="1" lang="en-US" sz="2600" spc="-1" strike="noStrike" u="sng">
                <a:solidFill>
                  <a:srgbClr val="f907ba"/>
                </a:solidFill>
                <a:uFillTx/>
                <a:latin typeface=".VnTimeH"/>
              </a:rPr>
              <a:t>TIÕT 52:</a:t>
            </a:r>
            <a:r>
              <a:rPr b="1" lang="en-US" sz="2600" spc="-1" strike="noStrike">
                <a:solidFill>
                  <a:srgbClr val="f907ba"/>
                </a:solidFill>
                <a:latin typeface="VNI-Helve-Condense"/>
              </a:rPr>
              <a:t>       </a:t>
            </a:r>
            <a:r>
              <a:rPr b="1" lang="en-US" sz="2600" spc="-1" strike="noStrike">
                <a:solidFill>
                  <a:srgbClr val="f907ba"/>
                </a:solidFill>
                <a:latin typeface="VNI-Univer"/>
              </a:rPr>
              <a:t>II.</a:t>
            </a:r>
            <a:r>
              <a:rPr b="1" lang="en-US" sz="2600" spc="-1" strike="noStrike">
                <a:solidFill>
                  <a:srgbClr val="f907ba"/>
                </a:solidFill>
                <a:latin typeface="VNI-Helve-Condense"/>
              </a:rPr>
              <a:t> </a:t>
            </a:r>
            <a:r>
              <a:rPr b="1" lang="en-US" sz="2600" spc="-1" strike="noStrike">
                <a:solidFill>
                  <a:srgbClr val="f907ba"/>
                </a:solidFill>
                <a:latin typeface="VNI-Univer"/>
              </a:rPr>
              <a:t>TAÂY SÔN LAÄT ÑOÅ CHÍNH QUYEÀN HOÏ NGUYEÃN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571840" indent="-2571840"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907ba"/>
                </a:solidFill>
                <a:latin typeface="VNI-Univer"/>
              </a:rPr>
              <a:t>                                         </a:t>
            </a:r>
            <a:r>
              <a:rPr b="1" lang="en-US" sz="2600" spc="-1" strike="noStrike">
                <a:solidFill>
                  <a:srgbClr val="f907ba"/>
                </a:solidFill>
                <a:latin typeface="VNI-Univer"/>
              </a:rPr>
              <a:t>VAØ ÑAÙNH TAN QUAÂN XAÂM LÖÔÏC XIEÂM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57200" y="213372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.VnAvant"/>
              </a:rPr>
              <a:t>1</a:t>
            </a:r>
            <a:r>
              <a:rPr b="1" lang="en-US" sz="2000" spc="-1" strike="noStrike">
                <a:solidFill>
                  <a:srgbClr val="3333ff"/>
                </a:solidFill>
                <a:latin typeface="VNI-Helve-Condense"/>
              </a:rPr>
              <a:t>. </a:t>
            </a:r>
            <a:r>
              <a:rPr b="1" lang="en-US" sz="2000" spc="-1" strike="noStrike">
                <a:solidFill>
                  <a:srgbClr val="3333ff"/>
                </a:solidFill>
                <a:latin typeface=".VnAvant"/>
              </a:rPr>
              <a:t>LËt ®æ chÝnh quyÒn hä NguyÔ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3520" y="2590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.VnAvant"/>
              </a:rPr>
              <a:t>- Th¸ng 09- 1773, NghÜa qu©n T©y S¬n h¹ ®­îc thµnh Quy Nh¬n.</a:t>
            </a:r>
            <a:r>
              <a:rPr b="1" lang="en-US" sz="2400" spc="-1" strike="noStrike">
                <a:solidFill>
                  <a:srgbClr val="3333ff"/>
                </a:solidFill>
                <a:latin typeface="VNI-Helve-Condense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-50760" y="3048120"/>
            <a:ext cx="88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.VnAvant"/>
              </a:rPr>
              <a:t>- N¨m 1774, më réng vïng kiÓm so¸t tõ Qu¶ng Nam ®Õn B×nh ThuË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20560" y="335268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.VnAvant"/>
              </a:rPr>
              <a:t>- NghÜa qu©n</a:t>
            </a:r>
            <a:r>
              <a:rPr b="1" lang="en-US" sz="2800" spc="-1" strike="noStrike">
                <a:solidFill>
                  <a:srgbClr val="ffffff"/>
                </a:solidFill>
                <a:latin typeface="VNI-Helve-Condense"/>
              </a:rPr>
              <a:t> </a:t>
            </a:r>
            <a:r>
              <a:rPr b="1" lang="en-US" sz="1800" spc="-1" strike="noStrike">
                <a:solidFill>
                  <a:srgbClr val="3333ff"/>
                </a:solidFill>
                <a:latin typeface=".VnAvant"/>
              </a:rPr>
              <a:t>t¹m hßa ho·n víi qu©n TrÞnh ®Ó ®¸nh NguyÔn</a:t>
            </a:r>
            <a:r>
              <a:rPr b="1" lang="en-US" sz="2400" spc="-1" strike="noStrike">
                <a:solidFill>
                  <a:srgbClr val="3333ff"/>
                </a:solidFill>
                <a:latin typeface="VNI-Helve-Condense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123920" y="3867120"/>
            <a:ext cx="2990880" cy="2751120"/>
          </a:xfrm>
          <a:custGeom>
            <a:avLst/>
            <a:gdLst/>
            <a:ahLst/>
            <a:rect l="l" t="t" r="r" b="b"/>
            <a:pathLst>
              <a:path w="1884" h="1733">
                <a:moveTo>
                  <a:pt x="0" y="0"/>
                </a:moveTo>
                <a:cubicBezTo>
                  <a:pt x="15" y="60"/>
                  <a:pt x="34" y="74"/>
                  <a:pt x="72" y="120"/>
                </a:cubicBezTo>
                <a:cubicBezTo>
                  <a:pt x="81" y="131"/>
                  <a:pt x="83" y="151"/>
                  <a:pt x="96" y="156"/>
                </a:cubicBezTo>
                <a:cubicBezTo>
                  <a:pt x="126" y="168"/>
                  <a:pt x="160" y="164"/>
                  <a:pt x="192" y="168"/>
                </a:cubicBezTo>
                <a:cubicBezTo>
                  <a:pt x="219" y="249"/>
                  <a:pt x="177" y="160"/>
                  <a:pt x="276" y="216"/>
                </a:cubicBezTo>
                <a:cubicBezTo>
                  <a:pt x="287" y="222"/>
                  <a:pt x="279" y="243"/>
                  <a:pt x="288" y="252"/>
                </a:cubicBezTo>
                <a:cubicBezTo>
                  <a:pt x="297" y="261"/>
                  <a:pt x="312" y="260"/>
                  <a:pt x="324" y="264"/>
                </a:cubicBezTo>
                <a:cubicBezTo>
                  <a:pt x="354" y="382"/>
                  <a:pt x="463" y="374"/>
                  <a:pt x="564" y="384"/>
                </a:cubicBezTo>
                <a:cubicBezTo>
                  <a:pt x="568" y="396"/>
                  <a:pt x="566" y="413"/>
                  <a:pt x="576" y="420"/>
                </a:cubicBezTo>
                <a:cubicBezTo>
                  <a:pt x="588" y="429"/>
                  <a:pt x="712" y="473"/>
                  <a:pt x="732" y="480"/>
                </a:cubicBezTo>
                <a:cubicBezTo>
                  <a:pt x="762" y="571"/>
                  <a:pt x="705" y="674"/>
                  <a:pt x="792" y="732"/>
                </a:cubicBezTo>
                <a:cubicBezTo>
                  <a:pt x="800" y="744"/>
                  <a:pt x="810" y="755"/>
                  <a:pt x="816" y="768"/>
                </a:cubicBezTo>
                <a:cubicBezTo>
                  <a:pt x="866" y="879"/>
                  <a:pt x="794" y="835"/>
                  <a:pt x="960" y="852"/>
                </a:cubicBezTo>
                <a:cubicBezTo>
                  <a:pt x="1044" y="880"/>
                  <a:pt x="1040" y="852"/>
                  <a:pt x="1020" y="912"/>
                </a:cubicBezTo>
                <a:cubicBezTo>
                  <a:pt x="1008" y="904"/>
                  <a:pt x="997" y="882"/>
                  <a:pt x="984" y="888"/>
                </a:cubicBezTo>
                <a:cubicBezTo>
                  <a:pt x="973" y="894"/>
                  <a:pt x="990" y="913"/>
                  <a:pt x="996" y="924"/>
                </a:cubicBezTo>
                <a:cubicBezTo>
                  <a:pt x="1010" y="949"/>
                  <a:pt x="1044" y="996"/>
                  <a:pt x="1044" y="996"/>
                </a:cubicBezTo>
                <a:cubicBezTo>
                  <a:pt x="1048" y="1040"/>
                  <a:pt x="1043" y="1086"/>
                  <a:pt x="1056" y="1128"/>
                </a:cubicBezTo>
                <a:cubicBezTo>
                  <a:pt x="1060" y="1142"/>
                  <a:pt x="1086" y="1139"/>
                  <a:pt x="1092" y="1152"/>
                </a:cubicBezTo>
                <a:cubicBezTo>
                  <a:pt x="1093" y="1154"/>
                  <a:pt x="1103" y="1244"/>
                  <a:pt x="1116" y="1260"/>
                </a:cubicBezTo>
                <a:cubicBezTo>
                  <a:pt x="1146" y="1297"/>
                  <a:pt x="1219" y="1300"/>
                  <a:pt x="1260" y="1308"/>
                </a:cubicBezTo>
                <a:cubicBezTo>
                  <a:pt x="1287" y="1402"/>
                  <a:pt x="1274" y="1433"/>
                  <a:pt x="1368" y="1464"/>
                </a:cubicBezTo>
                <a:cubicBezTo>
                  <a:pt x="1410" y="1506"/>
                  <a:pt x="1404" y="1528"/>
                  <a:pt x="1452" y="1560"/>
                </a:cubicBezTo>
                <a:cubicBezTo>
                  <a:pt x="1495" y="1688"/>
                  <a:pt x="1884" y="1733"/>
                  <a:pt x="1884" y="1572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6248520"/>
            <a:ext cx="7925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-419040" y="-571680"/>
            <a:ext cx="8381880" cy="84585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228600" y="623556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VNI-Helve-Condense"/>
              </a:rPr>
              <a:t>LÖÔÏC ÑOÀ TAÂY SÔN KHÔÛI NGHÓA CHOÁNG CAÙC THEÁ LÖÏC PHONG KIEÁN VAØ CHOÁNG QUAÂN XAÂM LÖÔÏC NÖÔÙC NGOAØ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352680" y="367200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VNI-Helve-Condense"/>
              </a:rPr>
              <a:t>QUY NHÔ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14600" y="2914560"/>
            <a:ext cx="152280" cy="76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324480" y="247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VNI-Helve-Condense"/>
              </a:rPr>
              <a:t>   </a:t>
            </a:r>
            <a:r>
              <a:rPr b="1" lang="en-US" sz="2000" spc="-1" strike="noStrike">
                <a:solidFill>
                  <a:srgbClr val="3333ff"/>
                </a:solidFill>
                <a:latin typeface="VNI-Helve-Condense"/>
              </a:rPr>
              <a:t>Nôi kieåm soaùt cuûa ba anh em Taây Sô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743200" y="26668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VNI-Helve-Condense"/>
              </a:rPr>
              <a:t>PHUÙ XUAÂ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886200"/>
            <a:ext cx="152640" cy="76320"/>
          </a:xfrm>
          <a:prstGeom prst="ellipse">
            <a:avLst/>
          </a:prstGeom>
          <a:solidFill>
            <a:srgbClr val="f91798"/>
          </a:solidFill>
          <a:ln w="12600">
            <a:solidFill>
              <a:srgbClr val="f917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76520" y="8827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VNI-Helve-Condense"/>
              </a:rPr>
              <a:t>THAÊNG LO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676520" y="1187280"/>
            <a:ext cx="228600" cy="152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09680" y="5016600"/>
            <a:ext cx="15264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05120" y="47242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VNI-Helve-Condense"/>
              </a:rPr>
              <a:t>GIA ÑÒN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50960" y="5089680"/>
            <a:ext cx="76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NI-Helve-Condense"/>
              </a:rPr>
              <a:t>177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019920" y="1143000"/>
            <a:ext cx="457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413400" y="914400"/>
            <a:ext cx="236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VNI-Helve-Condense"/>
              </a:rPr>
              <a:t>Quaân Taây Sôn ñaùnh  vaøo Gia Ñòn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895480" y="3708360"/>
            <a:ext cx="636840" cy="673200"/>
          </a:xfrm>
          <a:custGeom>
            <a:avLst/>
            <a:gdLst/>
            <a:ahLst/>
            <a:rect l="l" t="t" r="r" b="b"/>
            <a:pathLst>
              <a:path w="401" h="424">
                <a:moveTo>
                  <a:pt x="312" y="4"/>
                </a:moveTo>
                <a:cubicBezTo>
                  <a:pt x="228" y="13"/>
                  <a:pt x="165" y="18"/>
                  <a:pt x="96" y="64"/>
                </a:cubicBezTo>
                <a:cubicBezTo>
                  <a:pt x="67" y="150"/>
                  <a:pt x="111" y="52"/>
                  <a:pt x="36" y="112"/>
                </a:cubicBezTo>
                <a:cubicBezTo>
                  <a:pt x="26" y="120"/>
                  <a:pt x="30" y="137"/>
                  <a:pt x="24" y="148"/>
                </a:cubicBezTo>
                <a:cubicBezTo>
                  <a:pt x="18" y="161"/>
                  <a:pt x="8" y="172"/>
                  <a:pt x="0" y="184"/>
                </a:cubicBezTo>
                <a:cubicBezTo>
                  <a:pt x="18" y="255"/>
                  <a:pt x="26" y="251"/>
                  <a:pt x="96" y="268"/>
                </a:cubicBezTo>
                <a:cubicBezTo>
                  <a:pt x="109" y="383"/>
                  <a:pt x="84" y="402"/>
                  <a:pt x="192" y="424"/>
                </a:cubicBezTo>
                <a:cubicBezTo>
                  <a:pt x="220" y="420"/>
                  <a:pt x="248" y="418"/>
                  <a:pt x="276" y="412"/>
                </a:cubicBezTo>
                <a:cubicBezTo>
                  <a:pt x="288" y="410"/>
                  <a:pt x="299" y="399"/>
                  <a:pt x="312" y="400"/>
                </a:cubicBezTo>
                <a:cubicBezTo>
                  <a:pt x="337" y="403"/>
                  <a:pt x="384" y="424"/>
                  <a:pt x="384" y="424"/>
                </a:cubicBezTo>
                <a:cubicBezTo>
                  <a:pt x="401" y="374"/>
                  <a:pt x="389" y="359"/>
                  <a:pt x="360" y="316"/>
                </a:cubicBezTo>
                <a:cubicBezTo>
                  <a:pt x="395" y="210"/>
                  <a:pt x="394" y="276"/>
                  <a:pt x="360" y="208"/>
                </a:cubicBezTo>
                <a:cubicBezTo>
                  <a:pt x="354" y="197"/>
                  <a:pt x="352" y="184"/>
                  <a:pt x="348" y="172"/>
                </a:cubicBezTo>
                <a:cubicBezTo>
                  <a:pt x="352" y="160"/>
                  <a:pt x="361" y="149"/>
                  <a:pt x="360" y="136"/>
                </a:cubicBezTo>
                <a:cubicBezTo>
                  <a:pt x="357" y="111"/>
                  <a:pt x="344" y="88"/>
                  <a:pt x="336" y="64"/>
                </a:cubicBezTo>
                <a:cubicBezTo>
                  <a:pt x="330" y="45"/>
                  <a:pt x="332" y="23"/>
                  <a:pt x="324" y="4"/>
                </a:cubicBezTo>
                <a:cubicBezTo>
                  <a:pt x="323" y="0"/>
                  <a:pt x="316" y="4"/>
                  <a:pt x="312" y="4"/>
                </a:cubicBezTo>
                <a:close/>
              </a:path>
            </a:pathLst>
          </a:custGeom>
          <a:solidFill>
            <a:srgbClr val="f9a3e9"/>
          </a:solidFill>
          <a:ln w="12600">
            <a:solidFill>
              <a:srgbClr val="f9a3e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3276360" y="4038480"/>
            <a:ext cx="152280" cy="457200"/>
          </a:xfrm>
          <a:prstGeom prst="line">
            <a:avLst/>
          </a:prstGeom>
          <a:ln w="57240">
            <a:solidFill>
              <a:srgbClr val="f9179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2463840" y="2946240"/>
            <a:ext cx="2310840" cy="2301480"/>
            <a:chOff x="2463840" y="2946240"/>
            <a:chExt cx="2310840" cy="2301480"/>
          </a:xfrm>
        </p:grpSpPr>
        <p:sp>
          <p:nvSpPr>
            <p:cNvPr id="257" name=""/>
            <p:cNvSpPr/>
            <p:nvPr/>
          </p:nvSpPr>
          <p:spPr>
            <a:xfrm>
              <a:off x="2463840" y="3072960"/>
              <a:ext cx="1142640" cy="1865520"/>
            </a:xfrm>
            <a:custGeom>
              <a:avLst/>
              <a:gdLst/>
              <a:ahLst/>
              <a:rect l="l" t="t" r="r" b="b"/>
              <a:pathLst>
                <a:path w="720" h="1175">
                  <a:moveTo>
                    <a:pt x="376" y="51"/>
                  </a:moveTo>
                  <a:cubicBezTo>
                    <a:pt x="303" y="27"/>
                    <a:pt x="409" y="53"/>
                    <a:pt x="336" y="75"/>
                  </a:cubicBezTo>
                  <a:cubicBezTo>
                    <a:pt x="315" y="81"/>
                    <a:pt x="293" y="70"/>
                    <a:pt x="272" y="67"/>
                  </a:cubicBezTo>
                  <a:cubicBezTo>
                    <a:pt x="233" y="41"/>
                    <a:pt x="218" y="56"/>
                    <a:pt x="176" y="67"/>
                  </a:cubicBezTo>
                  <a:cubicBezTo>
                    <a:pt x="147" y="48"/>
                    <a:pt x="137" y="40"/>
                    <a:pt x="104" y="51"/>
                  </a:cubicBezTo>
                  <a:cubicBezTo>
                    <a:pt x="60" y="118"/>
                    <a:pt x="124" y="29"/>
                    <a:pt x="96" y="11"/>
                  </a:cubicBezTo>
                  <a:cubicBezTo>
                    <a:pt x="80" y="0"/>
                    <a:pt x="78" y="46"/>
                    <a:pt x="64" y="59"/>
                  </a:cubicBezTo>
                  <a:cubicBezTo>
                    <a:pt x="56" y="66"/>
                    <a:pt x="43" y="64"/>
                    <a:pt x="32" y="67"/>
                  </a:cubicBezTo>
                  <a:cubicBezTo>
                    <a:pt x="10" y="134"/>
                    <a:pt x="36" y="56"/>
                    <a:pt x="32" y="59"/>
                  </a:cubicBezTo>
                  <a:cubicBezTo>
                    <a:pt x="16" y="70"/>
                    <a:pt x="0" y="107"/>
                    <a:pt x="0" y="107"/>
                  </a:cubicBezTo>
                  <a:cubicBezTo>
                    <a:pt x="15" y="117"/>
                    <a:pt x="35" y="118"/>
                    <a:pt x="48" y="131"/>
                  </a:cubicBezTo>
                  <a:cubicBezTo>
                    <a:pt x="54" y="137"/>
                    <a:pt x="51" y="148"/>
                    <a:pt x="56" y="155"/>
                  </a:cubicBezTo>
                  <a:cubicBezTo>
                    <a:pt x="62" y="163"/>
                    <a:pt x="73" y="164"/>
                    <a:pt x="80" y="171"/>
                  </a:cubicBezTo>
                  <a:cubicBezTo>
                    <a:pt x="140" y="231"/>
                    <a:pt x="71" y="181"/>
                    <a:pt x="128" y="219"/>
                  </a:cubicBezTo>
                  <a:cubicBezTo>
                    <a:pt x="139" y="252"/>
                    <a:pt x="131" y="262"/>
                    <a:pt x="112" y="291"/>
                  </a:cubicBezTo>
                  <a:cubicBezTo>
                    <a:pt x="117" y="307"/>
                    <a:pt x="136" y="324"/>
                    <a:pt x="128" y="339"/>
                  </a:cubicBezTo>
                  <a:cubicBezTo>
                    <a:pt x="109" y="377"/>
                    <a:pt x="104" y="411"/>
                    <a:pt x="88" y="451"/>
                  </a:cubicBezTo>
                  <a:cubicBezTo>
                    <a:pt x="80" y="471"/>
                    <a:pt x="66" y="488"/>
                    <a:pt x="56" y="507"/>
                  </a:cubicBezTo>
                  <a:cubicBezTo>
                    <a:pt x="76" y="567"/>
                    <a:pt x="47" y="495"/>
                    <a:pt x="88" y="547"/>
                  </a:cubicBezTo>
                  <a:cubicBezTo>
                    <a:pt x="93" y="554"/>
                    <a:pt x="92" y="564"/>
                    <a:pt x="96" y="571"/>
                  </a:cubicBezTo>
                  <a:cubicBezTo>
                    <a:pt x="116" y="607"/>
                    <a:pt x="139" y="629"/>
                    <a:pt x="152" y="667"/>
                  </a:cubicBezTo>
                  <a:cubicBezTo>
                    <a:pt x="129" y="724"/>
                    <a:pt x="114" y="737"/>
                    <a:pt x="128" y="803"/>
                  </a:cubicBezTo>
                  <a:cubicBezTo>
                    <a:pt x="133" y="828"/>
                    <a:pt x="144" y="851"/>
                    <a:pt x="152" y="875"/>
                  </a:cubicBezTo>
                  <a:cubicBezTo>
                    <a:pt x="155" y="883"/>
                    <a:pt x="160" y="899"/>
                    <a:pt x="160" y="899"/>
                  </a:cubicBezTo>
                  <a:cubicBezTo>
                    <a:pt x="149" y="902"/>
                    <a:pt x="136" y="900"/>
                    <a:pt x="128" y="907"/>
                  </a:cubicBezTo>
                  <a:cubicBezTo>
                    <a:pt x="114" y="920"/>
                    <a:pt x="96" y="955"/>
                    <a:pt x="96" y="955"/>
                  </a:cubicBezTo>
                  <a:cubicBezTo>
                    <a:pt x="99" y="963"/>
                    <a:pt x="97" y="974"/>
                    <a:pt x="104" y="979"/>
                  </a:cubicBezTo>
                  <a:cubicBezTo>
                    <a:pt x="140" y="1003"/>
                    <a:pt x="189" y="991"/>
                    <a:pt x="232" y="995"/>
                  </a:cubicBezTo>
                  <a:cubicBezTo>
                    <a:pt x="232" y="995"/>
                    <a:pt x="284" y="1007"/>
                    <a:pt x="288" y="1011"/>
                  </a:cubicBezTo>
                  <a:cubicBezTo>
                    <a:pt x="299" y="1022"/>
                    <a:pt x="291" y="1053"/>
                    <a:pt x="312" y="1059"/>
                  </a:cubicBezTo>
                  <a:cubicBezTo>
                    <a:pt x="361" y="1073"/>
                    <a:pt x="414" y="1068"/>
                    <a:pt x="464" y="1075"/>
                  </a:cubicBezTo>
                  <a:cubicBezTo>
                    <a:pt x="493" y="1094"/>
                    <a:pt x="491" y="1112"/>
                    <a:pt x="520" y="1131"/>
                  </a:cubicBezTo>
                  <a:cubicBezTo>
                    <a:pt x="529" y="1159"/>
                    <a:pt x="527" y="1175"/>
                    <a:pt x="576" y="1163"/>
                  </a:cubicBezTo>
                  <a:cubicBezTo>
                    <a:pt x="593" y="1159"/>
                    <a:pt x="592" y="1125"/>
                    <a:pt x="600" y="1115"/>
                  </a:cubicBezTo>
                  <a:cubicBezTo>
                    <a:pt x="608" y="1106"/>
                    <a:pt x="648" y="1087"/>
                    <a:pt x="656" y="1083"/>
                  </a:cubicBezTo>
                  <a:cubicBezTo>
                    <a:pt x="684" y="1027"/>
                    <a:pt x="679" y="1001"/>
                    <a:pt x="664" y="939"/>
                  </a:cubicBezTo>
                  <a:cubicBezTo>
                    <a:pt x="677" y="886"/>
                    <a:pt x="696" y="850"/>
                    <a:pt x="720" y="803"/>
                  </a:cubicBezTo>
                  <a:cubicBezTo>
                    <a:pt x="686" y="792"/>
                    <a:pt x="683" y="768"/>
                    <a:pt x="664" y="739"/>
                  </a:cubicBezTo>
                  <a:cubicBezTo>
                    <a:pt x="683" y="683"/>
                    <a:pt x="667" y="742"/>
                    <a:pt x="656" y="635"/>
                  </a:cubicBezTo>
                  <a:cubicBezTo>
                    <a:pt x="641" y="500"/>
                    <a:pt x="661" y="482"/>
                    <a:pt x="592" y="379"/>
                  </a:cubicBezTo>
                  <a:cubicBezTo>
                    <a:pt x="595" y="358"/>
                    <a:pt x="602" y="336"/>
                    <a:pt x="600" y="315"/>
                  </a:cubicBezTo>
                  <a:cubicBezTo>
                    <a:pt x="599" y="303"/>
                    <a:pt x="596" y="286"/>
                    <a:pt x="584" y="283"/>
                  </a:cubicBezTo>
                  <a:cubicBezTo>
                    <a:pt x="568" y="279"/>
                    <a:pt x="536" y="299"/>
                    <a:pt x="536" y="299"/>
                  </a:cubicBezTo>
                  <a:cubicBezTo>
                    <a:pt x="531" y="291"/>
                    <a:pt x="521" y="285"/>
                    <a:pt x="520" y="275"/>
                  </a:cubicBezTo>
                  <a:cubicBezTo>
                    <a:pt x="514" y="235"/>
                    <a:pt x="555" y="246"/>
                    <a:pt x="512" y="203"/>
                  </a:cubicBezTo>
                  <a:cubicBezTo>
                    <a:pt x="502" y="193"/>
                    <a:pt x="485" y="192"/>
                    <a:pt x="472" y="187"/>
                  </a:cubicBezTo>
                  <a:cubicBezTo>
                    <a:pt x="467" y="179"/>
                    <a:pt x="463" y="170"/>
                    <a:pt x="456" y="163"/>
                  </a:cubicBezTo>
                  <a:cubicBezTo>
                    <a:pt x="449" y="156"/>
                    <a:pt x="438" y="154"/>
                    <a:pt x="432" y="147"/>
                  </a:cubicBezTo>
                  <a:cubicBezTo>
                    <a:pt x="386" y="92"/>
                    <a:pt x="451" y="133"/>
                    <a:pt x="384" y="99"/>
                  </a:cubicBezTo>
                  <a:cubicBezTo>
                    <a:pt x="367" y="29"/>
                    <a:pt x="358" y="15"/>
                    <a:pt x="376" y="51"/>
                  </a:cubicBezTo>
                  <a:close/>
                </a:path>
              </a:pathLst>
            </a:custGeom>
            <a:solidFill>
              <a:srgbClr val="f789e2"/>
            </a:solidFill>
            <a:ln w="12600">
              <a:solidFill>
                <a:srgbClr val="00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869920" y="2946240"/>
              <a:ext cx="1523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ff"/>
                  </a:solidFill>
                  <a:latin typeface="VNI-Helve-Condense"/>
                </a:rPr>
                <a:t>QUAÛNG NA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251160" y="4667040"/>
              <a:ext cx="1523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ff"/>
                  </a:solidFill>
                  <a:latin typeface="VNI-Helve-Condense"/>
                </a:rPr>
                <a:t>BÌNH THUAÄ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6172200" y="266760"/>
            <a:ext cx="439560" cy="342720"/>
          </a:xfrm>
          <a:custGeom>
            <a:avLst/>
            <a:gdLst/>
            <a:ahLst/>
            <a:rect l="l" t="t" r="r" b="b"/>
            <a:pathLst>
              <a:path w="277" h="216">
                <a:moveTo>
                  <a:pt x="97" y="32"/>
                </a:moveTo>
                <a:cubicBezTo>
                  <a:pt x="77" y="36"/>
                  <a:pt x="55" y="34"/>
                  <a:pt x="37" y="44"/>
                </a:cubicBezTo>
                <a:cubicBezTo>
                  <a:pt x="15" y="56"/>
                  <a:pt x="0" y="96"/>
                  <a:pt x="25" y="116"/>
                </a:cubicBezTo>
                <a:cubicBezTo>
                  <a:pt x="54" y="139"/>
                  <a:pt x="97" y="133"/>
                  <a:pt x="133" y="140"/>
                </a:cubicBezTo>
                <a:cubicBezTo>
                  <a:pt x="129" y="156"/>
                  <a:pt x="115" y="173"/>
                  <a:pt x="121" y="188"/>
                </a:cubicBezTo>
                <a:cubicBezTo>
                  <a:pt x="132" y="216"/>
                  <a:pt x="182" y="192"/>
                  <a:pt x="193" y="188"/>
                </a:cubicBezTo>
                <a:cubicBezTo>
                  <a:pt x="197" y="164"/>
                  <a:pt x="194" y="138"/>
                  <a:pt x="205" y="116"/>
                </a:cubicBezTo>
                <a:cubicBezTo>
                  <a:pt x="229" y="68"/>
                  <a:pt x="277" y="116"/>
                  <a:pt x="205" y="68"/>
                </a:cubicBezTo>
                <a:cubicBezTo>
                  <a:pt x="182" y="0"/>
                  <a:pt x="162" y="19"/>
                  <a:pt x="97" y="32"/>
                </a:cubicBezTo>
                <a:close/>
              </a:path>
            </a:pathLst>
          </a:custGeom>
          <a:solidFill>
            <a:srgbClr val="f789e2"/>
          </a:solidFill>
          <a:ln w="12600">
            <a:solidFill>
              <a:srgbClr val="f88c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 rot="3487200">
            <a:off x="2602080" y="4530960"/>
            <a:ext cx="187560" cy="709200"/>
          </a:xfrm>
          <a:custGeom>
            <a:avLst/>
            <a:gdLst/>
            <a:ahLst/>
            <a:rect l="l" t="t" r="r" b="b"/>
            <a:pathLst>
              <a:path w="240" h="1440">
                <a:moveTo>
                  <a:pt x="0" y="288"/>
                </a:moveTo>
                <a:lnTo>
                  <a:pt x="96" y="0"/>
                </a:lnTo>
                <a:lnTo>
                  <a:pt x="192" y="288"/>
                </a:lnTo>
                <a:lnTo>
                  <a:pt x="144" y="240"/>
                </a:lnTo>
                <a:lnTo>
                  <a:pt x="240" y="1440"/>
                </a:lnTo>
                <a:lnTo>
                  <a:pt x="48" y="1344"/>
                </a:lnTo>
                <a:lnTo>
                  <a:pt x="72" y="234"/>
                </a:lnTo>
                <a:lnTo>
                  <a:pt x="0" y="288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65360" y="441972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.VnAvant"/>
              </a:rPr>
              <a:t>1776-178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0" y="228600"/>
            <a:ext cx="9144000" cy="2943720"/>
          </a:xfrm>
          <a:prstGeom prst="rect">
            <a:avLst/>
          </a:prstGeom>
          <a:solidFill>
            <a:srgbClr val="b3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71840" indent="-2571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NI-Times"/>
              </a:rPr>
              <a:t> 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VNI-Times"/>
              </a:rPr>
              <a:t>BAØI 25</a:t>
            </a:r>
            <a:r>
              <a:rPr b="1" lang="en-US" sz="3200" spc="-1" strike="noStrike">
                <a:solidFill>
                  <a:srgbClr val="ff0000"/>
                </a:solidFill>
                <a:latin typeface="VNI-Times"/>
              </a:rPr>
              <a:t>:             PHONG TRAØO TAÂY SÔN </a:t>
            </a:r>
            <a:r>
              <a:rPr b="1" i="1" lang="en-US" sz="2400" spc="-1" strike="noStrike">
                <a:solidFill>
                  <a:srgbClr val="ff0000"/>
                </a:solidFill>
                <a:latin typeface=".VnTime"/>
              </a:rPr>
              <a:t>(TiÕ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71840" indent="-2571840"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VNI-Helve-Condense"/>
              </a:rPr>
              <a:t>  </a:t>
            </a:r>
            <a:r>
              <a:rPr b="1" lang="en-US" sz="2600" spc="-1" strike="noStrike" u="sng">
                <a:solidFill>
                  <a:srgbClr val="f907ba"/>
                </a:solidFill>
                <a:uFillTx/>
                <a:latin typeface=".VnTimeH"/>
              </a:rPr>
              <a:t>TIÕT 52:</a:t>
            </a:r>
            <a:r>
              <a:rPr b="1" lang="en-US" sz="2600" spc="-1" strike="noStrike">
                <a:solidFill>
                  <a:srgbClr val="f907ba"/>
                </a:solidFill>
                <a:latin typeface="VNI-Helve-Condense"/>
              </a:rPr>
              <a:t>       </a:t>
            </a:r>
            <a:r>
              <a:rPr b="1" lang="en-US" sz="2600" spc="-1" strike="noStrike">
                <a:solidFill>
                  <a:srgbClr val="f907ba"/>
                </a:solidFill>
                <a:latin typeface=".VnUniverse"/>
              </a:rPr>
              <a:t>II.</a:t>
            </a:r>
            <a:r>
              <a:rPr b="1" lang="en-US" sz="2600" spc="-1" strike="noStrike">
                <a:solidFill>
                  <a:srgbClr val="f907ba"/>
                </a:solidFill>
                <a:latin typeface="VNI-Helve-Condense"/>
              </a:rPr>
              <a:t> </a:t>
            </a:r>
            <a:r>
              <a:rPr b="1" lang="en-US" sz="2600" spc="-1" strike="noStrike">
                <a:solidFill>
                  <a:srgbClr val="f907ba"/>
                </a:solidFill>
                <a:latin typeface="VNI-Univer"/>
              </a:rPr>
              <a:t>TAÂY SÔN LAÄT ÑOÅ CHÍNH QUYEÀN HOÏ NGUYEÃN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571840" indent="-2571840"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907ba"/>
                </a:solidFill>
                <a:latin typeface="VNI-Univer"/>
              </a:rPr>
              <a:t>                                        </a:t>
            </a:r>
            <a:r>
              <a:rPr b="1" lang="en-US" sz="2600" spc="-1" strike="noStrike">
                <a:solidFill>
                  <a:srgbClr val="f907ba"/>
                </a:solidFill>
                <a:latin typeface="VNI-Univer"/>
              </a:rPr>
              <a:t>VAØ ÑAÙNH TAN QUAÂN XAÂM LÖÔÏC XIEÂM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213372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.VnAvant"/>
              </a:rPr>
              <a:t>1</a:t>
            </a:r>
            <a:r>
              <a:rPr b="1" lang="en-US" sz="2000" spc="-1" strike="noStrike">
                <a:solidFill>
                  <a:srgbClr val="3333ff"/>
                </a:solidFill>
                <a:latin typeface="VNI-Helve-Condense"/>
              </a:rPr>
              <a:t>. </a:t>
            </a:r>
            <a:r>
              <a:rPr b="1" lang="en-US" sz="2000" spc="-1" strike="noStrike">
                <a:solidFill>
                  <a:srgbClr val="3333ff"/>
                </a:solidFill>
                <a:latin typeface=".VnAvant"/>
              </a:rPr>
              <a:t>LËt ®æ chÝnh quyÒn hä NguyÔ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2590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.VnAvant"/>
              </a:rPr>
              <a:t>- Th¸ng 09- 1773 h¹ ®­îc thµnh Qui Nh¬n.</a:t>
            </a:r>
            <a:r>
              <a:rPr b="1" lang="en-US" sz="2400" spc="-1" strike="noStrike">
                <a:solidFill>
                  <a:srgbClr val="3333ff"/>
                </a:solidFill>
                <a:latin typeface="VNI-Helve-Condense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-50760" y="3048120"/>
            <a:ext cx="88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.VnAvant"/>
              </a:rPr>
              <a:t>- N¨m 1774, më réng vïng kiÓm so¸t tõ Qu¶ng Nam ®Õn B×nh ThuË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20560" y="33526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VNI-Helve-Condense"/>
              </a:rPr>
              <a:t>- </a:t>
            </a:r>
            <a:r>
              <a:rPr b="1" lang="en-US" sz="1800" spc="-1" strike="noStrike">
                <a:solidFill>
                  <a:srgbClr val="3333ff"/>
                </a:solidFill>
                <a:latin typeface=".VnAvant"/>
              </a:rPr>
              <a:t>T¹m hßa ho·n víi qu©n TrÞnh ®Ó ®¸nh NguyÔn</a:t>
            </a:r>
            <a:r>
              <a:rPr b="1" lang="en-US" sz="2400" spc="-1" strike="noStrike">
                <a:solidFill>
                  <a:srgbClr val="3333ff"/>
                </a:solidFill>
                <a:latin typeface="VNI-Helve-Condense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52280" y="3809880"/>
            <a:ext cx="58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.VnAvant"/>
              </a:rPr>
              <a:t> </a:t>
            </a:r>
            <a:r>
              <a:rPr b="1" lang="en-US" sz="1800" spc="-1" strike="noStrike">
                <a:solidFill>
                  <a:srgbClr val="3333ff"/>
                </a:solidFill>
                <a:latin typeface=".VnAvant"/>
              </a:rPr>
              <a:t>- N¨m 1777, chÝnh quyÒn hä NguyÔn bÞ lËt ®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76320"/>
            <a:ext cx="9144000" cy="2697840"/>
          </a:xfrm>
          <a:prstGeom prst="rect">
            <a:avLst/>
          </a:prstGeom>
          <a:solidFill>
            <a:srgbClr val="b3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71840" indent="-2571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NI-Times"/>
              </a:rPr>
              <a:t> 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VNI-Times"/>
              </a:rPr>
              <a:t>BAØI 25</a:t>
            </a:r>
            <a:r>
              <a:rPr b="1" lang="en-US" sz="3200" spc="-1" strike="noStrike">
                <a:solidFill>
                  <a:srgbClr val="ff0000"/>
                </a:solidFill>
                <a:latin typeface="VNI-Times"/>
              </a:rPr>
              <a:t>:             PHONG TRAØO TAÂY SÔN </a:t>
            </a:r>
            <a:r>
              <a:rPr b="1" i="1" lang="en-US" sz="2400" spc="-1" strike="noStrike">
                <a:solidFill>
                  <a:srgbClr val="ff0000"/>
                </a:solidFill>
                <a:latin typeface=".VnTime"/>
              </a:rPr>
              <a:t>(TiÕ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71840" indent="-25718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VNI-Times"/>
              </a:rPr>
              <a:t>       </a:t>
            </a:r>
            <a:r>
              <a:rPr b="1" lang="en-US" sz="2200" spc="-1" strike="noStrike" u="sng">
                <a:solidFill>
                  <a:srgbClr val="f907ba"/>
                </a:solidFill>
                <a:uFillTx/>
                <a:latin typeface="VNI-Times"/>
              </a:rPr>
              <a:t>TIEÁT 52:</a:t>
            </a:r>
            <a:r>
              <a:rPr b="1" lang="en-US" sz="2600" spc="-1" strike="noStrike">
                <a:solidFill>
                  <a:srgbClr val="f907ba"/>
                </a:solidFill>
                <a:latin typeface="VNI-Times"/>
              </a:rPr>
              <a:t>                     </a:t>
            </a:r>
            <a:r>
              <a:rPr b="1" lang="en-US" sz="2200" spc="-1" strike="noStrike">
                <a:solidFill>
                  <a:srgbClr val="f907ba"/>
                </a:solidFill>
                <a:latin typeface="VNI-Univer"/>
              </a:rPr>
              <a:t>II.</a:t>
            </a:r>
            <a:r>
              <a:rPr b="1" lang="en-US" sz="2600" spc="-1" strike="noStrike">
                <a:solidFill>
                  <a:srgbClr val="f907ba"/>
                </a:solidFill>
                <a:latin typeface="VNI-Times"/>
              </a:rPr>
              <a:t> </a:t>
            </a:r>
            <a:r>
              <a:rPr b="1" lang="en-US" sz="2200" spc="-1" strike="noStrike">
                <a:solidFill>
                  <a:srgbClr val="f907ba"/>
                </a:solidFill>
                <a:latin typeface="VNI-Univer"/>
              </a:rPr>
              <a:t>TAÂY SÔN LAÄT ÑOÅ CHÍNH QUYEÀN HOÏ NGUYEÃN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571840" indent="-25718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907ba"/>
                </a:solidFill>
                <a:latin typeface="VNI-Univer"/>
              </a:rPr>
              <a:t>                                                                     </a:t>
            </a:r>
            <a:r>
              <a:rPr b="1" lang="en-US" sz="2200" spc="-1" strike="noStrike">
                <a:solidFill>
                  <a:srgbClr val="f907ba"/>
                </a:solidFill>
                <a:latin typeface="VNI-Univer"/>
              </a:rPr>
              <a:t>VAØ ÑAÙNH TAN QUAÂN XAÂM LÖÔÏC XIEÂM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8600" y="203976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.VnAvant"/>
              </a:rPr>
              <a:t>1. LËt ®æ chÝnh quyÒn hä NguyÔ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-165240" y="25909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.VnAvant"/>
              </a:rPr>
              <a:t>2. ChiÕn th¾ng R¹ch GÇm – Xoµi Mó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-762120" y="3048120"/>
            <a:ext cx="41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.VnAvant"/>
              </a:rPr>
              <a:t>a. Nguyªn nh©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6000" y="335268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.VnAvant"/>
              </a:rPr>
              <a:t>Do NguyÔn </a:t>
            </a:r>
            <a:r>
              <a:rPr b="1" lang="en-US" sz="2000" spc="-1" strike="noStrike">
                <a:solidFill>
                  <a:srgbClr val="3333ff"/>
                </a:solidFill>
                <a:latin typeface=".VnAvantH"/>
              </a:rPr>
              <a:t>¸</a:t>
            </a:r>
            <a:r>
              <a:rPr b="1" lang="en-US" sz="2000" spc="-1" strike="noStrike">
                <a:solidFill>
                  <a:srgbClr val="3333ff"/>
                </a:solidFill>
                <a:latin typeface=".VnAvant"/>
              </a:rPr>
              <a:t>nh cÇu cøu vua Xiª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-990720" y="3794040"/>
            <a:ext cx="41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.VnAvant"/>
              </a:rPr>
              <a:t>b. DiÔn biÕ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5T13:17:30Z</dcterms:created>
  <dc:creator>quang</dc:creator>
  <dc:description/>
  <dc:language>en-US</dc:language>
  <cp:lastModifiedBy>User</cp:lastModifiedBy>
  <dcterms:modified xsi:type="dcterms:W3CDTF">2012-03-10T15:10:00Z</dcterms:modified>
  <cp:revision>325</cp:revision>
  <dc:subject/>
  <dc:title>PowerPoint Presentation</dc:title>
</cp:coreProperties>
</file>