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11.wmf" ContentType="image/x-wmf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67CA-7A11-47DD-AB18-F55428BF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4CA8-F4C0-4C64-AA96-45780CC5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C8EC-A4AD-4CBB-B93F-20ADAD66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DE5CD-8733-446A-9530-0760F88C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53D9-30C4-4ACD-B619-008B63DC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4AEF-1D7B-4952-B507-218FDACB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7687-2059-416B-B5D7-C9A46E49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A562-D41A-40B1-AF7D-AF843887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2BDA-146E-437B-BCE8-4D95D870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B1B1-ED3C-4735-B476-80E7CF6A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61C4-B763-494C-8C39-739BB020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020E-49CE-462E-85F8-8A2B7691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FC39-5C3D-4A1A-BEA7-AD18E20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F914-5D36-4871-BD1E-797612EC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43C8-A3DE-491F-9B6F-22FBAF54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5D30-BFAD-4AD8-BA9D-373A38D2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F99F-3F6D-4736-8C83-7E59633A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F47D-1736-4D51-89D4-A25F58C3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AED5-524B-438F-AA50-7A914308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14A8-157C-49E5-8B79-53CE4662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D3C7-7459-4D3D-A030-03B24A57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8813-A364-47C6-B501-E04807B1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1862-C5B9-48A6-BDF9-2D9BE2DC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B376-2A56-453A-8085-CC43B3A8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FDED-3DA6-43D0-93A3-5B57482B50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FC32-A65C-455F-8308-5F9BAC757E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5238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ài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133720"/>
            <a:ext cx="746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THÔNG TIN VÀ BIỂU DIỄN THÔNG TIN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5000"/>
            <a:ext cx="8382240" cy="536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121932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ác dạng thông tin cơ bả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048120"/>
            <a:ext cx="342900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Hình ả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191120"/>
            <a:ext cx="342900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Âm tha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562720"/>
            <a:ext cx="9158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a dạng thông tin mà hiện nay các máy tính có thể tiếp nhận và xử l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95680" y="3809880"/>
            <a:ext cx="108288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533520" y="1371600"/>
            <a:ext cx="6019200" cy="1428840"/>
            <a:chOff x="533520" y="1371600"/>
            <a:chExt cx="6019200" cy="1428840"/>
          </a:xfrm>
        </p:grpSpPr>
        <p:sp>
          <p:nvSpPr>
            <p:cNvPr id="110" name=""/>
            <p:cNvSpPr/>
            <p:nvPr/>
          </p:nvSpPr>
          <p:spPr>
            <a:xfrm>
              <a:off x="533520" y="1981080"/>
              <a:ext cx="3428640" cy="520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 Văn bả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4647960" y="1371600"/>
              <a:ext cx="1904760" cy="1428840"/>
            </a:xfrm>
            <a:prstGeom prst="rect">
              <a:avLst/>
            </a:prstGeom>
            <a:ln w="9360">
              <a:solidFill>
                <a:srgbClr val="003399"/>
              </a:solidFill>
              <a:miter/>
            </a:ln>
          </p:spPr>
        </p:pic>
      </p:grp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167616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019920" y="17524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1676520"/>
            <a:ext cx="5790960" cy="3124080"/>
          </a:xfrm>
          <a:prstGeom prst="cloudCallout">
            <a:avLst>
              <a:gd name="adj1" fmla="val 67023"/>
              <a:gd name="adj2" fmla="val 26523"/>
            </a:avLst>
          </a:prstGeom>
          <a:gradFill rotWithShape="0">
            <a:gsLst>
              <a:gs pos="0">
                <a:srgbClr val="ffffcc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ểu diễn thông tin có quan trọng không? Vì sa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472000"/>
            <a:ext cx="9144000" cy="1280160"/>
          </a:xfrm>
          <a:prstGeom prst="upArrowCallout">
            <a:avLst>
              <a:gd name="adj1" fmla="val -123392"/>
              <a:gd name="adj2" fmla="val 176223"/>
              <a:gd name="adj3" fmla="val 20319"/>
              <a:gd name="adj4" fmla="val 66383"/>
            </a:avLst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iểu diễn thông tin giúp cho việc truyền, tiếp nhận và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quan trọng nhất là xử lí thông tin được dễ dàng, chính xác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158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5040" y="10666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Biểu diễn thông tin trong máy tí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0020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ông tin lưu trữ trong máy tính (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ữ liệu) phải được biểu diễn dưới dạng phù hợ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25360"/>
            <a:ext cx="83822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2666880"/>
            <a:ext cx="7543440" cy="4191120"/>
            <a:chOff x="0" y="2666880"/>
            <a:chExt cx="7543440" cy="41911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4876920"/>
              <a:ext cx="1428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365920" y="2666880"/>
              <a:ext cx="5177520" cy="2895840"/>
            </a:xfrm>
            <a:prstGeom prst="cloudCallout">
              <a:avLst>
                <a:gd name="adj1" fmla="val -69902"/>
                <a:gd name="adj2" fmla="val 5274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hông tin được biểu diễn trong máy tính như thế nào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0" y="17510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í dụ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320" y="4114800"/>
          <a:ext cx="8991360" cy="2666880"/>
        </p:xfrm>
        <a:graphic>
          <a:graphicData uri="http://schemas.openxmlformats.org/drawingml/2006/table">
            <a:tbl>
              <a:tblPr/>
              <a:tblGrid>
                <a:gridCol w="1198440"/>
                <a:gridCol w="1198440"/>
                <a:gridCol w="65944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èn 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èn 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Ý nghĩ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ậ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ậ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Được đi từ A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B và từ B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ậ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ắ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ỉ được đi từ A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ắ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ậ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ỉ được đi từ B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ắ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ắ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ấm đi lạ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5000"/>
            <a:ext cx="8382240" cy="536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-5040" y="10666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Biểu diễn thông tin trong máy tí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49000" y="1752480"/>
            <a:ext cx="6174720" cy="2159280"/>
            <a:chOff x="1449000" y="1752480"/>
            <a:chExt cx="6174720" cy="2159280"/>
          </a:xfrm>
        </p:grpSpPr>
        <p:sp>
          <p:nvSpPr>
            <p:cNvPr id="127" name=""/>
            <p:cNvSpPr/>
            <p:nvPr/>
          </p:nvSpPr>
          <p:spPr>
            <a:xfrm>
              <a:off x="1631880" y="3124080"/>
              <a:ext cx="457200" cy="381240"/>
            </a:xfrm>
            <a:prstGeom prst="flowChartSummingJunct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9000" y="350208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Đèn 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75640" y="1752480"/>
              <a:ext cx="457200" cy="381240"/>
            </a:xfrm>
            <a:prstGeom prst="flowChartSummingJunct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6800" y="213048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Đèn 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4190760" cy="215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200400"/>
            <a:ext cx="369720" cy="30960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6600" y="35067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Đèn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981080"/>
            <a:ext cx="370080" cy="30960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87480" y="2287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Đèn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6160" y="2057400"/>
            <a:ext cx="3394080" cy="1752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5040" y="10666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Biểu diễn thông tin trong máy tí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" y="1598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í dụ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320" y="4114800"/>
          <a:ext cx="8839080" cy="2666880"/>
        </p:xfrm>
        <a:graphic>
          <a:graphicData uri="http://schemas.openxmlformats.org/drawingml/2006/table">
            <a:tbl>
              <a:tblPr/>
              <a:tblGrid>
                <a:gridCol w="1198440"/>
                <a:gridCol w="1198440"/>
                <a:gridCol w="64422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èn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èn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Ý nghĩ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ật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ật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Được đi từ A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B và từ B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ậ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ắ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ỉ được đi từ A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ắ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ật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ỉ được đi từ B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ắ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ắ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ấm đi lạ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895480" y="2819520"/>
            <a:ext cx="2835360" cy="1847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Quy ước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Bật là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Tắt là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724280"/>
            <a:ext cx="6858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257800"/>
            <a:ext cx="6858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91320"/>
            <a:ext cx="6858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305400"/>
            <a:ext cx="6858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724280"/>
            <a:ext cx="60948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5257800"/>
            <a:ext cx="53352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8920" y="5791320"/>
            <a:ext cx="6858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6296040"/>
            <a:ext cx="53352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320" y="4119480"/>
          <a:ext cx="2438280" cy="26640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ểu diễ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514600" y="2209680"/>
            <a:ext cx="6095880" cy="2438640"/>
          </a:xfrm>
          <a:prstGeom prst="cloudCallout">
            <a:avLst>
              <a:gd name="adj1" fmla="val -57055"/>
              <a:gd name="adj2" fmla="val 126430"/>
            </a:avLst>
          </a:prstGeom>
          <a:gradFill rotWithShape="0">
            <a:gsLst>
              <a:gs pos="0">
                <a:srgbClr val="ffff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 ước cách biểu diễn thông tin trong máy tín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5360"/>
            <a:ext cx="83822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9827E-006 L 0.3033 -0.13433 E">
                                      <p:cBhvr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5040" y="12952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Biểu diễn thông tin trong máy tí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8288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ông tin trong máy tính được biểu diễn dưới dạng các dãy số 0 và 1, gọi là dãy b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5360"/>
            <a:ext cx="83822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 rot="340200">
            <a:off x="5486040" y="5486400"/>
            <a:ext cx="29034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0101011011001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 rot="275400">
            <a:off x="5029200" y="4800240"/>
            <a:ext cx="31240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011101011010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21166200">
            <a:off x="4876920" y="4419720"/>
            <a:ext cx="297324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010101011000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 rot="21056400">
            <a:off x="4952520" y="3962160"/>
            <a:ext cx="245448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010101001001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 rot="20575800">
            <a:off x="4876560" y="3581280"/>
            <a:ext cx="236196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110101011011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4880" y="4205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1601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0.0511 L -0.30417 0.27307 E">
                                      <p:cBhvr>
                                        <p:cTn id="147" dur="3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2 0.02752 L -0.31754 0.21619 E">
                                      <p:cBhvr>
                                        <p:cTn id="156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500"/>
                            </p:stCondLst>
                            <p:childTnLst>
                              <p:par>
                                <p:cTn id="164" nodeType="after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0.03006 L -0.3375 0.17433 E">
                                      <p:cBhvr>
                                        <p:cTn id="165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7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3" nodeType="after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2336 L -0.3625 0.12324 E">
                                      <p:cBhvr>
                                        <p:cTn id="174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6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2" nodeType="after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35 0.00115 L -0.40035 0.04555 E">
                                      <p:cBhvr>
                                        <p:cTn id="183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85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9880" y="1600200"/>
            <a:ext cx="1067040" cy="304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Ế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ĐỔ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8600" y="1752480"/>
            <a:ext cx="1557000" cy="2425680"/>
            <a:chOff x="228600" y="1752480"/>
            <a:chExt cx="1557000" cy="2425680"/>
          </a:xfrm>
        </p:grpSpPr>
        <p:graphicFrame>
          <p:nvGraphicFramePr>
            <p:cNvPr id="165" name=""/>
            <p:cNvGraphicFramePr/>
            <p:nvPr/>
          </p:nvGraphicFramePr>
          <p:xfrm>
            <a:off x="228600" y="1752480"/>
            <a:ext cx="1557000" cy="216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1557000" cy="21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"/>
            <p:cNvSpPr/>
            <p:nvPr/>
          </p:nvSpPr>
          <p:spPr>
            <a:xfrm>
              <a:off x="317880" y="3809880"/>
              <a:ext cx="136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 ngườ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086600" y="1676520"/>
            <a:ext cx="1828440" cy="2702160"/>
            <a:chOff x="7086600" y="1676520"/>
            <a:chExt cx="1828440" cy="2702160"/>
          </a:xfrm>
        </p:grpSpPr>
        <p:graphicFrame>
          <p:nvGraphicFramePr>
            <p:cNvPr id="169" name=""/>
            <p:cNvGraphicFramePr/>
            <p:nvPr/>
          </p:nvGraphicFramePr>
          <p:xfrm>
            <a:off x="7086600" y="1676520"/>
            <a:ext cx="1828440" cy="2039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86600" y="1676520"/>
                      <a:ext cx="1828440" cy="20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7643880" y="401040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áy tín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990800" y="1600200"/>
            <a:ext cx="1904760" cy="2303640"/>
            <a:chOff x="1990800" y="1600200"/>
            <a:chExt cx="1904760" cy="2303640"/>
          </a:xfrm>
        </p:grpSpPr>
        <p:sp>
          <p:nvSpPr>
            <p:cNvPr id="173" name=""/>
            <p:cNvSpPr/>
            <p:nvPr/>
          </p:nvSpPr>
          <p:spPr>
            <a:xfrm>
              <a:off x="1990800" y="1981080"/>
              <a:ext cx="1904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ông tin dạng văn bản, hình ảnh, âm than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57400" y="1600200"/>
              <a:ext cx="1676520" cy="304560"/>
            </a:xfrm>
            <a:prstGeom prst="rightArrow">
              <a:avLst>
                <a:gd name="adj1" fmla="val 50000"/>
                <a:gd name="adj2" fmla="val 1376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100480" y="1676520"/>
            <a:ext cx="1676520" cy="2166840"/>
            <a:chOff x="5100480" y="1676520"/>
            <a:chExt cx="1676520" cy="2166840"/>
          </a:xfrm>
        </p:grpSpPr>
        <p:sp>
          <p:nvSpPr>
            <p:cNvPr id="176" name=""/>
            <p:cNvSpPr/>
            <p:nvPr/>
          </p:nvSpPr>
          <p:spPr>
            <a:xfrm>
              <a:off x="5176800" y="2286360"/>
              <a:ext cx="1523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ông tin dạng bit 0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à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0480" y="1676520"/>
              <a:ext cx="1676520" cy="304920"/>
            </a:xfrm>
            <a:prstGeom prst="rightArrow">
              <a:avLst>
                <a:gd name="adj1" fmla="val 50000"/>
                <a:gd name="adj2" fmla="val 13745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29200" y="4191120"/>
            <a:ext cx="1523880" cy="304560"/>
          </a:xfrm>
          <a:prstGeom prst="leftArrow">
            <a:avLst>
              <a:gd name="adj1" fmla="val 50000"/>
              <a:gd name="adj2" fmla="val 12508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191120"/>
            <a:ext cx="1524240" cy="30456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1752480"/>
            <a:ext cx="4648320" cy="1828800"/>
          </a:xfrm>
          <a:prstGeom prst="leftRightArrow">
            <a:avLst>
              <a:gd name="adj1" fmla="val 50000"/>
              <a:gd name="adj2" fmla="val 50599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AO TIẾ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ô hình quá trình thực hiện giao tiếp giữa người và máy tí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25360"/>
            <a:ext cx="83822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55 -0.00347 L 5E-006 4.62428E-006 E">
                                      <p:cBhvr>
                                        <p:cTn id="22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4 2.83237E-006 L 3.33333E-006 2.83237E-006 E">
                                      <p:cBhvr>
                                        <p:cTn id="231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-7.51445E-007 L -3.33333E-006 -7.51445E-007 E">
                                      <p:cBhvr>
                                        <p:cTn id="237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67 9.82659E-007 L 5.55112E-017 9.82659E-007 E">
                                      <p:cBhvr>
                                        <p:cTn id="243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Arial"/>
              </a:rPr>
              <a:t>Kết thúc!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51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6:37:45Z</dcterms:created>
  <dc:creator>Ngoc Thong</dc:creator>
  <dc:description/>
  <dc:language>en-US</dc:language>
  <cp:lastModifiedBy>thuy</cp:lastModifiedBy>
  <dcterms:modified xsi:type="dcterms:W3CDTF">2007-07-03T03:11:13Z</dcterms:modified>
  <cp:revision>355</cp:revision>
  <dc:subject/>
  <dc:title>Bài 1 _ THÔNG TIN VÀ TIN HỌC</dc:title>
</cp:coreProperties>
</file>