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E92-343D-4217-A4B9-4B474CFD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B25-E9C3-4FB4-BF95-CA769D7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20D-97C5-4551-BA96-7C065D58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800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672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800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672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327-4B69-459E-BBD1-99C016BA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33EC-38AE-4364-BDDF-898E80BC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60E2-BF3F-4D1F-91B8-F4B27114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B202-BB2E-4B89-BA22-39760AFD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638-4AE1-47D5-A428-D64C2597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7BCC-6C2E-4A88-B7F8-7F49657D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3581280"/>
            <a:ext cx="88390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AC3D-3655-47C2-B14D-C03EFE1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565E-083D-4BBD-8987-F9E1BAD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BC1-72E1-4E4E-9043-58D55021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4AB-FEB3-4485-A122-A5CA4B08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6CD1-D0DA-4806-81C7-039DE2B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E54-3876-4BCC-AE04-7D885B3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A754-75D8-4803-A582-262CED0E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800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672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800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672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30AA-0B7B-4C7E-B20B-1F4BA1CF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F33-A876-4C5D-BED0-3CFEED6F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736-8240-4B33-B75B-EDA8BE1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F8B-E2DF-4714-8C1A-5D1CA0F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3581280"/>
            <a:ext cx="88390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31A-BB06-42C8-BF59-6820F6BB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424-5123-4C43-9963-6B81051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7B1-2F2A-4A04-A791-02FFB53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D8E-0F8D-47E8-BE28-67CC5EFF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97E4-4C84-4AB2-B256-1C517761F000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102-6B70-4C56-B3E3-933ECA019B79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629400" cy="4388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632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Tahoma"/>
              </a:rPr>
              <a:t>Bài 9. VÌ SAO CẦN CÓ HỆ ĐIỀU HÀ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2057400"/>
            <a:ext cx="5181480" cy="259092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 hãy quan s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ình ảnh giao thông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579132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ình trạng giao thông rất lộn xộ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ác phương tiện tham gia giao thông không tuân theo một quy luật nào, nhiều xe tranh chấp làn đường của xe khác, làm cho giao thông bị tắc nghẽ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609480"/>
            <a:ext cx="5105520" cy="2362320"/>
          </a:xfrm>
          <a:prstGeom prst="cloudCallout">
            <a:avLst>
              <a:gd name="adj1" fmla="val -36907"/>
              <a:gd name="adj2" fmla="val 52824"/>
            </a:avLst>
          </a:prstGeom>
          <a:solidFill>
            <a:srgbClr val="d3a21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 có nhận xét gì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ề tình trạng giao thông tại ngã t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ong hình ảnh nà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760" y="83808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ác quan sá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019920" cy="47908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0" y="1447920"/>
            <a:ext cx="2133360" cy="1066680"/>
            <a:chOff x="0" y="1447920"/>
            <a:chExt cx="2133360" cy="1066680"/>
          </a:xfrm>
        </p:grpSpPr>
        <p:sp>
          <p:nvSpPr>
            <p:cNvPr id="90" name=""/>
            <p:cNvSpPr/>
            <p:nvPr/>
          </p:nvSpPr>
          <p:spPr>
            <a:xfrm>
              <a:off x="0" y="1447920"/>
              <a:ext cx="2133360" cy="1066680"/>
            </a:xfrm>
            <a:prstGeom prst="wedgeRectCallout">
              <a:avLst>
                <a:gd name="adj1" fmla="val 71949"/>
                <a:gd name="adj2" fmla="val 65625"/>
              </a:avLst>
            </a:prstGeom>
            <a:solidFill>
              <a:srgbClr val="cc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1200" y="1600200"/>
              <a:ext cx="141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ệ thố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hân luồ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391520" y="228600"/>
            <a:ext cx="1752480" cy="914400"/>
            <a:chOff x="7391520" y="228600"/>
            <a:chExt cx="1752480" cy="914400"/>
          </a:xfrm>
        </p:grpSpPr>
        <p:sp>
          <p:nvSpPr>
            <p:cNvPr id="93" name=""/>
            <p:cNvSpPr/>
            <p:nvPr/>
          </p:nvSpPr>
          <p:spPr>
            <a:xfrm>
              <a:off x="7391520" y="228600"/>
              <a:ext cx="1752480" cy="914400"/>
            </a:xfrm>
            <a:prstGeom prst="wedgeRectCallout">
              <a:avLst>
                <a:gd name="adj1" fmla="val -90759"/>
                <a:gd name="adj2" fmla="val 85592"/>
              </a:avLst>
            </a:prstGeom>
            <a:solidFill>
              <a:srgbClr val="cc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18600" y="380880"/>
              <a:ext cx="14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ệ thố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đèn tín hiệ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086600" y="4419720"/>
            <a:ext cx="2057040" cy="838080"/>
            <a:chOff x="7086600" y="4419720"/>
            <a:chExt cx="2057040" cy="838080"/>
          </a:xfrm>
        </p:grpSpPr>
        <p:sp>
          <p:nvSpPr>
            <p:cNvPr id="96" name=""/>
            <p:cNvSpPr/>
            <p:nvPr/>
          </p:nvSpPr>
          <p:spPr>
            <a:xfrm>
              <a:off x="7086600" y="4419720"/>
              <a:ext cx="2057040" cy="838080"/>
            </a:xfrm>
            <a:prstGeom prst="wedgeRectCallout">
              <a:avLst>
                <a:gd name="adj1" fmla="val -99148"/>
                <a:gd name="adj2" fmla="val 22916"/>
              </a:avLst>
            </a:prstGeom>
            <a:solidFill>
              <a:srgbClr val="cc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71280" y="449568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ảnh sá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giao thô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-7632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Tahoma"/>
              </a:rPr>
              <a:t>Bài 9. VÌ SAO CẦN CÓ HỆ ĐIỀU HÀ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00200"/>
            <a:ext cx="5181840" cy="259092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 hãy quan s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ình ảnh giao thông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à cho nhận xé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523880"/>
            <a:ext cx="5181480" cy="259092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Điều gì đã khiến cho giao thô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ật tự, ổn định hơ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438280"/>
            <a:ext cx="3124440" cy="800280"/>
          </a:xfrm>
          <a:prstGeom prst="flowChartPunchedTape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ệ thống điều khi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789160"/>
            <a:ext cx="853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ao thông trật tự hơn, các phương tiện đi đúng làn đường của mìn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hông xảy ra tình trạng tắc nghẽn giao thô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48 0.03815 C -0.1217 0.03885 -0.1599 0.03376 -0.1849 0.04578 C -0.19688 0.0518 -0.22118 0.06128 -0.22118 0.06151 C -0.23143 0.06844 -0.24045 0.07237 -0.25243 0.0763 C -0.26059 0.08232 -0.27118 0.08717 -0.2757 0.09688 C -0.27795 0.10151 -0.28108 0.11191 -0.28108 0.11214 C -0.28247 0.15052 -0.2717 0.18313 -0.29931 0.20856 C -0.30348 0.22081 -0.31059 0.22752 -0.32257 0.23145 C -0.33021 0.23654 -0.33559 0.24417 -0.34323 0.24925 C -0.36476 0.26336 -0.39427 0.27746 -0.42084 0.27746 E">
                                      <p:cBhvr>
                                        <p:cTn id="9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5 -0.01549 C -0.11476 -0.02382 -0.13229 -0.04254 -0.13976 -0.05572 C -0.15347 -0.07977 -0.14288 -0.0726 -0.16059 -0.09087 C -0.16632 -0.09688 -0.17344 -0.10104 -0.17899 -0.10728 C -0.19479 -0.12462 -0.20712 -0.14613 -0.22292 -0.16347 C -0.23924 -0.18173 -0.2599 -0.20555 -0.2783 -0.22243 C -0.29271 -0.23584 -0.2875 -0.22798 -0.30139 -0.24347 C -0.31597 -0.25965 -0.32205 -0.28254 -0.34045 -0.29503 C -0.34514 -0.3022 -0.34826 -0.31006 -0.35434 -0.3163 C -0.36042 -0.31561 -0.36667 -0.31538 -0.37274 -0.31422 C -0.38003 -0.3126 -0.38802 -0.30682 -0.39583 -0.30682 E"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329E-006 C 0.00972 0.0007 0.01961 0.0007 0.02916 0.00301 C 0.03316 0.00394 0.03646 0.00787 0.04062 0.00833 C 0.09323 0.01758 0.14948 0.01989 0.20312 0.02498 C 0.25121 0.03631 0.30173 0.04139 0.35121 0.0444 C 0.35833 0.06405 0.35416 0.04995 0.35416 0.08879 E">
                                      <p:cBhvr>
                                        <p:cTn id="9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1752480"/>
            <a:ext cx="6248160" cy="381024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 hãy xé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ệ thống máy tính gồm các thiết b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ần cứng và phần mề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273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459000">
            <a:off x="6306840" y="1479240"/>
            <a:ext cx="1805040" cy="129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461400">
            <a:off x="6475320" y="2522160"/>
            <a:ext cx="1978200" cy="141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462600">
            <a:off x="6616800" y="3661920"/>
            <a:ext cx="2071440" cy="1443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1371600"/>
            <a:ext cx="1676520" cy="685800"/>
          </a:xfrm>
          <a:prstGeom prst="wedgeRectCallout">
            <a:avLst>
              <a:gd name="adj1" fmla="val 78597"/>
              <a:gd name="adj2" fmla="val 138194"/>
            </a:avLst>
          </a:prstGeom>
          <a:solidFill>
            <a:srgbClr val="ff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ác thiết bị phần cứ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1447920"/>
            <a:ext cx="1828800" cy="457200"/>
          </a:xfrm>
          <a:prstGeom prst="wedgeRectCallout">
            <a:avLst>
              <a:gd name="adj1" fmla="val -45398"/>
              <a:gd name="adj2" fmla="val 175000"/>
            </a:avLst>
          </a:prstGeom>
          <a:solidFill>
            <a:srgbClr val="ff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ác phần mề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7600" y="83808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Cái gì điều khiển máy tín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7632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Tahoma"/>
              </a:rPr>
              <a:t>Bài 9. VÌ SAO CẦN CÓ HỆ ĐIỀU HÀ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562720"/>
            <a:ext cx="7543800" cy="1143000"/>
          </a:xfrm>
          <a:prstGeom prst="upArrowCallout">
            <a:avLst>
              <a:gd name="adj1" fmla="val 165015"/>
              <a:gd name="adj2" fmla="val 165000"/>
              <a:gd name="adj3" fmla="val 16667"/>
              <a:gd name="adj4" fmla="val 66660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hi máy tính làm việc, nhiều thiết bị phần cứng và phần mề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ùng hoạt động và tham gia vào quá trình xử lí thông t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295280"/>
            <a:ext cx="6553080" cy="3810240"/>
          </a:xfrm>
          <a:prstGeom prst="cloudCallout">
            <a:avLst>
              <a:gd name="adj1" fmla="val 33527"/>
              <a:gd name="adj2" fmla="val 66166"/>
            </a:avLst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Để phần cứ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à phần mềm hoạt độ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ịp nhàng cần có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ột hệ thố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điều khiể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đó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981080"/>
            <a:ext cx="8457840" cy="3581280"/>
            <a:chOff x="457200" y="1981080"/>
            <a:chExt cx="8457840" cy="3581280"/>
          </a:xfrm>
        </p:grpSpPr>
        <p:grpSp>
          <p:nvGrpSpPr>
            <p:cNvPr id="115" name=""/>
            <p:cNvGrpSpPr/>
            <p:nvPr/>
          </p:nvGrpSpPr>
          <p:grpSpPr>
            <a:xfrm>
              <a:off x="457200" y="1981080"/>
              <a:ext cx="8457840" cy="3581280"/>
              <a:chOff x="457200" y="1981080"/>
              <a:chExt cx="8457840" cy="3581280"/>
            </a:xfrm>
          </p:grpSpPr>
          <p:sp>
            <p:nvSpPr>
              <p:cNvPr id="116" name=""/>
              <p:cNvSpPr/>
              <p:nvPr/>
            </p:nvSpPr>
            <p:spPr>
              <a:xfrm>
                <a:off x="457200" y="1981080"/>
                <a:ext cx="8457840" cy="358128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800000"/>
                  </a:gs>
                  <a:gs pos="100000">
                    <a:srgbClr val="5c1f00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92560" y="20415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042920" y="2814480"/>
              <a:ext cx="7189920" cy="20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5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Hệ điều hành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thực hiện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15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Điều khiển các thiết bị (phần cứng)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15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ổ chức thực hiện các chương trình (phần mềm)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90240" y="205740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HỆ ĐIỀU HÀN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0400" y="1523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ết thú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09960" y="2614680"/>
            <a:ext cx="177660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1:01Z</dcterms:created>
  <dc:creator>VietDB</dc:creator>
  <dc:description/>
  <dc:language>en-US</dc:language>
  <cp:lastModifiedBy>thuy</cp:lastModifiedBy>
  <dcterms:modified xsi:type="dcterms:W3CDTF">2007-05-13T01:32:09Z</dcterms:modified>
  <cp:revision>162</cp:revision>
  <dc:subject/>
  <dc:title>Slide 1</dc:title>
</cp:coreProperties>
</file>