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E27-7B14-4BC6-BBBA-3C59E1C1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092-8A23-44DC-9EE0-62D7EA4D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CEB-DC72-4845-ADBA-8CB54121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876-25E5-45C7-B39C-BF543D40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7FCB-CD9C-4C87-9487-959928BC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8D4-A904-41CB-A89E-8FE47D4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58D-509E-437B-AE61-35F0266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22E-D742-45A7-AFF3-F76E84F0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E95-2C1D-4E85-9306-13EC25B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7A2-4EC3-4679-82C3-882E10E4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32DD-5DDE-4589-BA51-BADCC27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86B-30EF-45AA-B0A0-3ED617CC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F29-F8C0-42EC-B7EA-602F986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69A-A78E-4109-BA19-D16CED1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A443-328F-4033-AB11-59B0908C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1CC-5E22-4AAF-B2BE-566D553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6116-47A3-4FDD-86BA-AD634757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CFE-D573-4812-9D06-B3B2F89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BC4-EE51-4D40-8653-BD46F370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086-744B-4F7A-B8CA-F0304FC0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37E-00A8-4F22-B2EA-AC56327C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85-8DC0-4E85-BAA0-596DD18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121-18C0-496A-9EE3-6A0ACE9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EC8-F9D2-42CE-AAA1-381E7E9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EB78-89C0-4F37-A9E1-092E319F87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E48-2F05-4AE7-99F6-DAAEB3328A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7880" y="228600"/>
            <a:ext cx="2224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ểm tra bài c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440" y="838080"/>
            <a:ext cx="73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Nêu ý nghĩa của các nút lệnh được đánh số trên thanh công cụ sa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0880" y="1447920"/>
            <a:ext cx="7848720" cy="1600200"/>
            <a:chOff x="380880" y="1447920"/>
            <a:chExt cx="7848720" cy="16002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80880" y="1981440"/>
              <a:ext cx="784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7652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1520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2667240"/>
              <a:ext cx="457200" cy="380880"/>
            </a:xfrm>
            <a:prstGeom prst="wedgeRectCallout">
              <a:avLst>
                <a:gd name="adj1" fmla="val 76736"/>
                <a:gd name="adj2" fmla="val -130000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667240"/>
              <a:ext cx="457200" cy="380880"/>
            </a:xfrm>
            <a:prstGeom prst="wedgeRectCallout">
              <a:avLst>
                <a:gd name="adj1" fmla="val 7291"/>
                <a:gd name="adj2" fmla="val -140833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667240"/>
              <a:ext cx="457200" cy="380880"/>
            </a:xfrm>
            <a:prstGeom prst="wedgeRectCallout">
              <a:avLst>
                <a:gd name="adj1" fmla="val -50000"/>
                <a:gd name="adj2" fmla="val -137083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70160" y="3679920"/>
            <a:ext cx="45878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ộp chọn phông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ộp chọn cỡ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ữ đ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hữ ngh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ữ gạch ch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ộp chọn màu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757600" y="3809880"/>
            <a:ext cx="2666880" cy="442800"/>
            <a:chOff x="2757600" y="3809880"/>
            <a:chExt cx="2666880" cy="442800"/>
          </a:xfrm>
        </p:grpSpPr>
        <p:sp>
          <p:nvSpPr>
            <p:cNvPr id="162" name=""/>
            <p:cNvSpPr/>
            <p:nvPr/>
          </p:nvSpPr>
          <p:spPr>
            <a:xfrm>
              <a:off x="2757600" y="3809880"/>
              <a:ext cx="266688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57600" y="416448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757600" y="4281480"/>
            <a:ext cx="2666880" cy="380880"/>
            <a:chOff x="2757600" y="4281480"/>
            <a:chExt cx="2666880" cy="380880"/>
          </a:xfrm>
        </p:grpSpPr>
        <p:sp>
          <p:nvSpPr>
            <p:cNvPr id="165" name=""/>
            <p:cNvSpPr/>
            <p:nvPr/>
          </p:nvSpPr>
          <p:spPr>
            <a:xfrm>
              <a:off x="2757600" y="428148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7600" y="458640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57600" y="4710240"/>
            <a:ext cx="2666880" cy="380880"/>
            <a:chOff x="2757600" y="4710240"/>
            <a:chExt cx="2666880" cy="380880"/>
          </a:xfrm>
        </p:grpSpPr>
        <p:sp>
          <p:nvSpPr>
            <p:cNvPr id="168" name=""/>
            <p:cNvSpPr/>
            <p:nvPr/>
          </p:nvSpPr>
          <p:spPr>
            <a:xfrm>
              <a:off x="2757600" y="471024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57600" y="501516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57600" y="5153040"/>
            <a:ext cx="2666880" cy="380880"/>
            <a:chOff x="2757600" y="5153040"/>
            <a:chExt cx="2666880" cy="380880"/>
          </a:xfrm>
        </p:grpSpPr>
        <p:sp>
          <p:nvSpPr>
            <p:cNvPr id="171" name=""/>
            <p:cNvSpPr/>
            <p:nvPr/>
          </p:nvSpPr>
          <p:spPr>
            <a:xfrm>
              <a:off x="2757600" y="515304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7600" y="545796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57600" y="5576760"/>
            <a:ext cx="2666880" cy="380880"/>
            <a:chOff x="2757600" y="5576760"/>
            <a:chExt cx="2666880" cy="380880"/>
          </a:xfrm>
        </p:grpSpPr>
        <p:sp>
          <p:nvSpPr>
            <p:cNvPr id="174" name=""/>
            <p:cNvSpPr/>
            <p:nvPr/>
          </p:nvSpPr>
          <p:spPr>
            <a:xfrm>
              <a:off x="2757600" y="557676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588168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43200" y="6019920"/>
            <a:ext cx="2666880" cy="380880"/>
            <a:chOff x="2743200" y="6019920"/>
            <a:chExt cx="2666880" cy="380880"/>
          </a:xfrm>
        </p:grpSpPr>
        <p:sp>
          <p:nvSpPr>
            <p:cNvPr id="177" name=""/>
            <p:cNvSpPr/>
            <p:nvPr/>
          </p:nvSpPr>
          <p:spPr>
            <a:xfrm>
              <a:off x="2743200" y="601992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632484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9280" y="327672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rả lời: Ý nghĩa của từng nút lệnh l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2095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60" y="99000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19320" y="1428840"/>
            <a:ext cx="7238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960" y="99000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196920"/>
            <a:ext cx="83818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95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580920" y="175248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ết thú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437480"/>
            <a:ext cx="830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9900cc"/>
                </a:solidFill>
                <a:latin typeface="Times New Roman"/>
              </a:rPr>
              <a:t>Định dạng đoạn văn</a:t>
            </a:r>
            <a:r>
              <a:rPr b="0" lang="pt-BR" sz="2100" spc="-1" strike="noStrike">
                <a:solidFill>
                  <a:srgbClr val="9900cc"/>
                </a:solidFill>
                <a:latin typeface="Times New Roman"/>
              </a:rPr>
              <a:t> là thay đổi các tính chất sau đây của đoạn văn bản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4600" y="2048760"/>
            <a:ext cx="628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Kiểu căn l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ị trí lề của cả đoạn văn bản so với toàn tra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Khoảng cách lề của dòng đầu tiê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Khoảng cách đến đoạn văn trên hoặc dướ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Khoảng cách giữa các dòng trong đoạn vă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2054880"/>
            <a:ext cx="7467120" cy="2745360"/>
            <a:chOff x="533520" y="2054880"/>
            <a:chExt cx="7467120" cy="2745360"/>
          </a:xfrm>
        </p:grpSpPr>
        <p:grpSp>
          <p:nvGrpSpPr>
            <p:cNvPr id="186" name=""/>
            <p:cNvGrpSpPr/>
            <p:nvPr/>
          </p:nvGrpSpPr>
          <p:grpSpPr>
            <a:xfrm>
              <a:off x="533520" y="2054880"/>
              <a:ext cx="7467120" cy="2745360"/>
              <a:chOff x="533520" y="2054880"/>
              <a:chExt cx="7467120" cy="274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533520" y="2125800"/>
                <a:ext cx="7467120" cy="267444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9900cc"/>
                  </a:gs>
                  <a:gs pos="100000">
                    <a:srgbClr val="ffef6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93520" y="205488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Nhận xé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066680" y="2515320"/>
              <a:ext cx="632412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Khác với định dạng kí tự, định dạng đoạn văn tác động đến </a:t>
              </a:r>
              <a:r>
                <a:rPr b="1" i="1" lang="pt-BR" sz="2800" spc="-1" strike="noStrike">
                  <a:solidFill>
                    <a:srgbClr val="003366"/>
                  </a:solidFill>
                  <a:latin typeface="Times New Roman"/>
                </a:rPr>
                <a:t>toàn bộ đoạn văn bản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 mà </a:t>
              </a:r>
              <a:r>
                <a:rPr b="1" lang="pt-BR" sz="2800" spc="-1" strike="noStrike">
                  <a:solidFill>
                    <a:srgbClr val="cc3300"/>
                  </a:solidFill>
                  <a:latin typeface="Times New Roman"/>
                </a:rPr>
                <a:t>con trỏ soạn thảo đang ở đó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26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94160" y="571824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ác dạng căn lề đoạn văn b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89840" y="5843520"/>
            <a:ext cx="42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Khoảng cách giữa các đoạn v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và giữa các dòng trong một đoạn v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273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95560" cy="2190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1420920"/>
            <a:ext cx="6021360" cy="2399040"/>
          </a:xfrm>
          <a:prstGeom prst="cloudCallout">
            <a:avLst>
              <a:gd name="adj1" fmla="val 29398"/>
              <a:gd name="adj2" fmla="val 71393"/>
            </a:avLst>
          </a:prstGeom>
          <a:gradFill rotWithShape="0">
            <a:gsLst>
              <a:gs pos="0">
                <a:srgbClr val="0000cc"/>
              </a:gs>
              <a:gs pos="50000">
                <a:srgbClr val="99ccff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Vậ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làm thế nào để định dạng được đoạn văn bản như trên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560" y="106596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2. Sử dụng các nút lệnh để định dạng đoạn văn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600" y="1639800"/>
            <a:ext cx="8153280" cy="1410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Để thực hiện định dạng đoạn văn, em chỉ cần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đưa con trỏ soạn thảo vào đoạn văn bả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à sử dụng các nút lệnh trên thanh công cụ định dạ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7848720" cy="4698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4324320" y="4148280"/>
            <a:ext cx="990720" cy="506160"/>
            <a:chOff x="4324320" y="4148280"/>
            <a:chExt cx="990720" cy="506160"/>
          </a:xfrm>
        </p:grpSpPr>
        <p:sp>
          <p:nvSpPr>
            <p:cNvPr id="205" name=""/>
            <p:cNvSpPr/>
            <p:nvPr/>
          </p:nvSpPr>
          <p:spPr>
            <a:xfrm flipH="1" rot="16200000">
              <a:off x="4743360" y="3728880"/>
              <a:ext cx="152280" cy="990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0800" y="428616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ăn l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15160" y="4143240"/>
            <a:ext cx="2501640" cy="515880"/>
            <a:chOff x="5915160" y="4143240"/>
            <a:chExt cx="2501640" cy="515880"/>
          </a:xfrm>
        </p:grpSpPr>
        <p:sp>
          <p:nvSpPr>
            <p:cNvPr id="208" name=""/>
            <p:cNvSpPr/>
            <p:nvPr/>
          </p:nvSpPr>
          <p:spPr>
            <a:xfrm>
              <a:off x="5915160" y="4290840"/>
              <a:ext cx="250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ay đổi lề cả đoạn vă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rot="16200000">
              <a:off x="6557760" y="3952800"/>
              <a:ext cx="152640" cy="533520"/>
            </a:xfrm>
            <a:custGeom>
              <a:avLst/>
              <a:gdLst>
                <a:gd name="textAreaLeft" fmla="*/ 360 w 152640"/>
                <a:gd name="textAreaRight" fmla="*/ 5544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5181480"/>
            <a:ext cx="1752840" cy="609840"/>
          </a:xfrm>
          <a:prstGeom prst="wedgeRectCallout">
            <a:avLst>
              <a:gd name="adj1" fmla="val -30708"/>
              <a:gd name="adj2" fmla="val -246615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ãn cách dòng trong đoạn vă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560" y="106596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2. Sử dụng các nút lệnh để định dạng đoạn văn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8001000" cy="290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7772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79640" y="63424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í dụ căn lề đoạn văn b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71500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5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71500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281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í dụ thay đổi khoảng cách giữa các dòng trong đoạn văn bả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à tăng / giảm mức thụt lề trá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25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960" y="114228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73080"/>
            <a:ext cx="8001000" cy="9684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e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ộp thoại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agrap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Đoạn văn bản) được dùng đ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ăng hay giảm khoảng cách giữ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ác đoạn văn bả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44960"/>
            <a:ext cx="8001000" cy="9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ef66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ách mở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Đặt con trỏ soạn thảo vào đoạn văn cần định dạng và mở hộp thoại Paragraph bằng lệnh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ragraph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5-16T10:18:45Z</dcterms:modified>
  <cp:revision>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