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9CC-C011-43BA-B5CD-85EBC0C7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9D2-3BBD-4270-87C3-6356FCF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B51-3539-43DD-A002-AD581EF0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A0E-81E9-4F4F-B542-E45C99FF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28F2-D5EF-4577-9393-8C4D8774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A5E-072D-4238-BD5E-8F6D55B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9B71-468E-41CF-8CC7-F4905E2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8CD7-1867-467E-8652-3AD7DEEC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7CC-8009-49CA-A056-F2C38FD1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5B4-65E3-4FEA-81B8-99467DC3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C5F5-7782-4B99-B096-A318560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33E-6F39-475B-A0E5-F9871BC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ED22-AD82-4C4A-A2CE-480B29E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28F5-6D95-450D-BA57-B59BEBA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F0EA-213E-4A01-BA9D-D011BE45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759A-8270-423E-A03C-51CE5E83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FE65-8C4E-430D-AF43-62B61EB4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137-9D1B-447C-9DD4-5344E09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5AC-BD31-4127-BDBD-3CF0F4B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6D0-27E3-4C5D-9564-91DD55A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A65-A6C4-4583-B1F2-DDB22B9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BF5-A69F-46F1-AF1F-51960F2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CBE-6FF4-4CE1-9D75-3E42CD3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B0B-55ED-47DB-A405-CBA6886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26C-5CCA-4A95-BD54-B27A3EE2EE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96B-F16D-45C0-9584-AADEEABEF8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039920" y="17218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Bài 5</a:t>
            </a:r>
            <a:r>
              <a:rPr b="1" i="1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86000" cy="2241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438280" y="236232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Luyện tập chuột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4280" y="19764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Chươ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33720" y="304920"/>
            <a:ext cx="742680" cy="76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9840" y="455760"/>
            <a:ext cx="46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--- PHẦN MỀM HỌC TẬP 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295280"/>
            <a:ext cx="5562720" cy="0"/>
          </a:xfrm>
          <a:prstGeom prst="line">
            <a:avLst/>
          </a:prstGeom>
          <a:ln w="9360">
            <a:solidFill>
              <a:srgbClr val="b9e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7640" y="105156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</a:t>
            </a:r>
            <a:r>
              <a:rPr b="0" lang="en-US" sz="1800" spc="-1" strike="noStrike">
                <a:solidFill>
                  <a:srgbClr val="b9ef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2743200"/>
            <a:ext cx="5562360" cy="2971440"/>
            <a:chOff x="2057400" y="2743200"/>
            <a:chExt cx="5562360" cy="2971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057400" y="2743200"/>
              <a:ext cx="556236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53040" y="3058560"/>
              <a:ext cx="148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phả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53040" y="4001400"/>
              <a:ext cx="14886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giữ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400" y="2887560"/>
              <a:ext cx="148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trá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1760" y="167580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Quy ước đặt tên cho các nút của chuộ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7640" y="1051560"/>
            <a:ext cx="40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</a:t>
            </a:r>
            <a:r>
              <a:rPr b="0" lang="en-US" sz="2000" spc="-1" strike="noStrike">
                <a:solidFill>
                  <a:srgbClr val="b9efe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8960" y="14961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ách cầm chuộ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828320"/>
            <a:ext cx="8470800" cy="1456560"/>
          </a:xfrm>
          <a:prstGeom prst="upArrowCallout">
            <a:avLst>
              <a:gd name="adj1" fmla="val -120004"/>
              <a:gd name="adj2" fmla="val 145391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ùng tay phải để giữ chuột, ngón trỏ đặt lên nút trá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ón giữa đặt lên nút phải chu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2360" y="2286000"/>
            <a:ext cx="3845880" cy="2440800"/>
            <a:chOff x="972360" y="2286000"/>
            <a:chExt cx="3845880" cy="24408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rot="21154800">
              <a:off x="1066320" y="2801880"/>
              <a:ext cx="36576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30040" y="2286000"/>
              <a:ext cx="3657600" cy="2362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589400"/>
            <a:ext cx="2851920" cy="3310560"/>
            <a:chOff x="5562720" y="1589400"/>
            <a:chExt cx="2851920" cy="331056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 rot="249600">
              <a:off x="5790960" y="1676160"/>
              <a:ext cx="2512800" cy="31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1600200"/>
              <a:ext cx="2590560" cy="3200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86200" y="5105520"/>
            <a:ext cx="1525680" cy="175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4482600">
            <a:off x="7366320" y="2386800"/>
            <a:ext cx="519120" cy="927000"/>
          </a:xfrm>
          <a:prstGeom prst="irregularSeal1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720" y="9896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760" y="152316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ác thao tác chính với chuột bao gồ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057400"/>
            <a:ext cx="556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i chuyển chuộ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Giữ và di chuyển chuột trên mặt phẳ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514600"/>
            <a:ext cx="480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nhanh nút trái chuột và thả ta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048120"/>
            <a:ext cx="5333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chuột phải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nhanh nút phải chuột và thả ta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94600">
            <a:off x="6059520" y="3139560"/>
            <a:ext cx="519120" cy="927360"/>
          </a:xfrm>
          <a:prstGeom prst="irregularSeal1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00800" y="2743200"/>
            <a:ext cx="225432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386400" y="3067200"/>
            <a:ext cx="1357560" cy="981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034040" y="2762280"/>
            <a:ext cx="978120" cy="95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629400" y="2438280"/>
            <a:ext cx="0" cy="76212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819520"/>
            <a:ext cx="0" cy="60948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209680" y="4191120"/>
            <a:ext cx="1525680" cy="1752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2209680"/>
            <a:ext cx="0" cy="76212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3505320"/>
            <a:ext cx="6400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144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đúp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áy nhanh hai lần liên tiếp nút trái chuộ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1440" y="3963240"/>
            <a:ext cx="5214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Kéo thả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và giữ nút trái chuột, di chuyển chuột đến vị trí đích và thả tay để kết thúc thao tá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05280" y="5334120"/>
            <a:ext cx="895320" cy="64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3400" y="4876920"/>
            <a:ext cx="0" cy="7617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876920"/>
            <a:ext cx="0" cy="76176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384280" y="259092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648400" y="4191120"/>
            <a:ext cx="393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118 -0.05162 -0.04236 -0.10324 -0.08107 -0.11042 C -0.11979 -0.11759 -0.21909 -0.09236 -0.23263 -0.04375 C -0.24618 0.00486 -0.21024 0.1456 -0.16232 0.18125 C -0.11458 0.2169 0.02605 0.20023 0.05487 0.17083 C 0.08351 0.14144 0.04792 0.04051 0.00955 0.00417 C -0.02916 -0.03218 -0.1493 -0.0662 -0.17638 -0.04792 C -0.20347 -0.02963 -0.17916 0.08102 -0.15295 0.11458 C -0.12673 0.14815 -0.04132 0.14861 -0.01857 0.15417 E">
                                      <p:cBhvr>
                                        <p:cTn id="4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-0.08796 C -0.03333 -0.13958 -0.05451 -0.1912 -0.09323 -0.19838 C -0.13194 -0.20556 -0.23125 -0.18033 -0.24479 -0.13171 C -0.25833 -0.0831 -0.2224 0.05764 -0.17448 0.09329 C -0.12674 0.12893 0.01372 0.11227 0.04271 0.08287 C 0.07135 0.05347 0.03576 -0.04745 -0.0026 -0.0838 C -0.04149 -0.12014 -0.16146 -0.15417 -0.18854 -0.13588 C -0.21562 -0.11759 -0.19132 -0.00695 -0.1651 0.02662 C -0.13889 0.06018 -0.05347 0.06065 -0.03073 0.0662 E">
                                      <p:cBhvr>
                                        <p:cTn id="5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05556 E">
                                      <p:cBhvr>
                                        <p:cTn id="76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6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100"/>
                            </p:stCondLst>
                            <p:childTnLst>
                              <p:par>
                                <p:cTn id="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5555 E">
                                      <p:cBhvr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0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111 L 3.33333E-006 0.04444 E">
                                      <p:cBhvr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6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-0.08888 E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100"/>
                            </p:stCondLst>
                            <p:childTnLst>
                              <p:par>
                                <p:cTn id="1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3.33333E-006 0.05555 E">
                                      <p:cBhvr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5555 E">
                                      <p:cBhvr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3.33333E-006 0.05555 E">
                                      <p:cBhvr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5555 E">
                                      <p:cBhvr>
                                        <p:cTn id="20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3600" y="1141920"/>
            <a:ext cx="70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2. Luyện tập sử dụng chuột với phần mềm Mouse Skil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hởi động  phần mềm và theo dõi các thao tá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7-03T02:54:4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