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7D1-7FF6-44DF-97A6-7DF5E5AA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5D2-4311-408C-9A81-815F4423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355-3611-4E8B-8D22-5B3D5F20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DE5-F9C7-4A84-BC8F-9B74C5D0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6F6E-88DC-4CBD-9187-2083B63F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29AA-2F68-45C7-93B8-69A1BD6F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A40A-58AF-4B2D-8867-C9C8582B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D802-B20D-4BA7-8F17-C1E225A8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69E4-CB1F-4F47-A1DE-417DD2CE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27E3-027E-4559-BE0E-3C492ECE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7A14-098C-410A-885F-BC4FC9DC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F12-5758-4FD5-97D2-ABB6C07A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FA5E-759E-43DB-AAFA-A817209A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93F2-8C7C-46B6-9332-1E1C7531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D56A-3E95-472D-88C7-7BDCBDF7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563F-5218-4BFD-9ECF-438C1BAA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E80E-E688-4F1C-96A1-7D71CCB4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7F5-19FC-4697-8B7C-45E6740E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23E-B2CE-4E6A-91C6-2A1F0566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E3C-E7FB-4F1C-A639-A7282A6B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341-2CB7-4ECF-8344-0F89DAB4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F87-D446-4DC3-8B76-503FD241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172-6C67-4075-86EE-E0EF4B75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8C9-D9EF-4C4B-BEC3-13D0933E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A5D2-6B91-41B3-825E-61B53437B5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AA19-99B3-4200-B4C4-6638BF9E1DF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1960" y="11422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1. Định dạng văn bả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597680"/>
            <a:ext cx="83059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Định dạng văn bản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à thay đổi kiểu dáng, vị trí của các kí tự (con chữ, số, kí hiệu), các đoạn văn bản và các đối tượng khác trên tra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để văn bản dễ đọc, trang văn bản có bố cục đẹp và người đọc dễ ghi nhớ các nội dung cần thiế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187920" y="4167360"/>
            <a:ext cx="93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Định dạng văn bản gồm hai loại: </a:t>
            </a: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Định dạng kí tự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và </a:t>
            </a: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định dạng đoạn văn bả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736800" y="175248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Kết thú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124080" y="2438280"/>
            <a:ext cx="25718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1960" y="11422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1. Định dạng văn bả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53000" y="1811880"/>
            <a:ext cx="6719400" cy="1617120"/>
            <a:chOff x="1053000" y="1811880"/>
            <a:chExt cx="6719400" cy="1617120"/>
          </a:xfrm>
        </p:grpSpPr>
        <p:grpSp>
          <p:nvGrpSpPr>
            <p:cNvPr id="157" name=""/>
            <p:cNvGrpSpPr/>
            <p:nvPr/>
          </p:nvGrpSpPr>
          <p:grpSpPr>
            <a:xfrm>
              <a:off x="1053000" y="1811880"/>
              <a:ext cx="6719400" cy="1617120"/>
              <a:chOff x="1053000" y="1811880"/>
              <a:chExt cx="6719400" cy="1617120"/>
            </a:xfrm>
          </p:grpSpPr>
          <p:sp>
            <p:nvSpPr>
              <p:cNvPr id="158" name=""/>
              <p:cNvSpPr/>
              <p:nvPr/>
            </p:nvSpPr>
            <p:spPr>
              <a:xfrm>
                <a:off x="1066680" y="1828800"/>
                <a:ext cx="6705720" cy="1600200"/>
              </a:xfrm>
              <a:prstGeom prst="foldedCorner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ef66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53000" y="1811880"/>
                <a:ext cx="95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ưu ý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143000" y="2079720"/>
              <a:ext cx="652140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Nên định dạng văn bản sau khi đã soạn thảo xong toàn bộ phần nội dung của văn bản.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0" y="4419720"/>
            <a:ext cx="1674720" cy="1752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66680" y="3579120"/>
            <a:ext cx="6782040" cy="1849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í 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ứ nhất, để tiết kiệm thời g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ứ hai, sẽ giúp cho văn bản có một  định dạng thống nhất, hợp lí, không phải chỉnh sửa lại nhiều lầ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2057400"/>
            <a:ext cx="3962520" cy="1981080"/>
          </a:xfrm>
          <a:prstGeom prst="cloudCallout">
            <a:avLst>
              <a:gd name="adj1" fmla="val -44953"/>
              <a:gd name="adj2" fmla="val 67148"/>
            </a:avLst>
          </a:prstGeom>
          <a:gradFill rotWithShape="0">
            <a:gsLst>
              <a:gs pos="0">
                <a:srgbClr val="ffef66"/>
              </a:gs>
              <a:gs pos="50000">
                <a:srgbClr val="cc33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ại sao lại phải như vậy nhỉ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0659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2. Định dạng kí t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522800"/>
            <a:ext cx="76201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00cc"/>
                </a:solidFill>
                <a:latin typeface="Times New Roman"/>
              </a:rPr>
              <a:t>Định dạng kí tự</a:t>
            </a: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 là thay đổi dáng vẻ của một hay một nhóm kí t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208600"/>
            <a:ext cx="381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Các tính chất phổ biến gồ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44600" y="2894760"/>
            <a:ext cx="51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26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Phông chữ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ủ đô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ủ đ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7080" y="3413880"/>
            <a:ext cx="4839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26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Cỡ chữ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Thủ đô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ủ đ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03200" y="4143960"/>
            <a:ext cx="695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6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 Kiểu chữ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ủ đô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hủ đô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hủ đ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00320" y="4753440"/>
            <a:ext cx="479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cc"/>
              </a:buClr>
              <a:buFont typeface="Arial"/>
              <a:buChar char="-"/>
              <a:tabLst>
                <a:tab algn="l" pos="26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Màu sắc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00ff"/>
                </a:solidFill>
                <a:latin typeface="Arial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1676520"/>
            <a:ext cx="5943600" cy="4038480"/>
          </a:xfrm>
          <a:prstGeom prst="irregularSeal1">
            <a:avLst/>
          </a:prstGeom>
          <a:gradFill rotWithShape="0">
            <a:gsLst>
              <a:gs pos="0">
                <a:srgbClr val="ffef66"/>
              </a:gs>
              <a:gs pos="50000">
                <a:srgbClr val="ffb800"/>
              </a:gs>
              <a:gs pos="100000">
                <a:srgbClr val="ffe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Mystical"/>
              </a:rPr>
              <a:t>Cã hai c¸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Mystical"/>
              </a:rPr>
              <a:t>®Ó ®Þnh d¹ng kÝ t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0659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2. Định dạng kí t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600" y="1797120"/>
            <a:ext cx="8228160" cy="2025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Để thực hiện định dạng kí tự, em làm theo hai bướ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Chọn phần văn bản cần định dạ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Sử dụng các nút lệnh trên thanh công cụ định dạ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8915400" cy="533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880" y="4724280"/>
            <a:ext cx="2286000" cy="457200"/>
          </a:xfrm>
          <a:prstGeom prst="wedgeRectCallout">
            <a:avLst>
              <a:gd name="adj1" fmla="val 28958"/>
              <a:gd name="adj2" fmla="val -135416"/>
            </a:avLst>
          </a:prstGeom>
          <a:gradFill rotWithShape="0">
            <a:gsLst>
              <a:gs pos="0">
                <a:srgbClr val="ffffff"/>
              </a:gs>
              <a:gs pos="50000">
                <a:srgbClr val="ffef6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ộp chọn phông 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4724280"/>
            <a:ext cx="685800" cy="1371600"/>
          </a:xfrm>
          <a:prstGeom prst="wedgeRectCallout">
            <a:avLst>
              <a:gd name="adj1" fmla="val 10648"/>
              <a:gd name="adj2" fmla="val -79050"/>
            </a:avLst>
          </a:prstGeom>
          <a:gradFill rotWithShape="0">
            <a:gsLst>
              <a:gs pos="0">
                <a:srgbClr val="ffffff"/>
              </a:gs>
              <a:gs pos="50000">
                <a:srgbClr val="ffef6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ộ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ọ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5410080"/>
            <a:ext cx="685800" cy="685800"/>
          </a:xfrm>
          <a:prstGeom prst="wedgeRectCallout">
            <a:avLst>
              <a:gd name="adj1" fmla="val -24305"/>
              <a:gd name="adj2" fmla="val -225000"/>
            </a:avLst>
          </a:prstGeom>
          <a:gradFill rotWithShape="0">
            <a:gsLst>
              <a:gs pos="0">
                <a:srgbClr val="99ff9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ữ đ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5410080"/>
            <a:ext cx="990720" cy="685800"/>
          </a:xfrm>
          <a:prstGeom prst="wedgeRectCallout">
            <a:avLst>
              <a:gd name="adj1" fmla="val -85097"/>
              <a:gd name="adj2" fmla="val -225000"/>
            </a:avLst>
          </a:prstGeom>
          <a:gradFill rotWithShape="0">
            <a:gsLst>
              <a:gs pos="0">
                <a:srgbClr val="99ff9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ữ nghiê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5181480"/>
            <a:ext cx="990720" cy="914400"/>
          </a:xfrm>
          <a:prstGeom prst="wedgeRectCallout">
            <a:avLst>
              <a:gd name="adj1" fmla="val -177402"/>
              <a:gd name="adj2" fmla="val -156250"/>
            </a:avLst>
          </a:prstGeom>
          <a:gradFill rotWithShape="0">
            <a:gsLst>
              <a:gs pos="0">
                <a:srgbClr val="99ff9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hữ gạch châ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4800600"/>
            <a:ext cx="2286000" cy="457200"/>
          </a:xfrm>
          <a:prstGeom prst="wedgeRectCallout">
            <a:avLst>
              <a:gd name="adj1" fmla="val 28958"/>
              <a:gd name="adj2" fmla="val -135416"/>
            </a:avLst>
          </a:prstGeom>
          <a:gradFill rotWithShape="0">
            <a:gsLst>
              <a:gs pos="0">
                <a:srgbClr val="ffffff"/>
              </a:gs>
              <a:gs pos="50000">
                <a:srgbClr val="ffef6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ộp chọn màu 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3680" y="152316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a. Sử dụng các nút lệnh: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0659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2. Định dạng kí t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7550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2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0659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2. Định dạng kí t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360" y="15994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cc"/>
                </a:solidFill>
                <a:latin typeface="Times New Roman"/>
              </a:rPr>
              <a:t>b. Sử dụng hộp thoại Font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925640"/>
            <a:ext cx="7619760" cy="2659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Để định dạng kí tự ta làm theo hai bướ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Chọn phần văn bản muốn định dạ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Mở bảng chọn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chọn lệnh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on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và sử dụng hộp thoại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on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464080" cy="6095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490920" y="631512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HỘP THOẠI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828800"/>
            <a:ext cx="1905120" cy="533520"/>
          </a:xfrm>
          <a:prstGeom prst="wedgeRectCallout">
            <a:avLst>
              <a:gd name="adj1" fmla="val 81916"/>
              <a:gd name="adj2" fmla="val -131250"/>
            </a:avLst>
          </a:prstGeom>
          <a:gradFill rotWithShape="0">
            <a:gsLst>
              <a:gs pos="0">
                <a:srgbClr val="ffffff"/>
              </a:gs>
              <a:gs pos="50000">
                <a:srgbClr val="ffef6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ọn phông 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2362320"/>
            <a:ext cx="1905120" cy="457200"/>
          </a:xfrm>
          <a:prstGeom prst="wedgeRectCallout">
            <a:avLst>
              <a:gd name="adj1" fmla="val 19999"/>
              <a:gd name="adj2" fmla="val -138541"/>
            </a:avLst>
          </a:prstGeom>
          <a:gradFill rotWithShape="0">
            <a:gsLst>
              <a:gs pos="0">
                <a:srgbClr val="ffffff"/>
              </a:gs>
              <a:gs pos="50000">
                <a:srgbClr val="ffef6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ọn kiểu 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2590920"/>
            <a:ext cx="1905120" cy="457200"/>
          </a:xfrm>
          <a:prstGeom prst="wedgeRectCallout">
            <a:avLst>
              <a:gd name="adj1" fmla="val -59833"/>
              <a:gd name="adj2" fmla="val -184027"/>
            </a:avLst>
          </a:prstGeom>
          <a:gradFill rotWithShape="0">
            <a:gsLst>
              <a:gs pos="0">
                <a:srgbClr val="ffffff"/>
              </a:gs>
              <a:gs pos="50000">
                <a:srgbClr val="ffef6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ọn cỡ 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886200"/>
            <a:ext cx="3657600" cy="457200"/>
          </a:xfrm>
          <a:prstGeom prst="wedgeRectCallout">
            <a:avLst>
              <a:gd name="adj1" fmla="val -18837"/>
              <a:gd name="adj2" fmla="val 147916"/>
            </a:avLst>
          </a:prstGeom>
          <a:gradFill rotWithShape="0">
            <a:gsLst>
              <a:gs pos="0">
                <a:srgbClr val="99ff9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ển thị kết quả định dạng 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8950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20" y="10659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2. Định dạng kí t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909080"/>
            <a:ext cx="8534520" cy="3103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fb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cc3300"/>
                </a:solidFill>
                <a:latin typeface="Times New Roman"/>
              </a:rPr>
              <a:t>Lưu ý:</a:t>
            </a:r>
            <a:r>
              <a:rPr b="0" lang="pt-BR" sz="3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3400" spc="-1" strike="noStrike">
                <a:solidFill>
                  <a:srgbClr val="000000"/>
                </a:solidFill>
                <a:latin typeface="Times New Roman"/>
              </a:rPr>
              <a:t>Nếu không chọn trước phần văn bản nào thì các thao tác định dạng trên sẽ được áp dụng cho các kí tự sẽ được gõ vào sau đó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uy</cp:lastModifiedBy>
  <dcterms:modified xsi:type="dcterms:W3CDTF">2007-05-17T03:04:40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