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9B20-A433-4820-A605-BA40F2E1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1066-AE83-4370-B346-36B9F4B8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3B71-9A2B-41B5-996F-97CB82D96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EEFA-7C92-45CE-80CF-04C9F9777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9C20-BBC9-4BAE-97C7-C952BD0C5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E49A-F204-4918-8ABB-1AE232FF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F6AB-EEA8-44C1-9FCF-620355CB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C288-9600-492E-9F46-A4675AF3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E980-D021-462F-8ADA-3BF67B1C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0183-0081-4E19-A19F-968BD5F1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CC79-E9E2-47B3-A5DD-168195E9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410C-74E8-4047-A0FE-802DD48A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9D84-1CA8-4869-88F6-ADB8C9B8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29EC-8521-44C9-B74D-1849B32D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FF31-25B5-4AC2-96E7-1C795362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8CDA-4215-4D98-B0D4-2DA74225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2139-0293-4ADC-8201-F66A49CF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DB72-BCF4-4F82-BF72-C78881C0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E8B0-E311-4A55-A8C0-51974E4A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2D0A-8E23-409A-9627-0551B293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C249-65F8-4C59-9142-49544FDE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EA5A-489F-4FB5-A0F1-C0161724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3F75-AED0-40A2-932A-0F9C2602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0A0D-8EF9-4935-8D26-52CC06CD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7047-182E-4D6D-81B6-63DAD6F0C0E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84BD-708C-49C0-AADE-16C1FA227F5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219320" y="244080"/>
            <a:ext cx="552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</a:rPr>
              <a:t>Bài 18. TRÌNH BÀY TRANG VĂN BẢN VÀ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1080" y="989640"/>
            <a:ext cx="31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1. Trình bày trang văn bả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772400" cy="49989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62120" y="6095880"/>
            <a:ext cx="6476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914400"/>
            <a:ext cx="3200400" cy="533520"/>
          </a:xfrm>
          <a:prstGeom prst="wedgeRectCallout">
            <a:avLst>
              <a:gd name="adj1" fmla="val -34921"/>
              <a:gd name="adj2" fmla="val 101486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ướng tr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19320" y="244080"/>
            <a:ext cx="552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</a:rPr>
              <a:t>Bài 18. TRÌNH BÀY TRANG VĂN BẢN VÀ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2400" y="684720"/>
            <a:ext cx="16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3. In văn bả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343400" y="1295280"/>
            <a:ext cx="4419720" cy="3314880"/>
          </a:xfrm>
          <a:prstGeom prst="rect">
            <a:avLst/>
          </a:prstGeom>
          <a:ln w="0">
            <a:noFill/>
          </a:ln>
        </p:spPr>
      </p:pic>
      <p:grpSp>
        <p:nvGrpSpPr>
          <p:cNvPr id="205" name=""/>
          <p:cNvGrpSpPr/>
          <p:nvPr/>
        </p:nvGrpSpPr>
        <p:grpSpPr>
          <a:xfrm>
            <a:off x="228600" y="1295280"/>
            <a:ext cx="3962520" cy="3276720"/>
            <a:chOff x="228600" y="1295280"/>
            <a:chExt cx="3962520" cy="3276720"/>
          </a:xfrm>
        </p:grpSpPr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228600" y="1295280"/>
              <a:ext cx="3962520" cy="3276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07" name=""/>
            <p:cNvSpPr/>
            <p:nvPr/>
          </p:nvSpPr>
          <p:spPr>
            <a:xfrm>
              <a:off x="750960" y="3947760"/>
              <a:ext cx="1349640" cy="144000"/>
            </a:xfrm>
            <a:prstGeom prst="rect">
              <a:avLst/>
            </a:prstGeom>
            <a:solidFill>
              <a:srgbClr val="ff0000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705720" y="1828800"/>
            <a:ext cx="1600200" cy="38088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4876920"/>
            <a:ext cx="7772400" cy="1218960"/>
          </a:xfrm>
          <a:prstGeom prst="upArrowCallout">
            <a:avLst>
              <a:gd name="adj1" fmla="val -157720"/>
              <a:gd name="adj2" fmla="val 159406"/>
              <a:gd name="adj3" fmla="val 16667"/>
              <a:gd name="adj4" fmla="val 6666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ận dụng những kiến thức về trình bày văn bản đã học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m thử đưa ra giải pháp giải quyết những lỗi trên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219320" y="244080"/>
            <a:ext cx="552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</a:rPr>
              <a:t>Bài 18. TRÌNH BÀY TRANG VĂN BẢN VÀ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2400" y="684720"/>
            <a:ext cx="16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3. In văn bả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28600" y="1295280"/>
            <a:ext cx="8534520" cy="3314880"/>
            <a:chOff x="228600" y="1295280"/>
            <a:chExt cx="8534520" cy="3314880"/>
          </a:xfrm>
        </p:grpSpPr>
        <p:pic>
          <p:nvPicPr>
            <p:cNvPr id="213" name="" descr=""/>
            <p:cNvPicPr/>
            <p:nvPr/>
          </p:nvPicPr>
          <p:blipFill>
            <a:blip r:embed="rId1"/>
            <a:stretch/>
          </p:blipFill>
          <p:spPr>
            <a:xfrm>
              <a:off x="4343400" y="1295280"/>
              <a:ext cx="4419720" cy="331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4" name=""/>
            <p:cNvGrpSpPr/>
            <p:nvPr/>
          </p:nvGrpSpPr>
          <p:grpSpPr>
            <a:xfrm>
              <a:off x="228600" y="1295280"/>
              <a:ext cx="3962520" cy="3276720"/>
              <a:chOff x="228600" y="1295280"/>
              <a:chExt cx="3962520" cy="3276720"/>
            </a:xfrm>
          </p:grpSpPr>
          <p:pic>
            <p:nvPicPr>
              <p:cNvPr id="21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28600" y="1295280"/>
                <a:ext cx="3962520" cy="32767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216" name=""/>
              <p:cNvSpPr/>
              <p:nvPr/>
            </p:nvSpPr>
            <p:spPr>
              <a:xfrm>
                <a:off x="750960" y="3947760"/>
                <a:ext cx="1349640" cy="144000"/>
              </a:xfrm>
              <a:prstGeom prst="rect">
                <a:avLst/>
              </a:prstGeom>
              <a:solidFill>
                <a:srgbClr val="ff0000">
                  <a:alpha val="4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6705720" y="1828800"/>
              <a:ext cx="1600200" cy="3808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533520" y="4876920"/>
            <a:ext cx="7772400" cy="1218960"/>
          </a:xfrm>
          <a:prstGeom prst="upArrowCallout">
            <a:avLst>
              <a:gd name="adj1" fmla="val -157720"/>
              <a:gd name="adj2" fmla="val 159406"/>
              <a:gd name="adj3" fmla="val 16667"/>
              <a:gd name="adj4" fmla="val 6666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ên xem văn bản trước khi in để sửa chữa kịp thời các lỗ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ránh phải in lại nhiều lần và tránh lãng phí giấ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4876920"/>
            <a:ext cx="8001000" cy="1218960"/>
          </a:xfrm>
          <a:prstGeom prst="upArrowCallout">
            <a:avLst>
              <a:gd name="adj1" fmla="val -153031"/>
              <a:gd name="adj2" fmla="val 164095"/>
              <a:gd name="adj3" fmla="val 16667"/>
              <a:gd name="adj4" fmla="val 6666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iệc xem lại 1 văn bản trước khi in ra giấy có quan trọng khô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ại sa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432600" y="1523880"/>
            <a:ext cx="172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ết thúc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124080" y="2209680"/>
            <a:ext cx="207648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791320" cy="4969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219320" y="244080"/>
            <a:ext cx="552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</a:rPr>
              <a:t>Bài 18. TRÌNH BÀY TRANG VĂN BẢN VÀ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0360" y="989640"/>
            <a:ext cx="32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1. Trình bày trang văn bả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58320" y="1446840"/>
            <a:ext cx="20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Đặt lề cho tra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9320" y="244080"/>
            <a:ext cx="552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</a:rPr>
              <a:t>Bài 18. TRÌNH BÀY TRANG VĂN BẢN VÀ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1080" y="989640"/>
            <a:ext cx="31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1. Trình bày trang văn bả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717560"/>
            <a:ext cx="7086600" cy="3261600"/>
          </a:xfrm>
          <a:prstGeom prst="foldedCorner">
            <a:avLst>
              <a:gd name="adj" fmla="val 125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990000"/>
                </a:solidFill>
                <a:latin typeface="Arial"/>
              </a:rPr>
              <a:t>Lưu 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Đừng nhầm lề trang với lề đoạn văn. Lề đoạn văn được tính từ lề trang và có thể ”thò” ra ngoài lề tr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Nếu văn bản có nhiều trang, việc trình bày trang có tác dụng đến mọi trang của văn bả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9320" y="244080"/>
            <a:ext cx="552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</a:rPr>
              <a:t>Bài 18. TRÌNH BÀY TRANG VĂN BẢN VÀ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9960" y="837360"/>
            <a:ext cx="41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0000"/>
                </a:solidFill>
                <a:latin typeface="Times New Roman"/>
              </a:rPr>
              <a:t>2. Chọn hướng trang và đặt lề tr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0200" y="1294560"/>
            <a:ext cx="35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ile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age Setu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/ Marg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562720" cy="5105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896160" y="4495680"/>
            <a:ext cx="2133720" cy="990720"/>
          </a:xfrm>
          <a:prstGeom prst="wedgeRectCallout">
            <a:avLst>
              <a:gd name="adj1" fmla="val -83629"/>
              <a:gd name="adj2" fmla="val 4406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ình ảnh của trang ứng với các lựa chọn trê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19320" y="244080"/>
            <a:ext cx="552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</a:rPr>
              <a:t>Bài 18. TRÌNH BÀY TRANG VĂN BẢN VÀ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9960" y="837360"/>
            <a:ext cx="41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0000"/>
                </a:solidFill>
                <a:latin typeface="Times New Roman"/>
              </a:rPr>
              <a:t>3. Chọn hướng trang và đặt lề trang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75500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" dur="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19320" y="244080"/>
            <a:ext cx="552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</a:rPr>
              <a:t>Bài 18. TRÌNH BÀY TRANG VĂN BẢN VÀ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2400" y="989640"/>
            <a:ext cx="16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3. In văn bả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838080" y="1751040"/>
            <a:ext cx="7543800" cy="971640"/>
            <a:chOff x="838080" y="1751040"/>
            <a:chExt cx="7543800" cy="971640"/>
          </a:xfrm>
        </p:grpSpPr>
        <p:sp>
          <p:nvSpPr>
            <p:cNvPr id="173" name=""/>
            <p:cNvSpPr/>
            <p:nvPr/>
          </p:nvSpPr>
          <p:spPr>
            <a:xfrm>
              <a:off x="838080" y="1751040"/>
              <a:ext cx="7543800" cy="9716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In văn bản bằng cách nháy nút lệnh Print (in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trên thanh công cụ.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" descr=""/>
            <p:cNvPicPr/>
            <p:nvPr/>
          </p:nvPicPr>
          <p:blipFill>
            <a:blip r:embed="rId1"/>
            <a:stretch/>
          </p:blipFill>
          <p:spPr>
            <a:xfrm>
              <a:off x="7391520" y="1828800"/>
              <a:ext cx="68580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"/>
          <p:cNvSpPr/>
          <p:nvPr/>
        </p:nvSpPr>
        <p:spPr>
          <a:xfrm>
            <a:off x="762120" y="3122280"/>
            <a:ext cx="7619760" cy="1410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990000"/>
                </a:solidFill>
                <a:latin typeface="Arial"/>
              </a:rPr>
              <a:t>Lưu ý:</a:t>
            </a:r>
            <a:r>
              <a:rPr b="1" lang="pt-BR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990000"/>
                </a:solidFill>
                <a:latin typeface="Arial"/>
              </a:rPr>
              <a:t>Để có thể in được, máy tính của em phải được nối với máy in và máy in phải được bậ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19320" y="244080"/>
            <a:ext cx="552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</a:rPr>
              <a:t>Bài 18. TRÌNH BÀY TRANG VĂN BẢN VÀ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2400" y="989640"/>
            <a:ext cx="16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3. In văn bả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89640" y="1675440"/>
            <a:ext cx="229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em trước khi 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914400" y="2306880"/>
            <a:ext cx="7543800" cy="971640"/>
            <a:chOff x="914400" y="2306880"/>
            <a:chExt cx="7543800" cy="971640"/>
          </a:xfrm>
        </p:grpSpPr>
        <p:sp>
          <p:nvSpPr>
            <p:cNvPr id="180" name=""/>
            <p:cNvSpPr/>
            <p:nvPr/>
          </p:nvSpPr>
          <p:spPr>
            <a:xfrm>
              <a:off x="914400" y="2306880"/>
              <a:ext cx="7543800" cy="9716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háy nút Print Preview        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(Xem trước khi in) để kiểm tra trình bày của tran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_x0013__x000f_" descr=""/>
            <p:cNvPicPr/>
            <p:nvPr/>
          </p:nvPicPr>
          <p:blipFill>
            <a:blip r:embed="rId1"/>
            <a:stretch/>
          </p:blipFill>
          <p:spPr>
            <a:xfrm>
              <a:off x="4496040" y="2395800"/>
              <a:ext cx="444240" cy="41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"/>
          <p:cNvGrpSpPr/>
          <p:nvPr/>
        </p:nvGrpSpPr>
        <p:grpSpPr>
          <a:xfrm>
            <a:off x="914400" y="1506600"/>
            <a:ext cx="7543440" cy="5352480"/>
            <a:chOff x="914400" y="1506600"/>
            <a:chExt cx="7543440" cy="5352480"/>
          </a:xfrm>
        </p:grpSpPr>
        <p:pic>
          <p:nvPicPr>
            <p:cNvPr id="183" name="" descr=""/>
            <p:cNvPicPr/>
            <p:nvPr/>
          </p:nvPicPr>
          <p:blipFill>
            <a:blip r:embed="rId2"/>
            <a:stretch/>
          </p:blipFill>
          <p:spPr>
            <a:xfrm>
              <a:off x="914400" y="1506600"/>
              <a:ext cx="7543440" cy="50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914400" y="6490800"/>
              <a:ext cx="754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ửa sổ xem trước khi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6558840" y="4419720"/>
            <a:ext cx="1597320" cy="1295280"/>
            <a:chOff x="6558840" y="4419720"/>
            <a:chExt cx="1597320" cy="1295280"/>
          </a:xfrm>
        </p:grpSpPr>
        <p:sp>
          <p:nvSpPr>
            <p:cNvPr id="186" name=""/>
            <p:cNvSpPr/>
            <p:nvPr/>
          </p:nvSpPr>
          <p:spPr>
            <a:xfrm flipH="1" flipV="1">
              <a:off x="7410960" y="4800600"/>
              <a:ext cx="652320" cy="457200"/>
            </a:xfrm>
            <a:prstGeom prst="line">
              <a:avLst/>
            </a:prstGeom>
            <a:ln w="3816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7410960" y="4800600"/>
              <a:ext cx="745200" cy="914400"/>
            </a:xfrm>
            <a:prstGeom prst="line">
              <a:avLst/>
            </a:prstGeom>
            <a:ln w="3816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58840" y="4419720"/>
              <a:ext cx="152784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út lật tra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5105520" y="838080"/>
            <a:ext cx="3725640" cy="642600"/>
          </a:xfrm>
          <a:prstGeom prst="wedgeRectCallout">
            <a:avLst>
              <a:gd name="adj1" fmla="val -32495"/>
              <a:gd name="adj2" fmla="val 18101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Đóng cửa sổ, về chế độ xem bình thườ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19320" y="244080"/>
            <a:ext cx="552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</a:rPr>
              <a:t>Bài 18. TRÌNH BÀY TRANG VĂN BẢN VÀ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2400" y="684720"/>
            <a:ext cx="16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3. In văn bả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295280" y="1123920"/>
            <a:ext cx="6934320" cy="520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2820240" y="6433560"/>
            <a:ext cx="41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Các em nhận xét gì về văn bản trê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09680" y="5334120"/>
            <a:ext cx="2362320" cy="228600"/>
          </a:xfrm>
          <a:prstGeom prst="rect">
            <a:avLst/>
          </a:prstGeom>
          <a:solidFill>
            <a:srgbClr val="ff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4800600"/>
            <a:ext cx="1828800" cy="380880"/>
          </a:xfrm>
          <a:prstGeom prst="wedgeRectCallout">
            <a:avLst>
              <a:gd name="adj1" fmla="val -57550"/>
              <a:gd name="adj2" fmla="val 108333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òng “mồ cô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19320" y="244080"/>
            <a:ext cx="552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</a:rPr>
              <a:t>Bài 18. TRÌNH BÀY TRANG VĂN BẢN VÀ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2400" y="684720"/>
            <a:ext cx="16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3. In văn bả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20240" y="6433560"/>
            <a:ext cx="41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Các em nhận xét gì về văn bản trê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7010280" cy="52578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876920" y="2895480"/>
            <a:ext cx="3429000" cy="762120"/>
          </a:xfrm>
          <a:prstGeom prst="wedgeRectCallout">
            <a:avLst>
              <a:gd name="adj1" fmla="val -24398"/>
              <a:gd name="adj2" fmla="val -86666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ột phần nhỏ của bảng bị nhảy sang trang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938840" y="2747880"/>
            <a:ext cx="590400" cy="5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huy</cp:lastModifiedBy>
  <dcterms:modified xsi:type="dcterms:W3CDTF">2007-07-04T09:11:10Z</dcterms:modified>
  <cp:revision>9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