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gif" ContentType="image/gif"/>
  <Override PartName="/ppt/media/image13.gif" ContentType="image/gif"/>
  <Override PartName="/ppt/media/image16.png" ContentType="image/png"/>
  <Override PartName="/ppt/media/image8.gif" ContentType="image/gif"/>
  <Override PartName="/ppt/media/image7.gif" ContentType="image/gif"/>
  <Override PartName="/ppt/media/image11.gif" ContentType="image/gif"/>
  <Override PartName="/ppt/media/image14.png" ContentType="image/png"/>
  <Override PartName="/ppt/media/image6.gif" ContentType="image/gif"/>
  <Override PartName="/ppt/media/image5.gif" ContentType="image/gif"/>
  <Override PartName="/ppt/media/image12.wmf" ContentType="image/x-wmf"/>
  <Override PartName="/ppt/media/image27.png" ContentType="image/png"/>
  <Override PartName="/ppt/media/image4.gif" ContentType="image/gif"/>
  <Override PartName="/ppt/media/image1.jpeg" ContentType="image/jpeg"/>
  <Override PartName="/ppt/media/image25.gif" ContentType="image/gif"/>
  <Override PartName="/ppt/media/image24.png" ContentType="image/png"/>
  <Override PartName="/ppt/media/image22.gif" ContentType="image/gif"/>
  <Override PartName="/ppt/media/image21.png" ContentType="image/png"/>
  <Override PartName="/ppt/media/image19.png" ContentType="image/png"/>
  <Override PartName="/ppt/media/image17.gif" ContentType="image/gif"/>
  <Override PartName="/ppt/media/image2.jpeg" ContentType="image/jpeg"/>
  <Override PartName="/ppt/media/image20.png" ContentType="image/png"/>
  <Override PartName="/ppt/media/image18.png" ContentType="image/png"/>
  <Override PartName="/ppt/media/image15.png" ContentType="image/png"/>
  <Override PartName="/ppt/media/image3.png" ContentType="image/png"/>
  <Override PartName="/ppt/media/image26.png" ContentType="image/png"/>
  <Override PartName="/ppt/media/image23.gif" ContentType="image/gif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0339-4262-494D-8AC0-296B1FB2E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DA76-7F88-4285-9F45-C3A74DD05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9699-1C04-4651-A042-932915696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711F-494F-4AD5-B65E-F35F559C5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66335-0BD4-466B-A34F-67ADA68B3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6807F-5145-49EA-986D-858705C64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6B335-56F0-4119-A4F3-DE6E8E7FA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0F27D-2A41-468B-A0CB-3F4A4D23C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B56D7-9AD8-48B4-87ED-0E2CEF37E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043C7-5A1A-4457-AD49-F30A1FE31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07554-8549-4574-B1AE-3DAC5EE12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793E-7B51-4C9D-8F2A-108A09AB3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3E036-E10A-4322-90C9-B0B7FD7DE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AF874-D900-4949-BC95-A257B0755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F8121-A85D-44F7-9857-186ECCA9C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80006-1CED-4EED-81BF-9854FE060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B2723-F489-4FEE-81CB-76F8FE6B7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F44E-1792-4E66-9EB6-A7DCCF9FA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22F8-40C5-4DA4-BD17-53CD7C8F5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FECF-FAFA-40FD-AE3D-8EADFA2BF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5B96-D32D-4E87-9E30-32BEA527E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EA66-50EB-4CC1-A8AC-B35AED1C7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396F-8B59-4482-A87E-714E1F463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B65D-E554-4307-910B-0B26CBAE9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alatino Linotyp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50838-377F-4D24-91C1-D0870F8C9363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c56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alatino Linotyp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8D582-63DF-4AB3-84C8-EFEBE4DF4B3F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Font typeface="Palatino Linotype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Palatino Linotype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Font typeface="Palatino Linotype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image" Target="../media/image7.gif"/><Relationship Id="rId7" Type="http://schemas.openxmlformats.org/officeDocument/2006/relationships/image" Target="../media/image8.gif"/><Relationship Id="rId8" Type="http://schemas.openxmlformats.org/officeDocument/2006/relationships/image" Target="../media/image9.gif"/><Relationship Id="rId9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C:\STK\Phothong\GADT6_14_04\CDROM\Chuong1\Bai3\Trochoi_Bai3.xls" TargetMode="External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gif"/><Relationship Id="rId3" Type="http://schemas.openxmlformats.org/officeDocument/2006/relationships/image" Target="../media/image11.gif"/><Relationship Id="rId4" Type="http://schemas.openxmlformats.org/officeDocument/2006/relationships/image" Target="../media/image12.wmf"/><Relationship Id="rId5" Type="http://schemas.openxmlformats.org/officeDocument/2006/relationships/image" Target="../media/image13.gif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gif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gif"/><Relationship Id="rId9" Type="http://schemas.openxmlformats.org/officeDocument/2006/relationships/image" Target="../media/image23.gif"/><Relationship Id="rId10" Type="http://schemas.openxmlformats.org/officeDocument/2006/relationships/image" Target="../media/image24.png"/><Relationship Id="rId11" Type="http://schemas.openxmlformats.org/officeDocument/2006/relationships/image" Target="../media/image25.gif"/><Relationship Id="rId1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c56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4267080" y="457200"/>
            <a:ext cx="1000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Bài 3 </a:t>
            </a:r>
            <a:endParaRPr b="0" lang="en-US" sz="1800" spc="1" strike="noStrike">
              <a:ln w="0">
                <a:noFill/>
              </a:ln>
              <a:solidFill>
                <a:srgbClr val="80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914400" y="1676520"/>
            <a:ext cx="7467480" cy="373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Em có thể làm được những gì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nhờ máy tính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c56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0" y="16765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ahoma"/>
              </a:rPr>
              <a:t>Kết thúc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3505320" y="2819520"/>
            <a:ext cx="1904760" cy="19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c56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-2160" y="1143000"/>
            <a:ext cx="487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Một số khả năng của máy tín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615680" y="3506760"/>
            <a:ext cx="145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Nhóm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352920" y="3511440"/>
            <a:ext cx="145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Nhóm 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149480" y="4141800"/>
            <a:ext cx="22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42857 x </a:t>
            </a:r>
            <a:r>
              <a:rPr b="1" lang="en-US" sz="2400" spc="-1" strike="noStrike">
                <a:solidFill>
                  <a:srgbClr val="cc3300"/>
                </a:solidFill>
                <a:latin typeface="Tahoma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149480" y="5791320"/>
            <a:ext cx="22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42857 x </a:t>
            </a:r>
            <a:r>
              <a:rPr b="1" lang="en-US" sz="2400" spc="-1" strike="noStrike">
                <a:solidFill>
                  <a:srgbClr val="cc3300"/>
                </a:solidFill>
                <a:latin typeface="Tahoma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136880" y="4952880"/>
            <a:ext cx="22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42857 x </a:t>
            </a:r>
            <a:r>
              <a:rPr b="1" lang="en-US" sz="2400" spc="-1" strike="noStrike">
                <a:solidFill>
                  <a:srgbClr val="cc3300"/>
                </a:solidFill>
                <a:latin typeface="Tahoma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797800" y="4065480"/>
            <a:ext cx="22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42857 x </a:t>
            </a:r>
            <a:r>
              <a:rPr b="1" lang="en-US" sz="2400" spc="-1" strike="noStrike">
                <a:solidFill>
                  <a:srgbClr val="cc3300"/>
                </a:solidFill>
                <a:latin typeface="Tahoma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1" lang="en-US" sz="2400" spc="-1" strike="noStrike">
                <a:solidFill>
                  <a:srgbClr val="cc33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797800" y="5715000"/>
            <a:ext cx="22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42857 x </a:t>
            </a:r>
            <a:r>
              <a:rPr b="1" lang="en-US" sz="2400" spc="-1" strike="noStrike">
                <a:solidFill>
                  <a:srgbClr val="cc3300"/>
                </a:solidFill>
                <a:latin typeface="Tahoma"/>
              </a:rPr>
              <a:t>7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1" lang="en-US" sz="2400" spc="-1" strike="noStrike">
                <a:solidFill>
                  <a:srgbClr val="cc33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84840" y="4876920"/>
            <a:ext cx="22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42857 x </a:t>
            </a:r>
            <a:r>
              <a:rPr b="1" lang="en-US" sz="2400" spc="-1" strike="noStrike">
                <a:solidFill>
                  <a:srgbClr val="cc3300"/>
                </a:solidFill>
                <a:latin typeface="Tahoma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1" lang="en-US" sz="2400" spc="-1" strike="noStrike">
                <a:solidFill>
                  <a:srgbClr val="cc33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724280" y="3733920"/>
            <a:ext cx="0" cy="23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53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ff"/>
                </a:solidFill>
                <a:latin typeface="Arial"/>
              </a:rPr>
              <a:t>Bài 3. EM CÓ THỂ LÀM ĐƯỢC NHỮNG GÌ NHỜ MÁY TÍNH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6" name=""/>
          <p:cNvSpPr txBox="1"/>
          <p:nvPr/>
        </p:nvSpPr>
        <p:spPr>
          <a:xfrm rot="412800">
            <a:off x="4114800" y="838080"/>
            <a:ext cx="4495680" cy="209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779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Arial"/>
              </a:rPr>
              <a:t>Khám phá số</a:t>
            </a:r>
            <a:endParaRPr b="0" lang="en-US" sz="32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80880" y="1752480"/>
            <a:ext cx="19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ahoma"/>
              </a:rPr>
              <a:t>Trò chơ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6492960" y="2209680"/>
            <a:ext cx="555480" cy="6098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4892760" y="2438280"/>
            <a:ext cx="563400" cy="6098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5"/>
          <a:stretch/>
        </p:blipFill>
        <p:spPr>
          <a:xfrm>
            <a:off x="5959440" y="2286000"/>
            <a:ext cx="593640" cy="6094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6"/>
          <a:stretch/>
        </p:blipFill>
        <p:spPr>
          <a:xfrm>
            <a:off x="5349960" y="2362320"/>
            <a:ext cx="587160" cy="6094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7"/>
          <a:stretch/>
        </p:blipFill>
        <p:spPr>
          <a:xfrm>
            <a:off x="7026120" y="2133720"/>
            <a:ext cx="571680" cy="6094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8"/>
          <a:stretch/>
        </p:blipFill>
        <p:spPr>
          <a:xfrm>
            <a:off x="7483320" y="2057400"/>
            <a:ext cx="59400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c56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-2160" y="1143000"/>
            <a:ext cx="487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Một số khả năng của máy tín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02480" y="1752480"/>
            <a:ext cx="185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ahoma"/>
              </a:rPr>
              <a:t>Kết quả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53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ff"/>
                </a:solidFill>
                <a:latin typeface="Arial"/>
              </a:rPr>
              <a:t>Bài 3. EM CÓ THỂ LÀM ĐƯỢC NHỮNG GÌ NHỜ MÁY TÍNH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07" name=""/>
          <p:cNvSpPr/>
          <p:nvPr/>
        </p:nvSpPr>
        <p:spPr>
          <a:xfrm>
            <a:off x="1298160" y="2565360"/>
            <a:ext cx="145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Nhóm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35400" y="2570040"/>
            <a:ext cx="145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Nhóm 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12880" y="3200400"/>
            <a:ext cx="198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42857 x </a:t>
            </a:r>
            <a:r>
              <a:rPr b="1" lang="en-US" sz="2400" spc="-1" strike="noStrike">
                <a:solidFill>
                  <a:srgbClr val="cc3300"/>
                </a:solidFill>
                <a:latin typeface="Tahoma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17920" y="4849920"/>
            <a:ext cx="206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42857 x </a:t>
            </a:r>
            <a:r>
              <a:rPr b="1" lang="en-US" sz="2400" spc="-1" strike="noStrike">
                <a:solidFill>
                  <a:srgbClr val="cc3300"/>
                </a:solidFill>
                <a:latin typeface="Tahoma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05320" y="4011480"/>
            <a:ext cx="206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42857 x </a:t>
            </a:r>
            <a:r>
              <a:rPr b="1" lang="en-US" sz="2400" spc="-1" strike="noStrike">
                <a:solidFill>
                  <a:srgbClr val="cc3300"/>
                </a:solidFill>
                <a:latin typeface="Tahoma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466240" y="3124080"/>
            <a:ext cx="206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42857 x </a:t>
            </a:r>
            <a:r>
              <a:rPr b="1" lang="en-US" sz="2400" spc="-1" strike="noStrike">
                <a:solidFill>
                  <a:srgbClr val="cc3300"/>
                </a:solidFill>
                <a:latin typeface="Tahoma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466240" y="4773600"/>
            <a:ext cx="206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42857 x </a:t>
            </a:r>
            <a:r>
              <a:rPr b="1" lang="en-US" sz="2400" spc="-1" strike="noStrike">
                <a:solidFill>
                  <a:srgbClr val="cc3300"/>
                </a:solidFill>
                <a:latin typeface="Tahoma"/>
              </a:rPr>
              <a:t>7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453280" y="3935520"/>
            <a:ext cx="206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42857 x </a:t>
            </a:r>
            <a:r>
              <a:rPr b="1" lang="en-US" sz="2400" spc="-1" strike="noStrike">
                <a:solidFill>
                  <a:srgbClr val="cc3300"/>
                </a:solidFill>
                <a:latin typeface="Tahoma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724280" y="2792520"/>
            <a:ext cx="0" cy="23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033000" y="3200400"/>
            <a:ext cx="122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ahoma"/>
              </a:rPr>
              <a:t>2857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33000" y="4038480"/>
            <a:ext cx="122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ahoma"/>
              </a:rPr>
              <a:t>5714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109320" y="4800600"/>
            <a:ext cx="122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ahoma"/>
              </a:rPr>
              <a:t>85714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81320" y="3124080"/>
            <a:ext cx="122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ahoma"/>
              </a:rPr>
              <a:t>42857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681320" y="3886200"/>
            <a:ext cx="122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ahoma"/>
              </a:rPr>
              <a:t>71428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681320" y="4800600"/>
            <a:ext cx="122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ahoma"/>
              </a:rPr>
              <a:t>9999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>
            <a:hlinkClick r:id="rId1"/>
          </p:cNvPr>
          <p:cNvSpPr/>
          <p:nvPr/>
        </p:nvSpPr>
        <p:spPr>
          <a:xfrm>
            <a:off x="2520720" y="3505320"/>
            <a:ext cx="42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ính toán bằng máy tín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4" dur="10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6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c56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-2160" y="1143000"/>
            <a:ext cx="487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Một số khả năng của máy tín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06720" y="2065320"/>
            <a:ext cx="258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- Tính toán nhan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04920" y="2743200"/>
            <a:ext cx="480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- Tính toán với độ chính xác ca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04920" y="34290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- Lưu trữ lớ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4067280"/>
            <a:ext cx="389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- Làm việc không mệt mỏ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53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ff"/>
                </a:solidFill>
                <a:latin typeface="Arial"/>
              </a:rPr>
              <a:t>Bài 3. EM CÓ THỂ LÀM ĐƯỢC NHỮNG GÌ NHỜ MÁY TÍNH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5486400" y="1752480"/>
            <a:ext cx="3714840" cy="2895840"/>
            <a:chOff x="5486400" y="1752480"/>
            <a:chExt cx="3714840" cy="2895840"/>
          </a:xfrm>
        </p:grpSpPr>
        <p:pic>
          <p:nvPicPr>
            <p:cNvPr id="130" name="" descr=""/>
            <p:cNvPicPr/>
            <p:nvPr/>
          </p:nvPicPr>
          <p:blipFill>
            <a:blip r:embed="rId1"/>
            <a:stretch/>
          </p:blipFill>
          <p:spPr>
            <a:xfrm>
              <a:off x="5486400" y="1752480"/>
              <a:ext cx="3714840" cy="289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" descr=""/>
            <p:cNvPicPr/>
            <p:nvPr/>
          </p:nvPicPr>
          <p:blipFill>
            <a:blip r:embed="rId2"/>
            <a:stretch/>
          </p:blipFill>
          <p:spPr>
            <a:xfrm>
              <a:off x="6077160" y="2666880"/>
              <a:ext cx="838080" cy="25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" descr=""/>
            <p:cNvPicPr/>
            <p:nvPr/>
          </p:nvPicPr>
          <p:blipFill>
            <a:blip r:embed="rId3"/>
            <a:stretch/>
          </p:blipFill>
          <p:spPr>
            <a:xfrm rot="21428400">
              <a:off x="6077160" y="2895120"/>
              <a:ext cx="836640" cy="255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4800600" y="1676520"/>
            <a:ext cx="4191120" cy="32130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5"/>
          <a:stretch/>
        </p:blipFill>
        <p:spPr>
          <a:xfrm>
            <a:off x="6095880" y="2362320"/>
            <a:ext cx="1752840" cy="1752480"/>
          </a:xfrm>
          <a:prstGeom prst="rect">
            <a:avLst/>
          </a:prstGeom>
          <a:ln w="0">
            <a:noFill/>
          </a:ln>
        </p:spPr>
      </p:pic>
      <p:grpSp>
        <p:nvGrpSpPr>
          <p:cNvPr id="135" name=""/>
          <p:cNvGrpSpPr/>
          <p:nvPr/>
        </p:nvGrpSpPr>
        <p:grpSpPr>
          <a:xfrm>
            <a:off x="2590920" y="2228760"/>
            <a:ext cx="5867280" cy="4629240"/>
            <a:chOff x="2590920" y="2228760"/>
            <a:chExt cx="5867280" cy="4629240"/>
          </a:xfrm>
        </p:grpSpPr>
        <p:sp>
          <p:nvSpPr>
            <p:cNvPr id="136" name=""/>
            <p:cNvSpPr/>
            <p:nvPr/>
          </p:nvSpPr>
          <p:spPr>
            <a:xfrm>
              <a:off x="3733920" y="2228760"/>
              <a:ext cx="4724280" cy="2362320"/>
            </a:xfrm>
            <a:prstGeom prst="cloudCallout">
              <a:avLst>
                <a:gd name="adj1" fmla="val -54870"/>
                <a:gd name="adj2" fmla="val 75805"/>
              </a:avLst>
            </a:prstGeom>
            <a:gradFill rotWithShape="0">
              <a:gsLst>
                <a:gs pos="0">
                  <a:srgbClr val="e9dcb9"/>
                </a:gs>
                <a:gs pos="100000">
                  <a:srgbClr val="ff99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Verdana"/>
                </a:rPr>
                <a:t>Máy tính có những khả năng gì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7" name="" descr=""/>
            <p:cNvPicPr/>
            <p:nvPr/>
          </p:nvPicPr>
          <p:blipFill>
            <a:blip r:embed="rId6"/>
            <a:stretch/>
          </p:blipFill>
          <p:spPr>
            <a:xfrm>
              <a:off x="2590920" y="4952880"/>
              <a:ext cx="1905120" cy="1905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43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64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9" dur="10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c56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-4320" y="1143000"/>
            <a:ext cx="651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Có thể dùng máy tính vào những việc gì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26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53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ff"/>
                </a:solidFill>
                <a:latin typeface="Arial"/>
              </a:rPr>
              <a:t>Bài 3. EM CÓ THỂ LÀM ĐƯỢC NHỮNG GÌ NHỜ MÁY TÍNH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0" y="1752480"/>
            <a:ext cx="6553080" cy="5105520"/>
            <a:chOff x="0" y="1752480"/>
            <a:chExt cx="6553080" cy="5105520"/>
          </a:xfrm>
        </p:grpSpPr>
        <p:sp>
          <p:nvSpPr>
            <p:cNvPr id="142" name=""/>
            <p:cNvSpPr/>
            <p:nvPr/>
          </p:nvSpPr>
          <p:spPr>
            <a:xfrm>
              <a:off x="1828800" y="1752480"/>
              <a:ext cx="4724280" cy="2667240"/>
            </a:xfrm>
            <a:prstGeom prst="cloudCallout">
              <a:avLst>
                <a:gd name="adj1" fmla="val -62870"/>
                <a:gd name="adj2" fmla="val 61962"/>
              </a:avLst>
            </a:prstGeom>
            <a:gradFill rotWithShape="0">
              <a:gsLst>
                <a:gs pos="0">
                  <a:srgbClr val="e9dcb9"/>
                </a:gs>
                <a:gs pos="100000">
                  <a:srgbClr val="ff99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00"/>
                  </a:solidFill>
                  <a:latin typeface="Tahoma"/>
                </a:rPr>
                <a:t>Liệt kê những công việc được thực hiện nhờ máy tính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3" name="" descr=""/>
            <p:cNvPicPr/>
            <p:nvPr/>
          </p:nvPicPr>
          <p:blipFill>
            <a:blip r:embed="rId1"/>
            <a:stretch/>
          </p:blipFill>
          <p:spPr>
            <a:xfrm>
              <a:off x="0" y="3429000"/>
              <a:ext cx="1457280" cy="3429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4" name=""/>
          <p:cNvGrpSpPr/>
          <p:nvPr/>
        </p:nvGrpSpPr>
        <p:grpSpPr>
          <a:xfrm>
            <a:off x="1600200" y="2057400"/>
            <a:ext cx="6172200" cy="4574520"/>
            <a:chOff x="1600200" y="2057400"/>
            <a:chExt cx="6172200" cy="4574520"/>
          </a:xfrm>
        </p:grpSpPr>
        <p:sp>
          <p:nvSpPr>
            <p:cNvPr id="145" name=""/>
            <p:cNvSpPr/>
            <p:nvPr/>
          </p:nvSpPr>
          <p:spPr>
            <a:xfrm>
              <a:off x="2742120" y="6172200"/>
              <a:ext cx="362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Thực hiện các tính toá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6" name="" descr=""/>
            <p:cNvPicPr/>
            <p:nvPr/>
          </p:nvPicPr>
          <p:blipFill>
            <a:blip r:embed="rId2"/>
            <a:stretch/>
          </p:blipFill>
          <p:spPr>
            <a:xfrm>
              <a:off x="1600200" y="2057400"/>
              <a:ext cx="6172200" cy="359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" descr=""/>
            <p:cNvPicPr/>
            <p:nvPr/>
          </p:nvPicPr>
          <p:blipFill>
            <a:blip r:embed="rId3"/>
            <a:stretch/>
          </p:blipFill>
          <p:spPr>
            <a:xfrm>
              <a:off x="4422600" y="2514600"/>
              <a:ext cx="1597320" cy="1143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8" name=""/>
          <p:cNvGrpSpPr/>
          <p:nvPr/>
        </p:nvGrpSpPr>
        <p:grpSpPr>
          <a:xfrm>
            <a:off x="1137600" y="2295360"/>
            <a:ext cx="7495920" cy="4193640"/>
            <a:chOff x="1137600" y="2295360"/>
            <a:chExt cx="7495920" cy="4193640"/>
          </a:xfrm>
        </p:grpSpPr>
        <p:pic>
          <p:nvPicPr>
            <p:cNvPr id="149" name="" descr=""/>
            <p:cNvPicPr/>
            <p:nvPr/>
          </p:nvPicPr>
          <p:blipFill>
            <a:blip r:embed="rId4"/>
            <a:stretch/>
          </p:blipFill>
          <p:spPr>
            <a:xfrm>
              <a:off x="1299960" y="2295360"/>
              <a:ext cx="3353040" cy="2749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" descr=""/>
            <p:cNvPicPr/>
            <p:nvPr/>
          </p:nvPicPr>
          <p:blipFill>
            <a:blip r:embed="rId5"/>
            <a:stretch/>
          </p:blipFill>
          <p:spPr>
            <a:xfrm>
              <a:off x="4576680" y="2381040"/>
              <a:ext cx="3867120" cy="258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1137600" y="5052960"/>
              <a:ext cx="7495920" cy="368280"/>
            </a:xfrm>
            <a:prstGeom prst="rect">
              <a:avLst/>
            </a:prstGeom>
            <a:solidFill>
              <a:srgbClr val="2b55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Quản l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í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những công việc lớn </a:t>
              </a:r>
              <a:r>
                <a:rPr b="1" lang="en-US" sz="1800" spc="-1" strike="noStrike">
                  <a:solidFill>
                    <a:srgbClr val="ff0000"/>
                  </a:solidFill>
                  <a:latin typeface="Tahoma"/>
                </a:rPr>
                <a:t>không thể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chỉ dùng giấy tờ, sổ sá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99080" y="6029280"/>
              <a:ext cx="3515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Hỗ trợ công tác quản lí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2588760" y="1996920"/>
            <a:ext cx="4726440" cy="4558680"/>
            <a:chOff x="2588760" y="1996920"/>
            <a:chExt cx="4726440" cy="4558680"/>
          </a:xfrm>
        </p:grpSpPr>
        <p:pic>
          <p:nvPicPr>
            <p:cNvPr id="154" name="" descr=""/>
            <p:cNvPicPr/>
            <p:nvPr/>
          </p:nvPicPr>
          <p:blipFill>
            <a:blip r:embed="rId6"/>
            <a:stretch/>
          </p:blipFill>
          <p:spPr>
            <a:xfrm>
              <a:off x="2590920" y="1996920"/>
              <a:ext cx="4724280" cy="356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2588760" y="6095880"/>
              <a:ext cx="3993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Công cụ học tập và giải trí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2512800" y="1752480"/>
            <a:ext cx="4246920" cy="4879080"/>
            <a:chOff x="2512800" y="1752480"/>
            <a:chExt cx="4246920" cy="4879080"/>
          </a:xfrm>
        </p:grpSpPr>
        <p:pic>
          <p:nvPicPr>
            <p:cNvPr id="157" name="" descr=""/>
            <p:cNvPicPr/>
            <p:nvPr/>
          </p:nvPicPr>
          <p:blipFill>
            <a:blip r:embed="rId7"/>
            <a:stretch/>
          </p:blipFill>
          <p:spPr>
            <a:xfrm>
              <a:off x="3117960" y="1752480"/>
              <a:ext cx="3295440" cy="403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2512800" y="6171840"/>
              <a:ext cx="4246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Điều khiển tự động và robo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1523880" y="1523880"/>
            <a:ext cx="6662880" cy="5031720"/>
            <a:chOff x="1523880" y="1523880"/>
            <a:chExt cx="6662880" cy="5031720"/>
          </a:xfrm>
        </p:grpSpPr>
        <p:sp>
          <p:nvSpPr>
            <p:cNvPr id="160" name=""/>
            <p:cNvSpPr/>
            <p:nvPr/>
          </p:nvSpPr>
          <p:spPr>
            <a:xfrm>
              <a:off x="2164680" y="6095880"/>
              <a:ext cx="5894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Liên lạc, tra cứu và mua bán trực tuyế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1" name="" descr=""/>
            <p:cNvPicPr/>
            <p:nvPr/>
          </p:nvPicPr>
          <p:blipFill>
            <a:blip r:embed="rId8"/>
            <a:stretch/>
          </p:blipFill>
          <p:spPr>
            <a:xfrm>
              <a:off x="4376520" y="4190760"/>
              <a:ext cx="3810240" cy="87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" descr=""/>
            <p:cNvPicPr/>
            <p:nvPr/>
          </p:nvPicPr>
          <p:blipFill>
            <a:blip r:embed="rId9"/>
            <a:stretch/>
          </p:blipFill>
          <p:spPr>
            <a:xfrm>
              <a:off x="1523880" y="1523880"/>
              <a:ext cx="124452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"/>
            <p:cNvSpPr/>
            <p:nvPr/>
          </p:nvSpPr>
          <p:spPr>
            <a:xfrm>
              <a:off x="2927880" y="2895480"/>
              <a:ext cx="2483640" cy="398880"/>
            </a:xfrm>
            <a:prstGeom prst="rect">
              <a:avLst/>
            </a:prstGeom>
            <a:solidFill>
              <a:srgbClr val="2b55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ra cứu, tải dữ liệu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060880" y="5333760"/>
              <a:ext cx="2809800" cy="398880"/>
            </a:xfrm>
            <a:prstGeom prst="rect">
              <a:avLst/>
            </a:prstGeom>
            <a:solidFill>
              <a:srgbClr val="2b55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Gửi, nhận thư điện tử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1332000" y="1981080"/>
            <a:ext cx="6521040" cy="4498200"/>
            <a:chOff x="1332000" y="1981080"/>
            <a:chExt cx="6521040" cy="4498200"/>
          </a:xfrm>
        </p:grpSpPr>
        <p:sp>
          <p:nvSpPr>
            <p:cNvPr id="166" name=""/>
            <p:cNvSpPr/>
            <p:nvPr/>
          </p:nvSpPr>
          <p:spPr>
            <a:xfrm>
              <a:off x="2102040" y="6019560"/>
              <a:ext cx="575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Tự động hoá các công việc văn phò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7" name="" descr=""/>
            <p:cNvPicPr/>
            <p:nvPr/>
          </p:nvPicPr>
          <p:blipFill>
            <a:blip r:embed="rId10"/>
            <a:stretch/>
          </p:blipFill>
          <p:spPr>
            <a:xfrm>
              <a:off x="1676160" y="1981080"/>
              <a:ext cx="6095880" cy="3279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" descr=""/>
            <p:cNvPicPr/>
            <p:nvPr/>
          </p:nvPicPr>
          <p:blipFill>
            <a:blip r:embed="rId11"/>
            <a:stretch/>
          </p:blipFill>
          <p:spPr>
            <a:xfrm flipH="1" rot="21024000">
              <a:off x="1447200" y="3725640"/>
              <a:ext cx="160308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06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2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39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5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c56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-4320" y="1143000"/>
            <a:ext cx="651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Có thể dùng máy tính vào những việc gì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827720" y="2133720"/>
            <a:ext cx="362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hực hiện các tính toá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827720" y="2819520"/>
            <a:ext cx="575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ự động hoá các công việc văn phò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880280" y="3429000"/>
            <a:ext cx="35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Hỗ trợ công tác quản l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860120" y="4038480"/>
            <a:ext cx="399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ông cụ học tập và giải tr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860480" y="4724280"/>
            <a:ext cx="424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Điều khiển tự động và rob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860120" y="5334120"/>
            <a:ext cx="589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Liên lạc, tra cứu và mua bán trực tuyế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838080" y="1981080"/>
            <a:ext cx="381240" cy="381240"/>
          </a:xfrm>
          <a:prstGeom prst="sun">
            <a:avLst>
              <a:gd name="adj" fmla="val 25000"/>
            </a:avLst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219320" y="2286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219320" y="2286000"/>
            <a:ext cx="609480" cy="312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219320" y="2286000"/>
            <a:ext cx="60948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19320" y="2286000"/>
            <a:ext cx="68580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219320" y="2286000"/>
            <a:ext cx="68580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219320" y="2286000"/>
            <a:ext cx="685800" cy="259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53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ff"/>
                </a:solidFill>
                <a:latin typeface="Arial"/>
              </a:rPr>
              <a:t>Bài 3. EM CÓ THỂ LÀM ĐƯỢC NHỮNG GÌ NHỜ MÁY TÍNH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c56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-2880" y="1066680"/>
            <a:ext cx="531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 Máy tính và những điều chưa th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447920" y="1600200"/>
            <a:ext cx="6705360" cy="502920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53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ff"/>
                </a:solidFill>
                <a:latin typeface="Arial"/>
              </a:rPr>
              <a:t>Bài 3. EM CÓ THỂ LÀM ĐƯỢC NHỮNG GÌ NHỜ MÁY TÍNH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7" dur="18853" fill="hold"/>
                                        <p:tgtEl>
                                          <p:spTgt spid="1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8" restart="whenNotActive" nodeType="interactiveSeq" fill="hold">
                <p:stCondLst>
                  <p:cond evt="onClick">
                    <p:tgtEl>
                      <p:spTgt spid="185"/>
                    </p:tgtEl>
                  </p:cond>
                </p:stCondLst>
                <p:childTnLst>
                  <p:par>
                    <p:cTn id="269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72" dur="1" fill="hold"/>
                                        <p:tgtEl>
                                          <p:spTgt spid="1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c56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-2880" y="1219320"/>
            <a:ext cx="531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 Máy tính và những điều chưa th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53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ff"/>
                </a:solidFill>
                <a:latin typeface="Arial"/>
              </a:rPr>
              <a:t>Bài 3. EM CÓ THỂ LÀM ĐƯỢC NHỮNG GÌ NHỜ MÁY TÍNH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89" name=""/>
          <p:cNvSpPr/>
          <p:nvPr/>
        </p:nvSpPr>
        <p:spPr>
          <a:xfrm>
            <a:off x="685800" y="1905120"/>
            <a:ext cx="8153280" cy="16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buClr>
                <a:srgbClr val="000066"/>
              </a:buClr>
              <a:buFont typeface="Arial"/>
              <a:buChar char="•"/>
              <a:tabLst>
                <a:tab algn="l" pos="507960"/>
                <a:tab algn="l" pos="1015920"/>
                <a:tab algn="l" pos="1523880"/>
                <a:tab algn="l" pos="2031840"/>
                <a:tab algn="l" pos="2540160"/>
                <a:tab algn="l" pos="3048120"/>
                <a:tab algn="l" pos="3556080"/>
                <a:tab algn="l" pos="4064040"/>
                <a:tab algn="l" pos="4572000"/>
                <a:tab algn="l" pos="5079960"/>
                <a:tab algn="l" pos="5587920"/>
                <a:tab algn="l" pos="6095880"/>
                <a:tab algn="l" pos="6603840"/>
                <a:tab algn="l" pos="7112160"/>
                <a:tab algn="l" pos="7620120"/>
                <a:tab algn="l" pos="8128080"/>
                <a:tab algn="l" pos="8636040"/>
                <a:tab algn="l" pos="9144000"/>
                <a:tab algn="l" pos="9651960"/>
                <a:tab algn="l" pos="1015992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áy tính chưa thể có khả năng tư duy và cảm giác (phân biệt mùi vị…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507960"/>
                <a:tab algn="l" pos="1015920"/>
                <a:tab algn="l" pos="1523880"/>
                <a:tab algn="l" pos="2031840"/>
                <a:tab algn="l" pos="2540160"/>
                <a:tab algn="l" pos="3048120"/>
                <a:tab algn="l" pos="3556080"/>
                <a:tab algn="l" pos="4064040"/>
                <a:tab algn="l" pos="4572000"/>
                <a:tab algn="l" pos="5079960"/>
                <a:tab algn="l" pos="5587920"/>
                <a:tab algn="l" pos="6095880"/>
                <a:tab algn="l" pos="6603840"/>
                <a:tab algn="l" pos="7112160"/>
                <a:tab algn="l" pos="7620120"/>
                <a:tab algn="l" pos="8128080"/>
                <a:tab algn="l" pos="8636040"/>
                <a:tab algn="l" pos="9144000"/>
                <a:tab algn="l" pos="9651960"/>
                <a:tab algn="l" pos="1015992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Máy tính chưa thể thay thế hoàn toàn con ngườ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" y="4191120"/>
            <a:ext cx="8229600" cy="11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07960" indent="406440" algn="just">
              <a:lnSpc>
                <a:spcPct val="120000"/>
              </a:lnSpc>
              <a:spcBef>
                <a:spcPts val="15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Con người làm ra máy tín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on người quyết định sức mạnh của máy tín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c56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228600" y="1752480"/>
            <a:ext cx="8686800" cy="4572000"/>
          </a:xfrm>
          <a:prstGeom prst="bevel">
            <a:avLst>
              <a:gd name="adj" fmla="val 1792"/>
            </a:avLst>
          </a:prstGeom>
          <a:gradFill rotWithShape="0">
            <a:gsLst>
              <a:gs pos="0">
                <a:srgbClr val="006600"/>
              </a:gs>
              <a:gs pos="50000">
                <a:srgbClr val="339966"/>
              </a:gs>
              <a:gs pos="100000">
                <a:srgbClr val="0066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981080" y="99072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ahoma"/>
              </a:rPr>
              <a:t>Bài tập củng c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53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ff"/>
                </a:solidFill>
                <a:latin typeface="Arial"/>
              </a:rPr>
              <a:t>Bài 3. EM CÓ THỂ LÀM ĐƯỢC NHỮNG GÌ NHỜ MÁY TÍNH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94" name=""/>
          <p:cNvSpPr/>
          <p:nvPr/>
        </p:nvSpPr>
        <p:spPr>
          <a:xfrm>
            <a:off x="380880" y="1980360"/>
            <a:ext cx="843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ác phát biểu sau đây là đúng hay sai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380880" y="2666880"/>
          <a:ext cx="8305920" cy="2828880"/>
        </p:xfrm>
        <a:graphic>
          <a:graphicData uri="http://schemas.openxmlformats.org/drawingml/2006/table">
            <a:tbl>
              <a:tblPr/>
              <a:tblGrid>
                <a:gridCol w="6705720"/>
                <a:gridCol w="838080"/>
                <a:gridCol w="76212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Đú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i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áy tính là công cụ đa dụng và có những khả năng to lớn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áy tính có thể làm được tất cả mọi việc, có thể thay thế hoàn toàn con người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áy tính chỉ làm được những gì mà con người chỉ dẫn thông qua câu lệnh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ức mạnh của máy tính không phụ thuộc vào con người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6" name=""/>
          <p:cNvSpPr/>
          <p:nvPr/>
        </p:nvSpPr>
        <p:spPr>
          <a:xfrm>
            <a:off x="7240320" y="3049560"/>
            <a:ext cx="52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8002440" y="3657600"/>
            <a:ext cx="52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240320" y="4419720"/>
            <a:ext cx="52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8002440" y="4995720"/>
            <a:ext cx="52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8T06:37:45Z</dcterms:created>
  <dc:creator>Ngoc Thong</dc:creator>
  <dc:description/>
  <dc:language>en-US</dc:language>
  <cp:lastModifiedBy>thuy</cp:lastModifiedBy>
  <dcterms:modified xsi:type="dcterms:W3CDTF">2007-07-03T01:47:10Z</dcterms:modified>
  <cp:revision>358</cp:revision>
  <dc:subject/>
  <dc:title>Bài 1 _ THÔNG TIN VÀ TIN HỌC</dc:title>
</cp:coreProperties>
</file>