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BCD6-46D5-42F3-8A99-573896734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8776-A681-4A36-8682-21B2472D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93EF-D16E-48E9-968A-1C09AA286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63FC-7F7F-408D-A232-0BB6218F1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6BAB-445B-454F-AAE4-C1AD401E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82D7-11A1-4159-B9FD-B5D56C7B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74D2-2DB5-4C49-80E3-705896D9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E0AF-FCA8-42B3-AB2F-1093C6D5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834D-826E-44A2-8331-9FD16766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4A87-2E19-455B-80EE-065780D9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B9B2-9373-48B8-AF3B-FDBF8B1C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29A6-BA8E-430A-9A61-32919620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8F55-542A-41A5-B15A-3F81A3CA1B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ÀI TẬP CUỐI CHƯƠNG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28240" y="380520"/>
            <a:ext cx="84582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Ta có OA = OC và AE = CF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y ra OE = OF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 lại có DM // NB và DM = NB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y ra tứ giác DMBN là hình bình hàn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y ra O là trung điểm của M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ứ giác EMFN có hai đường chéo cắt nhau tại trung điểm O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y ra tứ giác EMFN là hình bình hàn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4656240" y="179280"/>
            <a:ext cx="441144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ài tập 9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o tam giác ABC cân tại A. Gọi H, D lần lượt là trung điểm của các cạnh BC và A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/ Chứng minh rằng tứ giác ADHC là hình tha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/ Gọi E là điểm đối xứng với H qua D. Chứng minh rằng tứ giác AHBE là hình chữ nhậ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 Tia CD cắt AH tại M và cắt BE tại N. Chứng minh rằng tứ giác AMBN là hình bình hàn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6157800" y="3581280"/>
            <a:ext cx="26020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Xét ∆AHB vuông tại H c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D là đường trung tuyến ứng với cạnh huyền AB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y ra HD = BD = AB/ 2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hi đó ∆DHB cân tại D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y ra  góc DBH = góc DHB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 giác ABC cân tại 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y ra góc  ACB = góc DBH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y ra  góc ACB =góc  DHB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 có góc ACB = góc DH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ai góc ở vị trí đồng vị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đó DH // AC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ậy tứ giác ADHC là hình tha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5257800" y="1219320"/>
            <a:ext cx="373392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/ Gọi E là điểm đối xứng với H qua D. Chứng minh rằng tứ giác AHBE là hình chữ nhậ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 giác ABC cân tại 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ó đường trung tuyến A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ên AH cũng là đường cao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y ra AH ⊥ B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ét tứ giác AHBE, ta có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= DB và DH = D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ên  AHBE là hình bình hành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ặt khác,  góc AHB = 9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ên hình bình hành AHBE là hình chữ nhậ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5257800" y="1219320"/>
            <a:ext cx="373392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 Tia CD cắt AH tại M và cắt BE tại N. Chứng minh rằng tứ giác AMBN là hình bình hàn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Xét ∆ADM và ∆BDN, ta có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óc ADM= BDN (đối đỉnh)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óc DAM = góc DBN(soletrong)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A = DB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y ra ∆ADM = ∆BDN (g.c.g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ên DM = D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ứ giác AMBN có hai đường chéo cắt nhau tại trung điểm của mỗi đường nên AMBN là hình bình hàn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5486400" y="838080"/>
            <a:ext cx="373392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228240" y="152280"/>
            <a:ext cx="84582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ài tập 10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o tam giác ABC vuông tại A (AB &lt; AC). Gọi M, N, E lần lượt là trung điểm của AB, AC, B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/ Chứng minh rằng tứ giác ANEB là hình thang vuô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/ Chứng minh rằng tứ giác ANEM là hình chữ nhậ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 Qua M kẻ đường thẳng song song với BN cắt tia EN tại F. Chứng minh rằng tứ giác AFCE là hình tho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/ Gọi D là điểm đối xứng của E qua M. Chứng minh rằng A là trung điểm của DF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3543480" y="4057560"/>
            <a:ext cx="48384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ọi Q là điểm đối xứng của N qua 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 có tứ giác BNCQ là hình bình hành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y ra BQ // CN và BQ = C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đó, BQ // AN và BQ = A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y ra tứ giác ANQB là hình bình hành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y ra NQ // AB hay NE // AB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 lại có AB ⊥ AC, suy ra NE ⊥ AN. Vậy tứ giác ANEB là hình thang vuông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3695760" y="3886200"/>
            <a:ext cx="483876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Chứng minh tương tự câu a) ta có ME ⊥ A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ứ giác ANEM có ba góc vuông nên ANEM là hình chữ nhậ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Tứ giác BMFN có BN // MF và BM // NF nên BMFN là hình bình hành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y ra NF = BM = AM = 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ứ giác AFCE có hai đường chéo vuông góc tại trung điểm mỗi đường nên AFCE là hình tho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3124080" y="-122400"/>
            <a:ext cx="483876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Tứ giác AEBD có MA = MB và ME = MD nên AEBD là hình bình hàn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y ra AD // EB và AD = E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 có AFCE là hình thoi nên AF // CE và AF = 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à EB = EC, suy ra AF = 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ặt khác, AD // BC // AF nên A, D, F thẳng hàng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ậy A là trung điểm của DF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2971800" y="0"/>
            <a:ext cx="483876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ài tập 1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o hình bình hành ABCD có AB = 2AD. Gọi E và F lần lượt là trung điểm của AB và CD, I là giao điểm của AF và DE, K là giao điểm của BF và 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/ Chứng minh rằng tứ giác AECF là hình bình hàn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/ Tứ giác AEFD là hình gì? Vì sa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 Chứng minh rằng tứ giác EIFK là hình chữ nhậ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/ Tìm điều kiện của hình bình hành ABCD để tứ giác EIFK là hình vuô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3809880" y="3733920"/>
            <a:ext cx="48355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3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655344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Ta có ABCD là hình bình hàn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ên AB // CD và AB = C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y ra AE // CF và AE = CF, suy ra tứ giác AECF là hình bình hàn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Ta có AE // DF và AE = DF, suy ra tứ giác AEFD là hình bình hàn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ặt khác AD = AE (AB = 2AD) nên hình bình hành AEFD là hình tho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3809880" y="0"/>
            <a:ext cx="48355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Tứ giác EBFD có EB // DF và EB = D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ên EBFD là hình bình hành. Suy ra EI // FK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ng hình thoi AEFD, ta có ED ⊥ AF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 có EK // IF, EI // FK và IE ⊥ IF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y ra tứ giác EIFK là hình chữ nhậ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Tứ giác EIFK là hình vuông khi IF = IE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y ra AF = 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y ra hình thoi AEFD là hình vuô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y góc DAE = 9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ậy ABCD là hình chữ nhậ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4537080" y="4114800"/>
            <a:ext cx="48355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ài tập 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Cho hình bình hành ABCD có AD = 2AB. Từ C vẽ CE vuông góc với AB tại E. Nối E với trung điểm M của AD. Từ M vẽ MF vuông góc với CE tại F, MF cắt BC tại 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/ Tứ giác MNCD là hình gì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/ Chứng minh tam giác EMC cân tại 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 Chứng minh rằng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800600" y="3352680"/>
            <a:ext cx="3505320" cy="213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Object 1"/>
          <p:cNvGraphicFramePr/>
          <p:nvPr/>
        </p:nvGraphicFramePr>
        <p:xfrm>
          <a:off x="3657600" y="3124080"/>
          <a:ext cx="1689120" cy="368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7600" y="3124080"/>
                    <a:ext cx="168912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/ Tứ giác MNCD là hình gì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 có MN // AB (vì cùng vuông góc với CE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y ra MN // CD (vì AB // CD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ét tứ giác MNCD có MN // CD và NC // MD  nên MNCD là hình bình hàn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ặt khác, CD = MD (vì CD = 1 /2 AD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ậy hình bình hành MNCD là hình tho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4870440" y="0"/>
            <a:ext cx="35053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/ Chứng minh tam giác EMC cân tại 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 có ∆EBC vuông tại E và NC = NB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y ra EN = 1/ 2 BC = N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y ra ∆ENC cân tại 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à NF là đường cao nên NF cũng là đường trung trực của ∆EN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y ra ME = MC hay ∆MEC cân tại 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4870440" y="76320"/>
            <a:ext cx="35053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 Chứng minh rằng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 có góc AEM = góc EMN (góc so le trong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óc  EMN = gócNMC (∆EMC cân tại M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óc NMC= gócMCD (góc so le trong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y ra  góc AEM = góc MC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 lại có MDCN là hình thoi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y r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ng hình bình hành ABCD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 có                          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ậy                        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Object 3"/>
          <p:cNvGraphicFramePr/>
          <p:nvPr/>
        </p:nvGraphicFramePr>
        <p:xfrm>
          <a:off x="4495680" y="304920"/>
          <a:ext cx="1689120" cy="36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04920"/>
                    <a:ext cx="168912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Picture 4" descr=""/>
          <p:cNvPicPr/>
          <p:nvPr/>
        </p:nvPicPr>
        <p:blipFill>
          <a:blip r:embed="rId3"/>
          <a:stretch/>
        </p:blipFill>
        <p:spPr>
          <a:xfrm>
            <a:off x="5334120" y="2362320"/>
            <a:ext cx="3504960" cy="2133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Object 5"/>
          <p:cNvGraphicFramePr/>
          <p:nvPr/>
        </p:nvGraphicFramePr>
        <p:xfrm>
          <a:off x="1523880" y="3343320"/>
          <a:ext cx="3468960" cy="466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3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3343320"/>
                    <a:ext cx="346896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6"/>
          <p:cNvGraphicFramePr/>
          <p:nvPr/>
        </p:nvGraphicFramePr>
        <p:xfrm>
          <a:off x="1600200" y="4343400"/>
          <a:ext cx="1916280" cy="485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5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00200" y="4343400"/>
                    <a:ext cx="19162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7"/>
          <p:cNvGraphicFramePr/>
          <p:nvPr/>
        </p:nvGraphicFramePr>
        <p:xfrm>
          <a:off x="1700280" y="4800600"/>
          <a:ext cx="2185920" cy="485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7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700280" y="4800600"/>
                    <a:ext cx="218592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val 4"/>
          <p:cNvSpPr/>
          <p:nvPr/>
        </p:nvSpPr>
        <p:spPr>
          <a:xfrm>
            <a:off x="5943600" y="3962520"/>
            <a:ext cx="457200" cy="380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âu hỏi trắc nghiệ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âu 1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ạn Nam dùng 6 đoạn tre vót thẳng để làm khung diều hình thoi. Trong đó có 2 đoạn tre dài 60 cm và 80 cm để làm hai đường chéo của cái diều, 4 đoạn tre còn lại là 4 cạnh của cái diều. Khi đó tổng độ dài 4 đoạn tre dùng làm cạnh của cái diều hình thoi l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 m.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m.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,5 m.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D.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val 6"/>
          <p:cNvSpPr/>
          <p:nvPr/>
        </p:nvSpPr>
        <p:spPr>
          <a:xfrm>
            <a:off x="457200" y="1371600"/>
            <a:ext cx="45720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Oval 7"/>
          <p:cNvSpPr/>
          <p:nvPr/>
        </p:nvSpPr>
        <p:spPr>
          <a:xfrm>
            <a:off x="457200" y="3886200"/>
            <a:ext cx="45720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âu 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o hình thang cân ABCD (AB // CD) có                     Số đo góc C l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5</a:t>
            </a:r>
            <a:r>
              <a:rPr b="0" lang="de-DE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25</a:t>
            </a:r>
            <a:r>
              <a:rPr b="0" lang="de-DE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âu 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ng các khẳng định sau, khẳng định nào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i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ứ giác có ba góc vuông là hình chữ nhậ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ình bình hành có một góc vuông là hình chữ nhậ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ình bình hành có hai đường chéo cắt nhau tại trung điểm của mỗi đường là hình chữ nhậ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ứ giác có các cạnh đối bằng nhau là hình bình hàn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Object 4"/>
          <p:cNvGraphicFramePr/>
          <p:nvPr/>
        </p:nvGraphicFramePr>
        <p:xfrm>
          <a:off x="7772400" y="349200"/>
          <a:ext cx="984240" cy="4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349200"/>
                    <a:ext cx="98424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Oval 4"/>
          <p:cNvSpPr/>
          <p:nvPr/>
        </p:nvSpPr>
        <p:spPr>
          <a:xfrm>
            <a:off x="380880" y="2133720"/>
            <a:ext cx="609840" cy="380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6"/>
          <p:cNvSpPr/>
          <p:nvPr/>
        </p:nvSpPr>
        <p:spPr>
          <a:xfrm>
            <a:off x="380880" y="4800600"/>
            <a:ext cx="609840" cy="457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âu 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o tam giác ABC vuông tại A, đường trung tuyến AM. Biết AB = 8 cm; AC = 15 cm. Độ dài đoạn AM l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,5 cm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cm.</a:t>
            </a: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 cm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,5 c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âu 5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 hình thoi ABCD có cạnh bằng 13 cm, độ dài đường chéo AC là 10 cm. Độ dài đường chéo BD l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4 cm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2 cm.</a:t>
            </a: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6 cm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 c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val 3"/>
          <p:cNvSpPr/>
          <p:nvPr/>
        </p:nvSpPr>
        <p:spPr>
          <a:xfrm>
            <a:off x="838080" y="3581280"/>
            <a:ext cx="533520" cy="381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âu 6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ng các khẳng định sau, khẳng định nào đú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ình chữ nhật có hai đường chéo bằng nhau là hình vuô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ình thoi có hai đường chéo vuông góc là hình vuô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ình thoi có một góc vuông là hình vuô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ình chữ nhật có một góc vuông là hình vuô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Oval 4"/>
          <p:cNvSpPr/>
          <p:nvPr/>
        </p:nvSpPr>
        <p:spPr>
          <a:xfrm>
            <a:off x="762120" y="1905120"/>
            <a:ext cx="533160" cy="533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Object 3"/>
          <p:cNvGraphicFramePr/>
          <p:nvPr/>
        </p:nvGraphicFramePr>
        <p:xfrm>
          <a:off x="838080" y="838080"/>
          <a:ext cx="386712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38671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âu 7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 tứ giác ABCD, biết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Khi đó số đo góc C là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3"/>
          <a:stretch/>
        </p:blipFill>
        <p:spPr>
          <a:xfrm>
            <a:off x="3914640" y="1905120"/>
            <a:ext cx="309564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ài tập tự luậ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ài tập 8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o hình bình hành ABCD. Các điểm E, F thuộc đường chéo AC sao cho AE = EF = FC. Gọi M là giao điểm của BF và CD, N là giao điểm của DE và AB. Chứng minh rằ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/ M, N theo thứ tự là trung điểm của CD, AB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/ EMFN là hình bình hàn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4400640" y="3581280"/>
            <a:ext cx="4056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Ta có ABCD là hình bình hành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&gt; O là trung điểm của hai đường chéo AC và B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 có CF = 1/3 CA = 2/3 CO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y ra F là trọng tâm của tam giác BC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đó BM là đường trung tuyến của tam giác BCD hay M là trung điểm của C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ứng minh tương tự, N là trung điểm của A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4960800" y="27000"/>
            <a:ext cx="441180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8-04T09:18:41Z</dcterms:created>
  <dc:creator>Admin</dc:creator>
  <dc:description/>
  <dc:language>en-US</dc:language>
  <cp:lastModifiedBy>Admin</cp:lastModifiedBy>
  <dcterms:modified xsi:type="dcterms:W3CDTF">2023-08-04T12:07:28Z</dcterms:modified>
  <cp:revision>28</cp:revision>
  <dc:subject/>
  <dc:title>BÀI TẬP CUỐI CHƯƠNG 3</dc:title>
</cp:coreProperties>
</file>