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8D8-075C-4B70-94A8-83E33A4C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565-7715-4450-86F6-4D3A0E58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E70-4295-4F5E-ACB7-27043B4B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910-C844-4E80-8A0C-AD9DB45F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939-51DD-4FBC-9B1E-09C399D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567-C8C4-43F4-9DDE-A84407D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15A-F1C7-41C2-A3D7-F952AE7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4AF-2154-4C63-A378-1441009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18-C8DC-402D-9E0D-EA11BD2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EB9-90D6-4D97-8BCA-408F92E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CCB-4302-4665-9B99-A912348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FE8-5943-42F8-845C-7CD5FDD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C4A-7578-4D8C-BD17-29695BB3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00200" y="2819520"/>
            <a:ext cx="68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ỰC HÀNH: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 SÁT VÀ PHÂN BIỆT MỘT SỐ NHÓM THỰC VẬ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905120" y="1752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̀I 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loem20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31520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loem03"/>
          <p:cNvPicPr/>
          <p:nvPr/>
        </p:nvPicPr>
        <p:blipFill>
          <a:blip r:embed="rId3"/>
          <a:stretch/>
        </p:blipFill>
        <p:spPr>
          <a:xfrm>
            <a:off x="5977080" y="563724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1528920"/>
          <a:ext cx="9144000" cy="522108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ân không phân nhánh, rễ giả, chưa có mạch d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dưo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Đã có rễ, thân lá thật, có mạch dẫn, lá non cuộn lại ở đ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trầ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. Thân phân nhánh, lá kim. Hạt nằm lộ phía bên ngo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kí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 đầy đủ, cơ quan sinh sản là hoa, hạt nằm trong quả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"/>
          <p:cNvSpPr/>
          <p:nvPr/>
        </p:nvSpPr>
        <p:spPr>
          <a:xfrm>
            <a:off x="838080" y="287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. Nêu dấu hiệu nhận biết một số đại diện ngành thực vật thông qua đặc điểm hình thá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37160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ƯỚNG DẪN VIẾT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523880" y="17524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60020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êu cầu: Mỗi hs hoàn thành ra giấy kiểm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54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00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165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. 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6269040" y="4114800"/>
            <a:ext cx="276552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6332400" y="92160"/>
            <a:ext cx="2467080" cy="24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2965320" y="4629240"/>
            <a:ext cx="2846520" cy="178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5"/>
          <a:stretch/>
        </p:blipFill>
        <p:spPr>
          <a:xfrm>
            <a:off x="6346800" y="2482920"/>
            <a:ext cx="245268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6"/>
          <a:stretch/>
        </p:blipFill>
        <p:spPr>
          <a:xfrm>
            <a:off x="493560" y="4629240"/>
            <a:ext cx="1979640" cy="19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7"/>
          <a:stretch/>
        </p:blipFill>
        <p:spPr>
          <a:xfrm>
            <a:off x="468360" y="719280"/>
            <a:ext cx="1860480" cy="25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8"/>
          <a:stretch/>
        </p:blipFill>
        <p:spPr>
          <a:xfrm>
            <a:off x="534960" y="3327480"/>
            <a:ext cx="1895400" cy="1220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1"/>
          <p:cNvSpPr/>
          <p:nvPr/>
        </p:nvSpPr>
        <p:spPr>
          <a:xfrm>
            <a:off x="2759040" y="82404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ính hiể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3022560" y="122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Kính Lú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3271680" y="1654200"/>
            <a:ext cx="22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Ống nhỏ giọ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3524400" y="211608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m mũi m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821040" y="254808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Lam k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3876840" y="3587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Dao 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3938760" y="306864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La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852720" y="2174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ẫu v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280" y="3459240"/>
            <a:ext cx="3402000" cy="297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4781520" y="957240"/>
            <a:ext cx="418932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4781520" y="3444840"/>
            <a:ext cx="4094280" cy="29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5"/>
          <a:stretch/>
        </p:blipFill>
        <p:spPr>
          <a:xfrm>
            <a:off x="154080" y="701640"/>
            <a:ext cx="4189320" cy="2197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806400" y="2967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rêu t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785880" y="64263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035760" y="3084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t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73680" y="648504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bí đ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57200" y="388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944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Quan sát đại diện thực vật không có m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2"/>
          <a:stretch/>
        </p:blipFill>
        <p:spPr>
          <a:xfrm>
            <a:off x="793800" y="1600200"/>
            <a:ext cx="6184800" cy="26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3505320" y="1384200"/>
            <a:ext cx="5338800" cy="3497400"/>
          </a:xfrm>
          <a:prstGeom prst="rect">
            <a:avLst/>
          </a:prstGeom>
          <a:ln w="0">
            <a:noFill/>
          </a:ln>
        </p:spPr>
      </p:pic>
      <p:sp>
        <p:nvSpPr>
          <p:cNvPr id="76" name="Up Arrow Callout 15"/>
          <p:cNvSpPr/>
          <p:nvPr/>
        </p:nvSpPr>
        <p:spPr>
          <a:xfrm>
            <a:off x="380880" y="4276800"/>
            <a:ext cx="8610840" cy="2352600"/>
          </a:xfrm>
          <a:prstGeom prst="upArrowCallout">
            <a:avLst>
              <a:gd name="adj1" fmla="val -19901"/>
              <a:gd name="adj2" fmla="val 27027"/>
              <a:gd name="adj3" fmla="val 25000"/>
              <a:gd name="adj4" fmla="val 70041"/>
            </a:avLst>
          </a:prstGeom>
          <a:solidFill>
            <a:srgbClr val="92d05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Sử dụng kính lúp quan sát các cơ quan của cây rêu: rễ, thân, lá và vị trí bào t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Thực hành: cắt lát thân rêu, đặt lên lam kính, nhỏ một giọt nước cất lên mẫu vật, đặt lamen và qu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s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480" y="3589200"/>
            <a:ext cx="7148520" cy="326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0666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Quan sát đại diện ngành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Arrow Callout 7"/>
          <p:cNvSpPr/>
          <p:nvPr/>
        </p:nvSpPr>
        <p:spPr>
          <a:xfrm>
            <a:off x="5410080" y="1447920"/>
            <a:ext cx="3353040" cy="2590560"/>
          </a:xfrm>
          <a:prstGeom prst="leftArrowCallout">
            <a:avLst>
              <a:gd name="adj1" fmla="val 25002"/>
              <a:gd name="adj2" fmla="val 25000"/>
              <a:gd name="adj3" fmla="val 25006"/>
              <a:gd name="adj4" fmla="val 6498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Quan sát dương xỉ: tìm rễ, thân, lá, xác định vị trí bào t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914400" y="919080"/>
            <a:ext cx="4114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19000" y="968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 Quan sát đại diện ngành hạt tr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09600" y="928800"/>
            <a:ext cx="4967280" cy="296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-304920" y="3914640"/>
            <a:ext cx="5581800" cy="2963880"/>
          </a:xfrm>
          <a:prstGeom prst="rect">
            <a:avLst/>
          </a:prstGeom>
          <a:ln w="0">
            <a:noFill/>
          </a:ln>
        </p:spPr>
      </p:pic>
      <p:sp>
        <p:nvSpPr>
          <p:cNvPr id="86" name="Left Arrow Callout 7"/>
          <p:cNvSpPr/>
          <p:nvPr/>
        </p:nvSpPr>
        <p:spPr>
          <a:xfrm>
            <a:off x="5276880" y="1590840"/>
            <a:ext cx="3867120" cy="4682880"/>
          </a:xfrm>
          <a:prstGeom prst="leftArrowCallout">
            <a:avLst>
              <a:gd name="adj1" fmla="val 25006"/>
              <a:gd name="adj2" fmla="val 24998"/>
              <a:gd name="adj3" fmla="val 25000"/>
              <a:gd name="adj4" fmla="val 64983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Quan sát rễ, thân, lá (dạng thân, dạng lá, kích thướ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Xác định cấu tạo và vị trí nón đực, nón cái, quan sát vị trí của hạt thô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4394160" cy="4394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844560" y="15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 Quan sát địa diện ngành hạt k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loud Callout 7"/>
          <p:cNvSpPr/>
          <p:nvPr/>
        </p:nvSpPr>
        <p:spPr>
          <a:xfrm>
            <a:off x="5079960" y="385920"/>
            <a:ext cx="3987720" cy="4394160"/>
          </a:xfrm>
          <a:prstGeom prst="cloudCallout">
            <a:avLst>
              <a:gd name="adj1" fmla="val -58773"/>
              <a:gd name="adj2" fmla="val 40555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dạng thân, rễ,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hoa 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Xác định vị trí của hạt bên trong hay bên ngoài quả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723960" y="29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. 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27120" y="914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2276640"/>
          <a:ext cx="8186760" cy="306360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361476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6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-34920" y="1611360"/>
          <a:ext cx="9144000" cy="505764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723960" y="189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-2514600" y="21337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813040" y="25351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rê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452680" y="3719520"/>
            <a:ext cx="28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dương x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521080" y="47242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trầ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2664000" y="5824440"/>
            <a:ext cx="230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k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5187960" y="24764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Thân không phân nhánh, rễ giả, chưa có mạch d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052960" y="3575160"/>
            <a:ext cx="41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ã có rễ, thân lá thật, có mạch dẫn, lá non cuộn lại ở đầ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099040" y="454176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. Thân phân nhánh, lá kim. Hạt nằm lộ phía bên ngoà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111640" y="56577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 đầy đủ, cơ quan sinh sản là hoa, hạt nằm trong quả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7:35:09Z</dcterms:created>
  <dc:creator>sdf</dc:creator>
  <dc:description/>
  <dc:language>en-US</dc:language>
  <cp:lastModifiedBy>Nguyễn Phượng</cp:lastModifiedBy>
  <dcterms:modified xsi:type="dcterms:W3CDTF">2021-06-07T10:28:05Z</dcterms:modified>
  <cp:revision>504</cp:revision>
  <dc:subject/>
  <dc:title>Slide 1</dc:title>
</cp:coreProperties>
</file>