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A137-7D8D-499E-9895-1658E6259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E420-B40F-4C08-9D9D-0D8478413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7AEB-F3C6-406E-B896-5B6EEDCE6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585D-50B3-43A6-855C-81FA31A98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4EE5-0046-4D61-845F-EFCE903FA8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B3EC-BB0C-41C2-AA0B-CEC480E77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4E9C-607A-4664-A0F6-3B1F58BEF8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2A28-D0F9-45BE-B19A-DD5D5760D3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D0E9-50D6-4323-8021-8B50764C9F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A168-956C-494E-AA27-A4DB802254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0D8C-6DBD-4B5F-9EFD-1C7C83CAD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BFE4-1204-4FEB-9976-90AB8542F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691D-51C6-4ACC-BD4C-951BFB2B5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888C-8109-4828-8AEF-5733BE9A88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2C73-ABF7-4632-9269-88FE4FA04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3EF0-8C65-4D2F-8C78-831B590EB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FA5C-05E7-4D9C-8B0A-BBA4CC6EA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7E5E-61EF-435D-8C1A-B1DF3E6CD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B5C6-A923-4CFB-8519-C62357E12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1B2B-DA5C-4906-8CF3-D3A26CD49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054F-459C-410B-AE99-4683C0746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1786-9CB8-4128-B940-7972FABD0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434E-5FEE-45D4-A716-D5388121C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07C0-6622-4C36-9711-D0D53B798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DE73-1384-46B1-BCD1-637B420FDB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ài 9. Trình bày dữ liệu bằng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5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507D-30DC-4F70-AEAD-D466125642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9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9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ình bày dữ liệu bằng biểu đồ</a:t>
            </a:r>
            <a:endParaRPr b="1" lang="en-US" sz="28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8D47-54D9-4095-91B6-7ABACFF934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19120" y="115848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họn vị trí đặt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bject 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èn biểu đồ vào trang tính chứa danh sách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new she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ột trang tính mới được tạo ra và biểu đồ được chèn vào trang đ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1905120"/>
          <a:ext cx="69343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9343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86A5-71E6-43F5-ABAB-C62A8FA573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438280"/>
            <a:ext cx="853452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ại mỗi bước, nếu em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Kết thúc) khi chưa ở bước cuối cùng thì biểu đồ cũng được tạo. Khi đó các nội dung hay tính chất bị bỏ qua (ở các bước sau) sẽ được đặt theo ngầm địn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ên từng hộp thoại nếu cần em có thể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Quay lại) để trở lại bước trước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647676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" y="762120"/>
            <a:ext cx="845820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ại mỗi bước, nếu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hi chưa ở bước cuối cùng, biểu đồ có được tạo ra hay không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ở mỗi bước có ý nghĩa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5715000"/>
            <a:ext cx="1218960" cy="6858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5867280"/>
            <a:ext cx="1066680" cy="5335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F607-B944-43D0-9E6A-34B1312E83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hỉnh sửa biểu đồ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y đổi kiểu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29400" cy="44197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529C-333B-4964-BADB-CF361805F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28088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o chép biểu đồ vào văn bản W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52480"/>
            <a:ext cx="708660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chuột trên biểu đồ và nháy nút lệ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ở văn bản Word và nháy nút lện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ên thanh công cụ của Wor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Chỉnh sửa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FCC-D63B-4059-872C-739C0AFB7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7315200" cy="4572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533520" y="1143000"/>
            <a:ext cx="3733560" cy="1371600"/>
          </a:xfrm>
          <a:prstGeom prst="cloudCallout">
            <a:avLst>
              <a:gd name="adj1" fmla="val -40689"/>
              <a:gd name="adj2" fmla="val 204745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ận xét về sự thay đổi giá trị sản xuất của từng ngành qua từng năm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3800" y="1143000"/>
            <a:ext cx="3776760" cy="1371600"/>
          </a:xfrm>
          <a:prstGeom prst="cloudCallout">
            <a:avLst>
              <a:gd name="adj1" fmla="val -40754"/>
              <a:gd name="adj2" fmla="val 20509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ùng biểu đồ dạng nào bây giờ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78120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CAC8-364A-44CB-A321-A7B86BFCB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143240" cy="280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16232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4572000" cy="29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733920" y="685800"/>
            <a:ext cx="4647960" cy="1981080"/>
          </a:xfrm>
          <a:prstGeom prst="cloudCallout">
            <a:avLst>
              <a:gd name="adj1" fmla="val -48907"/>
              <a:gd name="adj2" fmla="val 62500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ùng biểu đồ dạng nào bây giờ?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09480" y="612720"/>
            <a:ext cx="8001000" cy="540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E636-0321-4959-A7BF-1FD49E0B7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2362320"/>
            <a:ext cx="69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RẮC NGHIỆ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D2DE-9CA6-40E6-A98B-8A5668C63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9800" y="238752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Phải xoá biểu đồ cũ và thực hiện lại các thao tác tạo biểu đồ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25560" y="37576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Hãy chọn câu trả lời đúng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8360" y="191772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háy nút       trên thanh công cụ biểu đồ và chọn kiể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32120" y="1974960"/>
          <a:ext cx="431640" cy="21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2120" y="1974960"/>
                    <a:ext cx="43164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7480" y="28368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Nháy nút       trên thanh công cụ biểu đồ và chọn kiểu thích hợ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3320" y="3218040"/>
            <a:ext cx="72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áp án khá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046240" y="2819520"/>
            <a:ext cx="380880" cy="333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36200" y="1154160"/>
            <a:ext cx="70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1: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uốn thay đổi kiểu biểu đồ đã được tạo ra, em có th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8615-F51B-4F56-BDAB-F4EFBD33C2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60680" cy="1778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1219320"/>
            <a:ext cx="79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Cho bảng thống kê sử dụng đất ở Việt Nam. Hãy chọn dạng biểu đồ thích hợp nhất để nhận xét tình hình sử dụng đất ở nước 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3520" y="271476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cộ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0040" y="313992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đường gấp khú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3520" y="364320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hình trò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3520" y="407052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ểu đồ dạng khá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52DE-5625-4162-804B-12BA6EDECB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90920" y="20574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h họa dữ liệu trực qu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2590920"/>
            <a:ext cx="37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so sánh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20040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tính toán hơ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3852720"/>
            <a:ext cx="63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ễ dự đoán xu thế tăng hay giảm của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077320" y="3581280"/>
            <a:ext cx="1066680" cy="2962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3800" y="1219320"/>
            <a:ext cx="90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Mục đích của việc sử dụng biểu đồ là gì? Hãy chọn những đáp án đú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4C0D-755D-43AD-8D4C-97C714C47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460760"/>
            <a:ext cx="2666880" cy="239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09480"/>
            <a:ext cx="4419720" cy="2438640"/>
          </a:xfrm>
          <a:prstGeom prst="cloudCallout">
            <a:avLst>
              <a:gd name="adj1" fmla="val -24638"/>
              <a:gd name="adj2" fmla="val 10703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hãy quan sát bảng dữ liệu sau và đưa ra nhận xét so sánh số lượng học sinh giỏi của từng lớp trong khối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1120" y="4267080"/>
            <a:ext cx="46987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ải mất một khoảng thời gian nhất định để so sánh và phân tích số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ẽ khó khăn hơn nếu bảng tính nhiều hàng và cộ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647960" cy="2105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F9FA-B319-411B-AD26-CF29CAF31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03520" y="220968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àng đầu tiên của bảng số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70040" y="263520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ột đầu tiên của bảng số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30440" y="310824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oàn bộ dữ li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56544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hải chọn trước miền dữ liệu, không có ngầm địn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77320" y="3581280"/>
            <a:ext cx="1066680" cy="2962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06480" y="1117440"/>
            <a:ext cx="668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Khi vẽ biểu đồ, chương trình bảng tính ngầm địn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ền dữ liệu để tạo biểu đồ là gì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0E95-4713-4875-AC49-3F20DF320C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C70A-DF48-423E-AFB3-DA99F9F964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460760"/>
            <a:ext cx="2666880" cy="239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38080"/>
            <a:ext cx="4648320" cy="2057400"/>
          </a:xfrm>
          <a:prstGeom prst="cloudCallout">
            <a:avLst>
              <a:gd name="adj1" fmla="val -20935"/>
              <a:gd name="adj2" fmla="val 127162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hãy quan sát biểu đồ và đưa ra nhận xét so sánh số lượng học sinh giỏi của từng lớp trong khối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85840" y="4876920"/>
            <a:ext cx="5257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ểu đồ là cách minh hoạ dữ liệu sinh động và trực qua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ễ so sánh dữ liệu hơn, dễ dự đoán xu thế tăng hay giảm củ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105520" cy="2367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34A8-03E1-4B5E-B4B3-4EC7895F7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4191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Một số loại biểu đồ 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880" y="1447920"/>
            <a:ext cx="2286000" cy="2361960"/>
            <a:chOff x="380880" y="1447920"/>
            <a:chExt cx="2286000" cy="2361960"/>
          </a:xfrm>
        </p:grpSpPr>
        <p:sp>
          <p:nvSpPr>
            <p:cNvPr id="100" name=""/>
            <p:cNvSpPr/>
            <p:nvPr/>
          </p:nvSpPr>
          <p:spPr>
            <a:xfrm>
              <a:off x="380880" y="1599840"/>
              <a:ext cx="2286000" cy="2209680"/>
            </a:xfrm>
            <a:custGeom>
              <a:avLst/>
              <a:gdLst/>
              <a:ahLst/>
              <a:rect l="l" t="t" r="r" b="b"/>
              <a:pathLst>
                <a:path w="1440" h="1392">
                  <a:moveTo>
                    <a:pt x="0" y="0"/>
                  </a:moveTo>
                  <a:lnTo>
                    <a:pt x="0" y="1392"/>
                  </a:lnTo>
                  <a:lnTo>
                    <a:pt x="1440" y="1392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2438280"/>
              <a:ext cx="304560" cy="137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676160"/>
              <a:ext cx="304920" cy="2133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38360" y="1447920"/>
              <a:ext cx="304920" cy="2361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3280" y="2438280"/>
              <a:ext cx="304560" cy="1371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057040"/>
              <a:ext cx="304920" cy="17524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7840" y="2895480"/>
              <a:ext cx="304920" cy="9140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44760" y="1371600"/>
            <a:ext cx="2370240" cy="2438280"/>
            <a:chOff x="3344760" y="1371600"/>
            <a:chExt cx="2370240" cy="2438280"/>
          </a:xfrm>
        </p:grpSpPr>
        <p:sp>
          <p:nvSpPr>
            <p:cNvPr id="108" name=""/>
            <p:cNvSpPr/>
            <p:nvPr/>
          </p:nvSpPr>
          <p:spPr>
            <a:xfrm>
              <a:off x="3344760" y="1371600"/>
              <a:ext cx="2362320" cy="2438280"/>
            </a:xfrm>
            <a:custGeom>
              <a:avLst/>
              <a:gdLst/>
              <a:ahLst/>
              <a:rect l="l" t="t" r="r" b="b"/>
              <a:pathLst>
                <a:path w="1296" h="1536">
                  <a:moveTo>
                    <a:pt x="0" y="0"/>
                  </a:moveTo>
                  <a:lnTo>
                    <a:pt x="0" y="1536"/>
                  </a:lnTo>
                  <a:lnTo>
                    <a:pt x="1296" y="1536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4760" y="1904760"/>
              <a:ext cx="2370240" cy="1066320"/>
            </a:xfrm>
            <a:custGeom>
              <a:avLst/>
              <a:gdLst/>
              <a:ahLst/>
              <a:rect l="l" t="t" r="r" b="b"/>
              <a:pathLst>
                <a:path w="1344" h="672">
                  <a:moveTo>
                    <a:pt x="0" y="672"/>
                  </a:moveTo>
                  <a:lnTo>
                    <a:pt x="432" y="0"/>
                  </a:lnTo>
                  <a:lnTo>
                    <a:pt x="960" y="336"/>
                  </a:lnTo>
                  <a:lnTo>
                    <a:pt x="1344" y="192"/>
                  </a:ln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44760" y="2971440"/>
              <a:ext cx="2370240" cy="380880"/>
            </a:xfrm>
            <a:custGeom>
              <a:avLst/>
              <a:gdLst/>
              <a:ahLst/>
              <a:rect l="l" t="t" r="r" b="b"/>
              <a:pathLst>
                <a:path w="1344" h="240">
                  <a:moveTo>
                    <a:pt x="0" y="240"/>
                  </a:moveTo>
                  <a:lnTo>
                    <a:pt x="288" y="192"/>
                  </a:lnTo>
                  <a:lnTo>
                    <a:pt x="576" y="240"/>
                  </a:lnTo>
                  <a:lnTo>
                    <a:pt x="720" y="96"/>
                  </a:lnTo>
                  <a:lnTo>
                    <a:pt x="1104" y="144"/>
                  </a:lnTo>
                  <a:lnTo>
                    <a:pt x="134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4760" y="1904760"/>
              <a:ext cx="2286000" cy="167616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0" y="288"/>
                  </a:moveTo>
                  <a:lnTo>
                    <a:pt x="528" y="1056"/>
                  </a:lnTo>
                  <a:lnTo>
                    <a:pt x="672" y="384"/>
                  </a:lnTo>
                  <a:lnTo>
                    <a:pt x="816" y="576"/>
                  </a:lnTo>
                  <a:lnTo>
                    <a:pt x="1296" y="0"/>
                  </a:lnTo>
                </a:path>
              </a:pathLst>
            </a:custGeom>
            <a:noFill/>
            <a:ln w="93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5760" y="40384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cộ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9000" y="40384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đường gấp khú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34440" y="403848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Verdana"/>
              </a:rPr>
              <a:t>Biểu đồ hình trò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480" y="4800600"/>
            <a:ext cx="28954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so sánh dữ liệu có trong nhiều cộ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ủa bảng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2080" y="480528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so sánh dữ liệ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à dự đoán xu thế tă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 giảm của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080" y="4729320"/>
            <a:ext cx="255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ùng để mô tả tỷ lệ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ủa từng dữ liệ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với tổng các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9BF5-A8E6-47A3-A16C-9A93AD781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943600" cy="357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62320" y="2906640"/>
            <a:ext cx="441936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ể tạo một biểu đồ, em thực hiện các thao tác sau đây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ọn một ô trong bảng dữ liệu cần vẽ biểu đồ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Wizard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ên thanh công cụ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áy liên tiếp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ên các hộp thoại và nháy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ên hộp thoại cuối cùng (khi nú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ị mờ đi). Kết quả được biểu đồ sau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29080" y="1706400"/>
            <a:ext cx="380880" cy="33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514600" y="3614760"/>
            <a:ext cx="415296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1DA7-713A-40C9-A44F-FC25AF58FD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họn dạng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72200" cy="4281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DEA5-6DCA-48FA-8EE3-B8E57424A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52560" cy="97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19520" y="609480"/>
            <a:ext cx="5257800" cy="1981440"/>
          </a:xfrm>
          <a:prstGeom prst="cloudCallout">
            <a:avLst>
              <a:gd name="adj1" fmla="val -85115"/>
              <a:gd name="adj2" fmla="val 56569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ạng biểu đồ nào là thích hợp nhất để giúp cô Hoa đưa ra nhận xét dễ dàng và nhanh nhất? Tại sao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3657600"/>
          <a:ext cx="2971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657600"/>
                    <a:ext cx="2971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76720" y="3657600"/>
          <a:ext cx="2971800" cy="175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657600"/>
                    <a:ext cx="2971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388200" y="3657600"/>
          <a:ext cx="2666880" cy="17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88200" y="3657600"/>
                    <a:ext cx="26668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0AD8-BEBC-468B-AB44-C03C85C03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Xác định miền dữ liệu để vẽ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81080" y="2224080"/>
            <a:ext cx="5639040" cy="375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3803-24E0-4453-9970-DC943F644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08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Bước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ác thông tin giải thích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1722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997360" y="2895480"/>
            <a:ext cx="1692000" cy="2979360"/>
            <a:chOff x="2997360" y="2895480"/>
            <a:chExt cx="1692000" cy="2979360"/>
          </a:xfrm>
        </p:grpSpPr>
        <p:sp>
          <p:nvSpPr>
            <p:cNvPr id="142" name=""/>
            <p:cNvSpPr/>
            <p:nvPr/>
          </p:nvSpPr>
          <p:spPr>
            <a:xfrm>
              <a:off x="3733920" y="2895480"/>
              <a:ext cx="0" cy="2438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97360" y="5232240"/>
              <a:ext cx="16920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hay ẩn các trụ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62520" y="2895480"/>
            <a:ext cx="1539720" cy="2014200"/>
            <a:chOff x="3962520" y="2895480"/>
            <a:chExt cx="1539720" cy="2014200"/>
          </a:xfrm>
        </p:grpSpPr>
        <p:sp>
          <p:nvSpPr>
            <p:cNvPr id="145" name=""/>
            <p:cNvSpPr/>
            <p:nvPr/>
          </p:nvSpPr>
          <p:spPr>
            <a:xfrm>
              <a:off x="3962520" y="4267080"/>
              <a:ext cx="1539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các đường lướ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2895480"/>
              <a:ext cx="228600" cy="137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876920" y="2895480"/>
            <a:ext cx="4216320" cy="1983960"/>
            <a:chOff x="4876920" y="2895480"/>
            <a:chExt cx="4216320" cy="1983960"/>
          </a:xfrm>
        </p:grpSpPr>
        <p:sp>
          <p:nvSpPr>
            <p:cNvPr id="148" name=""/>
            <p:cNvSpPr/>
            <p:nvPr/>
          </p:nvSpPr>
          <p:spPr>
            <a:xfrm>
              <a:off x="5816520" y="3962520"/>
              <a:ext cx="32767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ển thị hay ẩn chú thích;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ọn các vị trí thích hợp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o chú thí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920" y="2895480"/>
              <a:ext cx="1828800" cy="1143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880" y="609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ạo biểu đồ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7556-9D2D-4DE5-A3EE-3B856645F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8:13:17Z</dcterms:created>
  <dc:creator>hangnguyen</dc:creator>
  <dc:description/>
  <dc:language>en-US</dc:language>
  <cp:lastModifiedBy>pham thanh nam</cp:lastModifiedBy>
  <dcterms:modified xsi:type="dcterms:W3CDTF">2007-08-23T07:03:05Z</dcterms:modified>
  <cp:revision>98</cp:revision>
  <dc:subject/>
  <dc:title>Bài 7. Trình bày và in trang tính</dc:title>
</cp:coreProperties>
</file>