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950E-5A8C-4BA0-AFCC-AD671DFE4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1D81-B65C-480A-93F7-597165256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98A4-8649-41C7-87D6-57DABF040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81B18-7491-4487-860C-56753A7FC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AE81-95E8-4F6E-B8E6-C259F94A88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4C86-5275-49EE-80F5-2409A47300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FB73D-7178-4193-93CF-4139BB92F5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66A73-C868-4E28-A5C2-95E360A5CE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FB67F-F39E-4557-A3C6-B017784C1B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336D4-D715-4D4C-873B-C8BAEA3B87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4657B-C21D-458B-AC18-16950F587D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652D-E41C-4782-9CDD-5AFBB22FE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4C61E-D751-4194-B48C-6F5BAACD2C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C13A8-31B8-44F6-8435-36C2F62515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2889-64A0-4B02-909D-A45837A655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4F675-FBF4-4A1E-8C5C-54DD84A922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1067-3614-49B2-98BD-D0F5EBDE7F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A26C-BEE0-4933-8958-4ED7B38C5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A720-FCC6-46C0-8057-656CEBD48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B0F4-AB59-436E-AB4F-EB68D3127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04A1-4880-4DAE-AC0E-2665DDBBF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DEA6-A9B2-4957-90ED-898A7A708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9A90-FE99-441F-850B-C7F19F006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34B7-824D-46F2-942C-809C8ABCA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7720" y="6539040"/>
            <a:ext cx="8305560" cy="318960"/>
            <a:chOff x="837720" y="6539040"/>
            <a:chExt cx="8305560" cy="318960"/>
          </a:xfrm>
        </p:grpSpPr>
        <p:sp>
          <p:nvSpPr>
            <p:cNvPr id="1" name=""/>
            <p:cNvSpPr/>
            <p:nvPr/>
          </p:nvSpPr>
          <p:spPr>
            <a:xfrm>
              <a:off x="1265760" y="6539040"/>
              <a:ext cx="787752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37360" y="6539040"/>
              <a:ext cx="4424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B2C3-A41A-4FBC-9A49-95269ADCB4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903"/>
                </a:solidFill>
                <a:latin typeface="Arial"/>
              </a:rPr>
              <a:t>Bài thực hành 2: Làm quen với các kiểu dữ liệu trên trang tính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6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8C63-395B-47BD-8A4F-6204BD5A06A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9810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àm quen với các kiểu dữ liệu trên trang tín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990720"/>
            <a:ext cx="513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ài thực hành 2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09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M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ở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ả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362320"/>
            <a:ext cx="28954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hi kh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ở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độ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h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ươ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g tr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ì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ả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m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ộ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ả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r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ố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s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ẽ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đượ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ự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độ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m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ở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s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ẵ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ế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mu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ố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m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ở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một 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ả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kh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á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em h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ã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nh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á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ào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n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ú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l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ệ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e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52680" y="1214280"/>
            <a:ext cx="5029200" cy="4900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1447920"/>
            <a:ext cx="190512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ú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l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ệ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e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1676520"/>
            <a:ext cx="106668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52480" y="1136520"/>
            <a:ext cx="5486400" cy="5346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094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M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ở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ả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520" y="1200240"/>
            <a:ext cx="7924680" cy="512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33520" y="1200240"/>
            <a:ext cx="7924680" cy="5124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09480" y="1200240"/>
            <a:ext cx="7925040" cy="5124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3048120" y="2057400"/>
            <a:ext cx="1952640" cy="79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5029200"/>
            <a:ext cx="99036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27160"/>
            <a:ext cx="2286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ú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l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ệ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2666880"/>
            <a:ext cx="32004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ọn bảng tính cần mở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4632480"/>
            <a:ext cx="289584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háy vào nút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1981080"/>
            <a:ext cx="457200" cy="457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1523880"/>
            <a:ext cx="114300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6094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Lưu 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ả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ới tên khá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664160" cy="5410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772240" y="2438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34280" y="263844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2452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ave 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1" i="1" lang="vi-VN" sz="1800" spc="-1" strike="noStrike">
                <a:solidFill>
                  <a:srgbClr val="ff6600"/>
                </a:solidFill>
                <a:latin typeface="Arial"/>
              </a:rPr>
              <a:t>ách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 1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3519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1" i="1" lang="vi-VN" sz="1800" spc="-1" strike="noStrike">
                <a:solidFill>
                  <a:srgbClr val="ff6600"/>
                </a:solidFill>
                <a:latin typeface="Arial"/>
              </a:rPr>
              <a:t>ách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 2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4337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hấ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F1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66840" y="1147680"/>
            <a:ext cx="8229600" cy="5253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81280" y="5029200"/>
            <a:ext cx="198144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ơ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 g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ê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 m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ớ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360" y="5334120"/>
            <a:ext cx="68580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292428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TH</a:t>
            </a:r>
            <a:r>
              <a:rPr b="1" lang="vi-VN" sz="6000" spc="-1" strike="noStrike">
                <a:solidFill>
                  <a:srgbClr val="003366"/>
                </a:solidFill>
                <a:latin typeface="Arial"/>
              </a:rPr>
              <a:t>ỰC</a:t>
            </a: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 H</a:t>
            </a:r>
            <a:r>
              <a:rPr b="1" lang="vi-VN" sz="6000" spc="-1" strike="noStrike">
                <a:solidFill>
                  <a:srgbClr val="003366"/>
                </a:solidFill>
                <a:latin typeface="Arial"/>
              </a:rPr>
              <a:t>ÀNH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838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à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1: T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ì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hi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ểu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c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á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th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ành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ph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ần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ch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c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ủa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trang t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600200"/>
            <a:ext cx="784836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hởi động Excel. Nhận biết các thành phần chính trên trang tính (ô, hàng, cột, hộp tên, thanh công thức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4520" indent="-344520"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háy chuột để kích hoạt các ô khác nhau và quan sát sự thay đổi nội dung trong hộp tê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4520" indent="-344520"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hập dữ liệu tùy ý vào các ô và quan sát sự thay đổi nội dung trong hộp tê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4520" indent="-344520"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õ 5+7 vào 1 ô tùy ý và nhấn phím Enter. Chọn lại ô đó và so sánh nội dung dữ liệu trong ô và trên thanh công thứ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6858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à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2: Chọn các đối tượng trên trang tín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143000"/>
            <a:ext cx="784836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ực hiện các thao tác chọn một ô, một hàng, một cột và một khối trên trang tính. Quan sát sự thay đổi nội dung của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hộp tê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rong quá trình chọ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4520" indent="-344520"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iả sử cần chọn cả ba cột A, B và C. Khi đó em cần thực hiện thao tác gì? Hãy thực hiện thao tác đó và nhận xé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4520" indent="-344520"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ọn một đối tượng (một ô, một hàng, một cột hoặc một khối) tuỳ ý. Nhấn giữ phím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à chọn một đối tượng khác. Hãy cho nhận xét về kết quả nhận được (thao tác này được gọi là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họn đồng thời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i đối tượng không liền kề nhau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4520" indent="-344520">
              <a:spcBef>
                <a:spcPts val="1250"/>
              </a:spcBef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háy chuột ở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hộp tê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à nhập dãy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100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ào hộp tên, cuối cùng nhấn phím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Cho nhận xét về kết quả nhận được. Tương tự, nhập các dãy sau đây vào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hộp tê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nhấn phím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sau mỗi lần nhập):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: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: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2:2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2:4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2:D6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Quan sát các kết quả nhận được và cho nhận xé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9144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à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3: Thực hành thao tác mở bảng tín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46748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ở một bảng tính mới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ở bảng tính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Danh sach lop em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đã được lưu trong Bài thực hành 1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6858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1" lang="vi-VN" sz="2000" spc="-1" strike="noStrike">
                <a:solidFill>
                  <a:srgbClr val="003366"/>
                </a:solidFill>
                <a:latin typeface="Arial"/>
              </a:rPr>
              <a:t>à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4: Nhập dữ liệu vào trang tính như sa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543800" cy="4378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14400" y="60199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ưu bảng tính với tên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So theo doi the lu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23:13:33Z</dcterms:created>
  <dc:creator>fantasy</dc:creator>
  <dc:description/>
  <dc:language>en-US</dc:language>
  <cp:lastModifiedBy>pham thanh nam</cp:lastModifiedBy>
  <dcterms:modified xsi:type="dcterms:W3CDTF">2007-08-20T07:39:48Z</dcterms:modified>
  <cp:revision>151</cp:revision>
  <dc:subject/>
  <dc:title>Slide 1</dc:title>
</cp:coreProperties>
</file>