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903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F76F-E304-4409-8A6A-ACC9CB24B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AEF5-0370-416E-B10C-140079CAA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F169-C872-4BBA-8B61-13DD09E86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263A-EB90-41A4-8231-D513584B1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7DCE-7E39-44EC-A5B5-D90B7F952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7152-A143-46C9-A172-4EF2126C0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4893-E999-41D6-969D-58A4ECCD9A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9E0B-D91F-4F9C-BB12-6EA875562E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C0114-975D-41EE-B644-ED634889A4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31DA-A369-4320-A063-6482DC857C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84BB-FFDC-4150-AD64-D2A9CB9DD8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5D01-C22C-44B8-8444-FCA3698643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C839-8B74-446F-9453-CF4B3A7B41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A5AE-458B-46FC-994F-5993DDDC2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7DF5F-DD9F-44D7-B7DD-4AD9161C7A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5772-CE9B-4012-90CF-40940AAAA4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50674-200F-4B65-87B8-3E90EA1CF5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3311-CC5F-4341-B99E-8DCE5DC3C9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3848-44D7-46FC-A834-A8C0342E71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DD49-CEDE-42DF-B96F-4C91567A7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F2AF-82C4-447D-A06B-055D83B09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99AE-6704-4903-B3E5-08E0263BD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9426-264A-460D-B404-28F3FB0CD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21E5-4D8F-4561-904D-77D52F19B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A443-EECB-4AFB-9F3A-3788C4CF7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6035-94F1-4566-B056-05DAD4B76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7720" y="6539040"/>
            <a:ext cx="8305560" cy="318960"/>
            <a:chOff x="837720" y="6539040"/>
            <a:chExt cx="8305560" cy="318960"/>
          </a:xfrm>
        </p:grpSpPr>
        <p:sp>
          <p:nvSpPr>
            <p:cNvPr id="1" name=""/>
            <p:cNvSpPr/>
            <p:nvPr/>
          </p:nvSpPr>
          <p:spPr>
            <a:xfrm>
              <a:off x="1265760" y="6539040"/>
              <a:ext cx="787752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37360" y="6539040"/>
              <a:ext cx="4424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0D4F-5E47-4F0E-8834-D7CB81B226E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903"/>
                </a:solidFill>
                <a:latin typeface="Arial"/>
              </a:rPr>
              <a:t>Bài thực hành 1: Làm quen với chương trình bảng tính EXCEL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6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6AEF-72B8-4F2C-912E-1B560015F8E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096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66"/>
                </a:solidFill>
                <a:latin typeface="Arial"/>
              </a:rPr>
              <a:t>Làm quen với chương trình bảng tính Excel</a:t>
            </a:r>
            <a:endParaRPr b="0" lang="en-US" sz="3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1295280"/>
            <a:ext cx="480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903"/>
                </a:solidFill>
                <a:latin typeface="Arial"/>
              </a:rPr>
              <a:t>Bài thực hành 1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6C2E5-EB82-4F21-96B6-B9C2606AFF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3429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Khởi động Excel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38280" y="2666880"/>
            <a:ext cx="4800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háy đúp chuột vào biểu tượng Microsoft Excel trên  màn hình nề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371240" y="2895480"/>
            <a:ext cx="114300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2ADC-877B-4C36-A2F5-7E37AC7BA3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971640"/>
            <a:ext cx="7467840" cy="5600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Khởi động Excel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5562720"/>
            <a:ext cx="6400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ograms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icrosoft Office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icrosoft Excel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37720" y="5791320"/>
            <a:ext cx="1600200" cy="6858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2D9B-11E7-4F4B-A7B5-B1E9A0B8D4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084560" cy="4464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651640" y="1828800"/>
            <a:ext cx="3492360" cy="4419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04760" y="12812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ích vào nút lệnh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av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447560" y="1600200"/>
            <a:ext cx="1600200" cy="1219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1295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1295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av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23080" y="1488960"/>
            <a:ext cx="609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33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Lưu kết quả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0D70-5976-46E7-B26F-C8389A2BA3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5335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Thoát khỏi Exc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647880" cy="4495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638680" y="1828800"/>
            <a:ext cx="3103560" cy="4572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880" y="10666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ích vào dấu nhân ở góc trên bên phải màn hìn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1371600"/>
            <a:ext cx="685800" cy="6858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86360" y="13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82000" y="1386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89880" y="157968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A41E-7BB7-49A5-AA54-5ABA9DB708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250"/>
                            </p:stCondLst>
                            <p:childTnLst>
                              <p:par>
                                <p:cTn id="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50"/>
                            </p:stCondLst>
                            <p:childTnLst>
                              <p:par>
                                <p:cTn id="1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65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2590920"/>
            <a:ext cx="6781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ài tập thực hành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D484-4343-445A-9B6F-C5BBF87E5C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79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5936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1: Quan sát màn hình Excel và các lệnh trong các bảng chọ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445240" cy="5742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8445240" cy="5742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04920" y="1066680"/>
            <a:ext cx="8443800" cy="5756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04920" y="1066680"/>
            <a:ext cx="8445240" cy="5742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304920" y="1066680"/>
            <a:ext cx="8445240" cy="574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304920" y="1066680"/>
            <a:ext cx="8445240" cy="5742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304920" y="1066680"/>
            <a:ext cx="8443800" cy="5756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304920" y="1066680"/>
            <a:ext cx="8445240" cy="574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304920" y="1066680"/>
            <a:ext cx="8458200" cy="574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CEEB-63BC-4B29-9269-6E1D95FD32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7520" y="8222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2: Nhập dữ liệu theo mẫu sau và lưu với tên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Danh sach lop em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80E3-5F9C-476E-ADFD-3486ACA815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B40E-2E92-4DAD-96DA-21F37DDC06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05:08:46Z</dcterms:created>
  <dc:creator>thapnv</dc:creator>
  <dc:description/>
  <dc:language>en-US</dc:language>
  <cp:lastModifiedBy>pham thanh nam</cp:lastModifiedBy>
  <dcterms:modified xsi:type="dcterms:W3CDTF">2007-08-21T03:48:39Z</dcterms:modified>
  <cp:revision>335</cp:revision>
  <dc:subject/>
  <dc:title>Các giao thức khoá cho hệ quản trị cơ sở dữ liệu phân tán</dc:title>
</cp:coreProperties>
</file>