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044B-988D-49DE-AD56-545737E73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0441-2F13-45D5-B053-1195CB340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C84E-AF5D-4562-9166-BB9C67FDF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A00E-FFC0-4F67-8176-E7BFBD20A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3EE3-0C1A-428B-9A66-11078DCDE4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42A1-CE41-43BD-B33C-7900363C4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4782-60D5-41AB-8C3F-EFCD2CF44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5CD8-29C4-41F3-85CF-2982FBA80E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0823-5DE3-47C8-AFFB-2B80CA4AD5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A86B-8510-4E70-B814-BBF80D03CB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A25B-1A68-4C1D-A192-B24D9EB4E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8D9A-F6A2-485E-ABF1-A6886647C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351E-1E7F-44F4-B3F5-48D596AC6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A8A2-B5B0-4FCA-99B3-8D8368BF02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C645-A6C2-4B72-AB3E-F77815FF69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182F-9CC9-486E-9902-B87D5BCDA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B5EC-BC99-411B-B76F-99B260868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D1A5-048F-4D38-AE46-AEDB80C75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2A1E-B705-44BA-AFF4-4942D507D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B2D7-8FAB-41A4-A6EA-CDB91D830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89D0-0802-42EF-A929-78E111132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FE89-B568-4D00-8A2E-2C0D0EE26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EACC-429C-4154-B258-0297B4C63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3846-8134-443A-99B3-11F4FBF4D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ài 4. Sử dụng các hàm để tính toá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7720" y="6553080"/>
            <a:ext cx="8305560" cy="304920"/>
            <a:chOff x="837720" y="6553080"/>
            <a:chExt cx="8305560" cy="304920"/>
          </a:xfrm>
        </p:grpSpPr>
        <p:sp>
          <p:nvSpPr>
            <p:cNvPr id="2" name=""/>
            <p:cNvSpPr/>
            <p:nvPr/>
          </p:nvSpPr>
          <p:spPr>
            <a:xfrm>
              <a:off x="1265760" y="6553080"/>
              <a:ext cx="787752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837360" y="6553080"/>
              <a:ext cx="44244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81EC-603A-4361-8834-239B5BCED0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1201-B8BE-4F2A-AE24-6735B30826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ử dụng các hàm để tính toá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ài 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30AC-96E4-4624-B559-5447EE6CA7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828800"/>
          <a:ext cx="777240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772400" cy="386712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477120" y="3200400"/>
            <a:ext cx="2361960" cy="914400"/>
          </a:xfrm>
          <a:prstGeom prst="wedgeRectCallout">
            <a:avLst>
              <a:gd name="adj1" fmla="val -20967"/>
              <a:gd name="adj2" fmla="val 166666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ường hợp các biến a, b, c là địa chỉ các ô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8B62-4F32-40A2-A31A-6658878F9F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1143000"/>
            <a:ext cx="2514600" cy="2590920"/>
            <a:chOff x="0" y="1143000"/>
            <a:chExt cx="2514600" cy="2590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57200" y="1143000"/>
              <a:ext cx="1752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2971800"/>
              <a:ext cx="2514600" cy="76212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05720" y="1219320"/>
            <a:ext cx="2438280" cy="2666880"/>
            <a:chOff x="6705720" y="1219320"/>
            <a:chExt cx="2438280" cy="266688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7010280" y="1219320"/>
              <a:ext cx="17528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705720" y="2819520"/>
              <a:ext cx="2438280" cy="106668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9320" y="45720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ến là một đại lượng mà giá trị có thể thay đổi đượ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1371600"/>
            <a:ext cx="3886200" cy="2253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SUM(a,b,c…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ới a,b,c… là các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iế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=E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=225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= giá trị bất kì nào đ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D1FE-8AAA-479E-89A5-CFFB2AF9D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. Hàm tính trung bình cộng : A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AVERAGE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AVERAGE(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c,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ong đó các biến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... là các số hay địa chỉ của các ô cần tính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Ví dụ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AVERAGE(3,7,20)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ương đương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=(3+7+20)/3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B372-A9A3-4F66-8022-CDACD0AC7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990720"/>
            <a:ext cx="792468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. Hàm xác định giá trị lớn nhất : M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xác định giá trị nhỏ nhất: 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MAX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MAX(a,b,c,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MIN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MIN(a,b,c,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ong đó các biến a, b, c,... là các số hay địa chỉ của các ô tín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1981080"/>
          <a:ext cx="77724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72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5880" y="457200"/>
            <a:ext cx="3276720" cy="2209680"/>
          </a:xfrm>
          <a:prstGeom prst="cloudCallout">
            <a:avLst>
              <a:gd name="adj1" fmla="val -15699"/>
              <a:gd name="adj2" fmla="val 47990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i phí thức ăn mỗi ngày cho loài vật nào là nhiều nhất/ ít nhất đây??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BC1D-5811-4D91-8D3A-C24F25C7B1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6440" cy="4800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781680" y="5334120"/>
            <a:ext cx="1752840" cy="3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200400" y="1295280"/>
            <a:ext cx="1371600" cy="236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781680" y="5710320"/>
            <a:ext cx="1752840" cy="34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200400" y="129528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6067-5CFD-46E0-BF48-1114358C29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2286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RẮC NGHIỆ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DFDE-9401-46CB-8D5C-8BB944FF2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248160" cy="261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3886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C4: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30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,D4,E4,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71760" y="4767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8,D4:F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8280" y="5238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C4,7,E4: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1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Để tính điểm tổng kết ở ô G4, thì cách nhập hàm nào sau đây là không đúng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8422-13A9-4822-9032-4F331E1D48A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248520" cy="2469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472428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,c4,c4,d4,d4,e4,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426708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8,8,8,7,7,8,8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17720" y="3821040"/>
            <a:ext cx="37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*3,d4*2,e4,e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95400" y="518148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c4,c4,c4,d4,d4:f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2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Nếu môn Toán được tính hệ số 3, môn văn tính hệ số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ông thức nào sau đây cho kết quả sai tại ô G4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77B8-3331-4EE8-B1E9-C078BBCDD6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209600" y="95256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03240" y="4327560"/>
            <a:ext cx="39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:C3)                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24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440" y="39704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,C3)                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2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06480" y="3578400"/>
            <a:ext cx="35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,C3)                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0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440" y="47847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,A3,B2,C1,C3) </a:t>
            </a:r>
            <a:r>
              <a:rPr b="0" lang="fr-F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 0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3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họn công thức và kết quả đúng nếu tính tổng của khối A1:C3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447920"/>
            <a:ext cx="3200400" cy="114300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1209600" y="1219320"/>
            <a:ext cx="5105520" cy="1998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47920" y="1887480"/>
            <a:ext cx="3200400" cy="114300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>
            <a:lum bright="-4000"/>
          </a:blip>
          <a:stretch/>
        </p:blipFill>
        <p:spPr>
          <a:xfrm>
            <a:off x="1209600" y="966960"/>
            <a:ext cx="5181840" cy="239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47920" y="1523880"/>
            <a:ext cx="3200400" cy="114300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>
            <a:lum bright="-4000"/>
          </a:blip>
          <a:stretch/>
        </p:blipFill>
        <p:spPr>
          <a:xfrm>
            <a:off x="1219320" y="990720"/>
            <a:ext cx="5105160" cy="2360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09560" y="1514520"/>
            <a:ext cx="2819520" cy="1066680"/>
          </a:xfrm>
          <a:prstGeom prst="rect">
            <a:avLst/>
          </a:prstGeom>
          <a:noFill/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FB0D-32E7-4F54-AA4A-23268584E5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209600" y="1447920"/>
            <a:ext cx="4953240" cy="2290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60480" y="4334040"/>
            <a:ext cx="46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=average(SUM(A1:B3)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25640" y="47228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sum(A1:B3)/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93696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=average(A1,A3,B2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848720" y="3733920"/>
            <a:ext cx="1076040" cy="2962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938240" y="5133960"/>
            <a:ext cx="44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sum(-5,8,10)/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âu 4: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ông thức nào cho kết quả sai khi tính trung bình cộng của tất cả các giá trị trong khối A1:B3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0B05-72AB-4FC3-971C-82095FC3B9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57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Hàm trong chương trình bảng tính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57200"/>
            <a:ext cx="3581280" cy="1295280"/>
          </a:xfrm>
          <a:prstGeom prst="cloudCallout">
            <a:avLst>
              <a:gd name="adj1" fmla="val -8819"/>
              <a:gd name="adj2" fmla="val 271935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ính điểm tổng kết bằng cách nào đây??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EB32-66E2-4736-9CF0-6FDDA05CE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70B7-E12B-496E-9F26-903D7C701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1219320"/>
            <a:ext cx="830592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là một số công thức được định nghĩa từ trướ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được sử dụng để thực hiện tính toán theo công thức với các giá trị dữ liệu cụ th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819520"/>
            <a:ext cx="365760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ử dụng công thứ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=(8.7+8.6+7.9+8.8)/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oặ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=(G4+G5+G6+G7)/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819520"/>
            <a:ext cx="396252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Sử dụng hàm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=AVERAGE(8.7,8.6,7.9,8.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Hoặ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=AVERAGE(G4,G5,G6,G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572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Hàm trong chương trình bảng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D152-46FC-46BA-9B76-E0A5FF296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ách sử dụng hàm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990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hập hàm như một công th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543800" cy="4362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48880" y="1600200"/>
            <a:ext cx="22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. Chọn ô cần nhập hà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1905120"/>
            <a:ext cx="0" cy="1447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3000" y="1600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2. Gõ dấu =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43200" y="1905120"/>
            <a:ext cx="1447920" cy="1447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35320" y="32227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40800" y="2681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04680" y="16002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. Nhập hàm theo đúng cú phá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520" y="1828800"/>
            <a:ext cx="2743200" cy="16002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40160" y="261936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VERAGE(2,6,7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3600" y="32479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VERAGE(2,6,7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5120" y="32004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4. Nhấn Ent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29000" y="3352680"/>
            <a:ext cx="565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1971720"/>
            <a:ext cx="75438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66D2-C5EF-47F7-8433-4B2F50B033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8153640" cy="5029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52680" y="4876920"/>
            <a:ext cx="251460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04231"/>
              <a:gd name="adj5" fmla="val -157083"/>
              <a:gd name="adj6" fmla="val 105555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VERAGE(G3:G1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133720"/>
            <a:ext cx="1218960" cy="1828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724280"/>
            <a:ext cx="601992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(G3+G4+G5+G6+G7+G8+G9+G10+G11)/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ặc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AVERAGE(G3,G4,G5,G6,G7,G8,G9,G10,G1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9528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ách sử dụng hà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6000-505F-4404-8B97-D92D7DBD5B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. 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àm SUM được nhập vào ô tính như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SUM(a,b,c...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 biến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... đặt cách nhau bởi dấu “phẩy” là các số hay địa chỉ của các ô tính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ố lượng các biến là không hạn ch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Ví dụ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ổng ba số 15, 24, 45 có thể được tính bằng cách nhập nội dung sau vào ô tính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=SUM(15,24,45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 kết quả 8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19D9-9124-4782-97C2-FF85F8AE7B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66680" y="2057400"/>
          <a:ext cx="7772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772400" cy="373392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809880"/>
            <a:ext cx="2666880" cy="990720"/>
          </a:xfrm>
          <a:prstGeom prst="wedgeRectCallout">
            <a:avLst>
              <a:gd name="adj1" fmla="val 45296"/>
              <a:gd name="adj2" fmla="val 105287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ập công thức tính tổng chi phí thức ăn vào ô E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D60D-71E1-44A3-8C29-01BB3981E3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990720" y="2057400"/>
          <a:ext cx="7772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400" cy="373392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276720"/>
            <a:ext cx="2666880" cy="914400"/>
          </a:xfrm>
          <a:prstGeom prst="wedgeRectCallout">
            <a:avLst>
              <a:gd name="adj1" fmla="val -55712"/>
              <a:gd name="adj2" fmla="val 125000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ường hợp các biến a, b, c là s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57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0FCF-5A3D-4B65-9A18-18C09EC41E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865080"/>
            <a:ext cx="7162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Hàm tính tổng: S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1905120"/>
          <a:ext cx="77454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745400" cy="373356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943600" y="3276720"/>
            <a:ext cx="2666880" cy="914400"/>
          </a:xfrm>
          <a:prstGeom prst="wedgeRectCallout">
            <a:avLst>
              <a:gd name="adj1" fmla="val -55712"/>
              <a:gd name="adj2" fmla="val 125000"/>
            </a:avLst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ường hợp các biến a, b, c là địa chỉ các ô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80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Giới thiệu một số hàm cơ bả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073C-3B32-4758-84D1-AF26B10D38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5:59:00Z</dcterms:created>
  <dc:creator>Trung</dc:creator>
  <dc:description/>
  <dc:language>en-US</dc:language>
  <cp:lastModifiedBy>pham thanh nam</cp:lastModifiedBy>
  <dcterms:modified xsi:type="dcterms:W3CDTF">2007-08-23T06:50:49Z</dcterms:modified>
  <cp:revision>405</cp:revision>
  <dc:subject/>
  <dc:title>Sử dụng các hàm để tính toán</dc:title>
</cp:coreProperties>
</file>