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280D-C9AF-4776-B0C2-08AD63E10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3E31-69E4-417D-92B4-B9564EDD3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C71B-D344-48C5-B9EE-A603048E9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3649-DCE4-413E-8A57-BC6DC1D73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1FEC-5DC9-48C6-93EA-DF942B754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184A-2FA3-4EE2-B942-FD185D6B5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531B-1A55-412B-969A-0B58E2131E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7040-E97E-4D8C-91F4-9ADB32EEB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C6C0-C1C1-4E21-B972-9825E6E27F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5168-E052-4761-BD5A-18688D61B9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9B3A-C28D-4481-A078-47952FE52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3816-C60E-4EE0-B94B-110059B8E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1619-5929-48DB-9AA6-363B306A9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1AA1-9BB2-4ED1-9883-F56F537F1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A913-22CF-4E4B-8CE5-B744F5BF9C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D51D-A9AD-42AA-800A-F01FDAD698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18A7-A00F-4C4A-B174-EBFDB194F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FF77-4314-4753-B44A-5E252669F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8DA4-6119-4907-9795-457056722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7BD8-CD9D-4F67-AFF7-DE6DCEADD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6635-3B0E-4B16-AA49-517E10D39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9F4C-6776-44C8-B262-6A5C59E80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73F0-19D8-4C54-A72B-ACEFFCECC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399A-FF52-45DF-AD35-BF8AF7100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57A-C963-4FF3-B08D-E8ED435E7A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5: Chỉnh sửa trang tính của 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6AED-9802-4A4D-8F3F-6E489FAEA6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2716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Arial"/>
              </a:rPr>
              <a:t>Chỉnh</a:t>
            </a: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903"/>
                </a:solidFill>
                <a:latin typeface="Arial"/>
              </a:rPr>
              <a:t>sửa trang tính của 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Bài thực hành 5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3C4F-E818-4C6A-9977-D140220613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8686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tệp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lưu ở bài thực hành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523880"/>
            <a:ext cx="674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êm cột sau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oá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một cột trống là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èn thêm hàng trống trên và dưới dòng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ảng điểm lớp 7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7724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1499-9342-4219-9F86-57A183B54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76212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Nhập điểm môn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điều chỉnh lại công thức cho đúng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Di chuyển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ề sa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gữ vă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0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0760" y="59436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. Lưu bảng tính với tên cũ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8EBC-4140-4111-9BDE-D2CA47F8DE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8686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lại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58256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Di chuyển dữ liệ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sang một cột  tạm thời, xoá cột D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Chèn cột mới sau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gữ vă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ao chép nội dung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in họ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ở cột tạm thời vào vị trí đó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162560" cy="355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F642-7846-4843-97DE-DD5DA6744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5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1932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Thêm cột môn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ông ngh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hập dữ liệu;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Điều chỉnh lại công thức trong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iểm trung bìn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ho đú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38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3ACE-E28F-4942-8C8F-9E1872941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8128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3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47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Tạo trang tính mới với những nội dung sau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410440" cy="1314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342900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Tính tổng các số trong ô A1,B1,C1 vào ô D1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Sao chép công thức từ ô D1 vào các ô D2, E1, E2, E3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Lần lượt di chuyển công thức từ ô D1 đến ô G1, từ ô D2 đến ô G2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. Dùng lệnh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o chép nội dung ô A1 vào khối H1:J4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o chép nội dung từ khối A1:A2 vào các khối A5:A7; B5:B8; C5:C9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E62D-0F8E-45AA-9F17-176214072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8920" y="609480"/>
            <a:ext cx="905508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) Mở bảng tính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So theo doi the luc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ã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ở bài thực hành 2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) Thêm hàng  trước và sau dòng “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anh sách lớ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và cột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ịa ch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Điện thoạ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) Điều chỉnh độ rộng của hàng, độ cao của cột để có trang tính như hình dưới đây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28880" indent="-1028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Lưu bảng tính với tên cũ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6553080" cy="3541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73F9-C979-4E94-A68D-77F6A191C3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7F90-E07C-442E-B35D-96E89B431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2T10:30:41Z</dcterms:modified>
  <cp:revision>346</cp:revision>
  <dc:subject/>
  <dc:title>Các giao thức khoá cho hệ quản trị cơ sở dữ liệu phân tán</dc:title>
</cp:coreProperties>
</file>