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6.png" ContentType="image/png"/>
  <Override PartName="/ppt/media/image11.png" ContentType="image/png"/>
  <Override PartName="/ppt/media/image3.png" ContentType="image/png"/>
  <Override PartName="/ppt/media/image4.png" ContentType="image/png"/>
  <Override PartName="/ppt/media/image2.gif" ContentType="image/gif"/>
  <Override PartName="/ppt/media/image5.png" ContentType="image/png"/>
  <Override PartName="/ppt/media/image10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79105-CF28-4D04-8B00-172BBD3C20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54951-CE6A-4A77-AB96-01AB15ABF6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5D80A-D7E6-495D-B7DD-619D4D86CF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C9183-CF20-4641-8360-2D76E548B3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09A9F-3F33-48F3-8C70-F80ED2960F4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5437C-F7EE-43B6-8F96-785E0F934E2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668A1-B6BD-4B8D-9E7A-DADCDD1DA50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050BD-1F19-4033-9EE0-F4BA81112E7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9FA03-DA86-4994-B6B4-3E021B35F67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29F2D-E54A-44B7-9106-CEB02A0DF9B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A2407-ECDD-45D1-B653-E8BE81B756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A5982-7474-4EDB-9D04-3BE944DB5E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66C93-E15F-4BD3-8B15-3598B789CC0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A31AD-A829-42C4-A61F-EA6195BCEB9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554DC-4349-4A89-994B-982BC755575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9048C-F6F5-49EE-AFFD-74FE6AD8AF1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7FE74-80DE-4420-B33B-1D4FA85F61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8F5F2-E556-4281-9E60-2B146B1A3F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AB0A9-3728-4F60-B61A-32382821D8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02D4A-0965-4D53-BB45-3EAD5C335F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FD53E-C105-48AF-AF9F-8798C83766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60C19-6F0B-44BA-8FB5-EC7E14C0F1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FFA78-15DE-4A50-8C15-FDA6FBD3C4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EAD09-3061-4DA2-894C-A514907088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37720" y="6539040"/>
            <a:ext cx="8305560" cy="318960"/>
            <a:chOff x="837720" y="6539040"/>
            <a:chExt cx="8305560" cy="318960"/>
          </a:xfrm>
        </p:grpSpPr>
        <p:sp>
          <p:nvSpPr>
            <p:cNvPr id="1" name=""/>
            <p:cNvSpPr/>
            <p:nvPr/>
          </p:nvSpPr>
          <p:spPr>
            <a:xfrm>
              <a:off x="1265760" y="6539040"/>
              <a:ext cx="787752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837360" y="6539040"/>
              <a:ext cx="4424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08DBA-5AF6-42BA-A60C-08D74DFFE48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285040" y="0"/>
            <a:ext cx="858960" cy="8002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533520" y="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903"/>
                </a:solidFill>
                <a:latin typeface="Arial"/>
              </a:rPr>
              <a:t>Bài 3. Thực hiện tính toán trên trang tính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90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1752480" y="6539040"/>
            <a:ext cx="7391520" cy="318960"/>
            <a:chOff x="1752480" y="6539040"/>
            <a:chExt cx="7391520" cy="318960"/>
          </a:xfrm>
        </p:grpSpPr>
        <p:sp>
          <p:nvSpPr>
            <p:cNvPr id="46" name=""/>
            <p:cNvSpPr/>
            <p:nvPr/>
          </p:nvSpPr>
          <p:spPr>
            <a:xfrm>
              <a:off x="2133360" y="653904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1752480" y="653904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B6CB-9C8F-494C-8250-CB9C783761E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527280"/>
            <a:ext cx="9144000" cy="335772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141720"/>
            <a:ext cx="9144000" cy="431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90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104840" y="1042920"/>
            <a:ext cx="731844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Bài 3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Thực hiện tính toán trên trang tính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2DE60-E06D-4693-A9F9-22276ACE982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76320" y="1523880"/>
            <a:ext cx="4321080" cy="32529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719600" y="1600200"/>
            <a:ext cx="4424400" cy="31780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150" name=""/>
          <p:cNvSpPr/>
          <p:nvPr/>
        </p:nvSpPr>
        <p:spPr>
          <a:xfrm flipV="1">
            <a:off x="4343400" y="3425400"/>
            <a:ext cx="471600" cy="324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33480" y="3567240"/>
            <a:ext cx="655560" cy="1839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643800" y="3567240"/>
            <a:ext cx="609480" cy="1839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68580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3. Sử dụng địa chỉ trong công thức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16B7E-F781-4D56-8007-97B92A00E94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4435560" cy="32162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00600" y="2160720"/>
            <a:ext cx="3962520" cy="32652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156" name=""/>
          <p:cNvSpPr/>
          <p:nvPr/>
        </p:nvSpPr>
        <p:spPr>
          <a:xfrm>
            <a:off x="228600" y="1600200"/>
            <a:ext cx="43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Sử dụng công thức thông thường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829040" y="1644480"/>
            <a:ext cx="43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Sử dụng công thức chứa địa chỉ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29000" y="3429000"/>
            <a:ext cx="1081080" cy="2602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475080" y="3946680"/>
            <a:ext cx="1081080" cy="2602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29000" y="4419720"/>
            <a:ext cx="1081080" cy="2602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834320" y="3429000"/>
            <a:ext cx="1081080" cy="2602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878600" y="3946680"/>
            <a:ext cx="1081080" cy="2602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862760" y="4433760"/>
            <a:ext cx="1081080" cy="2606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56833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ử dụng công thức chứa địa chỉ thì nội dung các ô liên quan sẽ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tự động được cập nhật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nếu nội dung các ô trong công thức bị thay đổi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685800"/>
            <a:ext cx="5257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3. Sử dụng địa chỉ trong công thức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7F721-3297-4EFE-8EE7-E955BFC172C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1828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903"/>
                </a:solidFill>
                <a:latin typeface="Arial"/>
              </a:rPr>
              <a:t>Trắc nghiệm </a:t>
            </a:r>
            <a:endParaRPr b="1" lang="en-US" sz="4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574DF-E38D-4EDE-B5FC-142ADB02C38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469880" y="288288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  <a:ea typeface="Arial"/>
              </a:rPr>
              <a:t>a, b, c, d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01920" y="3379680"/>
            <a:ext cx="434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  <a:ea typeface="Arial"/>
              </a:rPr>
              <a:t>c, b, d, a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01920" y="38862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  <a:ea typeface="Arial"/>
              </a:rPr>
              <a:t>d, c, b, a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848720" y="3200400"/>
            <a:ext cx="1076040" cy="29624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501920" y="43894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d, b,c,a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" y="762120"/>
            <a:ext cx="891540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âu 1</a:t>
            </a: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 : Giả sử có các thao tác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903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. Nhấn Enter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. Gõ dấu =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. Nhập công thức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. Chọn ô tính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Đâu là thứ tự đúng của các bước nhập công thức vào một ô tính?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FAE65-A21D-4710-94BA-FA22BF7D43F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267080" y="1905120"/>
            <a:ext cx="3314880" cy="15238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174" name=""/>
          <p:cNvSpPr/>
          <p:nvPr/>
        </p:nvSpPr>
        <p:spPr>
          <a:xfrm>
            <a:off x="1219320" y="18288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=(A1+9)/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19320" y="25146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=(A1+B1)/C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19320" y="312408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=(A1+B1)/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95280" y="37339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=(7+9):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8107200" y="3429000"/>
            <a:ext cx="1036800" cy="29624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-14040" y="914400"/>
            <a:ext cx="833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âu 2: Trong các công thức nhập vào ô D1, công thức nào sau đây sai?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E01E2-4024-42EF-9D81-4C3BCAA0903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495680" y="1905120"/>
            <a:ext cx="3314880" cy="15238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181" name=""/>
          <p:cNvSpPr/>
          <p:nvPr/>
        </p:nvSpPr>
        <p:spPr>
          <a:xfrm>
            <a:off x="1219320" y="18432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(A1+C1)*B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19320" y="243828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=(A1+C1)B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19320" y="30481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=A1+C1*B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57480" y="36576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=(A1+C1)*B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8107200" y="3429000"/>
            <a:ext cx="1036800" cy="29624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-13320" y="762120"/>
            <a:ext cx="910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âu 3: Giả sử cần tính tổng giá trị các ô A1 và C1, sau đó nhân với giá trị trong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ô B1. Công thức nào trong số các công thức sau đây là đúng?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4C857-1D3B-4E48-8B16-FBE909A637A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419720" y="2209680"/>
            <a:ext cx="3314520" cy="15242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188" name=""/>
          <p:cNvSpPr/>
          <p:nvPr/>
        </p:nvSpPr>
        <p:spPr>
          <a:xfrm>
            <a:off x="1295280" y="198108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=(A1+B1)/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95280" y="266688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=A1+B1/C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95280" y="32767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=(A1+B1)/C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33440" y="38862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=(7+9)/C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8107200" y="3429000"/>
            <a:ext cx="1036800" cy="29624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-15480" y="762120"/>
            <a:ext cx="883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âu 4: Giả sử công thức ở ô D1 là = (7+9)/2.Muốn kết quả của ô D1 tự động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ập nhật khi thay đổi các ô A1, B1, C1 thì công thức tại ô D1 như thế nào?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28B41-F657-4EC1-B90A-9C5D7DB6D2E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619440" y="2228760"/>
            <a:ext cx="1905120" cy="19432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3581280" y="4191120"/>
            <a:ext cx="204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Kết thúc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52D7D-C5B5-43B4-BF74-6BD2BA31CF7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514600" y="2971800"/>
            <a:ext cx="5029200" cy="1523880"/>
          </a:xfrm>
          <a:prstGeom prst="cloudCallout">
            <a:avLst>
              <a:gd name="adj1" fmla="val -72129"/>
              <a:gd name="adj2" fmla="val 69898"/>
            </a:avLst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Arial"/>
                <a:ea typeface="Arial"/>
              </a:rPr>
              <a:t>Chương trình bảng tính là gì?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 flipH="1">
            <a:off x="228240" y="3657600"/>
            <a:ext cx="1143000" cy="29624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533680" y="2986200"/>
            <a:ext cx="5029200" cy="1523880"/>
          </a:xfrm>
          <a:prstGeom prst="cloudCallout">
            <a:avLst>
              <a:gd name="adj1" fmla="val -73388"/>
              <a:gd name="adj2" fmla="val 68750"/>
            </a:avLst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Arial"/>
                <a:ea typeface="Arial"/>
              </a:rPr>
              <a:t>Công dụng của chương trình bảng tính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1219320"/>
            <a:ext cx="800100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Công dụng của chương trình bảng tính: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Ghi lại và trình bày thông tinh dưới dạng bảng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Thực hiện các tính toán các số liệu có trong bảng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Xây dựng các biểu đồ biểu diễn trực quan các số liệu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4B2B6-B13A-4FEC-B125-7321545453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2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655200"/>
            <a:ext cx="4648320" cy="3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1. Sử dụng công thức để tính toán</a:t>
            </a:r>
            <a:endParaRPr b="1" lang="en-US" sz="20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92360" y="1630440"/>
            <a:ext cx="6126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03320" y="1128600"/>
            <a:ext cx="1873080" cy="59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Phép toá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ộng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ừ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hâ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i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uỹ thừ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hần tră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81280" y="1165320"/>
            <a:ext cx="17370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Toán học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Wingdings 2"/>
                <a:ea typeface="Wingdings 2"/>
              </a:rPr>
              <a:t>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6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%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68920" y="1247760"/>
            <a:ext cx="3475080" cy="43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hương trình bảng tính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/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6^2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%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62120" y="1066680"/>
          <a:ext cx="8305560" cy="4525920"/>
        </p:xfrm>
        <a:graphic>
          <a:graphicData uri="http://schemas.openxmlformats.org/drawingml/2006/table">
            <a:tbl>
              <a:tblPr/>
              <a:tblGrid>
                <a:gridCol w="2437920"/>
                <a:gridCol w="2438640"/>
                <a:gridCol w="3429000"/>
              </a:tblGrid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8D800-7A09-4F35-89B7-358B174BDB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1" dur="2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b450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3" dur="2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b450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5" dur="2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b450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838080" y="1295280"/>
            <a:ext cx="551844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Thực hiện các phép tính sau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23+4)/3-6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8-2^3+5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50+5*3^2-9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20-30/3)^2-80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7*7-9):5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655560"/>
            <a:ext cx="46483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1. Sử dụng công thức để tính toá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7C7FF-5A7C-4423-8717-E21B917937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348080" y="3357720"/>
            <a:ext cx="4189320" cy="3147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855720" y="1060560"/>
            <a:ext cx="2676600" cy="1819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3525840" y="1071720"/>
            <a:ext cx="2695680" cy="1819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220760" y="3679920"/>
            <a:ext cx="2705040" cy="18381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6261120" y="1060560"/>
            <a:ext cx="2657520" cy="18381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151680" y="3670200"/>
            <a:ext cx="2104920" cy="1722600"/>
          </a:xfrm>
          <a:prstGeom prst="irregularSeal1">
            <a:avLst/>
          </a:prstGeom>
          <a:solidFill>
            <a:srgbClr val="ffff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ông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ứ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ai!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629400" y="3156120"/>
            <a:ext cx="1088640" cy="926640"/>
            <a:chOff x="6629400" y="3156120"/>
            <a:chExt cx="1088640" cy="926640"/>
          </a:xfrm>
        </p:grpSpPr>
        <p:sp>
          <p:nvSpPr>
            <p:cNvPr id="110" name=""/>
            <p:cNvSpPr/>
            <p:nvPr/>
          </p:nvSpPr>
          <p:spPr>
            <a:xfrm>
              <a:off x="6629400" y="3275280"/>
              <a:ext cx="262800" cy="2725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8640" y="3156120"/>
              <a:ext cx="869400" cy="926640"/>
            </a:xfrm>
            <a:custGeom>
              <a:avLst/>
              <a:gdLst/>
              <a:ahLst/>
              <a:rect l="l" t="t" r="r" b="b"/>
              <a:pathLst>
                <a:path w="523" h="560">
                  <a:moveTo>
                    <a:pt x="205" y="560"/>
                  </a:moveTo>
                  <a:cubicBezTo>
                    <a:pt x="364" y="359"/>
                    <a:pt x="523" y="158"/>
                    <a:pt x="489" y="79"/>
                  </a:cubicBezTo>
                  <a:cubicBezTo>
                    <a:pt x="455" y="0"/>
                    <a:pt x="80" y="83"/>
                    <a:pt x="0" y="87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655200"/>
            <a:ext cx="4648320" cy="3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1. Sử dụng công thức để tính toán</a:t>
            </a:r>
            <a:endParaRPr b="1" lang="en-US" sz="20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E9F87-85D5-413B-811B-FA03BBBB71C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80880" y="6858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2. Nhập công thức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6476760" cy="33894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794840" y="1676520"/>
            <a:ext cx="274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1. Chọn ô cần nhập công thức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38680" y="1981080"/>
            <a:ext cx="0" cy="14479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61120" y="2133720"/>
            <a:ext cx="114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2. Gõ dấu =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6248160" y="2438280"/>
            <a:ext cx="990360" cy="9907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75240" y="3276720"/>
            <a:ext cx="28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55560" y="1905120"/>
            <a:ext cx="28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160040" y="2819520"/>
            <a:ext cx="174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3. Nhập công thức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400800" y="3048120"/>
            <a:ext cx="914400" cy="38088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77960" y="1924200"/>
            <a:ext cx="85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5000*5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26080" y="3276720"/>
            <a:ext cx="85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5000*5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206120" y="3352680"/>
            <a:ext cx="13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4. Nhấn Enter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6705360" y="3505320"/>
            <a:ext cx="609480" cy="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83160" y="3581280"/>
            <a:ext cx="144792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33520" y="1981080"/>
            <a:ext cx="6429240" cy="3392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7A256-D8F5-4109-84AA-AFE41AD940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19320" y="1371600"/>
            <a:ext cx="7238880" cy="37656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4114800" y="2743200"/>
            <a:ext cx="1523880" cy="45720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1219320"/>
            <a:ext cx="1143000" cy="38088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60948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2. Nhập công thức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398BD-6BE5-46E6-8F81-28F9533680D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4294080" cy="40658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952880" y="1523880"/>
            <a:ext cx="3936960" cy="40388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135" name=""/>
          <p:cNvSpPr/>
          <p:nvPr/>
        </p:nvSpPr>
        <p:spPr>
          <a:xfrm>
            <a:off x="244440" y="1036800"/>
            <a:ext cx="408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Bảng dữ liệu của bạn Hoàng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060880" y="1004760"/>
            <a:ext cx="408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Bảng dữ liệu của bạn La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25720" y="3032280"/>
            <a:ext cx="974880" cy="47304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95440" y="1355760"/>
            <a:ext cx="974880" cy="47304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943600" y="1371600"/>
            <a:ext cx="974880" cy="47304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093160" y="2971800"/>
            <a:ext cx="974520" cy="47304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60948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2. Nhập công thức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0621C-35F8-4CE2-93AA-7DAA0213CA7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8600" y="68580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3. Sử dụng địa chỉ trong công thức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77960" y="1341360"/>
            <a:ext cx="7545240" cy="39499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638680" y="762120"/>
            <a:ext cx="1616040" cy="1020600"/>
          </a:xfrm>
          <a:prstGeom prst="borderCallout2">
            <a:avLst>
              <a:gd name="adj1" fmla="val 18750"/>
              <a:gd name="adj2" fmla="val -8333"/>
              <a:gd name="adj3" fmla="val 11199"/>
              <a:gd name="adj4" fmla="val 115027"/>
              <a:gd name="adj5" fmla="val 224106"/>
              <a:gd name="adj6" fmla="val 125439"/>
            </a:avLst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=45000*5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oặc 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=C4*D4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564000" y="2916360"/>
            <a:ext cx="1965240" cy="242640"/>
          </a:xfrm>
          <a:prstGeom prst="rect">
            <a:avLst/>
          </a:prstGeom>
          <a:noFill/>
          <a:ln w="349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60920" y="2886120"/>
            <a:ext cx="1036800" cy="268200"/>
          </a:xfrm>
          <a:prstGeom prst="rect">
            <a:avLst/>
          </a:prstGeom>
          <a:noFill/>
          <a:ln w="3492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5280" y="5396040"/>
            <a:ext cx="833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ách nhập công thức có chứa địa chỉ ô cũng tương tự như việc nhập các công thức thông thường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61CE6-E729-4BB7-A44F-4A4BFB470C9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8T05:08:46Z</dcterms:created>
  <dc:creator>thapnv</dc:creator>
  <dc:description/>
  <dc:language>en-US</dc:language>
  <cp:lastModifiedBy>pham thanh nam</cp:lastModifiedBy>
  <dcterms:modified xsi:type="dcterms:W3CDTF">2007-08-23T06:48:57Z</dcterms:modified>
  <cp:revision>342</cp:revision>
  <dc:subject/>
  <dc:title>Các giao thức khoá cho hệ quản trị cơ sở dữ liệu phân tán</dc:title>
</cp:coreProperties>
</file>