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B38D-FFE5-4C10-A7F8-816671BFB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0A4C-D1F3-4064-BC47-205A744DA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DAC0-B1F3-4C15-A9C9-960EAB3FD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BD1F-CEF4-4CC8-855D-8076144D9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950F8-EFBD-4D01-A94D-43B83C9798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FA74-0C39-41B2-BFCE-A2B53C8D4C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CA7E-F361-4540-B527-9EB9FCDF41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FF35-1DA8-4486-9F77-5084AA0F5F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F8D9-2B1F-44F2-AA18-E72DC1A32A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2AA8-7793-453D-BCD4-AC85CECA0B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A5C7-B5EF-43AB-A5AA-A9EDA693FF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CD69-57B7-4D64-9747-15CC24550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1277-0844-4453-83F0-BDF37E95A9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63C4-6A3A-4575-A6E7-2376EF7202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4E46-0097-4C27-BBB1-07A5B795C0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42A7-C4F2-4551-BD03-1145F29BB9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604E-7BEB-4840-A773-5B7D6A1548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8A26-124F-469B-94CA-8837F2A19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E0DF-A216-4E94-88F0-3656AA554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EB2F-8D40-40DF-A88F-928041C7B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9BBE-A758-43F8-B6B7-D8B3327F9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346E-6105-4E46-94AC-3D2A9C08D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BCF1-CFAE-49F3-9328-71258DDAD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FE24-C600-4779-B0EC-97EB37978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ài 5. Thao tác với bảng tín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2120" y="6553080"/>
            <a:ext cx="8381520" cy="304920"/>
            <a:chOff x="762120" y="6553080"/>
            <a:chExt cx="8381520" cy="304920"/>
          </a:xfrm>
        </p:grpSpPr>
        <p:sp>
          <p:nvSpPr>
            <p:cNvPr id="2" name=""/>
            <p:cNvSpPr/>
            <p:nvPr/>
          </p:nvSpPr>
          <p:spPr>
            <a:xfrm>
              <a:off x="1193760" y="6553080"/>
              <a:ext cx="794988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762120" y="6553080"/>
              <a:ext cx="44640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A366-5121-4493-9C44-E7989566CA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5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9AE7-D2FE-47EF-85F4-735FA86E00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19807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hao tác với bảng tín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12952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Bài 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DED6-8465-400F-B761-113EA634C2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3880" y="990720"/>
            <a:ext cx="8153280" cy="5225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5029200" y="380880"/>
            <a:ext cx="3657600" cy="1981440"/>
          </a:xfrm>
          <a:prstGeom prst="cloudCallout">
            <a:avLst>
              <a:gd name="adj1" fmla="val -85458"/>
              <a:gd name="adj2" fmla="val 66425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Tại sao khi sao chép khối F12:F15 vào ô B3 thì lại ra kết quả thế này cơ chứ??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996E-1EDC-436E-8DEF-1AD687091B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45720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 Sao chép và di chuyển công thứ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219320"/>
            <a:ext cx="8839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b) Di chuyển dữ liệu và công thứ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i di chuyển nội dung các ô có chứa địa chỉ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các địa chỉ trong công thức không bị điều chỉnh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công thức được sao chép y nguyên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4343400" cy="3198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4152960" cy="3201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1600200" y="2666880"/>
            <a:ext cx="10666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2666880"/>
            <a:ext cx="10666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74320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2666880"/>
            <a:ext cx="6094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7869-8C8D-47F7-B4F7-BC4193AD28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36640" y="237816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RẮC NGHIỆ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D5B1-13EA-4E42-AAF2-D21213159B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82296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1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ọn cụm từ thích hợp nhất để điền vào dấu ba chấm trong câu sa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i sao chép một ô có nội dung là công thức chứa địa chỉ, các địa chỉ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…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47720" y="198108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ông bị điều chỉnh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4600" y="249228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ược điều chỉnh để giữ nguyên quan hệ tương đối về vị trí so với ô đích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47720" y="3362400"/>
            <a:ext cx="70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ược điều chỉnh để giữ nguyên vị trí so với ô đích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8360" y="384012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ược điều chỉnh để giữ nguyên quan hệ tương đối về vị trí so với ô được sao ché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C9C4-0C13-43DE-A998-47A0F84134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747040" cy="1601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5697720" cy="15811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533520" y="533520"/>
            <a:ext cx="79722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2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o ô A3,C3,E3 lần lượt có các giá trị sau: 39,60,100. Ô B4 được tính bằng công thức =C3-A3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ếu sao chép ô B4 sang ô D4 thì ô D4 có giá trị là bao nhiêu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102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95800" y="4378320"/>
            <a:ext cx="5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95800" y="4662360"/>
            <a:ext cx="5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C094-B877-473A-91EA-FD4B5DB2F6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609480"/>
            <a:ext cx="762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3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uốn sửa dữ liệu trong một ô tính mà không cần nhập lại, em phải thực hiện thao tác gì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46280" y="1752480"/>
            <a:ext cx="55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a) Nháy trên ô tính và sửa dữ liệu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70040" y="2225520"/>
            <a:ext cx="71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b) Nháy trên thanh công thức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276084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) Nháy đúp trên ô tính và sửa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3309840"/>
            <a:ext cx="68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) Cả đáp án b và 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5989-0E64-4FB3-A21C-A4DB647C19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6000" cy="15415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533520" y="6094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4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ho bảng số liệu trên. Ô E4 được tính bằng công thức =SUM(B4:D4). Nếu di chuyển ô E4 sang ô F5 thì công thức ở ô F5 là gì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320040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5:D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32240" y="3657600"/>
            <a:ext cx="30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4:D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65360" y="412920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4:E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65360" y="455616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5:E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5797800" cy="1536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086A-06A9-4CD9-B5BC-E6894046C8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6C73-6BD2-4FA0-AD4B-EA4FB09F62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9144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Nếu trong một ô tính có các kí hiệu #####, điều đó có nghĩa gì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8288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a) Công thức nhập sai và Excel thông báo lỗi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438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b) Hàng chứa ô đó có độ cao quá thấp nên không hiển thị hết chữ số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29718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c) Cột chứa ô đó có độ rộng quá hẹp nên không hiển thị hết chữ số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5053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) Hoặc b hoặc c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1447920"/>
            <a:ext cx="4267440" cy="2895480"/>
          </a:xfrm>
          <a:prstGeom prst="wedgeEllipseCallout">
            <a:avLst>
              <a:gd name="adj1" fmla="val -70611"/>
              <a:gd name="adj2" fmla="val 60745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Phải điều chỉnh độ rộng của cột cho phù hợp để có thể hiển thị hết chữ số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190512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7689-AC6D-4CF4-999F-67914AFF7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8388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Điều chỉnh độ rộng cộ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ưa con trỏ vào vạch ngăn cách hai cộ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éo thả sang phải để mở rộng hay sang trái để thu hẹp độ rộng cộ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hay đổi độ cao của các hà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ưa con trỏ vào vạch ngăn cách hai hàng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éo thả xuống dưới để mở rộng hay lên trên để thu hẹp độ cao hà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ưu ý</a:t>
            </a: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Nháy đúp chuộ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rên vạch phân cách cột hoặc hàng sẽ điều chỉnh độ rộng cột, độ cao hàng vừa khít với dữ liệu có trong cột và hàng đó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808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Điều chỉnh độ rộng cột, độ cao hà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3048120"/>
            <a:ext cx="4114800" cy="3055680"/>
            <a:chOff x="152280" y="3048120"/>
            <a:chExt cx="4114800" cy="30556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152280" y="3132000"/>
              <a:ext cx="4114800" cy="297180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3537000" y="3048120"/>
              <a:ext cx="379080" cy="318960"/>
              <a:chOff x="3537000" y="3048120"/>
              <a:chExt cx="379080" cy="318960"/>
            </a:xfrm>
          </p:grpSpPr>
          <p:sp>
            <p:nvSpPr>
              <p:cNvPr id="103" name=""/>
              <p:cNvSpPr/>
              <p:nvPr/>
            </p:nvSpPr>
            <p:spPr>
              <a:xfrm>
                <a:off x="3708360" y="3048120"/>
                <a:ext cx="18000" cy="318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37000" y="3210120"/>
                <a:ext cx="3790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5181480" y="2971800"/>
            <a:ext cx="3733560" cy="3103560"/>
            <a:chOff x="5181480" y="2971800"/>
            <a:chExt cx="3733560" cy="310356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181480" y="3103560"/>
              <a:ext cx="3733560" cy="297180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8296200" y="2971800"/>
              <a:ext cx="378720" cy="318960"/>
              <a:chOff x="8296200" y="2971800"/>
              <a:chExt cx="378720" cy="318960"/>
            </a:xfrm>
          </p:grpSpPr>
          <p:sp>
            <p:nvSpPr>
              <p:cNvPr id="108" name=""/>
              <p:cNvSpPr/>
              <p:nvPr/>
            </p:nvSpPr>
            <p:spPr>
              <a:xfrm>
                <a:off x="8467560" y="2971800"/>
                <a:ext cx="18000" cy="318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296200" y="3133800"/>
                <a:ext cx="378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D2F1-E1E2-4BC8-8AA2-513DA45CA0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6324480" cy="4344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28600" y="45720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Điều chỉnh độ rộng cột, độ cao hà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9880" y="838080"/>
            <a:ext cx="3200400" cy="1981440"/>
            <a:chOff x="3809880" y="838080"/>
            <a:chExt cx="3200400" cy="1981440"/>
          </a:xfrm>
        </p:grpSpPr>
        <p:sp>
          <p:nvSpPr>
            <p:cNvPr id="113" name=""/>
            <p:cNvSpPr/>
            <p:nvPr/>
          </p:nvSpPr>
          <p:spPr>
            <a:xfrm>
              <a:off x="3809880" y="838080"/>
              <a:ext cx="2362320" cy="533520"/>
            </a:xfrm>
            <a:prstGeom prst="borderCallout2">
              <a:avLst>
                <a:gd name="adj1" fmla="val 18750"/>
                <a:gd name="adj2" fmla="val -8333"/>
                <a:gd name="adj3" fmla="val 21430"/>
                <a:gd name="adj4" fmla="val -21037"/>
                <a:gd name="adj5" fmla="val 285712"/>
                <a:gd name="adj6" fmla="val -39513"/>
              </a:avLst>
            </a:prstGeom>
            <a:solidFill>
              <a:srgbClr val="ffff99"/>
            </a:solidFill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Mở rộng cộ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29440" y="9907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990720"/>
              <a:ext cx="15228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04920" y="3429000"/>
            <a:ext cx="2743200" cy="3048120"/>
            <a:chOff x="304920" y="3429000"/>
            <a:chExt cx="2743200" cy="3048120"/>
          </a:xfrm>
        </p:grpSpPr>
        <p:sp>
          <p:nvSpPr>
            <p:cNvPr id="117" name=""/>
            <p:cNvSpPr/>
            <p:nvPr/>
          </p:nvSpPr>
          <p:spPr>
            <a:xfrm>
              <a:off x="304920" y="5943600"/>
              <a:ext cx="2361960" cy="533520"/>
            </a:xfrm>
            <a:prstGeom prst="borderCallout2">
              <a:avLst>
                <a:gd name="adj1" fmla="val 18750"/>
                <a:gd name="adj2" fmla="val -8333"/>
                <a:gd name="adj3" fmla="val 21430"/>
                <a:gd name="adj4" fmla="val 121907"/>
                <a:gd name="adj5" fmla="val -187203"/>
                <a:gd name="adj6" fmla="val 140995"/>
              </a:avLst>
            </a:prstGeom>
            <a:solidFill>
              <a:srgbClr val="00ffff"/>
            </a:solidFill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Thu hẹp hàng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066680" y="4419360"/>
              <a:ext cx="0" cy="152388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66680" y="3429000"/>
              <a:ext cx="1981440" cy="99072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905120" y="1433520"/>
            <a:ext cx="6553080" cy="4343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A004-3862-40BF-A876-57FF850CE2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Chèn thêm hoặc xoá cột và hàng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822240"/>
            <a:ext cx="84582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) Chèn thêm mộ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ộ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chọn 1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ộ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ở bảng chọn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à chọ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lumn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Row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ộ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ột trố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trố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sẽ được chèn và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ên trái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bên trê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ộ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được chọ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ưu ý</a:t>
            </a: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Nếu chọn trước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nhiề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ột ha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nhiề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hàng, số cột hoặc số hàng mới được chèn thêm sẽ đúng bằng số cột hay số hàng em đã chọ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105520" cy="37335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5181840" cy="3519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38440" y="3841920"/>
            <a:ext cx="5181480" cy="24825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4173-3054-4F29-9CE6-F7C0D9042A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4114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5029200" y="609480"/>
            <a:ext cx="2819520" cy="1067040"/>
          </a:xfrm>
          <a:prstGeom prst="wedgeRoundRectCallout">
            <a:avLst>
              <a:gd name="adj1" fmla="val -141833"/>
              <a:gd name="adj2" fmla="val 142263"/>
              <a:gd name="adj3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ớ muốn xoá hàng trống này thì phải làm thế nà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2874-11B8-4A58-A2D9-C7AEE59994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914400"/>
            <a:ext cx="84582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) Xoá mộ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ộ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/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40000"/>
              </a:lnSpc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chọn một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ộ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/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à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40000"/>
              </a:lnSpc>
              <a:buClr>
                <a:srgbClr val="0033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dit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Dele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i xoá cột hay hàng, các cột bên phải được đẩy sang trái, các hàng phía dưới được đẩy lên trê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ưu ý</a:t>
            </a: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Nếu chỉ nhấn phím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hì chỉ dữ liệu trong các ô trên cột/hàng đó bị xoá, còn bản thân cột/hàng thì khô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2467080"/>
            <a:ext cx="5638680" cy="3247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76520" y="2427120"/>
            <a:ext cx="5638680" cy="3668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690560" y="3798720"/>
            <a:ext cx="5624640" cy="2240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5720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Chèn thêm hoặc xoá cột và hàn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E51C-3989-45E5-B201-AA7809CC4F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00800" cy="3276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5029200" y="685800"/>
            <a:ext cx="2819520" cy="14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1705"/>
                </a:moveTo>
                <a:lnTo>
                  <a:pt x="26453" y="1705"/>
                </a:lnTo>
                <a:lnTo>
                  <a:pt x="26453" y="35124"/>
                </a:lnTo>
                <a:lnTo>
                  <a:pt x="19934" y="42821"/>
                </a:lnTo>
              </a:path>
              <a:path w="21600" h="21600">
                <a:moveTo>
                  <a:pt x="22184" y="0"/>
                </a:moveTo>
                <a:lnTo>
                  <a:pt x="22184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12:E12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=SUM(B13:E1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=SUM(B14:E1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SUM(B15:E1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572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 Sao chép công thứ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495680"/>
            <a:ext cx="7772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Vị trí tương đối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ủa khối ô B12:E12 đối với ô F12 trong công thức đầu tiên giống như vị trí tương đối của khối ô B13:E13 đối với ô F13 trong công thức 2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ó thể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sao ché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nội dung ô F12 sang ô F13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664240"/>
            <a:ext cx="685800" cy="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1D58-0821-47F2-8F12-D8AC437808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4572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 Sao chép và di chuyển công thứ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8839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3366"/>
                </a:solidFill>
                <a:latin typeface="Arial"/>
              </a:rPr>
              <a:t>a) Sao chép dữ liệu và công thứ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Chọn ô hoặc các ô có thông tin muốn sao ché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Copy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trên thanh công cụ (</a:t>
            </a:r>
            <a:r>
              <a:rPr b="1" lang="de-DE" sz="1800" spc="-1" strike="noStrike">
                <a:solidFill>
                  <a:srgbClr val="ff6600"/>
                </a:solidFill>
                <a:latin typeface="Arial"/>
              </a:rPr>
              <a:t>Ctrl+C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ô muốn đưa thông tin được sao chép và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aste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ên thanh công cụ hoặc (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trl+V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ưu ý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hi sao chép một ô có nội dung là công thức chứa địa chỉ, các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địa chỉ được điều chỉnh để giữ nguyên quan hệ tương đối về vị trí so với ô đíc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C794-7F1F-4E44-A799-A284998304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5:59:00Z</dcterms:created>
  <dc:creator>Trung</dc:creator>
  <dc:description/>
  <dc:language>en-US</dc:language>
  <cp:lastModifiedBy>thuy</cp:lastModifiedBy>
  <dcterms:modified xsi:type="dcterms:W3CDTF">2007-08-24T04:38:53Z</dcterms:modified>
  <cp:revision>421</cp:revision>
  <dc:subject/>
  <dc:title>Sử dụng các hàm để tính toán</dc:title>
</cp:coreProperties>
</file>