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484B-8272-4976-A615-D210141AC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A657-2EDA-43DE-9624-542128E71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F644-36C8-4294-9C77-149746B28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B1BE-92B6-4C60-B3A2-46A1B20A0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4406-6F3D-41A8-8DB1-A8891164E6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3BD6-1205-4CF4-A508-A1F0BB222F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7088-1D08-4F2C-A14D-3B7BC7A18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29F3-E908-435E-9638-C491CDD0F5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04DE-45F3-43AC-9D5A-CE23B8E6B8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1112-F959-4F0A-B4FF-0126A52104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18CD-82A2-49BB-925F-BDD9015937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428B-54C3-44B6-A037-6849E5928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A219-7C4C-44E4-9501-486217B6CD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14BF-52F7-4AF6-A4DA-0680CA09D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FDB1-911B-4734-B5C4-113AD97EAF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0571-015E-4669-BBB6-324786EEC4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48EE-3CCA-4DDC-8781-BAB0CC53B0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9618-100B-41F0-AAC2-613D341C7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AB27-3D1C-4A15-9B40-5D079758D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FD19-86DC-4227-A646-611B203BC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C33B-EBD9-491A-893B-D9EED1402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D5E4-C543-480B-89BB-82B822DDB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8243-370D-49D3-AFEE-FC066F297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81EB-081F-4877-94DE-4F6446AFB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7720" y="6539040"/>
            <a:ext cx="8305560" cy="318960"/>
            <a:chOff x="837720" y="6539040"/>
            <a:chExt cx="8305560" cy="318960"/>
          </a:xfrm>
        </p:grpSpPr>
        <p:sp>
          <p:nvSpPr>
            <p:cNvPr id="1" name=""/>
            <p:cNvSpPr/>
            <p:nvPr/>
          </p:nvSpPr>
          <p:spPr>
            <a:xfrm>
              <a:off x="1265760" y="6539040"/>
              <a:ext cx="787752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37360" y="6539040"/>
              <a:ext cx="4424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AF56-9186-47BC-A2F5-EF5809E680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85040" y="0"/>
            <a:ext cx="858960" cy="800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Bài thực hành 3: Bảng điểm của 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539040"/>
            <a:ext cx="7391520" cy="318960"/>
            <a:chOff x="1752480" y="6539040"/>
            <a:chExt cx="7391520" cy="318960"/>
          </a:xfrm>
        </p:grpSpPr>
        <p:sp>
          <p:nvSpPr>
            <p:cNvPr id="46" name=""/>
            <p:cNvSpPr/>
            <p:nvPr/>
          </p:nvSpPr>
          <p:spPr>
            <a:xfrm>
              <a:off x="2133360" y="6539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52480" y="6539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D858-8922-44BE-9C9A-ECB39F2605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90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90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ảng điểm của e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2193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ài thực hành 3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762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1: S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ụ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g t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ứ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i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au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 trang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5248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+15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20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/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+15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0+15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0-15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-(15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44/6-3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44/(6-3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44/6-3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44/(6-3)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/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2+7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/7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32-7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-(6+5)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88-12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/7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ctr" pos="858960"/>
                <a:tab algn="ctr" pos="2798640"/>
                <a:tab algn="ctr" pos="5140440"/>
                <a:tab algn="ctr" pos="7370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243828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43828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243828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600200"/>
          <a:ext cx="8229240" cy="289548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1: S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ụ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g t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ứ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i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au tr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 trang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690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4246560"/>
            <a:ext cx="3048120" cy="22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81080" y="1593720"/>
            <a:ext cx="4648320" cy="25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1523880" y="1424160"/>
          <a:ext cx="5334120" cy="2766960"/>
        </p:xfrm>
        <a:graphic>
          <a:graphicData uri="http://schemas.openxmlformats.org/drawingml/2006/table">
            <a:tbl>
              <a:tblPr/>
              <a:tblGrid>
                <a:gridCol w="1905120"/>
                <a:gridCol w="1095480"/>
                <a:gridCol w="23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685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2: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h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d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ữ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li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ệu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nh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m</a:t>
            </a:r>
            <a:r>
              <a:rPr b="1" lang="vi-VN" sz="1800" spc="-1" strike="noStrike">
                <a:solidFill>
                  <a:srgbClr val="003366"/>
                </a:solidFill>
                <a:latin typeface="Arial"/>
              </a:rPr>
              <a:t>ẫu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a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6560" y="3657600"/>
          <a:ext cx="8381880" cy="2590560"/>
        </p:xfrm>
        <a:graphic>
          <a:graphicData uri="http://schemas.openxmlformats.org/drawingml/2006/table">
            <a:tbl>
              <a:tblPr/>
              <a:tblGrid>
                <a:gridCol w="476280"/>
                <a:gridCol w="1504800"/>
                <a:gridCol w="1600200"/>
                <a:gridCol w="1524240"/>
                <a:gridCol w="1676160"/>
                <a:gridCol w="16002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66ff33"/>
                      </a:solidFill>
                    </a:lnL>
                    <a:lnR w="18720">
                      <a:solidFill>
                        <a:srgbClr val="66ff33"/>
                      </a:solidFill>
                    </a:lnR>
                    <a:lnT w="18720">
                      <a:solidFill>
                        <a:srgbClr val="66ff33"/>
                      </a:solidFill>
                    </a:lnT>
                    <a:lnB w="18720">
                      <a:solidFill>
                        <a:srgbClr val="66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7162920" y="582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ctr" pos="568440"/>
                <a:tab algn="ctr" pos="2174760"/>
                <a:tab algn="ctr" pos="3713040"/>
                <a:tab algn="ctr" pos="5195880"/>
                <a:tab algn="ctr" pos="755028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=(A1+B2+C4)/3</a:t>
            </a:r>
            <a:r>
              <a:rPr b="1" lang="vi-VN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133640"/>
            <a:ext cx="4572000" cy="1685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48040" y="2971800"/>
            <a:ext cx="50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h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g th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ứ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v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à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á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ư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g 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ứ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0600" y="44514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+5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31040" y="441972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*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78600" y="44197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+B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5480" y="44337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*B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95400" y="443556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A1+B2)*C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5360" y="51213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A1*C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7680" y="51213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B2-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0360" y="51055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A1+B2)-C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3800" y="51530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A1+B2)/C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69840" y="5118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B2^A1-C4</a:t>
            </a:r>
            <a:r>
              <a:rPr b="0" lang="vi-V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38680" y="57625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B2*C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0640" y="577836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C4-A1)/B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85120" y="57942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A1+B2)/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25960" y="579132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=(B2+C4)/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8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38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8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385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38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3: Thực hành lập và sử dụng công thứ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4791240" cy="2786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iả sử em có 500.000 đồng gửi tiết kiệm không kì hạn với lãi suất 0,3%/tháng. Hãy sử dụng công thức để tính trong vòng một năm, hàng tháng em có bao nhiêu tiền trong sổ tiết kiệm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ãy lập trang tính như hình 26 để sao cho khi thay đổi số tiền gửi ban đầu và lãi suất thì không cần phải nhập lại công thứ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bảng tính với tê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So tiet ki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3640" y="6095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ình 2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33720" y="3400560"/>
            <a:ext cx="5029200" cy="303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520" y="7621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3: Thực hành lập và sử dụng công thứ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09680" y="3355920"/>
            <a:ext cx="4143600" cy="304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1386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ố tiền trong sổ (sau mỗi tháng)  =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752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gốc + gốc * lãi suất * số thá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71360" y="2590920"/>
            <a:ext cx="49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âu hỏi: Công thức trong ô E3 là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4480" y="29718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= B2 + B2*B3*D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gốc + lãi của mỗi thá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838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à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4: L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ậ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ả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ín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 t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ổng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k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ế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o c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g th</a:t>
            </a:r>
            <a:r>
              <a:rPr b="0" lang="vi-VN" sz="2000" spc="-1" strike="noStrike">
                <a:solidFill>
                  <a:srgbClr val="003366"/>
                </a:solidFill>
                <a:latin typeface="Arial"/>
              </a:rPr>
              <a:t>ứ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rung bình cộng của các điểm kiểm tra và điểm thi sau khi đã nhân hệ s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48720" cy="2246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14400" y="2057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âu hỏi: Công thức điểm tổng kết ở ô G3 như thế nào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514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= (2*(C3 + D3*2 + E3*2)/5 + F3)/3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7320" y="5486400"/>
            <a:ext cx="71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ưu bảng tính với tên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Bang diem cua em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à thoát khỏi chương trìn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619440" y="222876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4191120"/>
            <a:ext cx="20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Kết thúc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5:06:44Z</dcterms:created>
  <dc:creator>fantasy</dc:creator>
  <dc:description/>
  <dc:language>en-US</dc:language>
  <cp:lastModifiedBy>pham thanh nam</cp:lastModifiedBy>
  <dcterms:modified xsi:type="dcterms:W3CDTF">2007-08-20T07:40:04Z</dcterms:modified>
  <cp:revision>117</cp:revision>
  <dc:subject/>
  <dc:title>Slide 1</dc:title>
</cp:coreProperties>
</file>