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03EE-6706-44AA-B15F-EB9E37BC5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56C4-A85A-4F25-9547-AEBF09DF6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3065-6899-461D-A40A-4CEA0C978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3E3B-5247-4F41-A1A5-017F13996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1000-58E3-4FE1-9572-F5D99B19F9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236CE-34ED-442B-8CCE-7345CA3569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19F76-0BE9-4FDB-BB9E-0DC338602B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38D25-469E-4CBD-9286-9E38E494F9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E5041-DCE8-4F12-9534-BDC3F1523C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C410A-F172-4339-AD71-45B46C678A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305FA-41B2-4F6D-9EFB-C8D6CA06EB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1160-1D20-4956-B536-4E75BA645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068F7-BFBD-47A4-8D53-D8E4CD2259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E42FB-5F5C-4203-8B63-F5DCD70C9F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6A134-8462-4163-B5AC-C11FF50582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0F53A-B965-4600-A627-AFEC4F02D8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96B03-C399-4307-9FE1-2D013809CA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1A7E-84C1-4C0E-B826-D42AC17AA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DD8D-3D6B-4740-9D70-8F787AEDF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9EF6-25A7-40A8-8E45-8F675F7A3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A742-64F5-4BAE-8185-330D7A7B9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B7A9-514C-4434-9252-2D6CD2402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D50F-0BAC-431C-8618-3BF826A62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B8D1-EC4E-42DB-AB38-1E8FA8306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7720" y="6539040"/>
            <a:ext cx="8305560" cy="318960"/>
            <a:chOff x="837720" y="6539040"/>
            <a:chExt cx="8305560" cy="318960"/>
          </a:xfrm>
        </p:grpSpPr>
        <p:sp>
          <p:nvSpPr>
            <p:cNvPr id="1" name=""/>
            <p:cNvSpPr/>
            <p:nvPr/>
          </p:nvSpPr>
          <p:spPr>
            <a:xfrm>
              <a:off x="1265760" y="6539040"/>
              <a:ext cx="787752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37360" y="6539040"/>
              <a:ext cx="4424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23B5-F1B1-4F51-B768-7FA326AD248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3352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Bài thực hành 9: Tạo biểu đồ để minh hoạ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6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576B-DBB3-4BDD-A4FD-9598BC8EC53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903"/>
                </a:solidFill>
                <a:latin typeface="Arial"/>
              </a:rPr>
              <a:t>Bài thực hành 9</a:t>
            </a:r>
            <a:br>
              <a:rPr sz="3200"/>
            </a:br>
            <a:br>
              <a:rPr sz="2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Tạo biểu đồ để minh hoạ</a:t>
            </a:r>
            <a:br>
              <a:rPr sz="4000"/>
            </a:br>
            <a:endParaRPr b="1" lang="en-US" sz="4000" spc="-1" strike="noStrike">
              <a:solidFill>
                <a:srgbClr val="ff69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ạt động 1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Ôn tập kiến thức</a:t>
            </a:r>
            <a:endParaRPr b="1" lang="en-US" sz="20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4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ững loại biểu đồ nào hay được sử dụng 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lnSpc>
                <a:spcPct val="14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êu các bước để tạo một biểu đồ trong Excel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lnSpc>
                <a:spcPct val="14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ử dụng thanh công cụ nào để thay đổi dạng biểu đồ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lnSpc>
                <a:spcPct val="14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êu thao tác đưa một biểu đồ từ bảng tính Excel vào Word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067600" y="3429000"/>
            <a:ext cx="10764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ạt động 2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Yêu cầu thực hiện trên máy</a:t>
            </a:r>
            <a:endParaRPr b="1" lang="en-US" sz="20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hiếu bài tập 1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Khởi động bảng tính Excel, nhập dữ liệu vào trang tính (h. 113,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GK),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có thể nhập theo số liệu khác và thêm lớp ở cột A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ạo biểu đồ trên cơ sở dữ liệu của khối A4:D9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ực hiện thao tác cần thiết để có trang tính như hình 114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SGK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ạo biểu đồ cột trên cơ sở dữ liệu của khối A4:C9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8080" y="3835440"/>
            <a:ext cx="3505320" cy="2141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81080" y="604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ình 11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00600" y="3809880"/>
            <a:ext cx="3352680" cy="2208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67280" y="604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ình 11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ạt động 3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hiếu bài tập 2. Học sinh phải sử dụng lại các kết quả của bài tập 1 và thực hành trên máy các yêu cầu sau:</a:t>
            </a:r>
            <a:endParaRPr b="1" lang="en-US" sz="1800" spc="-1" strike="noStrike">
              <a:solidFill>
                <a:srgbClr val="ff6903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91320" y="4800600"/>
            <a:ext cx="3047760" cy="1744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94360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ình 11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828800"/>
            <a:ext cx="8477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ạo mới một biểu đồ đường thẳng trên cơ sở dữ liệu của khối A4:C9  (h. 114, SGK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áy chọn lại biểu đồ cột đã tạo trong mục d) của Bài tập 1 và đổi dạng biểu đồ thành biểu đồ đường thẳng. So sánh với kết quả nhận được ở mục a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ổi dạng biểu đồ vừa nhận được ở mục b) thành biểu đồ hình tròn bằng cách nháy nút      trên thanh công cụ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har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và chọn biểu tượng             (h.115, SGK). Nhận xét về dữ liệu xử lí của biểu đồ đã tạo ở mục b) và biểu đồ vừa tạo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ực hiện thao tác xoá cột để có trang tính như hình 117, SGK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ạo biểu đồ hình tròn trên cơ sở dữ liệu của khối A4:B9. Kết quả của em sẽ tương tự như hình 118, SGK. Đổi biểu đồ nhận được thành biểu đồ đường thẳng và sau đó thành biểu đồ cộ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ưu bảng tính với tên 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Hoc sinh gioi khoi 7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438280" y="3301920"/>
            <a:ext cx="228600" cy="189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391520" y="329076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ạt động 4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hiếu bài tập 3. Mở bảng tính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Bang diem lop em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lưu trong bài thực hành 7</a:t>
            </a:r>
            <a:endParaRPr b="1" lang="en-US" sz="1800" spc="-1" strike="noStrike">
              <a:solidFill>
                <a:srgbClr val="ff6903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17880" cy="4514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324480" y="60199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Bảng điểm lớp e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ử dụng hàm thích hợp, hãy tính điểm trung bình theo từng môn học của cả lớp vào hàng dưới cùng của danh sách dữ liệu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ạo biểu đồ cột để minh hoạ điểm trung bình các môn học của cả lớp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ực hiện thao tác sao và dán, hãy sao chép biểu đồ tạo được trên trang tính vào văn bản Word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2T22:10:09Z</dcterms:created>
  <dc:creator>Ngoc Trang</dc:creator>
  <dc:description/>
  <dc:language>en-US</dc:language>
  <cp:lastModifiedBy>pham thanh nam</cp:lastModifiedBy>
  <dcterms:modified xsi:type="dcterms:W3CDTF">2007-08-23T03:57:45Z</dcterms:modified>
  <cp:revision>22</cp:revision>
  <dc:subject/>
  <dc:title>Bài thực hành 9</dc:title>
</cp:coreProperties>
</file>