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gif" ContentType="image/gif"/>
  <Override PartName="/ppt/media/image37.gif" ContentType="image/gif"/>
  <Override PartName="/ppt/media/image4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1A06-0EE1-4678-895D-DF3143A93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1B70-B638-4CED-94D6-D41EEFB76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43DE-FDB5-4955-9553-5A70DF46D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DC03-3E30-404D-9878-31AC69472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3ACD-4362-4B6A-BDA5-4B0FC58840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F399-E1FB-4C7A-BA8A-3B9D002F37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17D4-2878-4ED9-A7DE-DE99AE2CD7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08BB-0D8D-4873-AD19-92C05A1C8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EEF8-A5AB-4DDF-9260-A800FFB85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247B-8010-4164-874E-40EDC20B9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58FA-07F8-458B-93B2-F7AFAF78A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BAA1-4358-4B21-8BC1-CC929594B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2FD5-D5FC-41E7-A3F0-935854F39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8137-6142-4315-87D7-0F2822F0AD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1288-7EFB-4DC6-8A42-2A6267370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121D-95D6-4F2F-B138-2C296BAC32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494D-130E-4B3B-BFCC-263E82804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FBA3-BECE-47C1-B1FC-B1DDD5E43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FA77-217B-494C-A91E-FFB43CB17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27EA-D76C-4451-A0EA-FFD041027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7758-DA2F-42AB-AF63-23454602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529A-2E98-4214-8BD4-C6FAA5ACE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457-CA42-4701-8C0A-E2651E693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563C-931C-4A8E-BFBE-B3686929E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ài 6. Định dạng trang tín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440" y="6477120"/>
            <a:ext cx="8458200" cy="380520"/>
            <a:chOff x="685440" y="6477120"/>
            <a:chExt cx="8458200" cy="380520"/>
          </a:xfrm>
        </p:grpSpPr>
        <p:sp>
          <p:nvSpPr>
            <p:cNvPr id="2" name=""/>
            <p:cNvSpPr/>
            <p:nvPr/>
          </p:nvSpPr>
          <p:spPr>
            <a:xfrm>
              <a:off x="1121400" y="6477120"/>
              <a:ext cx="8022240" cy="3783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85080" y="6477120"/>
              <a:ext cx="450360" cy="380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1C3-0404-411C-95BC-1D3FD40160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01CA-D53D-466D-B66B-0D097AA0F6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086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6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Định dạng tra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87ED-FEB9-48F0-9C59-BE48D48E58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229600" cy="6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chỉnh dữ liệu trong nhiều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4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6480" indent="-37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2 có nội dung “Sổ điểm lớp 7A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6480" indent="-37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ốn căn chỉnh nội dung này vào giữa bảng điểm (từ cột A </a:t>
            </a:r>
            <a:r>
              <a:rPr b="0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), có thể làm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1562040"/>
            <a:ext cx="5639040" cy="3492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685800"/>
            <a:ext cx="2895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C62B-59A6-4608-BADE-53BCC5E58B96}" type="slidenum">
              <a:t>10</a:t>
            </a:fld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4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2603520"/>
            <a:ext cx="5638680" cy="3492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63560" y="3390840"/>
            <a:ext cx="5194440" cy="30492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9080" y="2565360"/>
            <a:ext cx="279360" cy="2793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752480"/>
            <a:ext cx="2819160" cy="609840"/>
          </a:xfrm>
          <a:prstGeom prst="wedgeRectCallout">
            <a:avLst>
              <a:gd name="adj1" fmla="val -3263"/>
              <a:gd name="adj2" fmla="val 22552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căn chỉnh dữ liệu vào giữ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50960" y="3365640"/>
            <a:ext cx="5372280" cy="352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685800"/>
            <a:ext cx="2895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1760" y="1066320"/>
            <a:ext cx="3886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 and Cen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689120"/>
            <a:ext cx="2133360" cy="685800"/>
          </a:xfrm>
          <a:prstGeom prst="wedgeRectCallout">
            <a:avLst>
              <a:gd name="adj1" fmla="val -53421"/>
              <a:gd name="adj2" fmla="val 9791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vào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 and Cen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2856-296C-4DDA-878C-9BE21A8AEE64}" type="slidenum">
              <a:t>11</a:t>
            </a:fld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480060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. Tăng hoặc giảm chữ số thập phâ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làm tăng hoặc giảm chữ số thập phân, chương trình sẽ thực hiện theo quy tắc làm tròn số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914400" cy="38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4120" y="1371600"/>
            <a:ext cx="32763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6" y="6600"/>
                </a:moveTo>
                <a:lnTo>
                  <a:pt x="-502" y="72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m một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1600"/>
            <a:ext cx="373392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245" y="6700"/>
                </a:moveTo>
                <a:lnTo>
                  <a:pt x="22041" y="72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ăng một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95280" y="3200400"/>
            <a:ext cx="195120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7400" y="4619520"/>
            <a:ext cx="1143000" cy="22860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3179880"/>
            <a:ext cx="304560" cy="3045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5334120"/>
            <a:ext cx="2362320" cy="685800"/>
          </a:xfrm>
          <a:prstGeom prst="wedgeRectCallout">
            <a:avLst>
              <a:gd name="adj1" fmla="val -43884"/>
              <a:gd name="adj2" fmla="val -13842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cần giảm chữ số thập p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064040"/>
            <a:ext cx="1523880" cy="380880"/>
          </a:xfrm>
          <a:prstGeom prst="wedgeRectCallout">
            <a:avLst>
              <a:gd name="adj1" fmla="val 50939"/>
              <a:gd name="adj2" fmla="val -24541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324480" y="2997360"/>
            <a:ext cx="2011320" cy="3124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0" y="4419720"/>
            <a:ext cx="1905120" cy="30456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4D56-4597-4DEC-9A0F-347925884DD6}" type="slidenum">
              <a:t>12</a:t>
            </a:fld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85280"/>
            <a:ext cx="82296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60520" y="3048120"/>
            <a:ext cx="6269040" cy="3267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1200" y="5257800"/>
            <a:ext cx="2438640" cy="685800"/>
          </a:xfrm>
          <a:prstGeom prst="wedgeRectCallout">
            <a:avLst>
              <a:gd name="adj1" fmla="val 72328"/>
              <a:gd name="adj2" fmla="val -200694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tô màu nề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6920" y="1981080"/>
            <a:ext cx="2057400" cy="609840"/>
          </a:xfrm>
          <a:prstGeom prst="wedgeRectCallout">
            <a:avLst>
              <a:gd name="adj1" fmla="val -51773"/>
              <a:gd name="adj2" fmla="val 13411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l Col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4076640"/>
            <a:ext cx="5486400" cy="2286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56480" y="3060720"/>
            <a:ext cx="1687320" cy="1743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23240" y="5791320"/>
            <a:ext cx="1968480" cy="609480"/>
          </a:xfrm>
          <a:prstGeom prst="wedgeRectCallout">
            <a:avLst>
              <a:gd name="adj1" fmla="val -4837"/>
              <a:gd name="adj2" fmla="val -23958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màu nền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689120" y="4076640"/>
            <a:ext cx="5638680" cy="238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1371600"/>
            <a:ext cx="4724280" cy="1219320"/>
          </a:xfrm>
          <a:prstGeom prst="cloudCallout">
            <a:avLst>
              <a:gd name="adj1" fmla="val -65657"/>
              <a:gd name="adj2" fmla="val 325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àu nền ô tính giúp dễ phân biệt và so sánh các miền dữ liệu khác nh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1371600"/>
            <a:ext cx="4800600" cy="1219320"/>
          </a:xfrm>
          <a:prstGeom prst="cloudCallout">
            <a:avLst>
              <a:gd name="adj1" fmla="val -61310"/>
              <a:gd name="adj2" fmla="val 325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bước tô màu nền cho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1800" y="9907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. Tô màu nề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2860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BBE1-CF2E-4C7E-A336-F37C632F5498}" type="slidenum">
              <a:t>13</a:t>
            </a:fld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9000" y="1371600"/>
            <a:ext cx="4330800" cy="1523880"/>
          </a:xfrm>
          <a:prstGeom prst="cloudCallout">
            <a:avLst>
              <a:gd name="adj1" fmla="val -97546"/>
              <a:gd name="adj2" fmla="val 29064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em hãy quan sát trang tính dưới đâ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0000" y="11160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. Kẻ đường biê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162920" cy="2801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372-8A72-4F87-BF2D-8EFF6436425B}" type="slidenum">
              <a:t>14</a:t>
            </a:fld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10000" y="11160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. Kẻ đường biên cho ô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172200" cy="322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38360" y="4038480"/>
            <a:ext cx="5486400" cy="2133720"/>
          </a:xfrm>
          <a:prstGeom prst="rect">
            <a:avLst/>
          </a:prstGeom>
          <a:solidFill>
            <a:srgbClr val="c0c0c0">
              <a:alpha val="38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867280"/>
            <a:ext cx="1981080" cy="685800"/>
          </a:xfrm>
          <a:prstGeom prst="wedgeRectCallout">
            <a:avLst>
              <a:gd name="adj1" fmla="val -35416"/>
              <a:gd name="adj2" fmla="val -17638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ần kẻ đường bi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143000"/>
            <a:ext cx="2286000" cy="1066680"/>
          </a:xfrm>
          <a:prstGeom prst="wedgeRectCallout">
            <a:avLst>
              <a:gd name="adj1" fmla="val -45277"/>
              <a:gd name="adj2" fmla="val 131546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rd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ể chọn kiểu vẽ đường bi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388200" y="2997360"/>
            <a:ext cx="1085760" cy="1400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477120" y="4800600"/>
            <a:ext cx="2286000" cy="685800"/>
          </a:xfrm>
          <a:prstGeom prst="wedgeRectCallout">
            <a:avLst>
              <a:gd name="adj1" fmla="val -37361"/>
              <a:gd name="adj2" fmla="val -17638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đường biên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6238800" cy="3219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2280" y="60948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. Tô màu nền và kẻ đường biê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14600" y="1523880"/>
            <a:ext cx="4038480" cy="1143000"/>
          </a:xfrm>
          <a:prstGeom prst="cloudCallout">
            <a:avLst>
              <a:gd name="adj1" fmla="val -80740"/>
              <a:gd name="adj2" fmla="val 3708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bước kẻ đường biên cho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24BF-EAF0-4EDF-A21B-F2A48BEDE749}" type="slidenum">
              <a:t>15</a:t>
            </a:fld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ắc nghiệ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4E92-44F5-4873-A1BB-EB6AEC4691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ăn bản ở dòng 16 sẽ có định dạng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962600" cy="1638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2019240"/>
            <a:ext cx="4648320" cy="2286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866960" y="1228680"/>
            <a:ext cx="476280" cy="238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772400" y="29718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dòng 1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53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chọn các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2558-3C08-4EF0-BC4A-5562F72625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ăn bản ở dòng 16 sẽ có định dạng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962600" cy="163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7200" y="2019240"/>
            <a:ext cx="4648320" cy="2286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866960" y="1228680"/>
            <a:ext cx="476280" cy="238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772400" y="29718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257800" y="1219320"/>
            <a:ext cx="3733920" cy="1447560"/>
          </a:xfrm>
          <a:prstGeom prst="cloudCallout">
            <a:avLst>
              <a:gd name="adj1" fmla="val 25680"/>
              <a:gd name="adj2" fmla="val 1516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3280" y="3484440"/>
            <a:ext cx="33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sẽ đậm l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000" y="395460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sẽ 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360" y="4449600"/>
            <a:ext cx="44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vừa đậm vừa 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95760" y="297648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000" y="499572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ở dòng 16 không thay đổ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5C7A-DB0A-40AF-900A-FB2BA1EDB4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ết quả của việc thực hiện các thao tác trên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048280" cy="2038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2720" y="1447920"/>
            <a:ext cx="3581280" cy="1447560"/>
          </a:xfrm>
          <a:prstGeom prst="cloudCallout">
            <a:avLst>
              <a:gd name="adj1" fmla="val 26509"/>
              <a:gd name="adj2" fmla="val 1641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05120"/>
            <a:ext cx="4648320" cy="30456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72080" y="1447920"/>
            <a:ext cx="3581280" cy="1447560"/>
          </a:xfrm>
          <a:prstGeom prst="cloudCallout">
            <a:avLst>
              <a:gd name="adj1" fmla="val 21453"/>
              <a:gd name="adj2" fmla="val 16414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các ô từ A đến G của hà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72200" y="1419120"/>
            <a:ext cx="3886200" cy="1524240"/>
          </a:xfrm>
          <a:prstGeom prst="cloudCallout">
            <a:avLst>
              <a:gd name="adj1" fmla="val 27861"/>
              <a:gd name="adj2" fmla="val 218023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nhấn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r and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nút căn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314880" y="1295280"/>
            <a:ext cx="495000" cy="2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F9A8-DE08-4444-9E9B-EC36A54C76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80"/>
                            </p:stCondLst>
                            <p:childTnLst>
                              <p:par>
                                <p:cTn id="7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96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680"/>
                            </p:stCondLst>
                            <p:childTnLst>
                              <p:par>
                                <p:cTn id="7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9880" y="838080"/>
            <a:ext cx="4572000" cy="1828800"/>
          </a:xfrm>
          <a:prstGeom prst="cloudCallout">
            <a:avLst>
              <a:gd name="adj1" fmla="val -105453"/>
              <a:gd name="adj2" fmla="val 4418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em hãy cho biết “Dữ liệu được trình bày trên bảng tính như thế nào?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651040"/>
            <a:ext cx="5238720" cy="295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3352680"/>
            <a:ext cx="2133720" cy="762120"/>
          </a:xfrm>
          <a:prstGeom prst="wedgeRectCallout">
            <a:avLst>
              <a:gd name="adj1" fmla="val 86310"/>
              <a:gd name="adj2" fmla="val -2479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ữ liệu số: căn thẳng 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809880"/>
            <a:ext cx="1828800" cy="685800"/>
          </a:xfrm>
          <a:prstGeom prst="wedgeRectCallout">
            <a:avLst>
              <a:gd name="adj1" fmla="val -128037"/>
              <a:gd name="adj2" fmla="val -1759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ữ liệu kí tự: căn thẳng lề tr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D949-8658-414F-9AE8-44C131A306E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ết quả của việc thực hiện các thao tác trên như thế nào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5048280" cy="2038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562720" y="990720"/>
            <a:ext cx="3581280" cy="1447560"/>
          </a:xfrm>
          <a:prstGeom prst="cloudCallout">
            <a:avLst>
              <a:gd name="adj1" fmla="val 25708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523880"/>
            <a:ext cx="4648320" cy="30492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914400"/>
            <a:ext cx="3581280" cy="1447920"/>
          </a:xfrm>
          <a:prstGeom prst="cloudCallout">
            <a:avLst>
              <a:gd name="adj1" fmla="val 25708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Chọn các ô từ A đến G của hà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947880"/>
            <a:ext cx="3581280" cy="1447560"/>
          </a:xfrm>
          <a:prstGeom prst="cloudCallout">
            <a:avLst>
              <a:gd name="adj1" fmla="val 25532"/>
              <a:gd name="adj2" fmla="val 20625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ần lượt nhấn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rger and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nút căn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086280" y="914400"/>
            <a:ext cx="495000" cy="247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3960" y="35863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Văn bản sẽ căn giữ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4320" y="4056120"/>
            <a:ext cx="66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ác ô từ A đến G sẽ hòa trộn thành 1 ô và văn bản sẽ căn giữ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4680" y="4546440"/>
            <a:ext cx="66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ác ô từ A đến G sẽ hòa trộn thành 1 ô và văn bản sẽ căn phả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7160" y="307800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4320" y="50976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Không có thay đổi nà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7BF3-E0C1-4662-A6B7-A10318BC9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48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ếu trong ô C1 có công thức = A1 + B1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sẽ nhận được kết quả gì trong ô đó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581280" cy="1567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114800" y="1295280"/>
            <a:ext cx="5029200" cy="2133720"/>
          </a:xfrm>
          <a:prstGeom prst="cloudCallout">
            <a:avLst>
              <a:gd name="adj1" fmla="val 31407"/>
              <a:gd name="adj2" fmla="val 9352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 có giá trị: 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B1 có giá trị: 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C1 có kiểu nguy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4280" y="2811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64200" y="2811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3C2E-1CD6-40A4-90A6-95EEEF3287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71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ếu trong ô C1 có công thức  = A1 + B1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sẽ nhận được kết quả gì trong ô đó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581640" cy="156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733920" y="914400"/>
            <a:ext cx="5257800" cy="2133720"/>
          </a:xfrm>
          <a:prstGeom prst="cloudCallout">
            <a:avLst>
              <a:gd name="adj1" fmla="val 35115"/>
              <a:gd name="adj2" fmla="val 111384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tra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 có giá trị: 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B1 có giá trị: 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C1 định dạng kiểu nguy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640" y="197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5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11920" y="1973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8480" y="361152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8480" y="465300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:  4.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8480" y="5148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.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3120" y="31669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41194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C1 có giá trị là : 4.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D231-D98F-47EB-A79E-434340D93C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o chép nội dung ô A1 vào ô A3.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m thử dự đoán sau khi sao chép ô A3 có nền và phông chữ màu gì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7724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495680" y="2438280"/>
            <a:ext cx="4343400" cy="1600200"/>
          </a:xfrm>
          <a:prstGeom prst="cloudCallout">
            <a:avLst>
              <a:gd name="adj1" fmla="val 32527"/>
              <a:gd name="adj2" fmla="val 8323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505320" cy="2035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0720" y="1981080"/>
            <a:ext cx="9903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2438280"/>
            <a:ext cx="4343400" cy="1600200"/>
          </a:xfrm>
          <a:prstGeom prst="cloudCallout">
            <a:avLst>
              <a:gd name="adj1" fmla="val 32092"/>
              <a:gd name="adj2" fmla="val 81648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: nền vàng chữ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3: nền trắng chữ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51460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1FEB-9714-4F36-A939-9F1B8EB8D2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001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o chép nội dung ô A1 vào ô A3.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m thử dự đoán sau khi sao chép ô A3 có nền và phông chữ màu gì?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7724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105520" y="1219320"/>
            <a:ext cx="3886200" cy="1371600"/>
          </a:xfrm>
          <a:prstGeom prst="cloudCallout">
            <a:avLst>
              <a:gd name="adj1" fmla="val 33782"/>
              <a:gd name="adj2" fmla="val 201041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bảng tính như hình b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85800" y="1165320"/>
            <a:ext cx="3505320" cy="2035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66680" y="1676520"/>
            <a:ext cx="99072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990720"/>
            <a:ext cx="3809880" cy="1752480"/>
          </a:xfrm>
          <a:prstGeom prst="cloudCallout">
            <a:avLst>
              <a:gd name="adj1" fmla="val 28916"/>
              <a:gd name="adj2" fmla="val 12472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1: nền vàng chữ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Ô A3: nền trắng chữ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23083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70280" y="361152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trắng, phông chữ màu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70640" y="518652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vàng, phông chữ màu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70640" y="46274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vàng, phông chữ màu đ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3120" y="31669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đáp án đúng trong các đáp án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70280" y="4119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Ô A3 có nền trắng, phông chữ màu đ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A344-7665-4FBB-A1B2-91FF027BD5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9AA0-022F-42E8-B1AB-7319D11EA1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86120" cy="241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4667400" cy="252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2971800"/>
            <a:ext cx="457200" cy="457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5410080"/>
            <a:ext cx="457200" cy="457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3429000" cy="1905120"/>
          </a:xfrm>
          <a:prstGeom prst="cloudCallout">
            <a:avLst>
              <a:gd name="adj1" fmla="val -93981"/>
              <a:gd name="adj2" fmla="val 2333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 em hãy nhận xét và so sánh về hai trang tín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9419-8CA0-4186-BE4D-AF52431F2C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ịnh dạng phông chữ, cỡ chữ và kiểu chữ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3680" y="3984480"/>
            <a:ext cx="1905120" cy="20664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phông ch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7320" y="5380200"/>
            <a:ext cx="1600200" cy="745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5800" y="3314880"/>
            <a:ext cx="2286000" cy="26640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đậ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1480" y="5549760"/>
            <a:ext cx="266688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ghiê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5160" y="3795840"/>
            <a:ext cx="3048120" cy="3427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kiểu chữ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gạch châ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4724280"/>
            <a:ext cx="381024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53080" y="1905120"/>
            <a:ext cx="1962360" cy="923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2193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m hãy cho biết thanh công cụ định dạng có những nút lệnh gì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B9DA-269F-41D7-997B-306A0A290506}" type="slidenum">
              <a:t>4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2680" y="762120"/>
            <a:ext cx="4724640" cy="1218960"/>
          </a:xfrm>
          <a:prstGeom prst="cloudCallout">
            <a:avLst>
              <a:gd name="adj1" fmla="val -93851"/>
              <a:gd name="adj2" fmla="val 5234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ể chọn hoặc thay đổi phông chữ của dữ liệu, ta phải làm gì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7431120" cy="3143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6560" y="3886200"/>
            <a:ext cx="1930320" cy="22860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133720"/>
            <a:ext cx="2666880" cy="609480"/>
          </a:xfrm>
          <a:prstGeom prst="wedgeRectCallout">
            <a:avLst>
              <a:gd name="adj1" fmla="val -63152"/>
              <a:gd name="adj2" fmla="val 250000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280" y="3860640"/>
            <a:ext cx="2266920" cy="29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566040" y="3314880"/>
            <a:ext cx="2590560" cy="2523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21160" y="2286000"/>
            <a:ext cx="2908440" cy="609480"/>
          </a:xfrm>
          <a:prstGeom prst="wedgeRectCallout">
            <a:avLst>
              <a:gd name="adj1" fmla="val 34226"/>
              <a:gd name="adj2" fmla="val 13515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chọn phông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638680"/>
            <a:ext cx="2210040" cy="762120"/>
          </a:xfrm>
          <a:prstGeom prst="wedgeRoundRectCallout">
            <a:avLst>
              <a:gd name="adj1" fmla="val 71837"/>
              <a:gd name="adj2" fmla="val -315208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phông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578640" y="3276720"/>
            <a:ext cx="1295280" cy="237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16765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5CC8-D04E-44E9-ADED-8469C11BA68E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0320"/>
            <a:ext cx="822960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àm thế nào để chọn hoặc thay đổi cỡ chữ trong trang tính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15200" cy="2360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492360"/>
            <a:ext cx="6324840" cy="30492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9040" y="2413080"/>
            <a:ext cx="4464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15000" y="4800600"/>
            <a:ext cx="2971800" cy="685800"/>
          </a:xfrm>
          <a:prstGeom prst="wedgeRectCallout">
            <a:avLst>
              <a:gd name="adj1" fmla="val -46689"/>
              <a:gd name="adj2" fmla="val -22546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2743200" cy="685800"/>
          </a:xfrm>
          <a:prstGeom prst="wedgeRectCallout">
            <a:avLst>
              <a:gd name="adj1" fmla="val 7814"/>
              <a:gd name="adj2" fmla="val 12222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ở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z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15920" y="3479760"/>
            <a:ext cx="729000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09680" y="4419720"/>
            <a:ext cx="2210040" cy="685800"/>
          </a:xfrm>
          <a:prstGeom prst="wedgeRoundRectCallout">
            <a:avLst>
              <a:gd name="adj1" fmla="val -30601"/>
              <a:gd name="adj2" fmla="val -206481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ỡ chữ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FE71-BD2B-4E00-86AF-AB23C3A5A19F}" type="slidenum">
              <a:t>6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Muốn thay đổi kiểu chữ trong trang tính ta cần phải làm gì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5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o tác với 3 nú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ương tự nh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ó thể kết hợp nhiều kiểu chữ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Vừa đậm vừa nghiê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Vừa nghiêng vừa gạch châ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305400" cy="240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7920" y="2730600"/>
            <a:ext cx="6019560" cy="21564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4038480"/>
            <a:ext cx="2590920" cy="609840"/>
          </a:xfrm>
          <a:prstGeom prst="wedgeRectCallout">
            <a:avLst>
              <a:gd name="adj1" fmla="val -62620"/>
              <a:gd name="adj2" fmla="val -25104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(hoặc các ô) cần định dạng nội du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2880" y="1714680"/>
            <a:ext cx="228600" cy="22860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066680"/>
            <a:ext cx="1828800" cy="609840"/>
          </a:xfrm>
          <a:prstGeom prst="wedgeRectCallout">
            <a:avLst>
              <a:gd name="adj1" fmla="val -88023"/>
              <a:gd name="adj2" fmla="val 71615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ể chọn chữ đậ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68560" y="2685960"/>
            <a:ext cx="5983200" cy="28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24280" y="5029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Verdana"/>
              </a:rPr>
              <a:t>chọn 2 nút B và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6480" y="53974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Wingdings"/>
                <a:ea typeface="Wingdings"/>
              </a:rPr>
              <a:t>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Verdana"/>
              </a:rPr>
              <a:t>chọn 2 nút U và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D132-1C86-4F9F-A222-A1847531C79B}" type="slidenum">
              <a:t>7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635472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92240" y="3733920"/>
            <a:ext cx="1905120" cy="30456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515280" y="3149640"/>
            <a:ext cx="1538280" cy="1600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71600" y="2514600"/>
            <a:ext cx="2666880" cy="685800"/>
          </a:xfrm>
          <a:prstGeom prst="wedgeRectCallout">
            <a:avLst>
              <a:gd name="adj1" fmla="val -50356"/>
              <a:gd name="adj2" fmla="val 141898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hoặc nhiều ô muốn thay đổi màu chữ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514600"/>
            <a:ext cx="1905120" cy="685800"/>
          </a:xfrm>
          <a:prstGeom prst="wedgeRectCallout">
            <a:avLst>
              <a:gd name="adj1" fmla="val -67333"/>
              <a:gd name="adj2" fmla="val 5810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mũi tên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nt Col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5562720"/>
            <a:ext cx="1828800" cy="685800"/>
          </a:xfrm>
          <a:prstGeom prst="wedgeRoundRectCallout">
            <a:avLst>
              <a:gd name="adj1" fmla="val -57203"/>
              <a:gd name="adj2" fmla="val -245833"/>
              <a:gd name="adj3" fmla="val 16667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mà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38080" y="3720960"/>
            <a:ext cx="2152800" cy="285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ọn màu chữ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57200"/>
            <a:ext cx="4267440" cy="1752480"/>
          </a:xfrm>
          <a:prstGeom prst="cloudCallout">
            <a:avLst>
              <a:gd name="adj1" fmla="val -102120"/>
              <a:gd name="adj2" fmla="val 20291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Muốn tô màu cho văn bản trong trang tính thì ta làm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90720" y="106668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F01A-7BE9-4208-AFD4-76E096EDF9B8}" type="slidenum">
              <a:t>8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28954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ăn lề trong ô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800" y="5832000"/>
            <a:ext cx="693432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o tác với 3 nút căn lề tương tự nh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1600200"/>
            <a:ext cx="152424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lề trái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0160" y="609480"/>
            <a:ext cx="1371600" cy="30492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giữa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1295280"/>
            <a:ext cx="1600200" cy="343080"/>
          </a:xfr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ăn lề phải 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1219320" cy="382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2133720"/>
            <a:ext cx="5638680" cy="349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30520" y="3429000"/>
            <a:ext cx="3213360" cy="2133720"/>
          </a:xfrm>
          <a:prstGeom prst="rect">
            <a:avLst/>
          </a:prstGeom>
          <a:solidFill>
            <a:srgbClr val="c0c0c0">
              <a:alpha val="55000"/>
            </a:srgbClr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6640" y="2120760"/>
            <a:ext cx="228600" cy="22860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581280"/>
            <a:ext cx="2133720" cy="685800"/>
          </a:xfrm>
          <a:prstGeom prst="wedgeRectCallout">
            <a:avLst>
              <a:gd name="adj1" fmla="val 86384"/>
              <a:gd name="adj2" fmla="val 78009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các ô có nội dung cần căn l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568680" y="3441600"/>
            <a:ext cx="3378240" cy="2136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00800" y="2819520"/>
            <a:ext cx="2362320" cy="685800"/>
          </a:xfrm>
          <a:prstGeom prst="wedgeRectCallout">
            <a:avLst>
              <a:gd name="adj1" fmla="val -142675"/>
              <a:gd name="adj2" fmla="val -131481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ấn nút để căn giữa các ô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3157-FEBF-4228-BFE8-71729D4B617F}" type="slidenum">
              <a:t>9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pham thanh nam</cp:lastModifiedBy>
  <dcterms:modified xsi:type="dcterms:W3CDTF">2007-08-21T07:57:58Z</dcterms:modified>
  <cp:revision>109</cp:revision>
  <dc:subject/>
  <dc:title>Bài 7. Trình bày và in trang tính</dc:title>
</cp:coreProperties>
</file>