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2D57-6F00-4803-9C5B-D498C77EB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61F6-6AC8-4CAB-8653-C37EA0397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0417-25CA-486C-B1A8-4B2BDF4C0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739A-7449-40AC-80F3-6EC892155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946E-09C6-4DC4-B784-9785BE59F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9D45-C5AF-4532-B9E2-6B8C1074B8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1664-8282-4EE4-8B7C-020C2E5E00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9E68-5925-4513-BCAE-3B8E051CB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17B3-59BC-4E5E-8CB8-9CA949A6C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488A-A082-4FBB-AD3B-37ADE8DA1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82AD-CF69-4BBF-A4AE-A443437EE0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9748-5BD8-47A4-B1A0-466CC7FBF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7414-08E2-488C-B774-EC0B1BBA9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7335-9784-4BBC-8766-EE78A6A1F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A192-52F8-400D-BB7B-77413FB95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47C7-C9E9-4714-A5E6-B8B5591746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1CEC-49C3-48CE-B787-8BB6D9B7B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CFD0-1DA9-4969-89FA-C707ECD6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F8DE-7B5E-4C7E-87A7-03208548B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316D-5CBD-4800-8F74-6391F01BE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5E43-CAB3-4629-AB4C-BF67EE4A9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BFA4-CC00-47CA-B008-AAD0DCB72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DA30-17F1-481D-85D1-54F72203F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DFA9-EEEF-4CE6-973C-77ED85BD1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40F9-D8C9-4A8A-BD74-365609174A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4: Bảng điểm của lớp 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6D5F-F489-46B4-B81E-740F70B7A5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286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ảng điểm của lớp 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2952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Bài thực hành 4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8BC0-DE7F-4AF4-8DD2-9D858CA796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76212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iả sử chúng ta có các số liệu thống kế sa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01000" cy="37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45FE-2519-434A-B7BD-85B5403134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9680" y="68580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thích hợp tính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9051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ổng giá trị sản xuất của vùng đó theo từng năm vào cột bên phả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ính giá trị sản xuất trung bình trong sáu năm theo từng ngành sản xuấ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“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Gia tri san xua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671D-D1D2-4CFA-B1DC-B5AA1853C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9680" y="68580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ổng giá trị sản xuất của vùng đó theo từng năm vào cột bên phả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77320" cy="36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60680" y="2003400"/>
            <a:ext cx="241632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2209680"/>
            <a:ext cx="1752480" cy="1447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ADC8-7CDA-4D28-ABF5-CC49565701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68580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4: Sử dụng hàm S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295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Tính giá trị sản xuất trung bình trong sáu năm theo từng ngành sản xuấ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2013120"/>
            <a:ext cx="8153640" cy="3728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81480" y="1981080"/>
            <a:ext cx="2654280" cy="4129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022200" y="2416320"/>
            <a:ext cx="1066680" cy="3124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27FE-93F1-4738-B097-13DA703DC6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2C4F-27A0-409F-9C82-8426CEDCEF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838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1: Mở bảng tính “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(Bài thực hành 1) rồi làm theo yêu cầu sau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9056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Nhập điểm thi các môn như hình bê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110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Ghi bảng tính với tên: “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Bang diem lop e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1477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ính điểm trung bình của  từng bạn trong lớp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476760" cy="33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9EE6-C323-4C54-A209-E29F34A22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828440" y="9903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G3 (điểm trung bình của bạn Đinh Vạn Hoàng An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p công thức =(C3+D3+E3)/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ấ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kết quả là 7.6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iểm trung bình của các bạn khác làm tương tự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77240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29D9-D911-4E7B-8355-D59FDC457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914400"/>
            <a:ext cx="831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2: Mở bảng tính “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o theo doi the lu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đã được lưu trong bài tập 4, bài thực hành 2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320" y="550548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ính chiều cao trung bì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ính cân nặng trung bì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trang tí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35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4BB5-084F-48F7-B4BB-98B4F3F08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924680" cy="4259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để ghi chiều cao trung bình (E1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p công thức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095880"/>
            <a:ext cx="7162560" cy="457200"/>
          </a:xfrm>
          <a:prstGeom prst="wedgeRectCallout">
            <a:avLst>
              <a:gd name="adj1" fmla="val 41069"/>
              <a:gd name="adj2" fmla="val -134375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(E3+E4+E5+E6+E7+E8+E9+E10+E11+E12+E13+E14)/12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DEA2-E05C-4548-BD80-E79ADFF3E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839080" cy="370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914400"/>
            <a:ext cx="8318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Sử dụng hàm tính lại điểm trung bình đã tính trong bài tập 1. So sánh với cách tính bằng công thứ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666880"/>
            <a:ext cx="2209680" cy="3812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895480"/>
            <a:ext cx="2514600" cy="1219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7A51-B658-49E2-9C21-DA35E37129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2520" y="1623960"/>
            <a:ext cx="6400800" cy="269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6476760" cy="271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6553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 sánh với cách tính bằng công thứ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680" y="60948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6480" y="1568520"/>
            <a:ext cx="221004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581280"/>
            <a:ext cx="2209680" cy="3812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D7AD-3C0C-403B-9422-316677343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6934320" cy="4113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9680" y="60948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AVERAGE để tính điểm trung bình từng môn của cả lớp trong dòng “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Điểm trung bình các mô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22440" y="1828800"/>
            <a:ext cx="512136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6320" y="5638680"/>
            <a:ext cx="1371600" cy="3049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7DDF-EE4D-4BE4-A459-F88F233C56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34320" cy="452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9680" y="609480"/>
            <a:ext cx="831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ài 3: Sử dụng hàm AVERAGE, MIN, M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MAX, MIN để xác định môn học có điểm trung bình cao nhất, thấp nhấ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81360" y="1719360"/>
            <a:ext cx="2209680" cy="38088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57760" y="5762520"/>
            <a:ext cx="1218960" cy="30492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81AE-88D6-460F-A2C4-DB2D80691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7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0T07:40:18Z</dcterms:modified>
  <cp:revision>345</cp:revision>
  <dc:subject/>
  <dc:title>Các giao thức khoá cho hệ quản trị cơ sở dữ liệu phân tán</dc:title>
</cp:coreProperties>
</file>