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gif" ContentType="image/gif"/>
  <Override PartName="/ppt/media/image12.png" ContentType="image/png"/>
  <Override PartName="/ppt/media/image11.gif" ContentType="image/gif"/>
  <Override PartName="/ppt/media/image15.jpeg" ContentType="image/jpeg"/>
  <Override PartName="/ppt/media/image14.gif" ContentType="image/gif"/>
  <Override PartName="/ppt/media/image2.wmf" ContentType="image/x-wmf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applause.wav" ContentType="audio/x-wav"/>
  <Override PartName="/ppt/media/image5.wmf" ContentType="image/x-wmf"/>
  <Override PartName="/ppt/media/image7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B85-F56C-43F1-AF1F-DB2F174D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F3E5-A5C3-4D38-AA35-E6C1E8C3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800-1899-453F-B64A-BE396A47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010-C906-4C07-B428-8E74A0DB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3FB3-0576-4DA9-ACC2-74F9FD5B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3B10-7334-45AA-AA5A-1AD4EFA5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BFB5-96F3-446A-8DE0-214B4462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79C4-53E2-4C22-B632-ED8D69CE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0F32-6922-42F6-B4F5-8E47F94F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2B6D-7629-4C24-99EE-F34AE7E2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D063-650D-4FB2-A455-63ECCB74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74E-0AF6-4563-82B1-DB864575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C67F-5E20-4796-9DD0-8940EBC1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0953-602D-4A22-92E4-3FBAFFCB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AD16-3B51-4DE9-AF0A-E8143D0F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CE73-B7AF-492E-8DB3-5971E376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3D59-65E8-42EF-BCAF-43551D2D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825E9-5E16-4605-9DB2-CB3BB45D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FA00E-B8BF-428C-AD89-DBEC1B0B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E33D-297E-4F23-AD06-D5936688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6B2C7-EC47-46A3-9656-4B692615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FBEA8-C27E-4C7E-B3CD-070DB5C5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9BB2-C7AB-4543-8B85-E65533C0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7D80E-E5C2-43A3-92E8-0D7805CC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6B78E-B824-40B7-837E-0DD1BEE7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274A-0AC9-428F-8DEB-10B84D20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A6306-CCB5-41DE-A692-0379E226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3017-AF16-4373-AF6C-29D4E59A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92657-4A07-4A5B-9BAD-D723C62B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537B-9302-43CF-9B37-B50435E7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D6E-E0FC-4DA5-AFDD-A91C4DD6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DAC-B4D3-4207-BDDB-FF95400E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8B42-024A-49BC-AEF0-585A4774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65D-0462-4727-B550-A1EBD8B3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3DB-2A2D-43D7-8313-BBF1A05E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461-4318-474A-958D-C83BE531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367E-05F3-4C23-BDCC-CC4AC0CDF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4BB4-6BA7-4F9D-A873-3FFDAFC55F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F17D-7E40-47CF-8BF4-00627D1ED2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vi.wikipedia.org/wiki/Xi&#234;m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89920" y="4572000"/>
            <a:ext cx="2117520" cy="2286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 flipH="1">
            <a:off x="0" y="4748040"/>
            <a:ext cx="2286000" cy="2109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38080" y="5335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.VnTime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-343080"/>
            <a:ext cx="457200" cy="68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86600" y="-343080"/>
            <a:ext cx="457200" cy="68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43400" y="6515280"/>
            <a:ext cx="457200" cy="6858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-39996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525780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959680" y="1523880"/>
            <a:ext cx="366840" cy="40032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1752480"/>
            <a:ext cx="366840" cy="40032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1752480"/>
            <a:ext cx="60948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4724280"/>
            <a:ext cx="60948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10280" y="3886200"/>
            <a:ext cx="60984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038480"/>
            <a:ext cx="533520" cy="5335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609480"/>
            <a:ext cx="533520" cy="5335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6324480"/>
            <a:ext cx="533520" cy="5335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1880" y="3505320"/>
            <a:ext cx="533520" cy="5331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53080" y="5334120"/>
            <a:ext cx="533520" cy="5331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610480" y="6324480"/>
            <a:ext cx="533520" cy="5335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0" y="4419720"/>
            <a:ext cx="457200" cy="6858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3809880"/>
            <a:ext cx="457200" cy="6858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45720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777160" y="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571500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144792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2209680"/>
            <a:ext cx="60948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2133720"/>
            <a:ext cx="60984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4343400"/>
            <a:ext cx="60948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1905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.VnTimeH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43000" y="2057400"/>
            <a:ext cx="7315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Lịch sử lớp 7</a:t>
            </a:r>
            <a:endParaRPr b="1" lang="en-US" sz="96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5791320" y="304920"/>
            <a:ext cx="428400" cy="3697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0" y="304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cña nh©n d©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762120"/>
            <a:ext cx="487692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a</a:t>
            </a: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, Khëi nghÜa Phan B¸ Vµnh ( 1821 – 1827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b, Khëi nghÜa N«ng V¨n V©n ( 1833 – 1835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304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.VnTime"/>
              </a:rPr>
              <a:t>Cao B»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1981080"/>
            <a:ext cx="381024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N«ng V¨n V©n lµ ai ? V× sao «ng næi dËy khëi nghÜ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1676520"/>
            <a:ext cx="43434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N«ng V¨n V©n : Tï tr­ëng d©n téc Tµy, gi÷ chøc tri ch©u B¶o L¹c ( Cao B»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Kh«ng chÞu næi sù chÌn Ðp cña triÒu ®×nh «ng cïng mét sè tï tr­ëng tËp hîp d©n chóng næi dËy khëi nghÜ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§Þa bµn : MiÒn nói ViÖt B¾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" y="3886200"/>
            <a:ext cx="365760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Em h·y thuËt l¹i diÔn biÕn cuéc khëi nghÜ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8862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.VnTime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N¨m 1835 khëi nghÜa bÞ dËp t¾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8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6324480" y="5105520"/>
            <a:ext cx="428760" cy="369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0" y="304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2280" y="838080"/>
            <a:ext cx="4876920" cy="28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a</a:t>
            </a: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, Khëi nghÜa Phan B¸ Vµnh ( 1821 – 1827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b, Khëi nghÜa N«ng V¨n V©n ( 1833 – 1835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c, Khëi nghÜa Lª V¨n Kh«i ( 1833 – 1835 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52578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.VnTime"/>
              </a:rPr>
              <a:t>Gia §Þn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3352680"/>
            <a:ext cx="3962520" cy="1356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Tương truyền khi vào Gia Định, cã lần Lª Văn Kh«i dïng tay kh«ng chống lại cọp dữ cho sứ thần nước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.VnTime"/>
                <a:hlinkClick r:id="rId3"/>
              </a:rPr>
              <a:t>Xiªm</a:t>
            </a: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 x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" y="22096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.VnTime"/>
              </a:rPr>
              <a:t>- </a:t>
            </a: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Lª V¨n Kh«i lµ Thæ hµo ë Cao B»ng, sau vµo Nam ( Con nu«i Tæng trÊn Lª V¨n DuyÖ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3505320"/>
            <a:ext cx="381024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T­êng thuËt diÔn biÕn khëi nghÜa Lª V¨n Kh«i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3479760"/>
            <a:ext cx="3962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Th¸ng 6-1833, «ng khëi nghÜa chiÕm thµnh Phiªn An ( Gia §Þnh ). Tù x­ng B×nh Nam §¹i nguyªn so¸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N¨m 1834, Lª V¨n Kh«i qua ®êi, con trai «ng lªn th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N¨m 1835, khëi nghÜa bÞ dËp t¾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2362320"/>
            <a:ext cx="36576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.VnTime"/>
              </a:rPr>
              <a:t>Em h·y giíi thiÖu ®«i nÐt vÒ Lª V¨n kh«i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5" dur="2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8" dur="2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5562720" y="914400"/>
            <a:ext cx="428400" cy="369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0" y="304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2280" y="838080"/>
            <a:ext cx="487692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a</a:t>
            </a: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, Khëi nghÜa Phan B¸ Vµnh ( 1821 – 1827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b, Khëi nghÜa N«ng V¨n V©n ( 1833 – 1835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c, Khëi nghÜa Lª V¨n Kh«i ( 1833 – 1835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d, Khëi nghÜa Cao B¸ Qu¸t ( 1854 – 1856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867280" y="914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.VnTime"/>
              </a:rPr>
              <a:t>S¬n T©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3520" y="2819520"/>
            <a:ext cx="358128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Em h·y nªu mét vµi nÐt vÒ Cao B¸ Qu¸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0880" y="2743200"/>
            <a:ext cx="4114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Mét nhµ th¬ lçi l¹c, mét nhµ nho yªu n­í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3657600"/>
            <a:ext cx="358128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 Giíi thiÖu vÒ khëi nghÜa Cao B¸ Qu¸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" y="4952880"/>
            <a:ext cx="358128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0" lang="en-US" sz="2400" spc="-1" strike="noStrike">
                <a:solidFill>
                  <a:srgbClr val="ff0066"/>
                </a:solidFill>
                <a:latin typeface=".VnTime"/>
              </a:rPr>
              <a:t>§©y lµ cuéc khëi nghÜa n«ng d©n cã sù tham gia tÝch cùc cña nhiÒu nho s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0880" y="3657600"/>
            <a:ext cx="426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N¨m 1855, Cao B¸ Qu¸t hy s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N¨m 1856, khëi nghÜa bÞ dËp t¾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Xem ảnh với kích cỡ đầy đủ"/>
          <p:cNvPicPr/>
          <p:nvPr/>
        </p:nvPicPr>
        <p:blipFill>
          <a:blip r:embed="rId3"/>
          <a:stretch/>
        </p:blipFill>
        <p:spPr>
          <a:xfrm>
            <a:off x="4876920" y="3200400"/>
            <a:ext cx="3733560" cy="35244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952880" y="63244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6400800"/>
            <a:ext cx="27432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1" lang="en-US" sz="1800" spc="-1" strike="noStrike">
                <a:solidFill>
                  <a:srgbClr val="0000ff"/>
                </a:solidFill>
                <a:latin typeface=".VnTime"/>
              </a:rPr>
              <a:t>Cao B¸ Qu¸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 flipH="1" rot="16089600">
            <a:off x="437760" y="-453600"/>
            <a:ext cx="762120" cy="1669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 flipH="1">
            <a:off x="-360" y="5881680"/>
            <a:ext cx="1066680" cy="9763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8153280" y="5950080"/>
            <a:ext cx="990720" cy="907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 rot="5626800">
            <a:off x="8021520" y="20520"/>
            <a:ext cx="1143000" cy="11368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80880" y="1295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1, §êi sèng cña nh©n d©n d­íi triÒu NguyÔ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" y="1828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cña nh©n d©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057400" y="25909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.VnTime"/>
              </a:rPr>
              <a:t>Häc sinh th¶o luËn nhã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3124080"/>
            <a:ext cx="75438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- </a:t>
            </a:r>
            <a:r>
              <a:rPr b="1" lang="en-US" sz="2200" spc="-1" strike="noStrike">
                <a:solidFill>
                  <a:srgbClr val="000066"/>
                </a:solidFill>
                <a:latin typeface=".VnTime"/>
              </a:rPr>
              <a:t>C©u 1 : V× sao c¸c cuéc khëi nghÜa ®Òu thÊt b¹i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.VnTime"/>
              </a:rPr>
              <a:t>C©u 2 : C¸c cuéc khëi nghÜa trªn chøng tá ®iÒu g×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228600"/>
            <a:ext cx="7362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.VnTime"/>
              </a:rPr>
              <a:t>TiÕt 60 :  </a:t>
            </a:r>
            <a:r>
              <a:rPr b="1" lang="en-US" sz="2400" spc="-1" strike="noStrike">
                <a:solidFill>
                  <a:srgbClr val="ff0066"/>
                </a:solidFill>
                <a:latin typeface="VNI-Times"/>
              </a:rPr>
              <a:t>CHEÁ ÑOÄ PHONG KIEÁN NHAØ NGUYE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Time"/>
              </a:rPr>
              <a:t>II.  </a:t>
            </a:r>
            <a:r>
              <a:rPr b="1" lang="en-US" sz="2000" spc="-1" strike="noStrike">
                <a:solidFill>
                  <a:srgbClr val="000066"/>
                </a:solidFill>
                <a:latin typeface="VNI-Times"/>
              </a:rPr>
              <a:t>CAÙC CUOÄC NOÅI DAÄY CUÛA NHAÂN DA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4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457200" y="1066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.VnTimeH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.VnTime"/>
              </a:rPr>
              <a:t>Nguyªn nh©n  thÊt b¹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12193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.VnTimeH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.VnTime"/>
              </a:rPr>
              <a:t>ý nghÜ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1981080"/>
            <a:ext cx="27432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ff"/>
                </a:solidFill>
                <a:latin typeface=".VnTime"/>
              </a:rPr>
              <a:t>C¸c cuéc khëi nghÜa ®Òu thÊt b¹i d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.VnTime"/>
              </a:rPr>
              <a:t>       </a:t>
            </a:r>
            <a:r>
              <a:rPr b="1" i="1" lang="en-US" sz="2000" spc="-1" strike="noStrike">
                <a:solidFill>
                  <a:srgbClr val="800000"/>
                </a:solidFill>
                <a:latin typeface=".VnTime"/>
              </a:rPr>
              <a:t>- Phong trµo ®Êu tranh diÔn ra rÇm ré nh­ng ph©n t¸n, thiÕu sù liªn kÕt lùc l­î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.VnTime"/>
              </a:rPr>
              <a:t>      </a:t>
            </a:r>
            <a:r>
              <a:rPr b="1" i="1" lang="en-US" sz="2000" spc="-1" strike="noStrike">
                <a:solidFill>
                  <a:srgbClr val="800000"/>
                </a:solidFill>
                <a:latin typeface=".VnTime"/>
              </a:rPr>
              <a:t>- TriÒu ®×nh nhµ NguyÔn ®µn ¸p d·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57800" y="1905120"/>
            <a:ext cx="25909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.VnTime"/>
              </a:rPr>
              <a:t>- C¸c cuéc khëi nghÜa diÔn ra réng kh¾p thÓ hiÖn :</a:t>
            </a:r>
            <a:r>
              <a:rPr b="1" lang="en-US" sz="2000" spc="-1" strike="noStrike">
                <a:solidFill>
                  <a:srgbClr val="8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.VnTime"/>
              </a:rPr>
              <a:t>   </a:t>
            </a:r>
            <a:r>
              <a:rPr b="0" i="1" lang="en-US" sz="1800" spc="-1" strike="noStrike">
                <a:solidFill>
                  <a:srgbClr val="800000"/>
                </a:solidFill>
                <a:latin typeface=".VnTime"/>
              </a:rPr>
              <a:t>-</a:t>
            </a:r>
            <a:r>
              <a:rPr b="1" i="1" lang="en-US" sz="2000" spc="-1" strike="noStrike">
                <a:solidFill>
                  <a:srgbClr val="800000"/>
                </a:solidFill>
                <a:latin typeface=".VnTime"/>
              </a:rPr>
              <a:t>Tinh thÇn ®Êu tranh anh dòng cña c¸c tÇng líp nh©n d©n chèng l¹i nhµ NguyÔ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.VnTime"/>
              </a:rPr>
              <a:t>  </a:t>
            </a:r>
            <a:r>
              <a:rPr b="1" i="1" lang="en-US" sz="2000" spc="-1" strike="noStrike">
                <a:solidFill>
                  <a:srgbClr val="800000"/>
                </a:solidFill>
                <a:latin typeface=".VnTime"/>
              </a:rPr>
              <a:t>- B¸o tr­íc sù sôp ®æ tÊt yÕu cña triÒu ®×nh phong kiÕn nhµ NguyÔ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57800" y="2438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500"/>
                            </p:stCondLst>
                            <p:childTnLst>
                              <p:par>
                                <p:cTn id="8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500"/>
                            </p:stCondLst>
                            <p:childTnLst>
                              <p:par>
                                <p:cTn id="8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6500"/>
                            </p:stCondLst>
                            <p:childTnLst>
                              <p:par>
                                <p:cTn id="8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3" dur="2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9" dur="2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2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5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 flipH="1" rot="16090200">
            <a:off x="-13320" y="8280"/>
            <a:ext cx="1137960" cy="11336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 flipH="1">
            <a:off x="-360" y="5742000"/>
            <a:ext cx="1219320" cy="11160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848720" y="5670720"/>
            <a:ext cx="1295280" cy="11872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 rot="5626800">
            <a:off x="8021520" y="20520"/>
            <a:ext cx="1143000" cy="11368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0" y="1600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1, §êi sèng cña nh©n d©n d­íi triÒu NguyÔ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198108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§êi sèng nh©n d©n ta ngµy cµng khæ cùc d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+ §Þa chñ c­êng hµo c­íp ruéng, quan l¹i tham nhò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+ T« thuÕ nÆng nÒ, dÞch bÖnh, ®ãi kÐ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429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3809880"/>
            <a:ext cx="685800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a, Khëi nghÜa Phan B¸ Vµnh ( 1821 – 1827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b, Khëi nghÜa N«ng V¨n V©n ( 1833 – 1835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c, Khëi nghÜa Lª V¨n Kh«i ( 1833 – 1835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d, Khëi nghÜa Cao B¸ Qu¸t ( 1854 – 1856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38080" y="609480"/>
            <a:ext cx="73630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.VnTime"/>
              </a:rPr>
              <a:t>TiÕt 60 :  </a:t>
            </a:r>
            <a:r>
              <a:rPr b="1" lang="en-US" sz="2400" spc="-1" strike="noStrike">
                <a:solidFill>
                  <a:srgbClr val="ff0066"/>
                </a:solidFill>
                <a:latin typeface="VNI-Times"/>
              </a:rPr>
              <a:t>CHEÁ ÑOÄ PHONG KIEÁN NHAØ NGUYE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Time"/>
              </a:rPr>
              <a:t>II . </a:t>
            </a:r>
            <a:r>
              <a:rPr b="1" lang="en-US" sz="2000" spc="-1" strike="noStrike">
                <a:solidFill>
                  <a:srgbClr val="000066"/>
                </a:solidFill>
                <a:latin typeface="VNI-Times"/>
              </a:rPr>
              <a:t>CAÙC CUOÄC NOÅI DAÄY CUÛA NHAÂN DA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 flipH="1" rot="16089600">
            <a:off x="437760" y="-453600"/>
            <a:ext cx="762120" cy="16696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 flipH="1">
            <a:off x="-360" y="5881680"/>
            <a:ext cx="1066680" cy="9763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8153280" y="5950080"/>
            <a:ext cx="990720" cy="9079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 rot="5626800">
            <a:off x="8021520" y="20520"/>
            <a:ext cx="1143000" cy="11368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743200" y="6094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H"/>
              </a:rPr>
              <a:t>            </a:t>
            </a:r>
            <a:r>
              <a:rPr b="1" lang="en-US" sz="2000" spc="-1" strike="noStrike">
                <a:solidFill>
                  <a:srgbClr val="800000"/>
                </a:solidFill>
                <a:latin typeface=".VnTimeH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990720"/>
            <a:ext cx="59436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Hoµn thµnh b¶ng sau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            </a:t>
            </a:r>
            <a:r>
              <a:rPr b="1" lang="en-US" sz="1800" spc="-1" strike="noStrike">
                <a:solidFill>
                  <a:srgbClr val="0000ff"/>
                </a:solidFill>
                <a:latin typeface=".VnTime"/>
              </a:rPr>
              <a:t>Nh÷ng cuéc næi dËy cña nh©n d©n chèng v­¬ng triÒu NguyÔn nöa ®Çu TK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533520" y="2362320"/>
          <a:ext cx="7924680" cy="4057560"/>
        </p:xfrm>
        <a:graphic>
          <a:graphicData uri="http://schemas.openxmlformats.org/drawingml/2006/table">
            <a:tbl>
              <a:tblPr/>
              <a:tblGrid>
                <a:gridCol w="1801800"/>
                <a:gridCol w="1550880"/>
                <a:gridCol w="3124080"/>
                <a:gridCol w="14479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0033"/>
                          </a:solidFill>
                          <a:latin typeface=".VnTime"/>
                        </a:rPr>
                        <a:t>Tªn khëi nghÜ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0033"/>
                          </a:solidFill>
                          <a:latin typeface=".VnTime"/>
                        </a:rPr>
                        <a:t>Thêi g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0033"/>
                          </a:solidFill>
                          <a:latin typeface=".VnTime"/>
                        </a:rPr>
                        <a:t>§Þa bµn ho¹t ®é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0033"/>
                          </a:solidFill>
                          <a:latin typeface=".VnTime"/>
                        </a:rPr>
                        <a:t>KÕt qu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Phan B¸ Vµn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1821-18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ThÊt b¹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1833-18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- Cao B»ng vµ c¸c tØnh miÒn nói ViÖt B¾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ThÊt b¹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Lª V¨n Kh«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- Gia §Þnh vµ c¸c tØnh Nam K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ThÊt b¹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Cao B¸ Qu¸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1854-18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ThÊt b¹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3962520" y="30481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.VnTime"/>
              </a:rPr>
              <a:t>Nam §Þnh, Th¸i B×nh, H¶i D­¬ng, Qu¶ng Yª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3886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.VnTime"/>
              </a:rPr>
              <a:t>N«ng V¨n V©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362320" y="47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.VnTime"/>
              </a:rPr>
              <a:t>1833-18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55627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.VnTime"/>
              </a:rPr>
              <a:t>  </a:t>
            </a:r>
            <a:r>
              <a:rPr b="0" lang="en-US" sz="2000" spc="-1" strike="noStrike">
                <a:solidFill>
                  <a:srgbClr val="ff0066"/>
                </a:solidFill>
                <a:latin typeface=".VnTime"/>
              </a:rPr>
              <a:t>S¬n T©y, Hµ Néi, B¾c Ni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7920" y="2286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.VnTime"/>
              </a:rPr>
              <a:t>Cñng cè kiÕn thø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4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447920" y="2286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.VnTime"/>
              </a:rPr>
              <a:t>Cñng cè kiÕn thø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1371600"/>
            <a:ext cx="5790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.VnTime"/>
              </a:rPr>
              <a:t>Chän ®¸p ¸n ®óng vµ ®ñ nhÊt cho nh÷ng c©u hái sau</a:t>
            </a:r>
            <a:r>
              <a:rPr b="1" lang="en-US" sz="1800" spc="-1" strike="noStrike">
                <a:solidFill>
                  <a:srgbClr val="0000ff"/>
                </a:solidFill>
                <a:latin typeface=".VnTim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209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.VnTime"/>
              </a:rPr>
              <a:t>1. Nguyªn nh©n nµo dÉn ®Õn ®êi sèng nh©n d©n ta d­íi thêi nhµ NguyÔn cùc khæ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4952880"/>
            <a:ext cx="6094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62120" y="3276720"/>
            <a:ext cx="655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.VnTim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.VnTime"/>
              </a:rPr>
              <a:t>Do ®Þa chñ, hµo lÝ chiÕm ®o¹t ruéng ®Ê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B. T« thuÕ nÆng nÒ, quan l¹i tham nhò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.VnTime"/>
              </a:rPr>
              <a:t>C. DÞch bÖnh, n¹n ®ãi hoµnh hµnh ®ãi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.VnTime"/>
              </a:rPr>
              <a:t>D. C¶ 3 ®¸p ¸n trª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1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447920" y="2286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.VnTime"/>
              </a:rPr>
              <a:t>Cñng cè kiÕn thø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1371600"/>
            <a:ext cx="5790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06668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Chän ®¸p ¸n ®óng vµ ®ñ nhÊt cho nh÷ng c©u hái sa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1932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.VnTime"/>
              </a:rPr>
              <a:t>2. ë cuéc khëi nghÜa nµo mµ : “ Khi l©m trËn th× ®µn bµ con g¸i còng cÇm gi¸o m¸c mµ ®¸nh”.</a:t>
            </a:r>
            <a:r>
              <a:rPr b="1" i="1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371600" y="3200400"/>
            <a:ext cx="6172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.VnTime"/>
              </a:rPr>
              <a:t>A. </a:t>
            </a:r>
            <a:r>
              <a:rPr b="0" lang="en-US" sz="2800" spc="-1" strike="noStrike">
                <a:solidFill>
                  <a:srgbClr val="ff0066"/>
                </a:solidFill>
                <a:latin typeface=".VnTime"/>
              </a:rPr>
              <a:t>Khëi nghÜa Phan B¸ Vµn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.VnTime"/>
              </a:rPr>
              <a:t>B. Khëi nghÜa Lª V¨n Kh«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.VnTime"/>
              </a:rPr>
              <a:t>C. Khëi nghÜa N«ng V¨n V©n.</a:t>
            </a:r>
            <a:r>
              <a:rPr b="0" lang="en-US" sz="2800" spc="-1" strike="noStrike">
                <a:solidFill>
                  <a:srgbClr val="ffff00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.VnTime"/>
              </a:rPr>
              <a:t>D. Khëi nghÜa Cao B¸ Qu¸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3276720"/>
            <a:ext cx="533520" cy="4572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4750"/>
                            </p:stCondLst>
                            <p:childTnLst>
                              <p:par>
                                <p:cTn id="9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2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6750"/>
                            </p:stCondLst>
                            <p:childTnLst>
                              <p:par>
                                <p:cTn id="9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br>
              <a:rPr sz="2000"/>
            </a:br>
            <a:r>
              <a:rPr b="1" lang="en-US" sz="2800" spc="-1" strike="noStrike">
                <a:solidFill>
                  <a:srgbClr val="ff0000"/>
                </a:solidFill>
                <a:latin typeface=".VnTime"/>
              </a:rPr>
              <a:t>h­íng dÉn häc sinh häc bµi</a:t>
            </a:r>
            <a:br>
              <a:rPr sz="28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19320" y="1371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0" y="533520"/>
            <a:ext cx="8381520" cy="6629040"/>
            <a:chOff x="0" y="533520"/>
            <a:chExt cx="8381520" cy="6629040"/>
          </a:xfrm>
        </p:grpSpPr>
        <p:sp>
          <p:nvSpPr>
            <p:cNvPr id="467" name=""/>
            <p:cNvSpPr/>
            <p:nvPr/>
          </p:nvSpPr>
          <p:spPr>
            <a:xfrm>
              <a:off x="0" y="2537640"/>
              <a:ext cx="8381520" cy="462492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00cc00"/>
                </a:gs>
                <a:gs pos="50000">
                  <a:srgbClr val="ffffcc"/>
                </a:gs>
                <a:gs pos="100000">
                  <a:srgbClr val="00cc00"/>
                </a:gs>
              </a:gsLst>
              <a:lin ang="5400000"/>
            </a:gradFill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9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8" name="" descr=""/>
            <p:cNvPicPr/>
            <p:nvPr/>
          </p:nvPicPr>
          <p:blipFill>
            <a:blip r:embed="rId2"/>
            <a:stretch/>
          </p:blipFill>
          <p:spPr>
            <a:xfrm>
              <a:off x="3047760" y="533520"/>
              <a:ext cx="3216960" cy="19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 flipV="1">
              <a:off x="423000" y="1766520"/>
              <a:ext cx="3555720" cy="13100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>
              <a:off x="3979080" y="1766520"/>
              <a:ext cx="4063680" cy="107892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1143000" y="3200400"/>
            <a:ext cx="6934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.VnTime"/>
              </a:rPr>
              <a:t>- So s¸nh ®Ó thÊy râ sù gièng vµ kh¸c nhau cña c¸c cuéc khëi nghÜa nöa ®Çu thÕ kØ XIX ( VÒ môc tiªu, tÝnh chÊt, ®Þa bµn ho¹t ®éng, ng­êi l·nh ®¹o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43000" y="5181480"/>
            <a:ext cx="70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.VnTime"/>
              </a:rPr>
              <a:t>ChuÈn bÞ bµi : Sù ph¸t triÓn v¨n hãa d©n téc cuèi thÕ kØ XVIII- nöa ®Çu thÕ kØ X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8" dur="2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2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7683480" y="5105520"/>
            <a:ext cx="1623960" cy="17524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 flipH="1">
            <a:off x="0" y="5170320"/>
            <a:ext cx="1828800" cy="16876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38080" y="5335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.VnTime"/>
              </a:rPr>
              <a:t>Bµi 27 – tiÕt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-343080"/>
            <a:ext cx="457200" cy="68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86600" y="-343080"/>
            <a:ext cx="457200" cy="68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6515280"/>
            <a:ext cx="457200" cy="6858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-39996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525780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959680" y="1523880"/>
            <a:ext cx="366840" cy="40032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1752480"/>
            <a:ext cx="366840" cy="40032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1752480"/>
            <a:ext cx="60948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4724280"/>
            <a:ext cx="60948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3886200"/>
            <a:ext cx="60984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28800" y="4038480"/>
            <a:ext cx="533520" cy="5335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609480"/>
            <a:ext cx="533520" cy="5335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5880" y="6324480"/>
            <a:ext cx="533520" cy="5335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81880" y="3505320"/>
            <a:ext cx="533520" cy="5331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5334120"/>
            <a:ext cx="533520" cy="5331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610480" y="6324480"/>
            <a:ext cx="533520" cy="5335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0" y="4419720"/>
            <a:ext cx="457200" cy="6858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3809880"/>
            <a:ext cx="457200" cy="6858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45720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777160" y="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571500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144792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62920" y="2209680"/>
            <a:ext cx="60948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38280" y="2133720"/>
            <a:ext cx="60984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4343400"/>
            <a:ext cx="60948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10666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.VnTime"/>
              </a:rPr>
              <a:t>ChÕ ®é phong kiÕn nhµ nguyÔ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43640" y="1752480"/>
            <a:ext cx="62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.VnTime"/>
              </a:rPr>
              <a:t>II – c¸c cuéc næi dËy cña nh©n d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607860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500"/>
                            </p:stCondLst>
                            <p:childTnLst>
                              <p:par>
                                <p:cTn id="37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8" descr="image"/>
          <p:cNvPicPr/>
          <p:nvPr/>
        </p:nvPicPr>
        <p:blipFill>
          <a:blip r:embed="rId1"/>
          <a:stretch/>
        </p:blipFill>
        <p:spPr>
          <a:xfrm>
            <a:off x="914400" y="2209680"/>
            <a:ext cx="6858000" cy="46483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7" descr="image"/>
          <p:cNvPicPr/>
          <p:nvPr/>
        </p:nvPicPr>
        <p:blipFill>
          <a:blip r:embed="rId2"/>
          <a:stretch/>
        </p:blipFill>
        <p:spPr>
          <a:xfrm>
            <a:off x="5792760" y="2895480"/>
            <a:ext cx="3351240" cy="39625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9" descr="image"/>
          <p:cNvPicPr/>
          <p:nvPr/>
        </p:nvPicPr>
        <p:blipFill>
          <a:blip r:embed="rId3"/>
          <a:stretch/>
        </p:blipFill>
        <p:spPr>
          <a:xfrm>
            <a:off x="0" y="3962520"/>
            <a:ext cx="244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1371600" y="1828800"/>
            <a:ext cx="6324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.VnTime"/>
              </a:rPr>
              <a:t>Chóc c¸c em häc tè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.VnTime"/>
              <a:ea typeface=".VnTime"/>
            </a:endParaRPr>
          </a:p>
        </p:txBody>
      </p:sp>
    </p:spTree>
  </p:cSld>
  <p:transition spd="slow">
    <p:split dir="in" orient="horz"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4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281240" y="1752480"/>
            <a:ext cx="75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.VnTime"/>
              </a:rPr>
              <a:t>Nhµ NguyÔn ®· </a:t>
            </a:r>
            <a:r>
              <a:rPr b="1" lang="en-US" sz="2800" spc="-1" strike="noStrike">
                <a:solidFill>
                  <a:srgbClr val="0000ff"/>
                </a:solidFill>
                <a:latin typeface="VNI-Times"/>
              </a:rPr>
              <a:t>laøm gì ñeå laäp laïi cheá ñoä phong kieán taäp quyeà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5335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.VnTime"/>
              </a:rPr>
              <a:t>KiÓm tra bµi c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18288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13" h="21600">
                <a:moveTo>
                  <a:pt x="11912" y="14281"/>
                </a:moveTo>
                <a:lnTo>
                  <a:pt x="11912" y="12323"/>
                </a:lnTo>
                <a:cubicBezTo>
                  <a:pt x="11912" y="11496"/>
                  <a:pt x="12242" y="10800"/>
                  <a:pt x="12843" y="10800"/>
                </a:cubicBezTo>
                <a:cubicBezTo>
                  <a:pt x="13975" y="10800"/>
                  <a:pt x="14871" y="9434"/>
                  <a:pt x="14871" y="7849"/>
                </a:cubicBezTo>
                <a:cubicBezTo>
                  <a:pt x="14871" y="5534"/>
                  <a:pt x="13017" y="3794"/>
                  <a:pt x="10806" y="3794"/>
                </a:cubicBezTo>
                <a:cubicBezTo>
                  <a:pt x="8596" y="3794"/>
                  <a:pt x="6925" y="5534"/>
                  <a:pt x="6925" y="7849"/>
                </a:cubicBezTo>
                <a:lnTo>
                  <a:pt x="8778" y="7849"/>
                </a:lnTo>
                <a:cubicBezTo>
                  <a:pt x="8778" y="6709"/>
                  <a:pt x="9701" y="5821"/>
                  <a:pt x="10806" y="5821"/>
                </a:cubicBezTo>
                <a:cubicBezTo>
                  <a:pt x="11912" y="5821"/>
                  <a:pt x="12843" y="6709"/>
                  <a:pt x="12843" y="7849"/>
                </a:cubicBezTo>
                <a:cubicBezTo>
                  <a:pt x="12843" y="8589"/>
                  <a:pt x="12373" y="9320"/>
                  <a:pt x="11912" y="9320"/>
                </a:cubicBezTo>
                <a:cubicBezTo>
                  <a:pt x="10806" y="9320"/>
                  <a:pt x="9701" y="10800"/>
                  <a:pt x="9701" y="12323"/>
                </a:cubicBezTo>
                <a:lnTo>
                  <a:pt x="9701" y="1428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2819520"/>
            <a:ext cx="8153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.VnTime"/>
              </a:rPr>
              <a:t>N¨m 1802, NguyÔn </a:t>
            </a:r>
            <a:r>
              <a:rPr b="1" lang="en-US" sz="2000" spc="-1" strike="noStrike">
                <a:solidFill>
                  <a:srgbClr val="ff0066"/>
                </a:solidFill>
                <a:latin typeface="VNI-Times"/>
              </a:rPr>
              <a:t>AÙnh</a:t>
            </a:r>
            <a:r>
              <a:rPr b="1" lang="en-US" sz="2000" spc="-1" strike="noStrike">
                <a:solidFill>
                  <a:srgbClr val="ff0066"/>
                </a:solidFill>
                <a:latin typeface=".VnTime"/>
              </a:rPr>
              <a:t> ®Æt niªn hiÖu lµ Gia Long, ®ãng ®« ë Phó Xu©n, x©y dùng nhµ n­íc qu©n chñ tËp quyÒn. Vua trùc tiÕp ®iÒu hµnh mäi viÖc tõ trung ­¬ng ®Õn ®Þa ph­¬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.VnTime"/>
              </a:rPr>
              <a:t>- N¨m 1815, nhµ NguyÔn ban hµnh bé Hoµng triÒu luËt lÖ ( LuËt Gia Long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.VnTime"/>
              </a:rPr>
              <a:t>Chia n­íc ta ra thµnh 30 tØnh vµ mét phñ trùc thuéc.</a:t>
            </a:r>
            <a:br>
              <a:rPr sz="2000"/>
            </a:br>
            <a:r>
              <a:rPr b="1" lang="en-US" sz="2400" spc="-1" strike="noStrike">
                <a:solidFill>
                  <a:srgbClr val="ff0066"/>
                </a:solidFill>
                <a:latin typeface=".VnTim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19144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100"/>
                            </p:stCondLst>
                            <p:childTnLst>
                              <p:par>
                                <p:cTn id="3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100"/>
                            </p:stCondLst>
                            <p:childTnLst>
                              <p:par>
                                <p:cTn id="3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4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 flipH="1" rot="16089600">
            <a:off x="-13680" y="11520"/>
            <a:ext cx="1067040" cy="10616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>
            <a:off x="-76320" y="6080040"/>
            <a:ext cx="914400" cy="7779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8153280" y="5950080"/>
            <a:ext cx="990720" cy="9079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 rot="5626800">
            <a:off x="8255160" y="27720"/>
            <a:ext cx="914400" cy="9097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04920" y="1219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1: §êi sèng nh©n d©n d­íi triÒu NguyÔ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34120" y="1752480"/>
            <a:ext cx="3352680" cy="2653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.VnTime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.VnTime"/>
              </a:rPr>
              <a:t>- </a:t>
            </a:r>
            <a:r>
              <a:rPr b="1" lang="en-US" sz="2800" spc="-1" strike="noStrike">
                <a:solidFill>
                  <a:srgbClr val="333399"/>
                </a:solidFill>
                <a:latin typeface="VNI-Times"/>
              </a:rPr>
              <a:t>Ñôøi soáng nhaân daân ta döôùi trieàu Nguyeãn bieåu hieän nhö theá naø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676520"/>
            <a:ext cx="4800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§êi sèng nh©n d©n ta ngµy cµng khæ cù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+ §Þa chñ c­êng hµo c­íp </a:t>
            </a:r>
            <a:r>
              <a:rPr b="0" lang="en-US" sz="2400" spc="-1" strike="noStrike">
                <a:solidFill>
                  <a:srgbClr val="800000"/>
                </a:solidFill>
                <a:latin typeface="VNI-Times"/>
              </a:rPr>
              <a:t>ñoaït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ruéng</a:t>
            </a:r>
            <a:r>
              <a:rPr b="0" lang="en-US" sz="2400" spc="-1" strike="noStrike">
                <a:solidFill>
                  <a:srgbClr val="800000"/>
                </a:solidFill>
                <a:latin typeface="VNI-Times"/>
              </a:rPr>
              <a:t> ñaát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, quan l¹i tham nhò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+ T« thuÕ nÆng nÒ, dÞch bÖnh, ®ãi kÐ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1905120"/>
            <a:ext cx="3352680" cy="2082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N¨m 1842, b·o to ë NghÖ An lµm ®æ trªn 4 v¹n nãc nhµ, h¬n 5000 ng­êi chÕ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N¨m 1849 – 1850, dÞch lín trªn c¶ n­íc lµm 60 v¹n ng­êi chÕ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10080" y="1981080"/>
            <a:ext cx="3353040" cy="1922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Qua ®äc ®o¹n trÝch trªn, em cã nhËn xÐt g× vÒ chÝnh quyÒn phong kiÕn nhµ NguyÔ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3657600"/>
            <a:ext cx="3200400" cy="2844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Quan l¹i tõ trung ­¬ng ®Õn ®Þa ph­¬ng ra søc ®ôc khoÐt bãc lét nh©n d©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X· héi lo¹n l¹c, kh«ng cßn kØ c­¬ng phÐp n­í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486400" y="1752480"/>
            <a:ext cx="3124080" cy="1557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Em h·y ®äc ®o¹n ch÷ in nghiªng trong s¸ch gi¸o khoa ( Trang 139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4120" y="2209680"/>
            <a:ext cx="3504960" cy="1557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Th¸i ®é cña nh©n d©n víi chÝnh quyÒn phong kiÕn nhµ NguyÔ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4114800"/>
            <a:ext cx="3429000" cy="192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- &gt; Nh©n d©n c¨m phÉn, bÊt b×nh nªn hä næi dËy ®Êu tranh chèng chÝnh quyÒn nhµ NguyÔ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1676520"/>
            <a:ext cx="7632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228600"/>
            <a:ext cx="7362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.VnTime"/>
              </a:rPr>
              <a:t>TiÕt 60 :  </a:t>
            </a:r>
            <a:r>
              <a:rPr b="1" lang="en-US" sz="2400" spc="-1" strike="noStrike">
                <a:solidFill>
                  <a:srgbClr val="ff0066"/>
                </a:solidFill>
                <a:latin typeface="VNI-Times"/>
              </a:rPr>
              <a:t>CHEÁ ÑOÄ PHONG KIEÁN NHAØ NGUYE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Time"/>
              </a:rPr>
              <a:t>II. </a:t>
            </a:r>
            <a:r>
              <a:rPr b="1" lang="en-US" sz="2000" spc="-1" strike="noStrike">
                <a:solidFill>
                  <a:srgbClr val="000066"/>
                </a:solidFill>
                <a:latin typeface="VNI-Times"/>
              </a:rPr>
              <a:t>CAÙC CUOÄC NOÅI DAÄY CUÛA NHAÂN DA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520" y="914400"/>
            <a:ext cx="7010280" cy="52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Times"/>
              </a:rPr>
              <a:t>Phaûn öùng cuûa daân chuùng veà cheá ñoä lao dòch khaéc nhieät döôùi trieàu cuûa Vua Töï Ñöù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Baét daân ñaøo keâ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Ñaøo möôøi thöôùc roä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Boán möôi thuôùc daø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Ño ñaát ñeám ngöôø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Moät xuaát ñinh hai thöô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Baét ñaøo cho ñöôï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Haïn trong möôøi ngaø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 flipH="1" rot="16090200">
            <a:off x="-13320" y="8280"/>
            <a:ext cx="1137960" cy="11336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 flipH="1">
            <a:off x="-360" y="5742000"/>
            <a:ext cx="1219320" cy="1116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7848720" y="5670720"/>
            <a:ext cx="1295280" cy="11872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 rot="5626800">
            <a:off x="8021520" y="20520"/>
            <a:ext cx="1143000" cy="11368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838080" y="609480"/>
            <a:ext cx="73630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.VnTime"/>
              </a:rPr>
              <a:t>TiÕt 60 :  </a:t>
            </a:r>
            <a:r>
              <a:rPr b="1" lang="en-US" sz="2400" spc="-1" strike="noStrike">
                <a:solidFill>
                  <a:srgbClr val="ff0066"/>
                </a:solidFill>
                <a:latin typeface="VNI-Times"/>
              </a:rPr>
              <a:t>CHEÁ ÑOÄ PHONG KIEÁN NHAØ NGUYE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Time"/>
              </a:rPr>
              <a:t>II. </a:t>
            </a:r>
            <a:r>
              <a:rPr b="1" lang="en-US" sz="2000" spc="-1" strike="noStrike">
                <a:solidFill>
                  <a:srgbClr val="000066"/>
                </a:solidFill>
                <a:latin typeface="VNI-Times"/>
              </a:rPr>
              <a:t>CAÙC CUOÄC NOÅI DAÄY CUÛA NHAÂN DA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1600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1, §êi sèng cña nh©n d©n d­íi triÒu NguyÔ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198108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§êi sèng nh©n d©n ta ngµy cµng khæ cùc d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- §Þa chñ c­êng hµo c­íp ruéng, quan l¹i tham nhò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- T« thuÕ nÆng nÒ, dÞch bÖnh, ®ãi kÐ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3657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 flipH="1" rot="16090800">
            <a:off x="-12240" y="1008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 flipH="1">
            <a:off x="0" y="6091200"/>
            <a:ext cx="838080" cy="7668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8305920" y="6089760"/>
            <a:ext cx="838080" cy="7682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 rot="5626800">
            <a:off x="8186400" y="25200"/>
            <a:ext cx="981000" cy="9745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0" y="16002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1, §êi sèng cña nh©n d©n d­íi triÒu NguyÔ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20574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609480"/>
            <a:ext cx="73630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.VnTime"/>
              </a:rPr>
              <a:t>TiÕt 60 :  </a:t>
            </a:r>
            <a:r>
              <a:rPr b="1" lang="en-US" sz="2400" spc="-1" strike="noStrike">
                <a:solidFill>
                  <a:srgbClr val="ff0066"/>
                </a:solidFill>
                <a:latin typeface="VNI-Times"/>
              </a:rPr>
              <a:t>CHEÁ ÑOÄ PHONG KIEÁN NHAØ NGUYE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Time"/>
              </a:rPr>
              <a:t>II.  </a:t>
            </a:r>
            <a:r>
              <a:rPr b="1" lang="en-US" sz="2000" spc="-1" strike="noStrike">
                <a:solidFill>
                  <a:srgbClr val="000066"/>
                </a:solidFill>
                <a:latin typeface="VNI-Times"/>
              </a:rPr>
              <a:t>CAÙC CUOÄC NOÅI DAÄY CUÛA NHAÂN DA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5029200" y="380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5334120" y="5105520"/>
            <a:ext cx="352440" cy="3808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4572000" y="838080"/>
            <a:ext cx="304920" cy="3812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5029200" y="144792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5181480" y="1066680"/>
            <a:ext cx="352440" cy="304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5867280" y="4952880"/>
            <a:ext cx="352440" cy="3812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6629400" y="3352680"/>
            <a:ext cx="304920" cy="3812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0" y="6094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cña nh©n d©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6216480"/>
            <a:ext cx="54100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.VnTime"/>
              </a:rPr>
              <a:t>L­îc ®å nh÷ng n¬i bïng næ cuéc næi dËy cña nh©n d©n   chèng v­¬ng triÒu NguyÔn nöa ®Çu TK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352440" cy="3049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28600" y="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cña nh©n d©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38088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a, Khëi nghÜa Phan B¸ Vµn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        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( 1821 – 1827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3048120"/>
            <a:ext cx="411480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Em h·y tr×nh bµy hiÓu biÕt cña em vÒ Phan B¸ Vµnh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129528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Phan B¸ Vµnh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: Ng­êi lµng Minh Gi¸m ( Th¸i B×nh ). XuÊt th©n trong mét gia ®×nh nghÌ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3505320"/>
            <a:ext cx="426744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uyªn nh©n nµo khiÕn Phan B¸ Vµnh næi dËy khëi nghÜ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3048120"/>
            <a:ext cx="4572000" cy="2478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¤ng sím bÊt b×nh víi giai cÊp thèng tr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¨m 1821, nh©n mét n¹n ®ãi lín ë Nam §Þnh, Th¸i B×nh - &gt; ¤ng kªu gäi nh©n d©n khëi nghÜ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4572000"/>
            <a:ext cx="441936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Em h·y t­êng thuËt diÔn biÕn cña khëi nghÜ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37339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N¨m 1827, qu©n triÒu ®×nh bao v©y. Khëi nghÜa bÞ ®µn ¸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2362320"/>
            <a:ext cx="426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N¨m 1821, «ng kªu gäi n«ng d©n næi dË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C¨n cø : Trµ Lò ( Nam §Þnh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12952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.VnTime"/>
              </a:rPr>
              <a:t>Nam §Þn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518148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4724280"/>
            <a:ext cx="5029200" cy="230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Tuy khëi nghÜa thÊt b¹i, song trong lßng nh©n d©n h×nh ¶nh «ng sèng m·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Trªn trêi cã «ng sao R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NI-Times"/>
              </a:rPr>
              <a:t>ÔÛ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lµng Minh Gi¸m cã vua Ba Vµn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2" dur="2000" fill="hold"/>
                                        <p:tgtEl>
                                          <p:spTgt spid="3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19:19:15Z</dcterms:created>
  <dc:creator>Tia Chop</dc:creator>
  <dc:description/>
  <dc:language>en-US</dc:language>
  <cp:lastModifiedBy>MULTI -  DONG XOAI</cp:lastModifiedBy>
  <dcterms:modified xsi:type="dcterms:W3CDTF">2011-04-14T13:45:46Z</dcterms:modified>
  <cp:revision>173</cp:revision>
  <dc:subject/>
  <dc:title>Slide 1</dc:title>
</cp:coreProperties>
</file>