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arrow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.VnAristot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.VnAristot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.VnAristot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5C29-3E9E-4DF6-82D3-D0A8F96A5119}" type="slidenum">
              <a:rPr b="0" lang="en-US" sz="1200" spc="-1" strike="noStrike">
                <a:solidFill>
                  <a:srgbClr val="000000"/>
                </a:solidFill>
                <a:latin typeface=".VnAristot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7148-F334-42E1-AA51-8E9C5050F1BA}" type="slidenum">
              <a:rPr b="0" lang="en-US" sz="1200" spc="-1" strike="noStrike">
                <a:solidFill>
                  <a:srgbClr val="000000"/>
                </a:solidFill>
                <a:latin typeface=".VnAristot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audio" Target="../media/arrow.wav"/><Relationship Id="rId17" Type="http://schemas.openxmlformats.org/officeDocument/2006/relationships/audio" Target="../media/arrow.wav"/><Relationship Id="rId18" Type="http://schemas.openxmlformats.org/officeDocument/2006/relationships/audio" Target="../media/arrow.wav"/><Relationship Id="rId19" Type="http://schemas.openxmlformats.org/officeDocument/2006/relationships/audio" Target="../media/arrow.wav"/><Relationship Id="rId20" Type="http://schemas.openxmlformats.org/officeDocument/2006/relationships/audio" Target="../media/arrow.wav"/><Relationship Id="rId21" Type="http://schemas.openxmlformats.org/officeDocument/2006/relationships/audio" Target="../media/arrow.wav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4000" y="1025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2586a"/>
                </a:solidFill>
                <a:latin typeface="Calibri"/>
              </a:rPr>
              <a:t>ÔN TẬP Chủ đề 4. ĐỒ DÙNG ĐIỆN TRONG GIA ĐÌNH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9320" y="2225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grpSp>
        <p:nvGrpSpPr>
          <p:cNvPr id="46" name="Group 3"/>
          <p:cNvGrpSpPr/>
          <p:nvPr/>
        </p:nvGrpSpPr>
        <p:grpSpPr>
          <a:xfrm>
            <a:off x="762120" y="3657600"/>
            <a:ext cx="2709720" cy="2814480"/>
            <a:chOff x="762120" y="3657600"/>
            <a:chExt cx="2709720" cy="2814480"/>
          </a:xfrm>
        </p:grpSpPr>
        <p:sp>
          <p:nvSpPr>
            <p:cNvPr id="47" name="Google Shape;764;p30"/>
            <p:cNvSpPr/>
            <p:nvPr/>
          </p:nvSpPr>
          <p:spPr>
            <a:xfrm>
              <a:off x="2160720" y="3938400"/>
              <a:ext cx="544320" cy="450720"/>
            </a:xfrm>
            <a:custGeom>
              <a:avLst/>
              <a:gdLst/>
              <a:ahLst/>
              <a:rect l="l" t="t" r="r" b="b"/>
              <a:pathLst>
                <a:path w="536" h="598">
                  <a:moveTo>
                    <a:pt x="260" y="598"/>
                  </a:moveTo>
                  <a:lnTo>
                    <a:pt x="0" y="431"/>
                  </a:lnTo>
                  <a:lnTo>
                    <a:pt x="276" y="0"/>
                  </a:lnTo>
                  <a:lnTo>
                    <a:pt x="536" y="166"/>
                  </a:lnTo>
                  <a:lnTo>
                    <a:pt x="260" y="598"/>
                  </a:lnTo>
                  <a:close/>
                </a:path>
              </a:pathLst>
            </a:custGeom>
            <a:solidFill>
              <a:srgbClr val="ffc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Google Shape;765;p30"/>
            <p:cNvSpPr/>
            <p:nvPr/>
          </p:nvSpPr>
          <p:spPr>
            <a:xfrm>
              <a:off x="2425680" y="4063680"/>
              <a:ext cx="542880" cy="449280"/>
            </a:xfrm>
            <a:custGeom>
              <a:avLst/>
              <a:gdLst/>
              <a:ahLst/>
              <a:rect l="l" t="t" r="r" b="b"/>
              <a:pathLst>
                <a:path w="535" h="598">
                  <a:moveTo>
                    <a:pt x="262" y="598"/>
                  </a:moveTo>
                  <a:lnTo>
                    <a:pt x="0" y="432"/>
                  </a:lnTo>
                  <a:lnTo>
                    <a:pt x="276" y="0"/>
                  </a:lnTo>
                  <a:lnTo>
                    <a:pt x="535" y="167"/>
                  </a:lnTo>
                  <a:lnTo>
                    <a:pt x="262" y="598"/>
                  </a:lnTo>
                  <a:close/>
                </a:path>
              </a:pathLst>
            </a:custGeom>
            <a:solidFill>
              <a:srgbClr val="ffb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Google Shape;766;p30"/>
            <p:cNvSpPr/>
            <p:nvPr/>
          </p:nvSpPr>
          <p:spPr>
            <a:xfrm>
              <a:off x="2687760" y="4189320"/>
              <a:ext cx="544320" cy="449280"/>
            </a:xfrm>
            <a:custGeom>
              <a:avLst/>
              <a:gdLst/>
              <a:ahLst/>
              <a:rect l="l" t="t" r="r" b="b"/>
              <a:pathLst>
                <a:path w="536" h="598">
                  <a:moveTo>
                    <a:pt x="260" y="598"/>
                  </a:moveTo>
                  <a:lnTo>
                    <a:pt x="0" y="431"/>
                  </a:lnTo>
                  <a:lnTo>
                    <a:pt x="273" y="0"/>
                  </a:lnTo>
                  <a:lnTo>
                    <a:pt x="536" y="169"/>
                  </a:lnTo>
                  <a:lnTo>
                    <a:pt x="260" y="598"/>
                  </a:lnTo>
                  <a:close/>
                </a:path>
              </a:pathLst>
            </a:custGeom>
            <a:solidFill>
              <a:srgbClr val="faa2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Google Shape;767;p30"/>
            <p:cNvSpPr/>
            <p:nvPr/>
          </p:nvSpPr>
          <p:spPr>
            <a:xfrm>
              <a:off x="2497320" y="3657600"/>
              <a:ext cx="461880" cy="341280"/>
            </a:xfrm>
            <a:custGeom>
              <a:avLst/>
              <a:gdLst/>
              <a:ahLst/>
              <a:rect l="l" t="t" r="r" b="b"/>
              <a:pathLst>
                <a:path w="200" h="199">
                  <a:moveTo>
                    <a:pt x="115" y="199"/>
                  </a:moveTo>
                  <a:cubicBezTo>
                    <a:pt x="0" y="126"/>
                    <a:pt x="0" y="126"/>
                    <a:pt x="0" y="126"/>
                  </a:cubicBezTo>
                  <a:cubicBezTo>
                    <a:pt x="69" y="19"/>
                    <a:pt x="69" y="19"/>
                    <a:pt x="69" y="19"/>
                  </a:cubicBezTo>
                  <a:cubicBezTo>
                    <a:pt x="78" y="5"/>
                    <a:pt x="98" y="0"/>
                    <a:pt x="113" y="10"/>
                  </a:cubicBezTo>
                  <a:cubicBezTo>
                    <a:pt x="200" y="66"/>
                    <a:pt x="200" y="66"/>
                    <a:pt x="200" y="66"/>
                  </a:cubicBezTo>
                  <a:lnTo>
                    <a:pt x="115" y="199"/>
                  </a:lnTo>
                  <a:close/>
                </a:path>
              </a:pathLst>
            </a:custGeom>
            <a:solidFill>
              <a:srgbClr val="6566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Google Shape;768;p30"/>
            <p:cNvSpPr/>
            <p:nvPr/>
          </p:nvSpPr>
          <p:spPr>
            <a:xfrm>
              <a:off x="2764080" y="3770280"/>
              <a:ext cx="460080" cy="353880"/>
            </a:xfrm>
            <a:custGeom>
              <a:avLst/>
              <a:gdLst/>
              <a:ahLst/>
              <a:rect l="l" t="t" r="r" b="b"/>
              <a:pathLst>
                <a:path w="453" h="470">
                  <a:moveTo>
                    <a:pt x="259" y="470"/>
                  </a:moveTo>
                  <a:lnTo>
                    <a:pt x="0" y="304"/>
                  </a:lnTo>
                  <a:lnTo>
                    <a:pt x="193" y="0"/>
                  </a:lnTo>
                  <a:lnTo>
                    <a:pt x="453" y="167"/>
                  </a:lnTo>
                  <a:lnTo>
                    <a:pt x="259" y="470"/>
                  </a:lnTo>
                  <a:close/>
                </a:path>
              </a:pathLst>
            </a:custGeom>
            <a:solidFill>
              <a:srgbClr val="464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Google Shape;769;p30"/>
            <p:cNvSpPr/>
            <p:nvPr/>
          </p:nvSpPr>
          <p:spPr>
            <a:xfrm>
              <a:off x="3027600" y="3895560"/>
              <a:ext cx="444240" cy="353880"/>
            </a:xfrm>
            <a:custGeom>
              <a:avLst/>
              <a:gdLst/>
              <a:ahLst/>
              <a:rect l="l" t="t" r="r" b="b"/>
              <a:pathLst>
                <a:path w="192" h="206">
                  <a:moveTo>
                    <a:pt x="114" y="206"/>
                  </a:moveTo>
                  <a:cubicBezTo>
                    <a:pt x="0" y="133"/>
                    <a:pt x="0" y="133"/>
                    <a:pt x="0" y="133"/>
                  </a:cubicBezTo>
                  <a:cubicBezTo>
                    <a:pt x="85" y="0"/>
                    <a:pt x="85" y="0"/>
                    <a:pt x="85" y="0"/>
                  </a:cubicBezTo>
                  <a:cubicBezTo>
                    <a:pt x="173" y="56"/>
                    <a:pt x="173" y="56"/>
                    <a:pt x="173" y="56"/>
                  </a:cubicBezTo>
                  <a:cubicBezTo>
                    <a:pt x="187" y="65"/>
                    <a:pt x="192" y="85"/>
                    <a:pt x="182" y="100"/>
                  </a:cubicBezTo>
                  <a:lnTo>
                    <a:pt x="114" y="206"/>
                  </a:lnTo>
                  <a:close/>
                </a:path>
              </a:pathLst>
            </a:custGeom>
            <a:solidFill>
              <a:srgbClr val="2f2f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Google Shape;770;p30"/>
            <p:cNvSpPr/>
            <p:nvPr/>
          </p:nvSpPr>
          <p:spPr>
            <a:xfrm>
              <a:off x="1881360" y="4263840"/>
              <a:ext cx="544320" cy="449280"/>
            </a:xfrm>
            <a:custGeom>
              <a:avLst/>
              <a:gdLst/>
              <a:ahLst/>
              <a:rect l="l" t="t" r="r" b="b"/>
              <a:pathLst>
                <a:path w="536" h="598">
                  <a:moveTo>
                    <a:pt x="262" y="598"/>
                  </a:moveTo>
                  <a:lnTo>
                    <a:pt x="0" y="431"/>
                  </a:lnTo>
                  <a:lnTo>
                    <a:pt x="276" y="0"/>
                  </a:lnTo>
                  <a:lnTo>
                    <a:pt x="536" y="167"/>
                  </a:lnTo>
                  <a:lnTo>
                    <a:pt x="262" y="598"/>
                  </a:lnTo>
                  <a:close/>
                </a:path>
              </a:pathLst>
            </a:custGeom>
            <a:solidFill>
              <a:srgbClr val="f06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Google Shape;771;p30"/>
            <p:cNvSpPr/>
            <p:nvPr/>
          </p:nvSpPr>
          <p:spPr>
            <a:xfrm>
              <a:off x="2146320" y="4389480"/>
              <a:ext cx="544320" cy="449280"/>
            </a:xfrm>
            <a:custGeom>
              <a:avLst/>
              <a:gdLst/>
              <a:ahLst/>
              <a:rect l="l" t="t" r="r" b="b"/>
              <a:pathLst>
                <a:path w="536" h="597">
                  <a:moveTo>
                    <a:pt x="260" y="597"/>
                  </a:moveTo>
                  <a:lnTo>
                    <a:pt x="0" y="431"/>
                  </a:lnTo>
                  <a:lnTo>
                    <a:pt x="274" y="0"/>
                  </a:lnTo>
                  <a:lnTo>
                    <a:pt x="536" y="166"/>
                  </a:lnTo>
                  <a:lnTo>
                    <a:pt x="260" y="597"/>
                  </a:lnTo>
                  <a:close/>
                </a:path>
              </a:pathLst>
            </a:custGeom>
            <a:solidFill>
              <a:srgbClr val="e24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Google Shape;772;p30"/>
            <p:cNvSpPr/>
            <p:nvPr/>
          </p:nvSpPr>
          <p:spPr>
            <a:xfrm>
              <a:off x="2411640" y="4513320"/>
              <a:ext cx="544320" cy="450720"/>
            </a:xfrm>
            <a:custGeom>
              <a:avLst/>
              <a:gdLst/>
              <a:ahLst/>
              <a:rect l="l" t="t" r="r" b="b"/>
              <a:pathLst>
                <a:path w="536" h="598">
                  <a:moveTo>
                    <a:pt x="260" y="598"/>
                  </a:moveTo>
                  <a:lnTo>
                    <a:pt x="0" y="431"/>
                  </a:lnTo>
                  <a:lnTo>
                    <a:pt x="276" y="0"/>
                  </a:lnTo>
                  <a:lnTo>
                    <a:pt x="536" y="167"/>
                  </a:lnTo>
                  <a:lnTo>
                    <a:pt x="260" y="598"/>
                  </a:lnTo>
                  <a:close/>
                </a:path>
              </a:pathLst>
            </a:custGeom>
            <a:solidFill>
              <a:srgbClr val="cc23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Google Shape;773;p30"/>
            <p:cNvSpPr/>
            <p:nvPr/>
          </p:nvSpPr>
          <p:spPr>
            <a:xfrm>
              <a:off x="1601640" y="4587840"/>
              <a:ext cx="544320" cy="449280"/>
            </a:xfrm>
            <a:custGeom>
              <a:avLst/>
              <a:gdLst/>
              <a:ahLst/>
              <a:rect l="l" t="t" r="r" b="b"/>
              <a:pathLst>
                <a:path w="536" h="598">
                  <a:moveTo>
                    <a:pt x="260" y="598"/>
                  </a:moveTo>
                  <a:lnTo>
                    <a:pt x="0" y="431"/>
                  </a:lnTo>
                  <a:lnTo>
                    <a:pt x="274" y="0"/>
                  </a:lnTo>
                  <a:lnTo>
                    <a:pt x="536" y="167"/>
                  </a:lnTo>
                  <a:lnTo>
                    <a:pt x="260" y="598"/>
                  </a:lnTo>
                  <a:close/>
                </a:path>
              </a:pathLst>
            </a:custGeom>
            <a:solidFill>
              <a:srgbClr val="a63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Google Shape;774;p30"/>
            <p:cNvSpPr/>
            <p:nvPr/>
          </p:nvSpPr>
          <p:spPr>
            <a:xfrm>
              <a:off x="1866960" y="4713120"/>
              <a:ext cx="544320" cy="449280"/>
            </a:xfrm>
            <a:custGeom>
              <a:avLst/>
              <a:gdLst/>
              <a:ahLst/>
              <a:rect l="l" t="t" r="r" b="b"/>
              <a:pathLst>
                <a:path w="536" h="598">
                  <a:moveTo>
                    <a:pt x="260" y="598"/>
                  </a:moveTo>
                  <a:lnTo>
                    <a:pt x="0" y="431"/>
                  </a:lnTo>
                  <a:lnTo>
                    <a:pt x="276" y="0"/>
                  </a:lnTo>
                  <a:lnTo>
                    <a:pt x="536" y="166"/>
                  </a:lnTo>
                  <a:lnTo>
                    <a:pt x="260" y="598"/>
                  </a:lnTo>
                  <a:close/>
                </a:path>
              </a:pathLst>
            </a:custGeom>
            <a:solidFill>
              <a:srgbClr val="8c1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Google Shape;775;p30"/>
            <p:cNvSpPr/>
            <p:nvPr/>
          </p:nvSpPr>
          <p:spPr>
            <a:xfrm>
              <a:off x="2130480" y="4838760"/>
              <a:ext cx="544320" cy="449280"/>
            </a:xfrm>
            <a:custGeom>
              <a:avLst/>
              <a:gdLst/>
              <a:ahLst/>
              <a:rect l="l" t="t" r="r" b="b"/>
              <a:pathLst>
                <a:path w="536" h="598">
                  <a:moveTo>
                    <a:pt x="260" y="598"/>
                  </a:moveTo>
                  <a:lnTo>
                    <a:pt x="0" y="432"/>
                  </a:lnTo>
                  <a:lnTo>
                    <a:pt x="276" y="0"/>
                  </a:lnTo>
                  <a:lnTo>
                    <a:pt x="536" y="167"/>
                  </a:lnTo>
                  <a:lnTo>
                    <a:pt x="260" y="598"/>
                  </a:lnTo>
                  <a:close/>
                </a:path>
              </a:pathLst>
            </a:custGeom>
            <a:solidFill>
              <a:srgbClr val="7801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Google Shape;776;p30"/>
            <p:cNvSpPr/>
            <p:nvPr/>
          </p:nvSpPr>
          <p:spPr>
            <a:xfrm>
              <a:off x="1322280" y="4911480"/>
              <a:ext cx="544320" cy="449280"/>
            </a:xfrm>
            <a:custGeom>
              <a:avLst/>
              <a:gdLst/>
              <a:ahLst/>
              <a:rect l="l" t="t" r="r" b="b"/>
              <a:pathLst>
                <a:path w="535" h="598">
                  <a:moveTo>
                    <a:pt x="259" y="598"/>
                  </a:moveTo>
                  <a:lnTo>
                    <a:pt x="0" y="432"/>
                  </a:lnTo>
                  <a:lnTo>
                    <a:pt x="275" y="0"/>
                  </a:lnTo>
                  <a:lnTo>
                    <a:pt x="535" y="167"/>
                  </a:lnTo>
                  <a:lnTo>
                    <a:pt x="259" y="598"/>
                  </a:lnTo>
                  <a:close/>
                </a:path>
              </a:pathLst>
            </a:custGeom>
            <a:solidFill>
              <a:srgbClr val="91e5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Google Shape;777;p30"/>
            <p:cNvSpPr/>
            <p:nvPr/>
          </p:nvSpPr>
          <p:spPr>
            <a:xfrm>
              <a:off x="1585800" y="5037120"/>
              <a:ext cx="544320" cy="450720"/>
            </a:xfrm>
            <a:custGeom>
              <a:avLst/>
              <a:gdLst/>
              <a:ahLst/>
              <a:rect l="l" t="t" r="r" b="b"/>
              <a:pathLst>
                <a:path w="536" h="598">
                  <a:moveTo>
                    <a:pt x="260" y="598"/>
                  </a:moveTo>
                  <a:lnTo>
                    <a:pt x="0" y="431"/>
                  </a:lnTo>
                  <a:lnTo>
                    <a:pt x="276" y="0"/>
                  </a:lnTo>
                  <a:lnTo>
                    <a:pt x="536" y="167"/>
                  </a:lnTo>
                  <a:lnTo>
                    <a:pt x="260" y="598"/>
                  </a:lnTo>
                  <a:close/>
                </a:path>
              </a:pathLst>
            </a:custGeom>
            <a:solidFill>
              <a:srgbClr val="64d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Google Shape;778;p30"/>
            <p:cNvSpPr/>
            <p:nvPr/>
          </p:nvSpPr>
          <p:spPr>
            <a:xfrm>
              <a:off x="1846440" y="5162400"/>
              <a:ext cx="544320" cy="449280"/>
            </a:xfrm>
            <a:custGeom>
              <a:avLst/>
              <a:gdLst/>
              <a:ahLst/>
              <a:rect l="l" t="t" r="r" b="b"/>
              <a:pathLst>
                <a:path w="536" h="597">
                  <a:moveTo>
                    <a:pt x="263" y="597"/>
                  </a:moveTo>
                  <a:lnTo>
                    <a:pt x="0" y="431"/>
                  </a:lnTo>
                  <a:lnTo>
                    <a:pt x="276" y="0"/>
                  </a:lnTo>
                  <a:lnTo>
                    <a:pt x="536" y="166"/>
                  </a:lnTo>
                  <a:lnTo>
                    <a:pt x="263" y="597"/>
                  </a:lnTo>
                  <a:close/>
                </a:path>
              </a:pathLst>
            </a:custGeom>
            <a:solidFill>
              <a:srgbClr val="2cc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Google Shape;779;p30"/>
            <p:cNvSpPr/>
            <p:nvPr/>
          </p:nvSpPr>
          <p:spPr>
            <a:xfrm>
              <a:off x="1042920" y="5236920"/>
              <a:ext cx="542880" cy="447480"/>
            </a:xfrm>
            <a:custGeom>
              <a:avLst/>
              <a:gdLst/>
              <a:ahLst/>
              <a:rect l="l" t="t" r="r" b="b"/>
              <a:pathLst>
                <a:path w="535" h="595">
                  <a:moveTo>
                    <a:pt x="260" y="595"/>
                  </a:moveTo>
                  <a:lnTo>
                    <a:pt x="0" y="429"/>
                  </a:lnTo>
                  <a:lnTo>
                    <a:pt x="276" y="0"/>
                  </a:lnTo>
                  <a:lnTo>
                    <a:pt x="535" y="166"/>
                  </a:lnTo>
                  <a:lnTo>
                    <a:pt x="260" y="595"/>
                  </a:lnTo>
                  <a:close/>
                </a:path>
              </a:pathLst>
            </a:custGeom>
            <a:solidFill>
              <a:srgbClr val="68c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Google Shape;780;p30"/>
            <p:cNvSpPr/>
            <p:nvPr/>
          </p:nvSpPr>
          <p:spPr>
            <a:xfrm>
              <a:off x="1306440" y="5360760"/>
              <a:ext cx="542880" cy="450720"/>
            </a:xfrm>
            <a:custGeom>
              <a:avLst/>
              <a:gdLst/>
              <a:ahLst/>
              <a:rect l="l" t="t" r="r" b="b"/>
              <a:pathLst>
                <a:path w="535" h="598">
                  <a:moveTo>
                    <a:pt x="262" y="598"/>
                  </a:moveTo>
                  <a:lnTo>
                    <a:pt x="0" y="429"/>
                  </a:lnTo>
                  <a:lnTo>
                    <a:pt x="275" y="0"/>
                  </a:lnTo>
                  <a:lnTo>
                    <a:pt x="535" y="167"/>
                  </a:lnTo>
                  <a:lnTo>
                    <a:pt x="262" y="598"/>
                  </a:lnTo>
                  <a:close/>
                </a:path>
              </a:pathLst>
            </a:custGeom>
            <a:solidFill>
              <a:srgbClr val="34b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Google Shape;781;p30"/>
            <p:cNvSpPr/>
            <p:nvPr/>
          </p:nvSpPr>
          <p:spPr>
            <a:xfrm>
              <a:off x="1484280" y="5468760"/>
              <a:ext cx="544320" cy="449280"/>
            </a:xfrm>
            <a:custGeom>
              <a:avLst/>
              <a:gdLst/>
              <a:ahLst/>
              <a:rect l="l" t="t" r="r" b="b"/>
              <a:pathLst>
                <a:path w="536" h="598">
                  <a:moveTo>
                    <a:pt x="260" y="598"/>
                  </a:moveTo>
                  <a:lnTo>
                    <a:pt x="0" y="431"/>
                  </a:lnTo>
                  <a:lnTo>
                    <a:pt x="273" y="0"/>
                  </a:lnTo>
                  <a:lnTo>
                    <a:pt x="536" y="166"/>
                  </a:lnTo>
                  <a:lnTo>
                    <a:pt x="260" y="598"/>
                  </a:lnTo>
                  <a:close/>
                </a:path>
              </a:pathLst>
            </a:custGeom>
            <a:solidFill>
              <a:srgbClr val="0a9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Google Shape;782;p30"/>
            <p:cNvSpPr/>
            <p:nvPr/>
          </p:nvSpPr>
          <p:spPr>
            <a:xfrm>
              <a:off x="762120" y="5559480"/>
              <a:ext cx="544320" cy="449280"/>
            </a:xfrm>
            <a:custGeom>
              <a:avLst/>
              <a:gdLst/>
              <a:ahLst/>
              <a:rect l="l" t="t" r="r" b="b"/>
              <a:pathLst>
                <a:path w="536" h="597">
                  <a:moveTo>
                    <a:pt x="262" y="597"/>
                  </a:moveTo>
                  <a:lnTo>
                    <a:pt x="0" y="431"/>
                  </a:lnTo>
                  <a:lnTo>
                    <a:pt x="276" y="0"/>
                  </a:lnTo>
                  <a:lnTo>
                    <a:pt x="536" y="166"/>
                  </a:lnTo>
                  <a:lnTo>
                    <a:pt x="262" y="597"/>
                  </a:lnTo>
                  <a:close/>
                </a:path>
              </a:pathLst>
            </a:custGeom>
            <a:solidFill>
              <a:srgbClr val="207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Google Shape;783;p30"/>
            <p:cNvSpPr/>
            <p:nvPr/>
          </p:nvSpPr>
          <p:spPr>
            <a:xfrm>
              <a:off x="1028520" y="5684760"/>
              <a:ext cx="544320" cy="449280"/>
            </a:xfrm>
            <a:custGeom>
              <a:avLst/>
              <a:gdLst/>
              <a:ahLst/>
              <a:rect l="l" t="t" r="r" b="b"/>
              <a:pathLst>
                <a:path w="536" h="598">
                  <a:moveTo>
                    <a:pt x="260" y="598"/>
                  </a:moveTo>
                  <a:lnTo>
                    <a:pt x="0" y="431"/>
                  </a:lnTo>
                  <a:lnTo>
                    <a:pt x="274" y="0"/>
                  </a:lnTo>
                  <a:lnTo>
                    <a:pt x="536" y="169"/>
                  </a:lnTo>
                  <a:lnTo>
                    <a:pt x="260" y="598"/>
                  </a:lnTo>
                  <a:close/>
                </a:path>
              </a:pathLst>
            </a:custGeom>
            <a:solidFill>
              <a:srgbClr val="065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Google Shape;784;p30"/>
            <p:cNvSpPr/>
            <p:nvPr/>
          </p:nvSpPr>
          <p:spPr>
            <a:xfrm>
              <a:off x="1233360" y="5780160"/>
              <a:ext cx="544320" cy="447480"/>
            </a:xfrm>
            <a:custGeom>
              <a:avLst/>
              <a:gdLst/>
              <a:ahLst/>
              <a:rect l="l" t="t" r="r" b="b"/>
              <a:pathLst>
                <a:path w="536" h="595">
                  <a:moveTo>
                    <a:pt x="260" y="595"/>
                  </a:moveTo>
                  <a:lnTo>
                    <a:pt x="0" y="429"/>
                  </a:lnTo>
                  <a:lnTo>
                    <a:pt x="276" y="0"/>
                  </a:lnTo>
                  <a:lnTo>
                    <a:pt x="536" y="167"/>
                  </a:lnTo>
                  <a:lnTo>
                    <a:pt x="260" y="595"/>
                  </a:lnTo>
                  <a:close/>
                </a:path>
              </a:pathLst>
            </a:custGeom>
            <a:solidFill>
              <a:srgbClr val="0a4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Google Shape;785;p30"/>
            <p:cNvSpPr/>
            <p:nvPr/>
          </p:nvSpPr>
          <p:spPr>
            <a:xfrm>
              <a:off x="981000" y="6134040"/>
              <a:ext cx="583920" cy="272880"/>
            </a:xfrm>
            <a:custGeom>
              <a:avLst/>
              <a:gdLst/>
              <a:ahLst/>
              <a:rect l="l" t="t" r="r" b="b"/>
              <a:pathLst>
                <a:path w="252" h="159">
                  <a:moveTo>
                    <a:pt x="26" y="159"/>
                  </a:moveTo>
                  <a:cubicBezTo>
                    <a:pt x="248" y="73"/>
                    <a:pt x="248" y="73"/>
                    <a:pt x="248" y="73"/>
                  </a:cubicBezTo>
                  <a:cubicBezTo>
                    <a:pt x="248" y="73"/>
                    <a:pt x="252" y="50"/>
                    <a:pt x="213" y="25"/>
                  </a:cubicBezTo>
                  <a:cubicBezTo>
                    <a:pt x="187" y="8"/>
                    <a:pt x="134" y="0"/>
                    <a:pt x="134" y="0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10" y="137"/>
                    <a:pt x="19" y="148"/>
                    <a:pt x="26" y="159"/>
                  </a:cubicBezTo>
                  <a:close/>
                </a:path>
              </a:pathLst>
            </a:custGeom>
            <a:solidFill>
              <a:srgbClr val="c49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Google Shape;786;p30"/>
            <p:cNvSpPr/>
            <p:nvPr/>
          </p:nvSpPr>
          <p:spPr>
            <a:xfrm>
              <a:off x="762120" y="5861160"/>
              <a:ext cx="266400" cy="450720"/>
            </a:xfrm>
            <a:custGeom>
              <a:avLst/>
              <a:gdLst/>
              <a:ahLst/>
              <a:rect l="l" t="t" r="r" b="b"/>
              <a:pathLst>
                <a:path w="115" h="262">
                  <a:moveTo>
                    <a:pt x="115" y="86"/>
                  </a:moveTo>
                  <a:cubicBezTo>
                    <a:pt x="115" y="86"/>
                    <a:pt x="115" y="86"/>
                    <a:pt x="115" y="86"/>
                  </a:cubicBezTo>
                  <a:cubicBezTo>
                    <a:pt x="115" y="86"/>
                    <a:pt x="85" y="42"/>
                    <a:pt x="59" y="25"/>
                  </a:cubicBezTo>
                  <a:cubicBezTo>
                    <a:pt x="20" y="0"/>
                    <a:pt x="0" y="13"/>
                    <a:pt x="0" y="13"/>
                  </a:cubicBezTo>
                  <a:cubicBezTo>
                    <a:pt x="16" y="251"/>
                    <a:pt x="16" y="251"/>
                    <a:pt x="16" y="251"/>
                  </a:cubicBezTo>
                  <a:cubicBezTo>
                    <a:pt x="29" y="253"/>
                    <a:pt x="42" y="256"/>
                    <a:pt x="55" y="262"/>
                  </a:cubicBezTo>
                  <a:lnTo>
                    <a:pt x="115" y="86"/>
                  </a:lnTo>
                  <a:close/>
                </a:path>
              </a:pathLst>
            </a:custGeom>
            <a:solidFill>
              <a:srgbClr val="e3c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Google Shape;787;p30"/>
            <p:cNvSpPr/>
            <p:nvPr/>
          </p:nvSpPr>
          <p:spPr>
            <a:xfrm>
              <a:off x="888840" y="5994360"/>
              <a:ext cx="403200" cy="360360"/>
            </a:xfrm>
            <a:custGeom>
              <a:avLst/>
              <a:gdLst/>
              <a:ahLst/>
              <a:rect l="l" t="t" r="r" b="b"/>
              <a:pathLst>
                <a:path w="174" h="210">
                  <a:moveTo>
                    <a:pt x="0" y="185"/>
                  </a:moveTo>
                  <a:cubicBezTo>
                    <a:pt x="7" y="188"/>
                    <a:pt x="14" y="191"/>
                    <a:pt x="21" y="196"/>
                  </a:cubicBezTo>
                  <a:cubicBezTo>
                    <a:pt x="28" y="200"/>
                    <a:pt x="34" y="205"/>
                    <a:pt x="40" y="210"/>
                  </a:cubicBezTo>
                  <a:cubicBezTo>
                    <a:pt x="174" y="82"/>
                    <a:pt x="174" y="82"/>
                    <a:pt x="174" y="82"/>
                  </a:cubicBezTo>
                  <a:cubicBezTo>
                    <a:pt x="174" y="82"/>
                    <a:pt x="167" y="46"/>
                    <a:pt x="131" y="23"/>
                  </a:cubicBezTo>
                  <a:cubicBezTo>
                    <a:pt x="95" y="0"/>
                    <a:pt x="60" y="9"/>
                    <a:pt x="60" y="9"/>
                  </a:cubicBezTo>
                  <a:cubicBezTo>
                    <a:pt x="60" y="9"/>
                    <a:pt x="60" y="9"/>
                    <a:pt x="60" y="9"/>
                  </a:cubicBezTo>
                  <a:lnTo>
                    <a:pt x="0" y="185"/>
                  </a:lnTo>
                  <a:close/>
                </a:path>
              </a:pathLst>
            </a:custGeom>
            <a:solidFill>
              <a:srgbClr val="d6a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Google Shape;788;p30"/>
            <p:cNvSpPr/>
            <p:nvPr/>
          </p:nvSpPr>
          <p:spPr>
            <a:xfrm>
              <a:off x="798480" y="6292800"/>
              <a:ext cx="244440" cy="1792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7" y="105"/>
                  </a:moveTo>
                  <a:cubicBezTo>
                    <a:pt x="105" y="67"/>
                    <a:pt x="105" y="67"/>
                    <a:pt x="105" y="67"/>
                  </a:cubicBezTo>
                  <a:cubicBezTo>
                    <a:pt x="98" y="56"/>
                    <a:pt x="89" y="45"/>
                    <a:pt x="79" y="36"/>
                  </a:cubicBezTo>
                  <a:cubicBezTo>
                    <a:pt x="79" y="36"/>
                    <a:pt x="79" y="36"/>
                    <a:pt x="79" y="36"/>
                  </a:cubicBezTo>
                  <a:cubicBezTo>
                    <a:pt x="73" y="31"/>
                    <a:pt x="67" y="26"/>
                    <a:pt x="60" y="22"/>
                  </a:cubicBezTo>
                  <a:cubicBezTo>
                    <a:pt x="53" y="17"/>
                    <a:pt x="46" y="14"/>
                    <a:pt x="39" y="11"/>
                  </a:cubicBezTo>
                  <a:cubicBezTo>
                    <a:pt x="39" y="11"/>
                    <a:pt x="39" y="11"/>
                    <a:pt x="39" y="11"/>
                  </a:cubicBezTo>
                  <a:cubicBezTo>
                    <a:pt x="26" y="5"/>
                    <a:pt x="13" y="2"/>
                    <a:pt x="0" y="0"/>
                  </a:cubicBezTo>
                  <a:cubicBezTo>
                    <a:pt x="7" y="105"/>
                    <a:pt x="7" y="105"/>
                    <a:pt x="7" y="105"/>
                  </a:cubicBezTo>
                  <a:cubicBezTo>
                    <a:pt x="7" y="105"/>
                    <a:pt x="7" y="105"/>
                    <a:pt x="7" y="105"/>
                  </a:cubicBezTo>
                  <a:cubicBezTo>
                    <a:pt x="7" y="105"/>
                    <a:pt x="7" y="105"/>
                    <a:pt x="7" y="105"/>
                  </a:cubicBezTo>
                  <a:cubicBezTo>
                    <a:pt x="7" y="105"/>
                    <a:pt x="7" y="105"/>
                    <a:pt x="7" y="105"/>
                  </a:cubicBezTo>
                  <a:cubicBezTo>
                    <a:pt x="7" y="105"/>
                    <a:pt x="7" y="105"/>
                    <a:pt x="7" y="105"/>
                  </a:cubicBezTo>
                  <a:cubicBezTo>
                    <a:pt x="7" y="105"/>
                    <a:pt x="7" y="105"/>
                    <a:pt x="7" y="105"/>
                  </a:cubicBezTo>
                  <a:cubicBezTo>
                    <a:pt x="7" y="105"/>
                    <a:pt x="7" y="105"/>
                    <a:pt x="7" y="105"/>
                  </a:cubicBezTo>
                  <a:cubicBezTo>
                    <a:pt x="7" y="105"/>
                    <a:pt x="7" y="105"/>
                    <a:pt x="7" y="105"/>
                  </a:cubicBezTo>
                  <a:cubicBezTo>
                    <a:pt x="7" y="105"/>
                    <a:pt x="7" y="105"/>
                    <a:pt x="7" y="10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Google Shape;789;p30"/>
            <p:cNvSpPr/>
            <p:nvPr/>
          </p:nvSpPr>
          <p:spPr>
            <a:xfrm>
              <a:off x="2441520" y="3873240"/>
              <a:ext cx="849240" cy="442800"/>
            </a:xfrm>
            <a:custGeom>
              <a:avLst/>
              <a:gdLst/>
              <a:ahLst/>
              <a:rect l="l" t="t" r="r" b="b"/>
              <a:pathLst>
                <a:path w="836" h="589">
                  <a:moveTo>
                    <a:pt x="836" y="500"/>
                  </a:moveTo>
                  <a:lnTo>
                    <a:pt x="54" y="0"/>
                  </a:lnTo>
                  <a:lnTo>
                    <a:pt x="0" y="87"/>
                  </a:lnTo>
                  <a:lnTo>
                    <a:pt x="782" y="589"/>
                  </a:lnTo>
                  <a:lnTo>
                    <a:pt x="836" y="50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Google Shape;796;p30"/>
          <p:cNvSpPr/>
          <p:nvPr/>
        </p:nvSpPr>
        <p:spPr>
          <a:xfrm>
            <a:off x="1449360" y="3313080"/>
            <a:ext cx="835200" cy="560520"/>
          </a:xfrm>
          <a:custGeom>
            <a:avLst/>
            <a:gdLst/>
            <a:ahLst/>
            <a:rect l="l" t="t" r="r" b="b"/>
            <a:pathLst>
              <a:path w="231" h="155">
                <a:moveTo>
                  <a:pt x="184" y="15"/>
                </a:moveTo>
                <a:cubicBezTo>
                  <a:pt x="205" y="69"/>
                  <a:pt x="205" y="69"/>
                  <a:pt x="205" y="69"/>
                </a:cubicBezTo>
                <a:cubicBezTo>
                  <a:pt x="178" y="80"/>
                  <a:pt x="178" y="80"/>
                  <a:pt x="178" y="80"/>
                </a:cubicBezTo>
                <a:cubicBezTo>
                  <a:pt x="164" y="68"/>
                  <a:pt x="121" y="31"/>
                  <a:pt x="117" y="30"/>
                </a:cubicBezTo>
                <a:cubicBezTo>
                  <a:pt x="114" y="30"/>
                  <a:pt x="101" y="35"/>
                  <a:pt x="99" y="36"/>
                </a:cubicBezTo>
                <a:cubicBezTo>
                  <a:pt x="99" y="36"/>
                  <a:pt x="91" y="38"/>
                  <a:pt x="84" y="38"/>
                </a:cubicBezTo>
                <a:cubicBezTo>
                  <a:pt x="80" y="38"/>
                  <a:pt x="78" y="37"/>
                  <a:pt x="76" y="36"/>
                </a:cubicBezTo>
                <a:cubicBezTo>
                  <a:pt x="74" y="35"/>
                  <a:pt x="73" y="34"/>
                  <a:pt x="74" y="33"/>
                </a:cubicBezTo>
                <a:cubicBezTo>
                  <a:pt x="74" y="30"/>
                  <a:pt x="77" y="27"/>
                  <a:pt x="78" y="26"/>
                </a:cubicBezTo>
                <a:cubicBezTo>
                  <a:pt x="90" y="20"/>
                  <a:pt x="120" y="8"/>
                  <a:pt x="124" y="8"/>
                </a:cubicBezTo>
                <a:cubicBezTo>
                  <a:pt x="124" y="8"/>
                  <a:pt x="124" y="8"/>
                  <a:pt x="124" y="8"/>
                </a:cubicBezTo>
                <a:cubicBezTo>
                  <a:pt x="131" y="8"/>
                  <a:pt x="178" y="14"/>
                  <a:pt x="184" y="15"/>
                </a:cubicBezTo>
                <a:close/>
                <a:moveTo>
                  <a:pt x="203" y="0"/>
                </a:moveTo>
                <a:cubicBezTo>
                  <a:pt x="202" y="0"/>
                  <a:pt x="201" y="0"/>
                  <a:pt x="201" y="1"/>
                </a:cubicBezTo>
                <a:cubicBezTo>
                  <a:pt x="192" y="4"/>
                  <a:pt x="192" y="4"/>
                  <a:pt x="192" y="4"/>
                </a:cubicBezTo>
                <a:cubicBezTo>
                  <a:pt x="190" y="5"/>
                  <a:pt x="189" y="6"/>
                  <a:pt x="188" y="7"/>
                </a:cubicBezTo>
                <a:cubicBezTo>
                  <a:pt x="188" y="9"/>
                  <a:pt x="188" y="10"/>
                  <a:pt x="188" y="12"/>
                </a:cubicBezTo>
                <a:cubicBezTo>
                  <a:pt x="211" y="68"/>
                  <a:pt x="211" y="68"/>
                  <a:pt x="211" y="68"/>
                </a:cubicBezTo>
                <a:cubicBezTo>
                  <a:pt x="212" y="71"/>
                  <a:pt x="215" y="73"/>
                  <a:pt x="218" y="72"/>
                </a:cubicBezTo>
                <a:cubicBezTo>
                  <a:pt x="227" y="68"/>
                  <a:pt x="227" y="68"/>
                  <a:pt x="227" y="68"/>
                </a:cubicBezTo>
                <a:cubicBezTo>
                  <a:pt x="229" y="67"/>
                  <a:pt x="230" y="66"/>
                  <a:pt x="231" y="65"/>
                </a:cubicBezTo>
                <a:cubicBezTo>
                  <a:pt x="231" y="63"/>
                  <a:pt x="231" y="62"/>
                  <a:pt x="231" y="60"/>
                </a:cubicBezTo>
                <a:cubicBezTo>
                  <a:pt x="208" y="4"/>
                  <a:pt x="208" y="4"/>
                  <a:pt x="208" y="4"/>
                </a:cubicBezTo>
                <a:cubicBezTo>
                  <a:pt x="207" y="2"/>
                  <a:pt x="205" y="0"/>
                  <a:pt x="203" y="0"/>
                </a:cubicBezTo>
                <a:close/>
                <a:moveTo>
                  <a:pt x="0" y="77"/>
                </a:moveTo>
                <a:cubicBezTo>
                  <a:pt x="0" y="79"/>
                  <a:pt x="0" y="81"/>
                  <a:pt x="1" y="82"/>
                </a:cubicBezTo>
                <a:cubicBezTo>
                  <a:pt x="2" y="83"/>
                  <a:pt x="4" y="84"/>
                  <a:pt x="5" y="84"/>
                </a:cubicBezTo>
                <a:cubicBezTo>
                  <a:pt x="15" y="85"/>
                  <a:pt x="15" y="85"/>
                  <a:pt x="15" y="85"/>
                </a:cubicBezTo>
                <a:cubicBezTo>
                  <a:pt x="18" y="85"/>
                  <a:pt x="21" y="82"/>
                  <a:pt x="21" y="79"/>
                </a:cubicBezTo>
                <a:cubicBezTo>
                  <a:pt x="26" y="16"/>
                  <a:pt x="26" y="16"/>
                  <a:pt x="26" y="16"/>
                </a:cubicBezTo>
                <a:cubicBezTo>
                  <a:pt x="26" y="14"/>
                  <a:pt x="26" y="13"/>
                  <a:pt x="25" y="11"/>
                </a:cubicBezTo>
                <a:cubicBezTo>
                  <a:pt x="24" y="10"/>
                  <a:pt x="22" y="9"/>
                  <a:pt x="21" y="9"/>
                </a:cubicBezTo>
                <a:cubicBezTo>
                  <a:pt x="11" y="9"/>
                  <a:pt x="11" y="9"/>
                  <a:pt x="11" y="9"/>
                </a:cubicBezTo>
                <a:cubicBezTo>
                  <a:pt x="11" y="9"/>
                  <a:pt x="11" y="9"/>
                  <a:pt x="11" y="9"/>
                </a:cubicBezTo>
                <a:cubicBezTo>
                  <a:pt x="7" y="9"/>
                  <a:pt x="5" y="11"/>
                  <a:pt x="5" y="14"/>
                </a:cubicBezTo>
                <a:lnTo>
                  <a:pt x="0" y="77"/>
                </a:lnTo>
                <a:close/>
                <a:moveTo>
                  <a:pt x="95" y="134"/>
                </a:moveTo>
                <a:cubicBezTo>
                  <a:pt x="94" y="132"/>
                  <a:pt x="93" y="130"/>
                  <a:pt x="91" y="128"/>
                </a:cubicBezTo>
                <a:cubicBezTo>
                  <a:pt x="87" y="125"/>
                  <a:pt x="83" y="125"/>
                  <a:pt x="80" y="130"/>
                </a:cubicBezTo>
                <a:cubicBezTo>
                  <a:pt x="75" y="135"/>
                  <a:pt x="75" y="135"/>
                  <a:pt x="75" y="135"/>
                </a:cubicBezTo>
                <a:cubicBezTo>
                  <a:pt x="75" y="136"/>
                  <a:pt x="75" y="136"/>
                  <a:pt x="75" y="136"/>
                </a:cubicBezTo>
                <a:cubicBezTo>
                  <a:pt x="71" y="140"/>
                  <a:pt x="71" y="140"/>
                  <a:pt x="71" y="140"/>
                </a:cubicBezTo>
                <a:cubicBezTo>
                  <a:pt x="66" y="146"/>
                  <a:pt x="71" y="151"/>
                  <a:pt x="72" y="153"/>
                </a:cubicBezTo>
                <a:cubicBezTo>
                  <a:pt x="74" y="154"/>
                  <a:pt x="76" y="155"/>
                  <a:pt x="78" y="155"/>
                </a:cubicBezTo>
                <a:cubicBezTo>
                  <a:pt x="80" y="155"/>
                  <a:pt x="82" y="154"/>
                  <a:pt x="84" y="151"/>
                </a:cubicBezTo>
                <a:cubicBezTo>
                  <a:pt x="90" y="143"/>
                  <a:pt x="90" y="143"/>
                  <a:pt x="90" y="143"/>
                </a:cubicBezTo>
                <a:cubicBezTo>
                  <a:pt x="90" y="143"/>
                  <a:pt x="90" y="143"/>
                  <a:pt x="90" y="143"/>
                </a:cubicBezTo>
                <a:cubicBezTo>
                  <a:pt x="93" y="141"/>
                  <a:pt x="93" y="141"/>
                  <a:pt x="93" y="141"/>
                </a:cubicBezTo>
                <a:cubicBezTo>
                  <a:pt x="95" y="138"/>
                  <a:pt x="95" y="136"/>
                  <a:pt x="95" y="134"/>
                </a:cubicBezTo>
                <a:close/>
                <a:moveTo>
                  <a:pt x="50" y="130"/>
                </a:moveTo>
                <a:cubicBezTo>
                  <a:pt x="47" y="134"/>
                  <a:pt x="47" y="137"/>
                  <a:pt x="52" y="141"/>
                </a:cubicBezTo>
                <a:cubicBezTo>
                  <a:pt x="56" y="145"/>
                  <a:pt x="61" y="144"/>
                  <a:pt x="64" y="140"/>
                </a:cubicBezTo>
                <a:cubicBezTo>
                  <a:pt x="75" y="127"/>
                  <a:pt x="75" y="127"/>
                  <a:pt x="75" y="127"/>
                </a:cubicBezTo>
                <a:cubicBezTo>
                  <a:pt x="80" y="120"/>
                  <a:pt x="75" y="116"/>
                  <a:pt x="74" y="114"/>
                </a:cubicBezTo>
                <a:cubicBezTo>
                  <a:pt x="70" y="111"/>
                  <a:pt x="66" y="111"/>
                  <a:pt x="62" y="116"/>
                </a:cubicBezTo>
                <a:cubicBezTo>
                  <a:pt x="56" y="123"/>
                  <a:pt x="56" y="123"/>
                  <a:pt x="56" y="123"/>
                </a:cubicBezTo>
                <a:cubicBezTo>
                  <a:pt x="56" y="123"/>
                  <a:pt x="56" y="123"/>
                  <a:pt x="56" y="123"/>
                </a:cubicBezTo>
                <a:cubicBezTo>
                  <a:pt x="55" y="124"/>
                  <a:pt x="55" y="124"/>
                  <a:pt x="55" y="124"/>
                </a:cubicBezTo>
                <a:lnTo>
                  <a:pt x="50" y="130"/>
                </a:lnTo>
                <a:close/>
                <a:moveTo>
                  <a:pt x="34" y="114"/>
                </a:moveTo>
                <a:cubicBezTo>
                  <a:pt x="32" y="116"/>
                  <a:pt x="31" y="119"/>
                  <a:pt x="32" y="121"/>
                </a:cubicBezTo>
                <a:cubicBezTo>
                  <a:pt x="32" y="123"/>
                  <a:pt x="33" y="125"/>
                  <a:pt x="35" y="127"/>
                </a:cubicBezTo>
                <a:cubicBezTo>
                  <a:pt x="39" y="130"/>
                  <a:pt x="44" y="129"/>
                  <a:pt x="47" y="125"/>
                </a:cubicBezTo>
                <a:cubicBezTo>
                  <a:pt x="59" y="111"/>
                  <a:pt x="59" y="111"/>
                  <a:pt x="59" y="111"/>
                </a:cubicBezTo>
                <a:cubicBezTo>
                  <a:pt x="61" y="108"/>
                  <a:pt x="62" y="106"/>
                  <a:pt x="61" y="104"/>
                </a:cubicBezTo>
                <a:cubicBezTo>
                  <a:pt x="61" y="102"/>
                  <a:pt x="60" y="100"/>
                  <a:pt x="58" y="98"/>
                </a:cubicBezTo>
                <a:cubicBezTo>
                  <a:pt x="54" y="95"/>
                  <a:pt x="50" y="95"/>
                  <a:pt x="46" y="100"/>
                </a:cubicBezTo>
                <a:cubicBezTo>
                  <a:pt x="40" y="107"/>
                  <a:pt x="40" y="107"/>
                  <a:pt x="40" y="107"/>
                </a:cubicBezTo>
                <a:cubicBezTo>
                  <a:pt x="40" y="107"/>
                  <a:pt x="40" y="107"/>
                  <a:pt x="40" y="107"/>
                </a:cubicBezTo>
                <a:cubicBezTo>
                  <a:pt x="39" y="108"/>
                  <a:pt x="39" y="108"/>
                  <a:pt x="39" y="108"/>
                </a:cubicBezTo>
                <a:lnTo>
                  <a:pt x="34" y="114"/>
                </a:lnTo>
                <a:close/>
                <a:moveTo>
                  <a:pt x="31" y="109"/>
                </a:moveTo>
                <a:cubicBezTo>
                  <a:pt x="43" y="95"/>
                  <a:pt x="43" y="95"/>
                  <a:pt x="43" y="95"/>
                </a:cubicBezTo>
                <a:cubicBezTo>
                  <a:pt x="48" y="89"/>
                  <a:pt x="43" y="84"/>
                  <a:pt x="42" y="82"/>
                </a:cubicBezTo>
                <a:cubicBezTo>
                  <a:pt x="38" y="79"/>
                  <a:pt x="34" y="80"/>
                  <a:pt x="30" y="84"/>
                </a:cubicBezTo>
                <a:cubicBezTo>
                  <a:pt x="26" y="89"/>
                  <a:pt x="26" y="89"/>
                  <a:pt x="26" y="89"/>
                </a:cubicBezTo>
                <a:cubicBezTo>
                  <a:pt x="26" y="89"/>
                  <a:pt x="26" y="89"/>
                  <a:pt x="26" y="89"/>
                </a:cubicBezTo>
                <a:cubicBezTo>
                  <a:pt x="26" y="90"/>
                  <a:pt x="26" y="90"/>
                  <a:pt x="26" y="90"/>
                </a:cubicBezTo>
                <a:cubicBezTo>
                  <a:pt x="20" y="96"/>
                  <a:pt x="20" y="96"/>
                  <a:pt x="20" y="96"/>
                </a:cubicBezTo>
                <a:cubicBezTo>
                  <a:pt x="18" y="98"/>
                  <a:pt x="17" y="101"/>
                  <a:pt x="17" y="103"/>
                </a:cubicBezTo>
                <a:cubicBezTo>
                  <a:pt x="18" y="105"/>
                  <a:pt x="19" y="107"/>
                  <a:pt x="20" y="108"/>
                </a:cubicBezTo>
                <a:cubicBezTo>
                  <a:pt x="22" y="109"/>
                  <a:pt x="24" y="111"/>
                  <a:pt x="27" y="111"/>
                </a:cubicBezTo>
                <a:cubicBezTo>
                  <a:pt x="28" y="111"/>
                  <a:pt x="30" y="110"/>
                  <a:pt x="31" y="109"/>
                </a:cubicBezTo>
                <a:close/>
                <a:moveTo>
                  <a:pt x="175" y="97"/>
                </a:moveTo>
                <a:cubicBezTo>
                  <a:pt x="178" y="93"/>
                  <a:pt x="180" y="89"/>
                  <a:pt x="174" y="84"/>
                </a:cubicBezTo>
                <a:cubicBezTo>
                  <a:pt x="170" y="80"/>
                  <a:pt x="170" y="80"/>
                  <a:pt x="170" y="80"/>
                </a:cubicBezTo>
                <a:cubicBezTo>
                  <a:pt x="148" y="61"/>
                  <a:pt x="122" y="40"/>
                  <a:pt x="117" y="36"/>
                </a:cubicBezTo>
                <a:cubicBezTo>
                  <a:pt x="114" y="37"/>
                  <a:pt x="107" y="39"/>
                  <a:pt x="101" y="41"/>
                </a:cubicBezTo>
                <a:cubicBezTo>
                  <a:pt x="101" y="41"/>
                  <a:pt x="101" y="41"/>
                  <a:pt x="101" y="41"/>
                </a:cubicBezTo>
                <a:cubicBezTo>
                  <a:pt x="100" y="41"/>
                  <a:pt x="92" y="44"/>
                  <a:pt x="84" y="44"/>
                </a:cubicBezTo>
                <a:cubicBezTo>
                  <a:pt x="79" y="44"/>
                  <a:pt x="76" y="43"/>
                  <a:pt x="73" y="41"/>
                </a:cubicBezTo>
                <a:cubicBezTo>
                  <a:pt x="68" y="38"/>
                  <a:pt x="68" y="34"/>
                  <a:pt x="68" y="32"/>
                </a:cubicBezTo>
                <a:cubicBezTo>
                  <a:pt x="68" y="27"/>
                  <a:pt x="72" y="23"/>
                  <a:pt x="75" y="21"/>
                </a:cubicBezTo>
                <a:cubicBezTo>
                  <a:pt x="31" y="16"/>
                  <a:pt x="31" y="16"/>
                  <a:pt x="31" y="16"/>
                </a:cubicBezTo>
                <a:cubicBezTo>
                  <a:pt x="27" y="79"/>
                  <a:pt x="27" y="79"/>
                  <a:pt x="27" y="79"/>
                </a:cubicBezTo>
                <a:cubicBezTo>
                  <a:pt x="30" y="76"/>
                  <a:pt x="34" y="75"/>
                  <a:pt x="37" y="75"/>
                </a:cubicBezTo>
                <a:cubicBezTo>
                  <a:pt x="40" y="75"/>
                  <a:pt x="43" y="76"/>
                  <a:pt x="45" y="78"/>
                </a:cubicBezTo>
                <a:cubicBezTo>
                  <a:pt x="49" y="82"/>
                  <a:pt x="51" y="86"/>
                  <a:pt x="51" y="91"/>
                </a:cubicBezTo>
                <a:cubicBezTo>
                  <a:pt x="54" y="90"/>
                  <a:pt x="58" y="91"/>
                  <a:pt x="61" y="94"/>
                </a:cubicBezTo>
                <a:cubicBezTo>
                  <a:pt x="65" y="98"/>
                  <a:pt x="67" y="102"/>
                  <a:pt x="67" y="107"/>
                </a:cubicBezTo>
                <a:cubicBezTo>
                  <a:pt x="70" y="106"/>
                  <a:pt x="74" y="107"/>
                  <a:pt x="77" y="110"/>
                </a:cubicBezTo>
                <a:cubicBezTo>
                  <a:pt x="81" y="113"/>
                  <a:pt x="83" y="117"/>
                  <a:pt x="83" y="121"/>
                </a:cubicBezTo>
                <a:cubicBezTo>
                  <a:pt x="87" y="120"/>
                  <a:pt x="91" y="121"/>
                  <a:pt x="95" y="124"/>
                </a:cubicBezTo>
                <a:cubicBezTo>
                  <a:pt x="100" y="128"/>
                  <a:pt x="102" y="134"/>
                  <a:pt x="100" y="139"/>
                </a:cubicBezTo>
                <a:cubicBezTo>
                  <a:pt x="103" y="142"/>
                  <a:pt x="103" y="142"/>
                  <a:pt x="103" y="142"/>
                </a:cubicBezTo>
                <a:cubicBezTo>
                  <a:pt x="104" y="143"/>
                  <a:pt x="104" y="143"/>
                  <a:pt x="104" y="143"/>
                </a:cubicBezTo>
                <a:cubicBezTo>
                  <a:pt x="104" y="143"/>
                  <a:pt x="104" y="143"/>
                  <a:pt x="104" y="143"/>
                </a:cubicBezTo>
                <a:cubicBezTo>
                  <a:pt x="106" y="144"/>
                  <a:pt x="108" y="145"/>
                  <a:pt x="109" y="145"/>
                </a:cubicBezTo>
                <a:cubicBezTo>
                  <a:pt x="112" y="145"/>
                  <a:pt x="114" y="143"/>
                  <a:pt x="115" y="141"/>
                </a:cubicBezTo>
                <a:cubicBezTo>
                  <a:pt x="118" y="138"/>
                  <a:pt x="119" y="136"/>
                  <a:pt x="116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96" y="115"/>
                  <a:pt x="96" y="115"/>
                  <a:pt x="96" y="115"/>
                </a:cubicBezTo>
                <a:cubicBezTo>
                  <a:pt x="95" y="115"/>
                  <a:pt x="95" y="114"/>
                  <a:pt x="95" y="113"/>
                </a:cubicBezTo>
                <a:cubicBezTo>
                  <a:pt x="95" y="112"/>
                  <a:pt x="95" y="112"/>
                  <a:pt x="96" y="111"/>
                </a:cubicBezTo>
                <a:cubicBezTo>
                  <a:pt x="97" y="110"/>
                  <a:pt x="99" y="110"/>
                  <a:pt x="100" y="111"/>
                </a:cubicBezTo>
                <a:cubicBezTo>
                  <a:pt x="126" y="132"/>
                  <a:pt x="126" y="132"/>
                  <a:pt x="126" y="132"/>
                </a:cubicBezTo>
                <a:cubicBezTo>
                  <a:pt x="127" y="133"/>
                  <a:pt x="129" y="134"/>
                  <a:pt x="130" y="134"/>
                </a:cubicBezTo>
                <a:cubicBezTo>
                  <a:pt x="133" y="134"/>
                  <a:pt x="135" y="132"/>
                  <a:pt x="137" y="130"/>
                </a:cubicBezTo>
                <a:cubicBezTo>
                  <a:pt x="139" y="128"/>
                  <a:pt x="139" y="126"/>
                  <a:pt x="139" y="124"/>
                </a:cubicBezTo>
                <a:cubicBezTo>
                  <a:pt x="139" y="121"/>
                  <a:pt x="138" y="119"/>
                  <a:pt x="135" y="117"/>
                </a:cubicBezTo>
                <a:cubicBezTo>
                  <a:pt x="132" y="115"/>
                  <a:pt x="132" y="115"/>
                  <a:pt x="132" y="115"/>
                </a:cubicBezTo>
                <a:cubicBezTo>
                  <a:pt x="132" y="115"/>
                  <a:pt x="132" y="115"/>
                  <a:pt x="132" y="115"/>
                </a:cubicBezTo>
                <a:cubicBezTo>
                  <a:pt x="118" y="103"/>
                  <a:pt x="118" y="103"/>
                  <a:pt x="118" y="103"/>
                </a:cubicBezTo>
                <a:cubicBezTo>
                  <a:pt x="117" y="103"/>
                  <a:pt x="117" y="102"/>
                  <a:pt x="117" y="101"/>
                </a:cubicBezTo>
                <a:cubicBezTo>
                  <a:pt x="117" y="100"/>
                  <a:pt x="117" y="100"/>
                  <a:pt x="118" y="99"/>
                </a:cubicBezTo>
                <a:cubicBezTo>
                  <a:pt x="119" y="98"/>
                  <a:pt x="121" y="97"/>
                  <a:pt x="122" y="99"/>
                </a:cubicBezTo>
                <a:cubicBezTo>
                  <a:pt x="145" y="118"/>
                  <a:pt x="145" y="118"/>
                  <a:pt x="145" y="118"/>
                </a:cubicBezTo>
                <a:cubicBezTo>
                  <a:pt x="147" y="119"/>
                  <a:pt x="149" y="120"/>
                  <a:pt x="151" y="120"/>
                </a:cubicBezTo>
                <a:cubicBezTo>
                  <a:pt x="154" y="120"/>
                  <a:pt x="157" y="118"/>
                  <a:pt x="159" y="115"/>
                </a:cubicBezTo>
                <a:cubicBezTo>
                  <a:pt x="160" y="113"/>
                  <a:pt x="161" y="111"/>
                  <a:pt x="161" y="109"/>
                </a:cubicBezTo>
                <a:cubicBezTo>
                  <a:pt x="161" y="107"/>
                  <a:pt x="160" y="105"/>
                  <a:pt x="157" y="103"/>
                </a:cubicBezTo>
                <a:cubicBezTo>
                  <a:pt x="150" y="97"/>
                  <a:pt x="150" y="97"/>
                  <a:pt x="150" y="97"/>
                </a:cubicBezTo>
                <a:cubicBezTo>
                  <a:pt x="150" y="97"/>
                  <a:pt x="150" y="97"/>
                  <a:pt x="150" y="97"/>
                </a:cubicBezTo>
                <a:cubicBezTo>
                  <a:pt x="138" y="87"/>
                  <a:pt x="138" y="87"/>
                  <a:pt x="138" y="87"/>
                </a:cubicBezTo>
                <a:cubicBezTo>
                  <a:pt x="137" y="86"/>
                  <a:pt x="137" y="84"/>
                  <a:pt x="138" y="83"/>
                </a:cubicBezTo>
                <a:cubicBezTo>
                  <a:pt x="139" y="82"/>
                  <a:pt x="141" y="82"/>
                  <a:pt x="142" y="83"/>
                </a:cubicBezTo>
                <a:cubicBezTo>
                  <a:pt x="162" y="99"/>
                  <a:pt x="162" y="99"/>
                  <a:pt x="162" y="99"/>
                </a:cubicBezTo>
                <a:cubicBezTo>
                  <a:pt x="166" y="102"/>
                  <a:pt x="171" y="101"/>
                  <a:pt x="175" y="97"/>
                </a:cubicBezTo>
                <a:close/>
              </a:path>
            </a:pathLst>
          </a:custGeom>
          <a:solidFill>
            <a:srgbClr val="ffb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Google Shape;801;p30"/>
          <p:cNvSpPr/>
          <p:nvPr/>
        </p:nvSpPr>
        <p:spPr>
          <a:xfrm>
            <a:off x="2573280" y="5165640"/>
            <a:ext cx="650880" cy="584280"/>
          </a:xfrm>
          <a:custGeom>
            <a:avLst/>
            <a:gdLst/>
            <a:ahLst/>
            <a:rect l="l" t="t" r="r" b="b"/>
            <a:pathLst>
              <a:path w="180" h="161">
                <a:moveTo>
                  <a:pt x="123" y="21"/>
                </a:moveTo>
                <a:cubicBezTo>
                  <a:pt x="112" y="21"/>
                  <a:pt x="112" y="21"/>
                  <a:pt x="112" y="21"/>
                </a:cubicBezTo>
                <a:cubicBezTo>
                  <a:pt x="111" y="15"/>
                  <a:pt x="106" y="10"/>
                  <a:pt x="100" y="10"/>
                </a:cubicBezTo>
                <a:cubicBezTo>
                  <a:pt x="80" y="10"/>
                  <a:pt x="80" y="10"/>
                  <a:pt x="80" y="10"/>
                </a:cubicBezTo>
                <a:cubicBezTo>
                  <a:pt x="74" y="10"/>
                  <a:pt x="69" y="15"/>
                  <a:pt x="69" y="21"/>
                </a:cubicBezTo>
                <a:cubicBezTo>
                  <a:pt x="58" y="21"/>
                  <a:pt x="58" y="21"/>
                  <a:pt x="58" y="21"/>
                </a:cubicBezTo>
                <a:cubicBezTo>
                  <a:pt x="58" y="9"/>
                  <a:pt x="67" y="0"/>
                  <a:pt x="77" y="0"/>
                </a:cubicBezTo>
                <a:cubicBezTo>
                  <a:pt x="103" y="0"/>
                  <a:pt x="103" y="0"/>
                  <a:pt x="103" y="0"/>
                </a:cubicBezTo>
                <a:cubicBezTo>
                  <a:pt x="113" y="0"/>
                  <a:pt x="122" y="9"/>
                  <a:pt x="123" y="21"/>
                </a:cubicBezTo>
                <a:close/>
                <a:moveTo>
                  <a:pt x="28" y="89"/>
                </a:moveTo>
                <a:cubicBezTo>
                  <a:pt x="73" y="89"/>
                  <a:pt x="73" y="89"/>
                  <a:pt x="73" y="89"/>
                </a:cubicBezTo>
                <a:cubicBezTo>
                  <a:pt x="73" y="83"/>
                  <a:pt x="73" y="83"/>
                  <a:pt x="73" y="83"/>
                </a:cubicBezTo>
                <a:cubicBezTo>
                  <a:pt x="73" y="78"/>
                  <a:pt x="77" y="74"/>
                  <a:pt x="81" y="74"/>
                </a:cubicBezTo>
                <a:cubicBezTo>
                  <a:pt x="99" y="74"/>
                  <a:pt x="99" y="74"/>
                  <a:pt x="99" y="74"/>
                </a:cubicBezTo>
                <a:cubicBezTo>
                  <a:pt x="104" y="74"/>
                  <a:pt x="108" y="78"/>
                  <a:pt x="108" y="83"/>
                </a:cubicBezTo>
                <a:cubicBezTo>
                  <a:pt x="108" y="89"/>
                  <a:pt x="108" y="89"/>
                  <a:pt x="108" y="89"/>
                </a:cubicBezTo>
                <a:cubicBezTo>
                  <a:pt x="153" y="89"/>
                  <a:pt x="153" y="89"/>
                  <a:pt x="153" y="89"/>
                </a:cubicBezTo>
                <a:cubicBezTo>
                  <a:pt x="166" y="89"/>
                  <a:pt x="178" y="78"/>
                  <a:pt x="180" y="64"/>
                </a:cubicBezTo>
                <a:cubicBezTo>
                  <a:pt x="180" y="50"/>
                  <a:pt x="180" y="50"/>
                  <a:pt x="180" y="50"/>
                </a:cubicBezTo>
                <a:cubicBezTo>
                  <a:pt x="180" y="37"/>
                  <a:pt x="171" y="26"/>
                  <a:pt x="159" y="26"/>
                </a:cubicBezTo>
                <a:cubicBezTo>
                  <a:pt x="149" y="26"/>
                  <a:pt x="149" y="26"/>
                  <a:pt x="149" y="26"/>
                </a:cubicBezTo>
                <a:cubicBezTo>
                  <a:pt x="144" y="26"/>
                  <a:pt x="144" y="26"/>
                  <a:pt x="144" y="26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29" y="26"/>
                  <a:pt x="129" y="26"/>
                  <a:pt x="129" y="26"/>
                </a:cubicBezTo>
                <a:cubicBezTo>
                  <a:pt x="123" y="26"/>
                  <a:pt x="123" y="26"/>
                  <a:pt x="123" y="26"/>
                </a:cubicBezTo>
                <a:cubicBezTo>
                  <a:pt x="111" y="26"/>
                  <a:pt x="111" y="26"/>
                  <a:pt x="111" y="26"/>
                </a:cubicBezTo>
                <a:cubicBezTo>
                  <a:pt x="69" y="26"/>
                  <a:pt x="69" y="26"/>
                  <a:pt x="69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42" y="26"/>
                  <a:pt x="42" y="26"/>
                  <a:pt x="42" y="26"/>
                </a:cubicBezTo>
                <a:cubicBezTo>
                  <a:pt x="35" y="26"/>
                  <a:pt x="35" y="26"/>
                  <a:pt x="35" y="26"/>
                </a:cubicBezTo>
                <a:cubicBezTo>
                  <a:pt x="28" y="26"/>
                  <a:pt x="28" y="26"/>
                  <a:pt x="28" y="26"/>
                </a:cubicBezTo>
                <a:cubicBezTo>
                  <a:pt x="21" y="26"/>
                  <a:pt x="21" y="26"/>
                  <a:pt x="21" y="26"/>
                </a:cubicBezTo>
                <a:cubicBezTo>
                  <a:pt x="10" y="26"/>
                  <a:pt x="0" y="37"/>
                  <a:pt x="0" y="50"/>
                </a:cubicBezTo>
                <a:cubicBezTo>
                  <a:pt x="0" y="64"/>
                  <a:pt x="0" y="64"/>
                  <a:pt x="0" y="64"/>
                </a:cubicBezTo>
                <a:cubicBezTo>
                  <a:pt x="3" y="78"/>
                  <a:pt x="14" y="89"/>
                  <a:pt x="28" y="89"/>
                </a:cubicBezTo>
                <a:close/>
                <a:moveTo>
                  <a:pt x="153" y="97"/>
                </a:moveTo>
                <a:cubicBezTo>
                  <a:pt x="108" y="97"/>
                  <a:pt x="108" y="97"/>
                  <a:pt x="108" y="97"/>
                </a:cubicBezTo>
                <a:cubicBezTo>
                  <a:pt x="108" y="103"/>
                  <a:pt x="108" y="103"/>
                  <a:pt x="108" y="103"/>
                </a:cubicBezTo>
                <a:cubicBezTo>
                  <a:pt x="108" y="108"/>
                  <a:pt x="104" y="112"/>
                  <a:pt x="99" y="112"/>
                </a:cubicBezTo>
                <a:cubicBezTo>
                  <a:pt x="81" y="112"/>
                  <a:pt x="81" y="112"/>
                  <a:pt x="81" y="112"/>
                </a:cubicBezTo>
                <a:cubicBezTo>
                  <a:pt x="77" y="112"/>
                  <a:pt x="73" y="108"/>
                  <a:pt x="73" y="103"/>
                </a:cubicBezTo>
                <a:cubicBezTo>
                  <a:pt x="73" y="97"/>
                  <a:pt x="73" y="97"/>
                  <a:pt x="73" y="97"/>
                </a:cubicBezTo>
                <a:cubicBezTo>
                  <a:pt x="28" y="97"/>
                  <a:pt x="28" y="97"/>
                  <a:pt x="28" y="97"/>
                </a:cubicBezTo>
                <a:cubicBezTo>
                  <a:pt x="16" y="97"/>
                  <a:pt x="6" y="91"/>
                  <a:pt x="0" y="81"/>
                </a:cubicBezTo>
                <a:cubicBezTo>
                  <a:pt x="0" y="137"/>
                  <a:pt x="0" y="137"/>
                  <a:pt x="0" y="137"/>
                </a:cubicBezTo>
                <a:cubicBezTo>
                  <a:pt x="0" y="150"/>
                  <a:pt x="10" y="161"/>
                  <a:pt x="21" y="161"/>
                </a:cubicBezTo>
                <a:cubicBezTo>
                  <a:pt x="28" y="161"/>
                  <a:pt x="28" y="161"/>
                  <a:pt x="28" y="161"/>
                </a:cubicBezTo>
                <a:cubicBezTo>
                  <a:pt x="35" y="161"/>
                  <a:pt x="35" y="161"/>
                  <a:pt x="35" y="161"/>
                </a:cubicBezTo>
                <a:cubicBezTo>
                  <a:pt x="42" y="161"/>
                  <a:pt x="42" y="161"/>
                  <a:pt x="42" y="161"/>
                </a:cubicBezTo>
                <a:cubicBezTo>
                  <a:pt x="137" y="161"/>
                  <a:pt x="137" y="161"/>
                  <a:pt x="137" y="161"/>
                </a:cubicBezTo>
                <a:cubicBezTo>
                  <a:pt x="144" y="161"/>
                  <a:pt x="144" y="161"/>
                  <a:pt x="144" y="161"/>
                </a:cubicBezTo>
                <a:cubicBezTo>
                  <a:pt x="149" y="161"/>
                  <a:pt x="149" y="161"/>
                  <a:pt x="149" y="161"/>
                </a:cubicBezTo>
                <a:cubicBezTo>
                  <a:pt x="159" y="161"/>
                  <a:pt x="159" y="161"/>
                  <a:pt x="159" y="161"/>
                </a:cubicBezTo>
                <a:cubicBezTo>
                  <a:pt x="171" y="161"/>
                  <a:pt x="180" y="150"/>
                  <a:pt x="180" y="137"/>
                </a:cubicBezTo>
                <a:cubicBezTo>
                  <a:pt x="180" y="81"/>
                  <a:pt x="180" y="81"/>
                  <a:pt x="180" y="81"/>
                </a:cubicBezTo>
                <a:cubicBezTo>
                  <a:pt x="174" y="91"/>
                  <a:pt x="164" y="97"/>
                  <a:pt x="153" y="97"/>
                </a:cubicBezTo>
                <a:close/>
                <a:moveTo>
                  <a:pt x="99" y="81"/>
                </a:moveTo>
                <a:cubicBezTo>
                  <a:pt x="82" y="81"/>
                  <a:pt x="82" y="81"/>
                  <a:pt x="82" y="81"/>
                </a:cubicBezTo>
                <a:cubicBezTo>
                  <a:pt x="80" y="81"/>
                  <a:pt x="79" y="82"/>
                  <a:pt x="79" y="84"/>
                </a:cubicBezTo>
                <a:cubicBezTo>
                  <a:pt x="79" y="88"/>
                  <a:pt x="79" y="88"/>
                  <a:pt x="79" y="88"/>
                </a:cubicBezTo>
                <a:cubicBezTo>
                  <a:pt x="79" y="91"/>
                  <a:pt x="79" y="91"/>
                  <a:pt x="79" y="91"/>
                </a:cubicBezTo>
                <a:cubicBezTo>
                  <a:pt x="79" y="96"/>
                  <a:pt x="79" y="96"/>
                  <a:pt x="79" y="96"/>
                </a:cubicBezTo>
                <a:cubicBezTo>
                  <a:pt x="79" y="98"/>
                  <a:pt x="79" y="98"/>
                  <a:pt x="79" y="98"/>
                </a:cubicBezTo>
                <a:cubicBezTo>
                  <a:pt x="79" y="103"/>
                  <a:pt x="79" y="103"/>
                  <a:pt x="79" y="103"/>
                </a:cubicBezTo>
                <a:cubicBezTo>
                  <a:pt x="79" y="104"/>
                  <a:pt x="80" y="106"/>
                  <a:pt x="82" y="106"/>
                </a:cubicBezTo>
                <a:cubicBezTo>
                  <a:pt x="99" y="106"/>
                  <a:pt x="99" y="106"/>
                  <a:pt x="99" y="106"/>
                </a:cubicBezTo>
                <a:cubicBezTo>
                  <a:pt x="100" y="106"/>
                  <a:pt x="102" y="104"/>
                  <a:pt x="102" y="103"/>
                </a:cubicBezTo>
                <a:cubicBezTo>
                  <a:pt x="102" y="98"/>
                  <a:pt x="102" y="98"/>
                  <a:pt x="102" y="98"/>
                </a:cubicBezTo>
                <a:cubicBezTo>
                  <a:pt x="102" y="96"/>
                  <a:pt x="102" y="96"/>
                  <a:pt x="102" y="96"/>
                </a:cubicBezTo>
                <a:cubicBezTo>
                  <a:pt x="102" y="91"/>
                  <a:pt x="102" y="91"/>
                  <a:pt x="102" y="91"/>
                </a:cubicBezTo>
                <a:cubicBezTo>
                  <a:pt x="102" y="88"/>
                  <a:pt x="102" y="88"/>
                  <a:pt x="102" y="88"/>
                </a:cubicBezTo>
                <a:cubicBezTo>
                  <a:pt x="102" y="84"/>
                  <a:pt x="102" y="84"/>
                  <a:pt x="102" y="84"/>
                </a:cubicBezTo>
                <a:cubicBezTo>
                  <a:pt x="102" y="82"/>
                  <a:pt x="100" y="81"/>
                  <a:pt x="99" y="81"/>
                </a:cubicBezTo>
                <a:close/>
              </a:path>
            </a:pathLst>
          </a:custGeom>
          <a:solidFill>
            <a:srgbClr val="34b2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33"/>
          <p:cNvGrpSpPr/>
          <p:nvPr/>
        </p:nvGrpSpPr>
        <p:grpSpPr>
          <a:xfrm>
            <a:off x="166680" y="228600"/>
            <a:ext cx="595440" cy="441360"/>
            <a:chOff x="166680" y="228600"/>
            <a:chExt cx="595440" cy="441360"/>
          </a:xfrm>
        </p:grpSpPr>
        <p:sp>
          <p:nvSpPr>
            <p:cNvPr id="76" name="5-Point Star 34"/>
            <p:cNvSpPr/>
            <p:nvPr/>
          </p:nvSpPr>
          <p:spPr>
            <a:xfrm>
              <a:off x="166680" y="228600"/>
              <a:ext cx="595440" cy="441360"/>
            </a:xfrm>
            <a:custGeom>
              <a:avLst/>
              <a:gdLst/>
              <a:ahLst/>
              <a:rect l="l" t="t" r="r" b="b"/>
              <a:pathLst>
                <a:path w="1905000" h="1706563">
                  <a:moveTo>
                    <a:pt x="2" y="651847"/>
                  </a:moveTo>
                  <a:lnTo>
                    <a:pt x="727649" y="651852"/>
                  </a:lnTo>
                  <a:lnTo>
                    <a:pt x="952500" y="0"/>
                  </a:lnTo>
                  <a:lnTo>
                    <a:pt x="1177351" y="651852"/>
                  </a:lnTo>
                  <a:lnTo>
                    <a:pt x="1904998" y="651847"/>
                  </a:lnTo>
                  <a:lnTo>
                    <a:pt x="1316316" y="1054710"/>
                  </a:lnTo>
                  <a:lnTo>
                    <a:pt x="1541176" y="1706559"/>
                  </a:lnTo>
                  <a:lnTo>
                    <a:pt x="952500" y="1303689"/>
                  </a:lnTo>
                  <a:lnTo>
                    <a:pt x="363824" y="1706559"/>
                  </a:lnTo>
                  <a:lnTo>
                    <a:pt x="588684" y="1054710"/>
                  </a:lnTo>
                  <a:lnTo>
                    <a:pt x="2" y="651847"/>
                  </a:lnTo>
                  <a:close/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5-Point Star 35"/>
            <p:cNvSpPr/>
            <p:nvPr/>
          </p:nvSpPr>
          <p:spPr>
            <a:xfrm>
              <a:off x="188640" y="250560"/>
              <a:ext cx="551160" cy="401760"/>
            </a:xfrm>
            <a:custGeom>
              <a:avLst/>
              <a:gdLst/>
              <a:ahLst/>
              <a:rect l="l" t="t" r="r" b="b"/>
              <a:pathLst>
                <a:path w="1762760" h="1553097">
                  <a:moveTo>
                    <a:pt x="2" y="593229"/>
                  </a:moveTo>
                  <a:lnTo>
                    <a:pt x="673318" y="593233"/>
                  </a:lnTo>
                  <a:lnTo>
                    <a:pt x="881380" y="0"/>
                  </a:lnTo>
                  <a:lnTo>
                    <a:pt x="1089442" y="593233"/>
                  </a:lnTo>
                  <a:lnTo>
                    <a:pt x="1762758" y="593229"/>
                  </a:lnTo>
                  <a:lnTo>
                    <a:pt x="1218031" y="959863"/>
                  </a:lnTo>
                  <a:lnTo>
                    <a:pt x="1426102" y="1553093"/>
                  </a:lnTo>
                  <a:lnTo>
                    <a:pt x="881380" y="1186452"/>
                  </a:lnTo>
                  <a:lnTo>
                    <a:pt x="336658" y="1553093"/>
                  </a:lnTo>
                  <a:lnTo>
                    <a:pt x="544729" y="959863"/>
                  </a:lnTo>
                  <a:lnTo>
                    <a:pt x="2" y="593229"/>
                  </a:lnTo>
                  <a:close/>
                </a:path>
              </a:pathLst>
            </a:custGeom>
            <a:noFill/>
            <a:ln w="25560">
              <a:solidFill>
                <a:srgbClr val="daf32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5-Point Star 36"/>
            <p:cNvSpPr/>
            <p:nvPr/>
          </p:nvSpPr>
          <p:spPr>
            <a:xfrm>
              <a:off x="210960" y="272880"/>
              <a:ext cx="487440" cy="365400"/>
            </a:xfrm>
            <a:custGeom>
              <a:avLst/>
              <a:gdLst/>
              <a:ahLst/>
              <a:rect l="l" t="t" r="r" b="b"/>
              <a:pathLst>
                <a:path w="1559560" h="1411905">
                  <a:moveTo>
                    <a:pt x="2" y="539298"/>
                  </a:moveTo>
                  <a:lnTo>
                    <a:pt x="595702" y="539302"/>
                  </a:lnTo>
                  <a:lnTo>
                    <a:pt x="779780" y="0"/>
                  </a:lnTo>
                  <a:lnTo>
                    <a:pt x="963858" y="539302"/>
                  </a:lnTo>
                  <a:lnTo>
                    <a:pt x="1559558" y="539298"/>
                  </a:lnTo>
                  <a:lnTo>
                    <a:pt x="1077624" y="872602"/>
                  </a:lnTo>
                  <a:lnTo>
                    <a:pt x="1261710" y="1411901"/>
                  </a:lnTo>
                  <a:lnTo>
                    <a:pt x="779780" y="1078592"/>
                  </a:lnTo>
                  <a:lnTo>
                    <a:pt x="297850" y="1411901"/>
                  </a:lnTo>
                  <a:lnTo>
                    <a:pt x="481936" y="872602"/>
                  </a:lnTo>
                  <a:lnTo>
                    <a:pt x="2" y="539298"/>
                  </a:lnTo>
                  <a:close/>
                </a:path>
              </a:pathLst>
            </a:custGeom>
            <a:noFill/>
            <a:ln w="25560">
              <a:solidFill>
                <a:srgbClr val="b6e8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5-Point Star 37"/>
            <p:cNvSpPr/>
            <p:nvPr/>
          </p:nvSpPr>
          <p:spPr>
            <a:xfrm>
              <a:off x="231480" y="296640"/>
              <a:ext cx="463680" cy="320760"/>
            </a:xfrm>
            <a:custGeom>
              <a:avLst/>
              <a:gdLst/>
              <a:ahLst/>
              <a:rect l="l" t="t" r="r" b="b"/>
              <a:pathLst>
                <a:path w="1483361" h="1240021">
                  <a:moveTo>
                    <a:pt x="2" y="473645"/>
                  </a:moveTo>
                  <a:lnTo>
                    <a:pt x="566597" y="473648"/>
                  </a:lnTo>
                  <a:lnTo>
                    <a:pt x="741681" y="0"/>
                  </a:lnTo>
                  <a:lnTo>
                    <a:pt x="916764" y="473648"/>
                  </a:lnTo>
                  <a:lnTo>
                    <a:pt x="1483359" y="473645"/>
                  </a:lnTo>
                  <a:lnTo>
                    <a:pt x="1024972" y="766372"/>
                  </a:lnTo>
                  <a:lnTo>
                    <a:pt x="1200063" y="1240018"/>
                  </a:lnTo>
                  <a:lnTo>
                    <a:pt x="741681" y="947285"/>
                  </a:lnTo>
                  <a:lnTo>
                    <a:pt x="283298" y="1240018"/>
                  </a:lnTo>
                  <a:lnTo>
                    <a:pt x="458389" y="766372"/>
                  </a:lnTo>
                  <a:lnTo>
                    <a:pt x="2" y="473645"/>
                  </a:lnTo>
                  <a:close/>
                </a:path>
              </a:pathLst>
            </a:custGeom>
            <a:noFill/>
            <a:ln w="25560">
              <a:solidFill>
                <a:srgbClr val="91dd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5-Point Star 38"/>
            <p:cNvSpPr/>
            <p:nvPr/>
          </p:nvSpPr>
          <p:spPr>
            <a:xfrm>
              <a:off x="253800" y="318960"/>
              <a:ext cx="419400" cy="281160"/>
            </a:xfrm>
            <a:custGeom>
              <a:avLst/>
              <a:gdLst/>
              <a:ahLst/>
              <a:rect l="l" t="t" r="r" b="b"/>
              <a:pathLst>
                <a:path w="1341121" h="1086551">
                  <a:moveTo>
                    <a:pt x="1" y="415024"/>
                  </a:moveTo>
                  <a:lnTo>
                    <a:pt x="512265" y="415027"/>
                  </a:lnTo>
                  <a:lnTo>
                    <a:pt x="670561" y="0"/>
                  </a:lnTo>
                  <a:lnTo>
                    <a:pt x="828856" y="415027"/>
                  </a:lnTo>
                  <a:lnTo>
                    <a:pt x="1341120" y="415024"/>
                  </a:lnTo>
                  <a:lnTo>
                    <a:pt x="926687" y="671523"/>
                  </a:lnTo>
                  <a:lnTo>
                    <a:pt x="1084989" y="1086548"/>
                  </a:lnTo>
                  <a:lnTo>
                    <a:pt x="670561" y="830045"/>
                  </a:lnTo>
                  <a:lnTo>
                    <a:pt x="256132" y="1086548"/>
                  </a:lnTo>
                  <a:lnTo>
                    <a:pt x="414434" y="671523"/>
                  </a:lnTo>
                  <a:lnTo>
                    <a:pt x="1" y="415024"/>
                  </a:lnTo>
                  <a:close/>
                </a:path>
              </a:pathLst>
            </a:custGeom>
            <a:noFill/>
            <a:ln w="25560">
              <a:solidFill>
                <a:srgbClr val="6dd1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5-Point Star 39"/>
            <p:cNvSpPr/>
            <p:nvPr/>
          </p:nvSpPr>
          <p:spPr>
            <a:xfrm>
              <a:off x="276120" y="341280"/>
              <a:ext cx="374760" cy="241200"/>
            </a:xfrm>
            <a:custGeom>
              <a:avLst/>
              <a:gdLst/>
              <a:ahLst/>
              <a:rect l="l" t="t" r="r" b="b"/>
              <a:pathLst>
                <a:path w="1198881" h="933085">
                  <a:moveTo>
                    <a:pt x="1" y="356406"/>
                  </a:moveTo>
                  <a:lnTo>
                    <a:pt x="457934" y="356408"/>
                  </a:lnTo>
                  <a:lnTo>
                    <a:pt x="599441" y="0"/>
                  </a:lnTo>
                  <a:lnTo>
                    <a:pt x="740947" y="356408"/>
                  </a:lnTo>
                  <a:lnTo>
                    <a:pt x="1198880" y="356406"/>
                  </a:lnTo>
                  <a:lnTo>
                    <a:pt x="828402" y="576676"/>
                  </a:lnTo>
                  <a:lnTo>
                    <a:pt x="969914" y="933083"/>
                  </a:lnTo>
                  <a:lnTo>
                    <a:pt x="599441" y="712809"/>
                  </a:lnTo>
                  <a:lnTo>
                    <a:pt x="228967" y="933083"/>
                  </a:lnTo>
                  <a:lnTo>
                    <a:pt x="370479" y="576676"/>
                  </a:lnTo>
                  <a:lnTo>
                    <a:pt x="1" y="356406"/>
                  </a:lnTo>
                  <a:close/>
                </a:path>
              </a:pathLst>
            </a:custGeom>
            <a:noFill/>
            <a:ln w="25560">
              <a:solidFill>
                <a:srgbClr val="48c6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5-Point Star 40"/>
            <p:cNvSpPr/>
            <p:nvPr/>
          </p:nvSpPr>
          <p:spPr>
            <a:xfrm>
              <a:off x="298440" y="363600"/>
              <a:ext cx="330120" cy="201600"/>
            </a:xfrm>
            <a:custGeom>
              <a:avLst/>
              <a:gdLst/>
              <a:ahLst/>
              <a:rect l="l" t="t" r="r" b="b"/>
              <a:pathLst>
                <a:path w="1056641" h="779615">
                  <a:moveTo>
                    <a:pt x="1" y="297786"/>
                  </a:moveTo>
                  <a:lnTo>
                    <a:pt x="403603" y="297788"/>
                  </a:lnTo>
                  <a:lnTo>
                    <a:pt x="528321" y="0"/>
                  </a:lnTo>
                  <a:lnTo>
                    <a:pt x="653038" y="297788"/>
                  </a:lnTo>
                  <a:lnTo>
                    <a:pt x="1056640" y="297786"/>
                  </a:lnTo>
                  <a:lnTo>
                    <a:pt x="730117" y="481827"/>
                  </a:lnTo>
                  <a:lnTo>
                    <a:pt x="854840" y="779613"/>
                  </a:lnTo>
                  <a:lnTo>
                    <a:pt x="528321" y="595569"/>
                  </a:lnTo>
                  <a:lnTo>
                    <a:pt x="201801" y="779613"/>
                  </a:lnTo>
                  <a:lnTo>
                    <a:pt x="326524" y="481827"/>
                  </a:lnTo>
                  <a:lnTo>
                    <a:pt x="1" y="297786"/>
                  </a:lnTo>
                  <a:close/>
                </a:path>
              </a:pathLst>
            </a:custGeom>
            <a:noFill/>
            <a:ln w="25560">
              <a:solidFill>
                <a:srgbClr val="24bbc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5-Point Star 41"/>
            <p:cNvSpPr/>
            <p:nvPr/>
          </p:nvSpPr>
          <p:spPr>
            <a:xfrm>
              <a:off x="320760" y="385560"/>
              <a:ext cx="285840" cy="162000"/>
            </a:xfrm>
            <a:custGeom>
              <a:avLst/>
              <a:gdLst/>
              <a:ahLst/>
              <a:rect l="l" t="t" r="r" b="b"/>
              <a:pathLst>
                <a:path w="914401" h="626149">
                  <a:moveTo>
                    <a:pt x="1" y="239167"/>
                  </a:moveTo>
                  <a:lnTo>
                    <a:pt x="349272" y="239169"/>
                  </a:lnTo>
                  <a:lnTo>
                    <a:pt x="457201" y="0"/>
                  </a:lnTo>
                  <a:lnTo>
                    <a:pt x="565129" y="239169"/>
                  </a:lnTo>
                  <a:lnTo>
                    <a:pt x="914400" y="239167"/>
                  </a:lnTo>
                  <a:lnTo>
                    <a:pt x="631832" y="386980"/>
                  </a:lnTo>
                  <a:lnTo>
                    <a:pt x="739765" y="626147"/>
                  </a:lnTo>
                  <a:lnTo>
                    <a:pt x="457201" y="478332"/>
                  </a:lnTo>
                  <a:lnTo>
                    <a:pt x="174636" y="626147"/>
                  </a:lnTo>
                  <a:lnTo>
                    <a:pt x="282569" y="386980"/>
                  </a:lnTo>
                  <a:lnTo>
                    <a:pt x="1" y="239167"/>
                  </a:lnTo>
                  <a:close/>
                </a:path>
              </a:pathLst>
            </a:custGeom>
            <a:noFill/>
            <a:ln w="255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Group 42"/>
          <p:cNvGrpSpPr/>
          <p:nvPr/>
        </p:nvGrpSpPr>
        <p:grpSpPr>
          <a:xfrm>
            <a:off x="1730520" y="326880"/>
            <a:ext cx="595080" cy="441360"/>
            <a:chOff x="1730520" y="326880"/>
            <a:chExt cx="595080" cy="441360"/>
          </a:xfrm>
        </p:grpSpPr>
        <p:sp>
          <p:nvSpPr>
            <p:cNvPr id="85" name="5-Point Star 43"/>
            <p:cNvSpPr/>
            <p:nvPr/>
          </p:nvSpPr>
          <p:spPr>
            <a:xfrm>
              <a:off x="1730520" y="326880"/>
              <a:ext cx="595080" cy="441360"/>
            </a:xfrm>
            <a:custGeom>
              <a:avLst/>
              <a:gdLst/>
              <a:ahLst/>
              <a:rect l="l" t="t" r="r" b="b"/>
              <a:pathLst>
                <a:path w="1905000" h="1706563">
                  <a:moveTo>
                    <a:pt x="2" y="651847"/>
                  </a:moveTo>
                  <a:lnTo>
                    <a:pt x="727649" y="651852"/>
                  </a:lnTo>
                  <a:lnTo>
                    <a:pt x="952500" y="0"/>
                  </a:lnTo>
                  <a:lnTo>
                    <a:pt x="1177351" y="651852"/>
                  </a:lnTo>
                  <a:lnTo>
                    <a:pt x="1904998" y="651847"/>
                  </a:lnTo>
                  <a:lnTo>
                    <a:pt x="1316316" y="1054710"/>
                  </a:lnTo>
                  <a:lnTo>
                    <a:pt x="1541176" y="1706559"/>
                  </a:lnTo>
                  <a:lnTo>
                    <a:pt x="952500" y="1303689"/>
                  </a:lnTo>
                  <a:lnTo>
                    <a:pt x="363824" y="1706559"/>
                  </a:lnTo>
                  <a:lnTo>
                    <a:pt x="588684" y="1054710"/>
                  </a:lnTo>
                  <a:lnTo>
                    <a:pt x="2" y="651847"/>
                  </a:lnTo>
                  <a:close/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5-Point Star 44"/>
            <p:cNvSpPr/>
            <p:nvPr/>
          </p:nvSpPr>
          <p:spPr>
            <a:xfrm>
              <a:off x="1752480" y="348840"/>
              <a:ext cx="550800" cy="401760"/>
            </a:xfrm>
            <a:custGeom>
              <a:avLst/>
              <a:gdLst/>
              <a:ahLst/>
              <a:rect l="l" t="t" r="r" b="b"/>
              <a:pathLst>
                <a:path w="1762760" h="1553097">
                  <a:moveTo>
                    <a:pt x="2" y="593229"/>
                  </a:moveTo>
                  <a:lnTo>
                    <a:pt x="673318" y="593233"/>
                  </a:lnTo>
                  <a:lnTo>
                    <a:pt x="881380" y="0"/>
                  </a:lnTo>
                  <a:lnTo>
                    <a:pt x="1089442" y="593233"/>
                  </a:lnTo>
                  <a:lnTo>
                    <a:pt x="1762758" y="593229"/>
                  </a:lnTo>
                  <a:lnTo>
                    <a:pt x="1218031" y="959863"/>
                  </a:lnTo>
                  <a:lnTo>
                    <a:pt x="1426102" y="1553093"/>
                  </a:lnTo>
                  <a:lnTo>
                    <a:pt x="881380" y="1186452"/>
                  </a:lnTo>
                  <a:lnTo>
                    <a:pt x="336658" y="1553093"/>
                  </a:lnTo>
                  <a:lnTo>
                    <a:pt x="544729" y="959863"/>
                  </a:lnTo>
                  <a:lnTo>
                    <a:pt x="2" y="593229"/>
                  </a:lnTo>
                  <a:close/>
                </a:path>
              </a:pathLst>
            </a:custGeom>
            <a:noFill/>
            <a:ln w="25560">
              <a:solidFill>
                <a:srgbClr val="daf32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5-Point Star 45"/>
            <p:cNvSpPr/>
            <p:nvPr/>
          </p:nvSpPr>
          <p:spPr>
            <a:xfrm>
              <a:off x="1774800" y="371160"/>
              <a:ext cx="487440" cy="365400"/>
            </a:xfrm>
            <a:custGeom>
              <a:avLst/>
              <a:gdLst/>
              <a:ahLst/>
              <a:rect l="l" t="t" r="r" b="b"/>
              <a:pathLst>
                <a:path w="1559560" h="1411905">
                  <a:moveTo>
                    <a:pt x="2" y="539298"/>
                  </a:moveTo>
                  <a:lnTo>
                    <a:pt x="595702" y="539302"/>
                  </a:lnTo>
                  <a:lnTo>
                    <a:pt x="779780" y="0"/>
                  </a:lnTo>
                  <a:lnTo>
                    <a:pt x="963858" y="539302"/>
                  </a:lnTo>
                  <a:lnTo>
                    <a:pt x="1559558" y="539298"/>
                  </a:lnTo>
                  <a:lnTo>
                    <a:pt x="1077624" y="872602"/>
                  </a:lnTo>
                  <a:lnTo>
                    <a:pt x="1261710" y="1411901"/>
                  </a:lnTo>
                  <a:lnTo>
                    <a:pt x="779780" y="1078592"/>
                  </a:lnTo>
                  <a:lnTo>
                    <a:pt x="297850" y="1411901"/>
                  </a:lnTo>
                  <a:lnTo>
                    <a:pt x="481936" y="872602"/>
                  </a:lnTo>
                  <a:lnTo>
                    <a:pt x="2" y="539298"/>
                  </a:lnTo>
                  <a:close/>
                </a:path>
              </a:pathLst>
            </a:custGeom>
            <a:noFill/>
            <a:ln w="25560">
              <a:solidFill>
                <a:srgbClr val="b6e8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5-Point Star 46"/>
            <p:cNvSpPr/>
            <p:nvPr/>
          </p:nvSpPr>
          <p:spPr>
            <a:xfrm>
              <a:off x="1795320" y="394920"/>
              <a:ext cx="463320" cy="320760"/>
            </a:xfrm>
            <a:custGeom>
              <a:avLst/>
              <a:gdLst/>
              <a:ahLst/>
              <a:rect l="l" t="t" r="r" b="b"/>
              <a:pathLst>
                <a:path w="1483359" h="1240021">
                  <a:moveTo>
                    <a:pt x="2" y="473645"/>
                  </a:moveTo>
                  <a:lnTo>
                    <a:pt x="566596" y="473648"/>
                  </a:lnTo>
                  <a:lnTo>
                    <a:pt x="741680" y="0"/>
                  </a:lnTo>
                  <a:lnTo>
                    <a:pt x="916763" y="473648"/>
                  </a:lnTo>
                  <a:lnTo>
                    <a:pt x="1483357" y="473645"/>
                  </a:lnTo>
                  <a:lnTo>
                    <a:pt x="1024971" y="766372"/>
                  </a:lnTo>
                  <a:lnTo>
                    <a:pt x="1200062" y="1240018"/>
                  </a:lnTo>
                  <a:lnTo>
                    <a:pt x="741680" y="947285"/>
                  </a:lnTo>
                  <a:lnTo>
                    <a:pt x="283297" y="1240018"/>
                  </a:lnTo>
                  <a:lnTo>
                    <a:pt x="458388" y="766372"/>
                  </a:lnTo>
                  <a:lnTo>
                    <a:pt x="2" y="473645"/>
                  </a:lnTo>
                  <a:close/>
                </a:path>
              </a:pathLst>
            </a:custGeom>
            <a:noFill/>
            <a:ln w="25560">
              <a:solidFill>
                <a:srgbClr val="91dd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5-Point Star 47"/>
            <p:cNvSpPr/>
            <p:nvPr/>
          </p:nvSpPr>
          <p:spPr>
            <a:xfrm>
              <a:off x="1817640" y="417240"/>
              <a:ext cx="419040" cy="281160"/>
            </a:xfrm>
            <a:custGeom>
              <a:avLst/>
              <a:gdLst/>
              <a:ahLst/>
              <a:rect l="l" t="t" r="r" b="b"/>
              <a:pathLst>
                <a:path w="1341119" h="1086551">
                  <a:moveTo>
                    <a:pt x="1" y="415024"/>
                  </a:moveTo>
                  <a:lnTo>
                    <a:pt x="512265" y="415027"/>
                  </a:lnTo>
                  <a:lnTo>
                    <a:pt x="670560" y="0"/>
                  </a:lnTo>
                  <a:lnTo>
                    <a:pt x="828854" y="415027"/>
                  </a:lnTo>
                  <a:lnTo>
                    <a:pt x="1341118" y="415024"/>
                  </a:lnTo>
                  <a:lnTo>
                    <a:pt x="926686" y="671523"/>
                  </a:lnTo>
                  <a:lnTo>
                    <a:pt x="1084987" y="1086548"/>
                  </a:lnTo>
                  <a:lnTo>
                    <a:pt x="670560" y="830045"/>
                  </a:lnTo>
                  <a:lnTo>
                    <a:pt x="256132" y="1086548"/>
                  </a:lnTo>
                  <a:lnTo>
                    <a:pt x="414433" y="671523"/>
                  </a:lnTo>
                  <a:lnTo>
                    <a:pt x="1" y="415024"/>
                  </a:lnTo>
                  <a:close/>
                </a:path>
              </a:pathLst>
            </a:custGeom>
            <a:noFill/>
            <a:ln w="25560">
              <a:solidFill>
                <a:srgbClr val="6dd1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5-Point Star 48"/>
            <p:cNvSpPr/>
            <p:nvPr/>
          </p:nvSpPr>
          <p:spPr>
            <a:xfrm>
              <a:off x="1839960" y="439560"/>
              <a:ext cx="374400" cy="241200"/>
            </a:xfrm>
            <a:custGeom>
              <a:avLst/>
              <a:gdLst/>
              <a:ahLst/>
              <a:rect l="l" t="t" r="r" b="b"/>
              <a:pathLst>
                <a:path w="1198879" h="933085">
                  <a:moveTo>
                    <a:pt x="1" y="356406"/>
                  </a:moveTo>
                  <a:lnTo>
                    <a:pt x="457934" y="356408"/>
                  </a:lnTo>
                  <a:lnTo>
                    <a:pt x="599440" y="0"/>
                  </a:lnTo>
                  <a:lnTo>
                    <a:pt x="740945" y="356408"/>
                  </a:lnTo>
                  <a:lnTo>
                    <a:pt x="1198878" y="356406"/>
                  </a:lnTo>
                  <a:lnTo>
                    <a:pt x="828401" y="576676"/>
                  </a:lnTo>
                  <a:lnTo>
                    <a:pt x="969913" y="933083"/>
                  </a:lnTo>
                  <a:lnTo>
                    <a:pt x="599440" y="712809"/>
                  </a:lnTo>
                  <a:lnTo>
                    <a:pt x="228966" y="933083"/>
                  </a:lnTo>
                  <a:lnTo>
                    <a:pt x="370478" y="576676"/>
                  </a:lnTo>
                  <a:lnTo>
                    <a:pt x="1" y="356406"/>
                  </a:lnTo>
                  <a:close/>
                </a:path>
              </a:pathLst>
            </a:custGeom>
            <a:noFill/>
            <a:ln w="25560">
              <a:solidFill>
                <a:srgbClr val="48c6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5-Point Star 49"/>
            <p:cNvSpPr/>
            <p:nvPr/>
          </p:nvSpPr>
          <p:spPr>
            <a:xfrm>
              <a:off x="1862280" y="461880"/>
              <a:ext cx="330120" cy="201600"/>
            </a:xfrm>
            <a:custGeom>
              <a:avLst/>
              <a:gdLst/>
              <a:ahLst/>
              <a:rect l="l" t="t" r="r" b="b"/>
              <a:pathLst>
                <a:path w="1056639" h="779615">
                  <a:moveTo>
                    <a:pt x="1" y="297786"/>
                  </a:moveTo>
                  <a:lnTo>
                    <a:pt x="403602" y="297788"/>
                  </a:lnTo>
                  <a:lnTo>
                    <a:pt x="528320" y="0"/>
                  </a:lnTo>
                  <a:lnTo>
                    <a:pt x="653037" y="297788"/>
                  </a:lnTo>
                  <a:lnTo>
                    <a:pt x="1056638" y="297786"/>
                  </a:lnTo>
                  <a:lnTo>
                    <a:pt x="730116" y="481827"/>
                  </a:lnTo>
                  <a:lnTo>
                    <a:pt x="854838" y="779613"/>
                  </a:lnTo>
                  <a:lnTo>
                    <a:pt x="528320" y="595569"/>
                  </a:lnTo>
                  <a:lnTo>
                    <a:pt x="201801" y="779613"/>
                  </a:lnTo>
                  <a:lnTo>
                    <a:pt x="326523" y="481827"/>
                  </a:lnTo>
                  <a:lnTo>
                    <a:pt x="1" y="297786"/>
                  </a:lnTo>
                  <a:close/>
                </a:path>
              </a:pathLst>
            </a:custGeom>
            <a:noFill/>
            <a:ln w="25560">
              <a:solidFill>
                <a:srgbClr val="24bbc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5-Point Star 50"/>
            <p:cNvSpPr/>
            <p:nvPr/>
          </p:nvSpPr>
          <p:spPr>
            <a:xfrm>
              <a:off x="1884240" y="483840"/>
              <a:ext cx="285480" cy="162000"/>
            </a:xfrm>
            <a:custGeom>
              <a:avLst/>
              <a:gdLst/>
              <a:ahLst/>
              <a:rect l="l" t="t" r="r" b="b"/>
              <a:pathLst>
                <a:path w="914399" h="626149">
                  <a:moveTo>
                    <a:pt x="1" y="239167"/>
                  </a:moveTo>
                  <a:lnTo>
                    <a:pt x="349271" y="239169"/>
                  </a:lnTo>
                  <a:lnTo>
                    <a:pt x="457200" y="0"/>
                  </a:lnTo>
                  <a:lnTo>
                    <a:pt x="565128" y="239169"/>
                  </a:lnTo>
                  <a:lnTo>
                    <a:pt x="914398" y="239167"/>
                  </a:lnTo>
                  <a:lnTo>
                    <a:pt x="631831" y="386980"/>
                  </a:lnTo>
                  <a:lnTo>
                    <a:pt x="739764" y="626147"/>
                  </a:lnTo>
                  <a:lnTo>
                    <a:pt x="457200" y="478332"/>
                  </a:lnTo>
                  <a:lnTo>
                    <a:pt x="174635" y="626147"/>
                  </a:lnTo>
                  <a:lnTo>
                    <a:pt x="282568" y="386980"/>
                  </a:lnTo>
                  <a:lnTo>
                    <a:pt x="1" y="239167"/>
                  </a:lnTo>
                  <a:close/>
                </a:path>
              </a:pathLst>
            </a:custGeom>
            <a:noFill/>
            <a:ln w="255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51"/>
          <p:cNvGrpSpPr/>
          <p:nvPr/>
        </p:nvGrpSpPr>
        <p:grpSpPr>
          <a:xfrm>
            <a:off x="3844800" y="512640"/>
            <a:ext cx="594000" cy="441360"/>
            <a:chOff x="3844800" y="512640"/>
            <a:chExt cx="594000" cy="441360"/>
          </a:xfrm>
        </p:grpSpPr>
        <p:sp>
          <p:nvSpPr>
            <p:cNvPr id="94" name="5-Point Star 52"/>
            <p:cNvSpPr/>
            <p:nvPr/>
          </p:nvSpPr>
          <p:spPr>
            <a:xfrm>
              <a:off x="3844800" y="512640"/>
              <a:ext cx="594000" cy="441360"/>
            </a:xfrm>
            <a:custGeom>
              <a:avLst/>
              <a:gdLst/>
              <a:ahLst/>
              <a:rect l="l" t="t" r="r" b="b"/>
              <a:pathLst>
                <a:path w="1905000" h="1706563">
                  <a:moveTo>
                    <a:pt x="2" y="651847"/>
                  </a:moveTo>
                  <a:lnTo>
                    <a:pt x="727649" y="651852"/>
                  </a:lnTo>
                  <a:lnTo>
                    <a:pt x="952500" y="0"/>
                  </a:lnTo>
                  <a:lnTo>
                    <a:pt x="1177351" y="651852"/>
                  </a:lnTo>
                  <a:lnTo>
                    <a:pt x="1904998" y="651847"/>
                  </a:lnTo>
                  <a:lnTo>
                    <a:pt x="1316316" y="1054710"/>
                  </a:lnTo>
                  <a:lnTo>
                    <a:pt x="1541176" y="1706559"/>
                  </a:lnTo>
                  <a:lnTo>
                    <a:pt x="952500" y="1303689"/>
                  </a:lnTo>
                  <a:lnTo>
                    <a:pt x="363824" y="1706559"/>
                  </a:lnTo>
                  <a:lnTo>
                    <a:pt x="588684" y="1054710"/>
                  </a:lnTo>
                  <a:lnTo>
                    <a:pt x="2" y="651847"/>
                  </a:lnTo>
                  <a:close/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5-Point Star 53"/>
            <p:cNvSpPr/>
            <p:nvPr/>
          </p:nvSpPr>
          <p:spPr>
            <a:xfrm>
              <a:off x="3866760" y="534600"/>
              <a:ext cx="549720" cy="401760"/>
            </a:xfrm>
            <a:custGeom>
              <a:avLst/>
              <a:gdLst/>
              <a:ahLst/>
              <a:rect l="l" t="t" r="r" b="b"/>
              <a:pathLst>
                <a:path w="1762380" h="1553093">
                  <a:moveTo>
                    <a:pt x="2" y="593227"/>
                  </a:moveTo>
                  <a:lnTo>
                    <a:pt x="673173" y="593231"/>
                  </a:lnTo>
                  <a:lnTo>
                    <a:pt x="881190" y="0"/>
                  </a:lnTo>
                  <a:lnTo>
                    <a:pt x="1089207" y="593231"/>
                  </a:lnTo>
                  <a:lnTo>
                    <a:pt x="1762378" y="593227"/>
                  </a:lnTo>
                  <a:lnTo>
                    <a:pt x="1217769" y="959860"/>
                  </a:lnTo>
                  <a:lnTo>
                    <a:pt x="1425794" y="1553089"/>
                  </a:lnTo>
                  <a:lnTo>
                    <a:pt x="881190" y="1186449"/>
                  </a:lnTo>
                  <a:lnTo>
                    <a:pt x="336586" y="1553089"/>
                  </a:lnTo>
                  <a:lnTo>
                    <a:pt x="544611" y="959860"/>
                  </a:lnTo>
                  <a:lnTo>
                    <a:pt x="2" y="593227"/>
                  </a:lnTo>
                  <a:close/>
                </a:path>
              </a:pathLst>
            </a:custGeom>
            <a:noFill/>
            <a:ln w="25560">
              <a:solidFill>
                <a:srgbClr val="daf32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5-Point Star 54"/>
            <p:cNvSpPr/>
            <p:nvPr/>
          </p:nvSpPr>
          <p:spPr>
            <a:xfrm>
              <a:off x="3889080" y="556920"/>
              <a:ext cx="487800" cy="365400"/>
            </a:xfrm>
            <a:custGeom>
              <a:avLst/>
              <a:gdLst/>
              <a:ahLst/>
              <a:rect l="l" t="t" r="r" b="b"/>
              <a:pathLst>
                <a:path w="1563732" h="1411905">
                  <a:moveTo>
                    <a:pt x="2" y="539298"/>
                  </a:moveTo>
                  <a:lnTo>
                    <a:pt x="597296" y="539302"/>
                  </a:lnTo>
                  <a:lnTo>
                    <a:pt x="781866" y="0"/>
                  </a:lnTo>
                  <a:lnTo>
                    <a:pt x="966436" y="539302"/>
                  </a:lnTo>
                  <a:lnTo>
                    <a:pt x="1563730" y="539298"/>
                  </a:lnTo>
                  <a:lnTo>
                    <a:pt x="1080507" y="872602"/>
                  </a:lnTo>
                  <a:lnTo>
                    <a:pt x="1265085" y="1411901"/>
                  </a:lnTo>
                  <a:lnTo>
                    <a:pt x="781866" y="1078592"/>
                  </a:lnTo>
                  <a:lnTo>
                    <a:pt x="298647" y="1411901"/>
                  </a:lnTo>
                  <a:lnTo>
                    <a:pt x="483225" y="872602"/>
                  </a:lnTo>
                  <a:lnTo>
                    <a:pt x="2" y="539298"/>
                  </a:lnTo>
                  <a:close/>
                </a:path>
              </a:pathLst>
            </a:custGeom>
            <a:noFill/>
            <a:ln w="25560">
              <a:solidFill>
                <a:srgbClr val="b6e8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5-Point Star 55"/>
            <p:cNvSpPr/>
            <p:nvPr/>
          </p:nvSpPr>
          <p:spPr>
            <a:xfrm>
              <a:off x="3909600" y="580680"/>
              <a:ext cx="462240" cy="320760"/>
            </a:xfrm>
            <a:custGeom>
              <a:avLst/>
              <a:gdLst/>
              <a:ahLst/>
              <a:rect l="l" t="t" r="r" b="b"/>
              <a:pathLst>
                <a:path w="1482231" h="1240021">
                  <a:moveTo>
                    <a:pt x="2" y="473645"/>
                  </a:moveTo>
                  <a:lnTo>
                    <a:pt x="566165" y="473648"/>
                  </a:lnTo>
                  <a:lnTo>
                    <a:pt x="741116" y="0"/>
                  </a:lnTo>
                  <a:lnTo>
                    <a:pt x="916066" y="473648"/>
                  </a:lnTo>
                  <a:lnTo>
                    <a:pt x="1482229" y="473645"/>
                  </a:lnTo>
                  <a:lnTo>
                    <a:pt x="1024191" y="766372"/>
                  </a:lnTo>
                  <a:lnTo>
                    <a:pt x="1199149" y="1240018"/>
                  </a:lnTo>
                  <a:lnTo>
                    <a:pt x="741116" y="947285"/>
                  </a:lnTo>
                  <a:lnTo>
                    <a:pt x="283082" y="1240018"/>
                  </a:lnTo>
                  <a:lnTo>
                    <a:pt x="458040" y="766372"/>
                  </a:lnTo>
                  <a:lnTo>
                    <a:pt x="2" y="473645"/>
                  </a:lnTo>
                  <a:close/>
                </a:path>
              </a:pathLst>
            </a:custGeom>
            <a:noFill/>
            <a:ln w="25560">
              <a:solidFill>
                <a:srgbClr val="91dd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5-Point Star 56"/>
            <p:cNvSpPr/>
            <p:nvPr/>
          </p:nvSpPr>
          <p:spPr>
            <a:xfrm>
              <a:off x="3931920" y="603000"/>
              <a:ext cx="417600" cy="281160"/>
            </a:xfrm>
            <a:custGeom>
              <a:avLst/>
              <a:gdLst/>
              <a:ahLst/>
              <a:rect l="l" t="t" r="r" b="b"/>
              <a:pathLst>
                <a:path w="1339611" h="1086555">
                  <a:moveTo>
                    <a:pt x="1" y="415026"/>
                  </a:moveTo>
                  <a:lnTo>
                    <a:pt x="511689" y="415029"/>
                  </a:lnTo>
                  <a:lnTo>
                    <a:pt x="669806" y="0"/>
                  </a:lnTo>
                  <a:lnTo>
                    <a:pt x="827922" y="415029"/>
                  </a:lnTo>
                  <a:lnTo>
                    <a:pt x="1339610" y="415026"/>
                  </a:lnTo>
                  <a:lnTo>
                    <a:pt x="925644" y="671525"/>
                  </a:lnTo>
                  <a:lnTo>
                    <a:pt x="1083767" y="1086552"/>
                  </a:lnTo>
                  <a:lnTo>
                    <a:pt x="669806" y="830048"/>
                  </a:lnTo>
                  <a:lnTo>
                    <a:pt x="255844" y="1086552"/>
                  </a:lnTo>
                  <a:lnTo>
                    <a:pt x="413967" y="671525"/>
                  </a:lnTo>
                  <a:lnTo>
                    <a:pt x="1" y="415026"/>
                  </a:lnTo>
                  <a:close/>
                </a:path>
              </a:pathLst>
            </a:custGeom>
            <a:noFill/>
            <a:ln w="25560">
              <a:solidFill>
                <a:srgbClr val="6dd1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5-Point Star 57"/>
            <p:cNvSpPr/>
            <p:nvPr/>
          </p:nvSpPr>
          <p:spPr>
            <a:xfrm>
              <a:off x="3954240" y="625320"/>
              <a:ext cx="373320" cy="241200"/>
            </a:xfrm>
            <a:custGeom>
              <a:avLst/>
              <a:gdLst/>
              <a:ahLst/>
              <a:rect l="l" t="t" r="r" b="b"/>
              <a:pathLst>
                <a:path w="1196990" h="933085">
                  <a:moveTo>
                    <a:pt x="1" y="356406"/>
                  </a:moveTo>
                  <a:lnTo>
                    <a:pt x="457212" y="356408"/>
                  </a:lnTo>
                  <a:lnTo>
                    <a:pt x="598495" y="0"/>
                  </a:lnTo>
                  <a:lnTo>
                    <a:pt x="739778" y="356408"/>
                  </a:lnTo>
                  <a:lnTo>
                    <a:pt x="1196989" y="356406"/>
                  </a:lnTo>
                  <a:lnTo>
                    <a:pt x="827096" y="576676"/>
                  </a:lnTo>
                  <a:lnTo>
                    <a:pt x="968384" y="933083"/>
                  </a:lnTo>
                  <a:lnTo>
                    <a:pt x="598495" y="712809"/>
                  </a:lnTo>
                  <a:lnTo>
                    <a:pt x="228606" y="933083"/>
                  </a:lnTo>
                  <a:lnTo>
                    <a:pt x="369894" y="576676"/>
                  </a:lnTo>
                  <a:lnTo>
                    <a:pt x="1" y="356406"/>
                  </a:lnTo>
                  <a:close/>
                </a:path>
              </a:pathLst>
            </a:custGeom>
            <a:noFill/>
            <a:ln w="25560">
              <a:solidFill>
                <a:srgbClr val="48c6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5-Point Star 58"/>
            <p:cNvSpPr/>
            <p:nvPr/>
          </p:nvSpPr>
          <p:spPr>
            <a:xfrm>
              <a:off x="3976560" y="647640"/>
              <a:ext cx="328680" cy="201600"/>
            </a:xfrm>
            <a:custGeom>
              <a:avLst/>
              <a:gdLst/>
              <a:ahLst/>
              <a:rect l="l" t="t" r="r" b="b"/>
              <a:pathLst>
                <a:path w="1054370" h="779619">
                  <a:moveTo>
                    <a:pt x="1" y="297787"/>
                  </a:moveTo>
                  <a:lnTo>
                    <a:pt x="402736" y="297789"/>
                  </a:lnTo>
                  <a:lnTo>
                    <a:pt x="527185" y="0"/>
                  </a:lnTo>
                  <a:lnTo>
                    <a:pt x="651634" y="297789"/>
                  </a:lnTo>
                  <a:lnTo>
                    <a:pt x="1054369" y="297787"/>
                  </a:lnTo>
                  <a:lnTo>
                    <a:pt x="728548" y="481829"/>
                  </a:lnTo>
                  <a:lnTo>
                    <a:pt x="853003" y="779617"/>
                  </a:lnTo>
                  <a:lnTo>
                    <a:pt x="527185" y="595572"/>
                  </a:lnTo>
                  <a:lnTo>
                    <a:pt x="201367" y="779617"/>
                  </a:lnTo>
                  <a:lnTo>
                    <a:pt x="325822" y="481829"/>
                  </a:lnTo>
                  <a:lnTo>
                    <a:pt x="1" y="297787"/>
                  </a:lnTo>
                  <a:close/>
                </a:path>
              </a:pathLst>
            </a:custGeom>
            <a:noFill/>
            <a:ln w="25560">
              <a:solidFill>
                <a:srgbClr val="24bbc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5-Point Star 59"/>
            <p:cNvSpPr/>
            <p:nvPr/>
          </p:nvSpPr>
          <p:spPr>
            <a:xfrm>
              <a:off x="3998880" y="669600"/>
              <a:ext cx="284400" cy="162000"/>
            </a:xfrm>
            <a:custGeom>
              <a:avLst/>
              <a:gdLst/>
              <a:ahLst/>
              <a:rect l="l" t="t" r="r" b="b"/>
              <a:pathLst>
                <a:path w="911750" h="626149">
                  <a:moveTo>
                    <a:pt x="1" y="239167"/>
                  </a:moveTo>
                  <a:lnTo>
                    <a:pt x="348259" y="239169"/>
                  </a:lnTo>
                  <a:lnTo>
                    <a:pt x="455875" y="0"/>
                  </a:lnTo>
                  <a:lnTo>
                    <a:pt x="563491" y="239169"/>
                  </a:lnTo>
                  <a:lnTo>
                    <a:pt x="911749" y="239167"/>
                  </a:lnTo>
                  <a:lnTo>
                    <a:pt x="630001" y="386980"/>
                  </a:lnTo>
                  <a:lnTo>
                    <a:pt x="737621" y="626147"/>
                  </a:lnTo>
                  <a:lnTo>
                    <a:pt x="455875" y="478332"/>
                  </a:lnTo>
                  <a:lnTo>
                    <a:pt x="174129" y="626147"/>
                  </a:lnTo>
                  <a:lnTo>
                    <a:pt x="281749" y="386980"/>
                  </a:lnTo>
                  <a:lnTo>
                    <a:pt x="1" y="239167"/>
                  </a:lnTo>
                  <a:close/>
                </a:path>
              </a:pathLst>
            </a:custGeom>
            <a:noFill/>
            <a:ln w="255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Group 60"/>
          <p:cNvGrpSpPr/>
          <p:nvPr/>
        </p:nvGrpSpPr>
        <p:grpSpPr>
          <a:xfrm>
            <a:off x="6095880" y="565200"/>
            <a:ext cx="595440" cy="441360"/>
            <a:chOff x="6095880" y="565200"/>
            <a:chExt cx="595440" cy="441360"/>
          </a:xfrm>
        </p:grpSpPr>
        <p:sp>
          <p:nvSpPr>
            <p:cNvPr id="103" name="5-Point Star 61"/>
            <p:cNvSpPr/>
            <p:nvPr/>
          </p:nvSpPr>
          <p:spPr>
            <a:xfrm>
              <a:off x="6095880" y="565200"/>
              <a:ext cx="595440" cy="441360"/>
            </a:xfrm>
            <a:custGeom>
              <a:avLst/>
              <a:gdLst/>
              <a:ahLst/>
              <a:rect l="l" t="t" r="r" b="b"/>
              <a:pathLst>
                <a:path w="1905000" h="1706563">
                  <a:moveTo>
                    <a:pt x="2" y="651847"/>
                  </a:moveTo>
                  <a:lnTo>
                    <a:pt x="727649" y="651852"/>
                  </a:lnTo>
                  <a:lnTo>
                    <a:pt x="952500" y="0"/>
                  </a:lnTo>
                  <a:lnTo>
                    <a:pt x="1177351" y="651852"/>
                  </a:lnTo>
                  <a:lnTo>
                    <a:pt x="1904998" y="651847"/>
                  </a:lnTo>
                  <a:lnTo>
                    <a:pt x="1316316" y="1054710"/>
                  </a:lnTo>
                  <a:lnTo>
                    <a:pt x="1541176" y="1706559"/>
                  </a:lnTo>
                  <a:lnTo>
                    <a:pt x="952500" y="1303689"/>
                  </a:lnTo>
                  <a:lnTo>
                    <a:pt x="363824" y="1706559"/>
                  </a:lnTo>
                  <a:lnTo>
                    <a:pt x="588684" y="1054710"/>
                  </a:lnTo>
                  <a:lnTo>
                    <a:pt x="2" y="651847"/>
                  </a:lnTo>
                  <a:close/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5-Point Star 62"/>
            <p:cNvSpPr/>
            <p:nvPr/>
          </p:nvSpPr>
          <p:spPr>
            <a:xfrm>
              <a:off x="6117840" y="587160"/>
              <a:ext cx="551160" cy="401760"/>
            </a:xfrm>
            <a:custGeom>
              <a:avLst/>
              <a:gdLst/>
              <a:ahLst/>
              <a:rect l="l" t="t" r="r" b="b"/>
              <a:pathLst>
                <a:path w="1762760" h="1553097">
                  <a:moveTo>
                    <a:pt x="2" y="593229"/>
                  </a:moveTo>
                  <a:lnTo>
                    <a:pt x="673318" y="593233"/>
                  </a:lnTo>
                  <a:lnTo>
                    <a:pt x="881380" y="0"/>
                  </a:lnTo>
                  <a:lnTo>
                    <a:pt x="1089442" y="593233"/>
                  </a:lnTo>
                  <a:lnTo>
                    <a:pt x="1762758" y="593229"/>
                  </a:lnTo>
                  <a:lnTo>
                    <a:pt x="1218031" y="959863"/>
                  </a:lnTo>
                  <a:lnTo>
                    <a:pt x="1426102" y="1553093"/>
                  </a:lnTo>
                  <a:lnTo>
                    <a:pt x="881380" y="1186452"/>
                  </a:lnTo>
                  <a:lnTo>
                    <a:pt x="336658" y="1553093"/>
                  </a:lnTo>
                  <a:lnTo>
                    <a:pt x="544729" y="959863"/>
                  </a:lnTo>
                  <a:lnTo>
                    <a:pt x="2" y="593229"/>
                  </a:lnTo>
                  <a:close/>
                </a:path>
              </a:pathLst>
            </a:custGeom>
            <a:noFill/>
            <a:ln w="25560">
              <a:solidFill>
                <a:srgbClr val="daf32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5-Point Star 63"/>
            <p:cNvSpPr/>
            <p:nvPr/>
          </p:nvSpPr>
          <p:spPr>
            <a:xfrm>
              <a:off x="6140160" y="609480"/>
              <a:ext cx="487440" cy="365400"/>
            </a:xfrm>
            <a:custGeom>
              <a:avLst/>
              <a:gdLst/>
              <a:ahLst/>
              <a:rect l="l" t="t" r="r" b="b"/>
              <a:pathLst>
                <a:path w="1559560" h="1411905">
                  <a:moveTo>
                    <a:pt x="2" y="539298"/>
                  </a:moveTo>
                  <a:lnTo>
                    <a:pt x="595702" y="539302"/>
                  </a:lnTo>
                  <a:lnTo>
                    <a:pt x="779780" y="0"/>
                  </a:lnTo>
                  <a:lnTo>
                    <a:pt x="963858" y="539302"/>
                  </a:lnTo>
                  <a:lnTo>
                    <a:pt x="1559558" y="539298"/>
                  </a:lnTo>
                  <a:lnTo>
                    <a:pt x="1077624" y="872602"/>
                  </a:lnTo>
                  <a:lnTo>
                    <a:pt x="1261710" y="1411901"/>
                  </a:lnTo>
                  <a:lnTo>
                    <a:pt x="779780" y="1078592"/>
                  </a:lnTo>
                  <a:lnTo>
                    <a:pt x="297850" y="1411901"/>
                  </a:lnTo>
                  <a:lnTo>
                    <a:pt x="481936" y="872602"/>
                  </a:lnTo>
                  <a:lnTo>
                    <a:pt x="2" y="539298"/>
                  </a:lnTo>
                  <a:close/>
                </a:path>
              </a:pathLst>
            </a:custGeom>
            <a:noFill/>
            <a:ln w="25560">
              <a:solidFill>
                <a:srgbClr val="b6e8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5-Point Star 64"/>
            <p:cNvSpPr/>
            <p:nvPr/>
          </p:nvSpPr>
          <p:spPr>
            <a:xfrm>
              <a:off x="6160680" y="633240"/>
              <a:ext cx="463680" cy="320760"/>
            </a:xfrm>
            <a:custGeom>
              <a:avLst/>
              <a:gdLst/>
              <a:ahLst/>
              <a:rect l="l" t="t" r="r" b="b"/>
              <a:pathLst>
                <a:path w="1483359" h="1240021">
                  <a:moveTo>
                    <a:pt x="2" y="473645"/>
                  </a:moveTo>
                  <a:lnTo>
                    <a:pt x="566596" y="473648"/>
                  </a:lnTo>
                  <a:lnTo>
                    <a:pt x="741680" y="0"/>
                  </a:lnTo>
                  <a:lnTo>
                    <a:pt x="916763" y="473648"/>
                  </a:lnTo>
                  <a:lnTo>
                    <a:pt x="1483357" y="473645"/>
                  </a:lnTo>
                  <a:lnTo>
                    <a:pt x="1024971" y="766372"/>
                  </a:lnTo>
                  <a:lnTo>
                    <a:pt x="1200062" y="1240018"/>
                  </a:lnTo>
                  <a:lnTo>
                    <a:pt x="741680" y="947285"/>
                  </a:lnTo>
                  <a:lnTo>
                    <a:pt x="283297" y="1240018"/>
                  </a:lnTo>
                  <a:lnTo>
                    <a:pt x="458388" y="766372"/>
                  </a:lnTo>
                  <a:lnTo>
                    <a:pt x="2" y="473645"/>
                  </a:lnTo>
                  <a:close/>
                </a:path>
              </a:pathLst>
            </a:custGeom>
            <a:noFill/>
            <a:ln w="25560">
              <a:solidFill>
                <a:srgbClr val="91dd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5-Point Star 65"/>
            <p:cNvSpPr/>
            <p:nvPr/>
          </p:nvSpPr>
          <p:spPr>
            <a:xfrm>
              <a:off x="6183000" y="655560"/>
              <a:ext cx="419400" cy="281160"/>
            </a:xfrm>
            <a:custGeom>
              <a:avLst/>
              <a:gdLst/>
              <a:ahLst/>
              <a:rect l="l" t="t" r="r" b="b"/>
              <a:pathLst>
                <a:path w="1341119" h="1086551">
                  <a:moveTo>
                    <a:pt x="1" y="415024"/>
                  </a:moveTo>
                  <a:lnTo>
                    <a:pt x="512265" y="415027"/>
                  </a:lnTo>
                  <a:lnTo>
                    <a:pt x="670560" y="0"/>
                  </a:lnTo>
                  <a:lnTo>
                    <a:pt x="828854" y="415027"/>
                  </a:lnTo>
                  <a:lnTo>
                    <a:pt x="1341118" y="415024"/>
                  </a:lnTo>
                  <a:lnTo>
                    <a:pt x="926686" y="671523"/>
                  </a:lnTo>
                  <a:lnTo>
                    <a:pt x="1084987" y="1086548"/>
                  </a:lnTo>
                  <a:lnTo>
                    <a:pt x="670560" y="830045"/>
                  </a:lnTo>
                  <a:lnTo>
                    <a:pt x="256132" y="1086548"/>
                  </a:lnTo>
                  <a:lnTo>
                    <a:pt x="414433" y="671523"/>
                  </a:lnTo>
                  <a:lnTo>
                    <a:pt x="1" y="415024"/>
                  </a:lnTo>
                  <a:close/>
                </a:path>
              </a:pathLst>
            </a:custGeom>
            <a:noFill/>
            <a:ln w="25560">
              <a:solidFill>
                <a:srgbClr val="6dd1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5-Point Star 66"/>
            <p:cNvSpPr/>
            <p:nvPr/>
          </p:nvSpPr>
          <p:spPr>
            <a:xfrm>
              <a:off x="6205320" y="677880"/>
              <a:ext cx="374760" cy="241200"/>
            </a:xfrm>
            <a:custGeom>
              <a:avLst/>
              <a:gdLst/>
              <a:ahLst/>
              <a:rect l="l" t="t" r="r" b="b"/>
              <a:pathLst>
                <a:path w="1198879" h="933085">
                  <a:moveTo>
                    <a:pt x="1" y="356406"/>
                  </a:moveTo>
                  <a:lnTo>
                    <a:pt x="457934" y="356408"/>
                  </a:lnTo>
                  <a:lnTo>
                    <a:pt x="599440" y="0"/>
                  </a:lnTo>
                  <a:lnTo>
                    <a:pt x="740945" y="356408"/>
                  </a:lnTo>
                  <a:lnTo>
                    <a:pt x="1198878" y="356406"/>
                  </a:lnTo>
                  <a:lnTo>
                    <a:pt x="828401" y="576676"/>
                  </a:lnTo>
                  <a:lnTo>
                    <a:pt x="969913" y="933083"/>
                  </a:lnTo>
                  <a:lnTo>
                    <a:pt x="599440" y="712809"/>
                  </a:lnTo>
                  <a:lnTo>
                    <a:pt x="228966" y="933083"/>
                  </a:lnTo>
                  <a:lnTo>
                    <a:pt x="370478" y="576676"/>
                  </a:lnTo>
                  <a:lnTo>
                    <a:pt x="1" y="356406"/>
                  </a:lnTo>
                  <a:close/>
                </a:path>
              </a:pathLst>
            </a:custGeom>
            <a:noFill/>
            <a:ln w="25560">
              <a:solidFill>
                <a:srgbClr val="48c6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5-Point Star 67"/>
            <p:cNvSpPr/>
            <p:nvPr/>
          </p:nvSpPr>
          <p:spPr>
            <a:xfrm>
              <a:off x="6227640" y="700200"/>
              <a:ext cx="330120" cy="201600"/>
            </a:xfrm>
            <a:custGeom>
              <a:avLst/>
              <a:gdLst/>
              <a:ahLst/>
              <a:rect l="l" t="t" r="r" b="b"/>
              <a:pathLst>
                <a:path w="1056639" h="779615">
                  <a:moveTo>
                    <a:pt x="1" y="297786"/>
                  </a:moveTo>
                  <a:lnTo>
                    <a:pt x="403602" y="297788"/>
                  </a:lnTo>
                  <a:lnTo>
                    <a:pt x="528320" y="0"/>
                  </a:lnTo>
                  <a:lnTo>
                    <a:pt x="653037" y="297788"/>
                  </a:lnTo>
                  <a:lnTo>
                    <a:pt x="1056638" y="297786"/>
                  </a:lnTo>
                  <a:lnTo>
                    <a:pt x="730116" y="481827"/>
                  </a:lnTo>
                  <a:lnTo>
                    <a:pt x="854838" y="779613"/>
                  </a:lnTo>
                  <a:lnTo>
                    <a:pt x="528320" y="595569"/>
                  </a:lnTo>
                  <a:lnTo>
                    <a:pt x="201801" y="779613"/>
                  </a:lnTo>
                  <a:lnTo>
                    <a:pt x="326523" y="481827"/>
                  </a:lnTo>
                  <a:lnTo>
                    <a:pt x="1" y="297786"/>
                  </a:lnTo>
                  <a:close/>
                </a:path>
              </a:pathLst>
            </a:custGeom>
            <a:noFill/>
            <a:ln w="25560">
              <a:solidFill>
                <a:srgbClr val="24bbc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5-Point Star 68"/>
            <p:cNvSpPr/>
            <p:nvPr/>
          </p:nvSpPr>
          <p:spPr>
            <a:xfrm>
              <a:off x="6249960" y="722160"/>
              <a:ext cx="285840" cy="162000"/>
            </a:xfrm>
            <a:custGeom>
              <a:avLst/>
              <a:gdLst/>
              <a:ahLst/>
              <a:rect l="l" t="t" r="r" b="b"/>
              <a:pathLst>
                <a:path w="914399" h="626149">
                  <a:moveTo>
                    <a:pt x="1" y="239167"/>
                  </a:moveTo>
                  <a:lnTo>
                    <a:pt x="349271" y="239169"/>
                  </a:lnTo>
                  <a:lnTo>
                    <a:pt x="457200" y="0"/>
                  </a:lnTo>
                  <a:lnTo>
                    <a:pt x="565128" y="239169"/>
                  </a:lnTo>
                  <a:lnTo>
                    <a:pt x="914398" y="239167"/>
                  </a:lnTo>
                  <a:lnTo>
                    <a:pt x="631831" y="386980"/>
                  </a:lnTo>
                  <a:lnTo>
                    <a:pt x="739764" y="626147"/>
                  </a:lnTo>
                  <a:lnTo>
                    <a:pt x="457200" y="478332"/>
                  </a:lnTo>
                  <a:lnTo>
                    <a:pt x="174635" y="626147"/>
                  </a:lnTo>
                  <a:lnTo>
                    <a:pt x="282568" y="386980"/>
                  </a:lnTo>
                  <a:lnTo>
                    <a:pt x="1" y="239167"/>
                  </a:lnTo>
                  <a:close/>
                </a:path>
              </a:pathLst>
            </a:custGeom>
            <a:noFill/>
            <a:ln w="255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69"/>
          <p:cNvGrpSpPr/>
          <p:nvPr/>
        </p:nvGrpSpPr>
        <p:grpSpPr>
          <a:xfrm>
            <a:off x="7848720" y="1066680"/>
            <a:ext cx="595080" cy="441360"/>
            <a:chOff x="7848720" y="1066680"/>
            <a:chExt cx="595080" cy="441360"/>
          </a:xfrm>
        </p:grpSpPr>
        <p:sp>
          <p:nvSpPr>
            <p:cNvPr id="112" name="5-Point Star 70"/>
            <p:cNvSpPr/>
            <p:nvPr/>
          </p:nvSpPr>
          <p:spPr>
            <a:xfrm>
              <a:off x="7848720" y="1066680"/>
              <a:ext cx="595080" cy="441360"/>
            </a:xfrm>
            <a:custGeom>
              <a:avLst/>
              <a:gdLst/>
              <a:ahLst/>
              <a:rect l="l" t="t" r="r" b="b"/>
              <a:pathLst>
                <a:path w="1905000" h="1706563">
                  <a:moveTo>
                    <a:pt x="2" y="651847"/>
                  </a:moveTo>
                  <a:lnTo>
                    <a:pt x="727649" y="651852"/>
                  </a:lnTo>
                  <a:lnTo>
                    <a:pt x="952500" y="0"/>
                  </a:lnTo>
                  <a:lnTo>
                    <a:pt x="1177351" y="651852"/>
                  </a:lnTo>
                  <a:lnTo>
                    <a:pt x="1904998" y="651847"/>
                  </a:lnTo>
                  <a:lnTo>
                    <a:pt x="1316316" y="1054710"/>
                  </a:lnTo>
                  <a:lnTo>
                    <a:pt x="1541176" y="1706559"/>
                  </a:lnTo>
                  <a:lnTo>
                    <a:pt x="952500" y="1303689"/>
                  </a:lnTo>
                  <a:lnTo>
                    <a:pt x="363824" y="1706559"/>
                  </a:lnTo>
                  <a:lnTo>
                    <a:pt x="588684" y="1054710"/>
                  </a:lnTo>
                  <a:lnTo>
                    <a:pt x="2" y="651847"/>
                  </a:lnTo>
                  <a:close/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5-Point Star 71"/>
            <p:cNvSpPr/>
            <p:nvPr/>
          </p:nvSpPr>
          <p:spPr>
            <a:xfrm>
              <a:off x="7870680" y="1088640"/>
              <a:ext cx="550800" cy="401760"/>
            </a:xfrm>
            <a:custGeom>
              <a:avLst/>
              <a:gdLst/>
              <a:ahLst/>
              <a:rect l="l" t="t" r="r" b="b"/>
              <a:pathLst>
                <a:path w="1762760" h="1553097">
                  <a:moveTo>
                    <a:pt x="2" y="593229"/>
                  </a:moveTo>
                  <a:lnTo>
                    <a:pt x="673318" y="593233"/>
                  </a:lnTo>
                  <a:lnTo>
                    <a:pt x="881380" y="0"/>
                  </a:lnTo>
                  <a:lnTo>
                    <a:pt x="1089442" y="593233"/>
                  </a:lnTo>
                  <a:lnTo>
                    <a:pt x="1762758" y="593229"/>
                  </a:lnTo>
                  <a:lnTo>
                    <a:pt x="1218031" y="959863"/>
                  </a:lnTo>
                  <a:lnTo>
                    <a:pt x="1426102" y="1553093"/>
                  </a:lnTo>
                  <a:lnTo>
                    <a:pt x="881380" y="1186452"/>
                  </a:lnTo>
                  <a:lnTo>
                    <a:pt x="336658" y="1553093"/>
                  </a:lnTo>
                  <a:lnTo>
                    <a:pt x="544729" y="959863"/>
                  </a:lnTo>
                  <a:lnTo>
                    <a:pt x="2" y="593229"/>
                  </a:lnTo>
                  <a:close/>
                </a:path>
              </a:pathLst>
            </a:custGeom>
            <a:noFill/>
            <a:ln w="25560">
              <a:solidFill>
                <a:srgbClr val="daf32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5-Point Star 72"/>
            <p:cNvSpPr/>
            <p:nvPr/>
          </p:nvSpPr>
          <p:spPr>
            <a:xfrm>
              <a:off x="7893000" y="1110960"/>
              <a:ext cx="487440" cy="365400"/>
            </a:xfrm>
            <a:custGeom>
              <a:avLst/>
              <a:gdLst/>
              <a:ahLst/>
              <a:rect l="l" t="t" r="r" b="b"/>
              <a:pathLst>
                <a:path w="1559560" h="1411905">
                  <a:moveTo>
                    <a:pt x="2" y="539298"/>
                  </a:moveTo>
                  <a:lnTo>
                    <a:pt x="595702" y="539302"/>
                  </a:lnTo>
                  <a:lnTo>
                    <a:pt x="779780" y="0"/>
                  </a:lnTo>
                  <a:lnTo>
                    <a:pt x="963858" y="539302"/>
                  </a:lnTo>
                  <a:lnTo>
                    <a:pt x="1559558" y="539298"/>
                  </a:lnTo>
                  <a:lnTo>
                    <a:pt x="1077624" y="872602"/>
                  </a:lnTo>
                  <a:lnTo>
                    <a:pt x="1261710" y="1411901"/>
                  </a:lnTo>
                  <a:lnTo>
                    <a:pt x="779780" y="1078592"/>
                  </a:lnTo>
                  <a:lnTo>
                    <a:pt x="297850" y="1411901"/>
                  </a:lnTo>
                  <a:lnTo>
                    <a:pt x="481936" y="872602"/>
                  </a:lnTo>
                  <a:lnTo>
                    <a:pt x="2" y="539298"/>
                  </a:lnTo>
                  <a:close/>
                </a:path>
              </a:pathLst>
            </a:custGeom>
            <a:noFill/>
            <a:ln w="25560">
              <a:solidFill>
                <a:srgbClr val="b6e8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5-Point Star 73"/>
            <p:cNvSpPr/>
            <p:nvPr/>
          </p:nvSpPr>
          <p:spPr>
            <a:xfrm>
              <a:off x="7913520" y="1134720"/>
              <a:ext cx="463320" cy="320760"/>
            </a:xfrm>
            <a:custGeom>
              <a:avLst/>
              <a:gdLst/>
              <a:ahLst/>
              <a:rect l="l" t="t" r="r" b="b"/>
              <a:pathLst>
                <a:path w="1483359" h="1240021">
                  <a:moveTo>
                    <a:pt x="2" y="473645"/>
                  </a:moveTo>
                  <a:lnTo>
                    <a:pt x="566596" y="473648"/>
                  </a:lnTo>
                  <a:lnTo>
                    <a:pt x="741680" y="0"/>
                  </a:lnTo>
                  <a:lnTo>
                    <a:pt x="916763" y="473648"/>
                  </a:lnTo>
                  <a:lnTo>
                    <a:pt x="1483357" y="473645"/>
                  </a:lnTo>
                  <a:lnTo>
                    <a:pt x="1024971" y="766372"/>
                  </a:lnTo>
                  <a:lnTo>
                    <a:pt x="1200062" y="1240018"/>
                  </a:lnTo>
                  <a:lnTo>
                    <a:pt x="741680" y="947285"/>
                  </a:lnTo>
                  <a:lnTo>
                    <a:pt x="283297" y="1240018"/>
                  </a:lnTo>
                  <a:lnTo>
                    <a:pt x="458388" y="766372"/>
                  </a:lnTo>
                  <a:lnTo>
                    <a:pt x="2" y="473645"/>
                  </a:lnTo>
                  <a:close/>
                </a:path>
              </a:pathLst>
            </a:custGeom>
            <a:noFill/>
            <a:ln w="25560">
              <a:solidFill>
                <a:srgbClr val="91dd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5-Point Star 74"/>
            <p:cNvSpPr/>
            <p:nvPr/>
          </p:nvSpPr>
          <p:spPr>
            <a:xfrm>
              <a:off x="7935840" y="1157040"/>
              <a:ext cx="419040" cy="281160"/>
            </a:xfrm>
            <a:custGeom>
              <a:avLst/>
              <a:gdLst/>
              <a:ahLst/>
              <a:rect l="l" t="t" r="r" b="b"/>
              <a:pathLst>
                <a:path w="1341119" h="1086551">
                  <a:moveTo>
                    <a:pt x="1" y="415024"/>
                  </a:moveTo>
                  <a:lnTo>
                    <a:pt x="512265" y="415027"/>
                  </a:lnTo>
                  <a:lnTo>
                    <a:pt x="670560" y="0"/>
                  </a:lnTo>
                  <a:lnTo>
                    <a:pt x="828854" y="415027"/>
                  </a:lnTo>
                  <a:lnTo>
                    <a:pt x="1341118" y="415024"/>
                  </a:lnTo>
                  <a:lnTo>
                    <a:pt x="926686" y="671523"/>
                  </a:lnTo>
                  <a:lnTo>
                    <a:pt x="1084987" y="1086548"/>
                  </a:lnTo>
                  <a:lnTo>
                    <a:pt x="670560" y="830045"/>
                  </a:lnTo>
                  <a:lnTo>
                    <a:pt x="256132" y="1086548"/>
                  </a:lnTo>
                  <a:lnTo>
                    <a:pt x="414433" y="671523"/>
                  </a:lnTo>
                  <a:lnTo>
                    <a:pt x="1" y="415024"/>
                  </a:lnTo>
                  <a:close/>
                </a:path>
              </a:pathLst>
            </a:custGeom>
            <a:noFill/>
            <a:ln w="25560">
              <a:solidFill>
                <a:srgbClr val="6dd1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5-Point Star 75"/>
            <p:cNvSpPr/>
            <p:nvPr/>
          </p:nvSpPr>
          <p:spPr>
            <a:xfrm>
              <a:off x="7958160" y="1179360"/>
              <a:ext cx="374400" cy="241200"/>
            </a:xfrm>
            <a:custGeom>
              <a:avLst/>
              <a:gdLst/>
              <a:ahLst/>
              <a:rect l="l" t="t" r="r" b="b"/>
              <a:pathLst>
                <a:path w="1198879" h="933085">
                  <a:moveTo>
                    <a:pt x="1" y="356406"/>
                  </a:moveTo>
                  <a:lnTo>
                    <a:pt x="457934" y="356408"/>
                  </a:lnTo>
                  <a:lnTo>
                    <a:pt x="599440" y="0"/>
                  </a:lnTo>
                  <a:lnTo>
                    <a:pt x="740945" y="356408"/>
                  </a:lnTo>
                  <a:lnTo>
                    <a:pt x="1198878" y="356406"/>
                  </a:lnTo>
                  <a:lnTo>
                    <a:pt x="828401" y="576676"/>
                  </a:lnTo>
                  <a:lnTo>
                    <a:pt x="969913" y="933083"/>
                  </a:lnTo>
                  <a:lnTo>
                    <a:pt x="599440" y="712809"/>
                  </a:lnTo>
                  <a:lnTo>
                    <a:pt x="228966" y="933083"/>
                  </a:lnTo>
                  <a:lnTo>
                    <a:pt x="370478" y="576676"/>
                  </a:lnTo>
                  <a:lnTo>
                    <a:pt x="1" y="356406"/>
                  </a:lnTo>
                  <a:close/>
                </a:path>
              </a:pathLst>
            </a:custGeom>
            <a:noFill/>
            <a:ln w="25560">
              <a:solidFill>
                <a:srgbClr val="48c6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5-Point Star 76"/>
            <p:cNvSpPr/>
            <p:nvPr/>
          </p:nvSpPr>
          <p:spPr>
            <a:xfrm>
              <a:off x="7980480" y="1201680"/>
              <a:ext cx="330120" cy="201600"/>
            </a:xfrm>
            <a:custGeom>
              <a:avLst/>
              <a:gdLst/>
              <a:ahLst/>
              <a:rect l="l" t="t" r="r" b="b"/>
              <a:pathLst>
                <a:path w="1056639" h="779615">
                  <a:moveTo>
                    <a:pt x="1" y="297786"/>
                  </a:moveTo>
                  <a:lnTo>
                    <a:pt x="403602" y="297788"/>
                  </a:lnTo>
                  <a:lnTo>
                    <a:pt x="528320" y="0"/>
                  </a:lnTo>
                  <a:lnTo>
                    <a:pt x="653037" y="297788"/>
                  </a:lnTo>
                  <a:lnTo>
                    <a:pt x="1056638" y="297786"/>
                  </a:lnTo>
                  <a:lnTo>
                    <a:pt x="730116" y="481827"/>
                  </a:lnTo>
                  <a:lnTo>
                    <a:pt x="854838" y="779613"/>
                  </a:lnTo>
                  <a:lnTo>
                    <a:pt x="528320" y="595569"/>
                  </a:lnTo>
                  <a:lnTo>
                    <a:pt x="201801" y="779613"/>
                  </a:lnTo>
                  <a:lnTo>
                    <a:pt x="326523" y="481827"/>
                  </a:lnTo>
                  <a:lnTo>
                    <a:pt x="1" y="297786"/>
                  </a:lnTo>
                  <a:close/>
                </a:path>
              </a:pathLst>
            </a:custGeom>
            <a:noFill/>
            <a:ln w="25560">
              <a:solidFill>
                <a:srgbClr val="24bbc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5-Point Star 77"/>
            <p:cNvSpPr/>
            <p:nvPr/>
          </p:nvSpPr>
          <p:spPr>
            <a:xfrm>
              <a:off x="8002440" y="1223640"/>
              <a:ext cx="285480" cy="162000"/>
            </a:xfrm>
            <a:custGeom>
              <a:avLst/>
              <a:gdLst/>
              <a:ahLst/>
              <a:rect l="l" t="t" r="r" b="b"/>
              <a:pathLst>
                <a:path w="914399" h="626149">
                  <a:moveTo>
                    <a:pt x="1" y="239167"/>
                  </a:moveTo>
                  <a:lnTo>
                    <a:pt x="349271" y="239169"/>
                  </a:lnTo>
                  <a:lnTo>
                    <a:pt x="457200" y="0"/>
                  </a:lnTo>
                  <a:lnTo>
                    <a:pt x="565128" y="239169"/>
                  </a:lnTo>
                  <a:lnTo>
                    <a:pt x="914398" y="239167"/>
                  </a:lnTo>
                  <a:lnTo>
                    <a:pt x="631831" y="386980"/>
                  </a:lnTo>
                  <a:lnTo>
                    <a:pt x="739764" y="626147"/>
                  </a:lnTo>
                  <a:lnTo>
                    <a:pt x="457200" y="478332"/>
                  </a:lnTo>
                  <a:lnTo>
                    <a:pt x="174635" y="626147"/>
                  </a:lnTo>
                  <a:lnTo>
                    <a:pt x="282568" y="386980"/>
                  </a:lnTo>
                  <a:lnTo>
                    <a:pt x="1" y="239167"/>
                  </a:lnTo>
                  <a:close/>
                </a:path>
              </a:pathLst>
            </a:custGeom>
            <a:noFill/>
            <a:ln w="255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78"/>
          <p:cNvGrpSpPr/>
          <p:nvPr/>
        </p:nvGrpSpPr>
        <p:grpSpPr>
          <a:xfrm>
            <a:off x="6904080" y="222120"/>
            <a:ext cx="593640" cy="441360"/>
            <a:chOff x="6904080" y="222120"/>
            <a:chExt cx="593640" cy="441360"/>
          </a:xfrm>
        </p:grpSpPr>
        <p:sp>
          <p:nvSpPr>
            <p:cNvPr id="121" name="5-Point Star 79"/>
            <p:cNvSpPr/>
            <p:nvPr/>
          </p:nvSpPr>
          <p:spPr>
            <a:xfrm>
              <a:off x="6904080" y="222120"/>
              <a:ext cx="593640" cy="441360"/>
            </a:xfrm>
            <a:custGeom>
              <a:avLst/>
              <a:gdLst/>
              <a:ahLst/>
              <a:rect l="l" t="t" r="r" b="b"/>
              <a:pathLst>
                <a:path w="1905000" h="1706563">
                  <a:moveTo>
                    <a:pt x="2" y="651847"/>
                  </a:moveTo>
                  <a:lnTo>
                    <a:pt x="727649" y="651852"/>
                  </a:lnTo>
                  <a:lnTo>
                    <a:pt x="952500" y="0"/>
                  </a:lnTo>
                  <a:lnTo>
                    <a:pt x="1177351" y="651852"/>
                  </a:lnTo>
                  <a:lnTo>
                    <a:pt x="1904998" y="651847"/>
                  </a:lnTo>
                  <a:lnTo>
                    <a:pt x="1316316" y="1054710"/>
                  </a:lnTo>
                  <a:lnTo>
                    <a:pt x="1541176" y="1706559"/>
                  </a:lnTo>
                  <a:lnTo>
                    <a:pt x="952500" y="1303689"/>
                  </a:lnTo>
                  <a:lnTo>
                    <a:pt x="363824" y="1706559"/>
                  </a:lnTo>
                  <a:lnTo>
                    <a:pt x="588684" y="1054710"/>
                  </a:lnTo>
                  <a:lnTo>
                    <a:pt x="2" y="651847"/>
                  </a:lnTo>
                  <a:close/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5-Point Star 80"/>
            <p:cNvSpPr/>
            <p:nvPr/>
          </p:nvSpPr>
          <p:spPr>
            <a:xfrm>
              <a:off x="6926040" y="244080"/>
              <a:ext cx="549360" cy="401760"/>
            </a:xfrm>
            <a:custGeom>
              <a:avLst/>
              <a:gdLst/>
              <a:ahLst/>
              <a:rect l="l" t="t" r="r" b="b"/>
              <a:pathLst>
                <a:path w="1762380" h="1553097">
                  <a:moveTo>
                    <a:pt x="2" y="593229"/>
                  </a:moveTo>
                  <a:lnTo>
                    <a:pt x="673173" y="593233"/>
                  </a:lnTo>
                  <a:lnTo>
                    <a:pt x="881190" y="0"/>
                  </a:lnTo>
                  <a:lnTo>
                    <a:pt x="1089207" y="593233"/>
                  </a:lnTo>
                  <a:lnTo>
                    <a:pt x="1762378" y="593229"/>
                  </a:lnTo>
                  <a:lnTo>
                    <a:pt x="1217769" y="959863"/>
                  </a:lnTo>
                  <a:lnTo>
                    <a:pt x="1425794" y="1553093"/>
                  </a:lnTo>
                  <a:lnTo>
                    <a:pt x="881190" y="1186452"/>
                  </a:lnTo>
                  <a:lnTo>
                    <a:pt x="336586" y="1553093"/>
                  </a:lnTo>
                  <a:lnTo>
                    <a:pt x="544611" y="959863"/>
                  </a:lnTo>
                  <a:lnTo>
                    <a:pt x="2" y="593229"/>
                  </a:lnTo>
                  <a:close/>
                </a:path>
              </a:pathLst>
            </a:custGeom>
            <a:noFill/>
            <a:ln w="25560">
              <a:solidFill>
                <a:srgbClr val="daf32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5-Point Star 81"/>
            <p:cNvSpPr/>
            <p:nvPr/>
          </p:nvSpPr>
          <p:spPr>
            <a:xfrm>
              <a:off x="6948360" y="266400"/>
              <a:ext cx="487440" cy="365400"/>
            </a:xfrm>
            <a:custGeom>
              <a:avLst/>
              <a:gdLst/>
              <a:ahLst/>
              <a:rect l="l" t="t" r="r" b="b"/>
              <a:pathLst>
                <a:path w="1563728" h="1411905">
                  <a:moveTo>
                    <a:pt x="2" y="539298"/>
                  </a:moveTo>
                  <a:lnTo>
                    <a:pt x="597294" y="539302"/>
                  </a:lnTo>
                  <a:lnTo>
                    <a:pt x="781864" y="0"/>
                  </a:lnTo>
                  <a:lnTo>
                    <a:pt x="966434" y="539302"/>
                  </a:lnTo>
                  <a:lnTo>
                    <a:pt x="1563726" y="539298"/>
                  </a:lnTo>
                  <a:lnTo>
                    <a:pt x="1080504" y="872602"/>
                  </a:lnTo>
                  <a:lnTo>
                    <a:pt x="1265082" y="1411901"/>
                  </a:lnTo>
                  <a:lnTo>
                    <a:pt x="781864" y="1078592"/>
                  </a:lnTo>
                  <a:lnTo>
                    <a:pt x="298646" y="1411901"/>
                  </a:lnTo>
                  <a:lnTo>
                    <a:pt x="483224" y="872602"/>
                  </a:lnTo>
                  <a:lnTo>
                    <a:pt x="2" y="539298"/>
                  </a:lnTo>
                  <a:close/>
                </a:path>
              </a:pathLst>
            </a:custGeom>
            <a:noFill/>
            <a:ln w="25560">
              <a:solidFill>
                <a:srgbClr val="b6e8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5-Point Star 82"/>
            <p:cNvSpPr/>
            <p:nvPr/>
          </p:nvSpPr>
          <p:spPr>
            <a:xfrm>
              <a:off x="6968880" y="290160"/>
              <a:ext cx="461880" cy="320760"/>
            </a:xfrm>
            <a:custGeom>
              <a:avLst/>
              <a:gdLst/>
              <a:ahLst/>
              <a:rect l="l" t="t" r="r" b="b"/>
              <a:pathLst>
                <a:path w="1482234" h="1240021">
                  <a:moveTo>
                    <a:pt x="2" y="473645"/>
                  </a:moveTo>
                  <a:lnTo>
                    <a:pt x="566166" y="473648"/>
                  </a:lnTo>
                  <a:lnTo>
                    <a:pt x="741117" y="0"/>
                  </a:lnTo>
                  <a:lnTo>
                    <a:pt x="916068" y="473648"/>
                  </a:lnTo>
                  <a:lnTo>
                    <a:pt x="1482232" y="473645"/>
                  </a:lnTo>
                  <a:lnTo>
                    <a:pt x="1024193" y="766372"/>
                  </a:lnTo>
                  <a:lnTo>
                    <a:pt x="1199152" y="1240018"/>
                  </a:lnTo>
                  <a:lnTo>
                    <a:pt x="741117" y="947285"/>
                  </a:lnTo>
                  <a:lnTo>
                    <a:pt x="283082" y="1240018"/>
                  </a:lnTo>
                  <a:lnTo>
                    <a:pt x="458041" y="766372"/>
                  </a:lnTo>
                  <a:lnTo>
                    <a:pt x="2" y="473645"/>
                  </a:lnTo>
                  <a:close/>
                </a:path>
              </a:pathLst>
            </a:custGeom>
            <a:noFill/>
            <a:ln w="25560">
              <a:solidFill>
                <a:srgbClr val="91dd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5-Point Star 83"/>
            <p:cNvSpPr/>
            <p:nvPr/>
          </p:nvSpPr>
          <p:spPr>
            <a:xfrm>
              <a:off x="6991200" y="312480"/>
              <a:ext cx="417600" cy="281160"/>
            </a:xfrm>
            <a:custGeom>
              <a:avLst/>
              <a:gdLst/>
              <a:ahLst/>
              <a:rect l="l" t="t" r="r" b="b"/>
              <a:pathLst>
                <a:path w="1339614" h="1086551">
                  <a:moveTo>
                    <a:pt x="1" y="415024"/>
                  </a:moveTo>
                  <a:lnTo>
                    <a:pt x="511690" y="415027"/>
                  </a:lnTo>
                  <a:lnTo>
                    <a:pt x="669807" y="0"/>
                  </a:lnTo>
                  <a:lnTo>
                    <a:pt x="827924" y="415027"/>
                  </a:lnTo>
                  <a:lnTo>
                    <a:pt x="1339613" y="415024"/>
                  </a:lnTo>
                  <a:lnTo>
                    <a:pt x="925646" y="671523"/>
                  </a:lnTo>
                  <a:lnTo>
                    <a:pt x="1083770" y="1086548"/>
                  </a:lnTo>
                  <a:lnTo>
                    <a:pt x="669807" y="830045"/>
                  </a:lnTo>
                  <a:lnTo>
                    <a:pt x="255844" y="1086548"/>
                  </a:lnTo>
                  <a:lnTo>
                    <a:pt x="413968" y="671523"/>
                  </a:lnTo>
                  <a:lnTo>
                    <a:pt x="1" y="415024"/>
                  </a:lnTo>
                  <a:close/>
                </a:path>
              </a:pathLst>
            </a:custGeom>
            <a:noFill/>
            <a:ln w="25560">
              <a:solidFill>
                <a:srgbClr val="6dd1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5-Point Star 84"/>
            <p:cNvSpPr/>
            <p:nvPr/>
          </p:nvSpPr>
          <p:spPr>
            <a:xfrm>
              <a:off x="7013520" y="334800"/>
              <a:ext cx="372960" cy="241200"/>
            </a:xfrm>
            <a:custGeom>
              <a:avLst/>
              <a:gdLst/>
              <a:ahLst/>
              <a:rect l="l" t="t" r="r" b="b"/>
              <a:pathLst>
                <a:path w="1196994" h="933085">
                  <a:moveTo>
                    <a:pt x="1" y="356406"/>
                  </a:moveTo>
                  <a:lnTo>
                    <a:pt x="457214" y="356408"/>
                  </a:lnTo>
                  <a:lnTo>
                    <a:pt x="598497" y="0"/>
                  </a:lnTo>
                  <a:lnTo>
                    <a:pt x="739780" y="356408"/>
                  </a:lnTo>
                  <a:lnTo>
                    <a:pt x="1196993" y="356406"/>
                  </a:lnTo>
                  <a:lnTo>
                    <a:pt x="827098" y="576676"/>
                  </a:lnTo>
                  <a:lnTo>
                    <a:pt x="968388" y="933083"/>
                  </a:lnTo>
                  <a:lnTo>
                    <a:pt x="598497" y="712809"/>
                  </a:lnTo>
                  <a:lnTo>
                    <a:pt x="228606" y="933083"/>
                  </a:lnTo>
                  <a:lnTo>
                    <a:pt x="369896" y="576676"/>
                  </a:lnTo>
                  <a:lnTo>
                    <a:pt x="1" y="356406"/>
                  </a:lnTo>
                  <a:close/>
                </a:path>
              </a:pathLst>
            </a:custGeom>
            <a:noFill/>
            <a:ln w="25560">
              <a:solidFill>
                <a:srgbClr val="48c6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5-Point Star 85"/>
            <p:cNvSpPr/>
            <p:nvPr/>
          </p:nvSpPr>
          <p:spPr>
            <a:xfrm>
              <a:off x="7035840" y="357120"/>
              <a:ext cx="328680" cy="201600"/>
            </a:xfrm>
            <a:custGeom>
              <a:avLst/>
              <a:gdLst/>
              <a:ahLst/>
              <a:rect l="l" t="t" r="r" b="b"/>
              <a:pathLst>
                <a:path w="1054373" h="779615">
                  <a:moveTo>
                    <a:pt x="1" y="297786"/>
                  </a:moveTo>
                  <a:lnTo>
                    <a:pt x="402737" y="297788"/>
                  </a:lnTo>
                  <a:lnTo>
                    <a:pt x="527187" y="0"/>
                  </a:lnTo>
                  <a:lnTo>
                    <a:pt x="651636" y="297788"/>
                  </a:lnTo>
                  <a:lnTo>
                    <a:pt x="1054372" y="297786"/>
                  </a:lnTo>
                  <a:lnTo>
                    <a:pt x="728550" y="481827"/>
                  </a:lnTo>
                  <a:lnTo>
                    <a:pt x="853005" y="779613"/>
                  </a:lnTo>
                  <a:lnTo>
                    <a:pt x="527187" y="595569"/>
                  </a:lnTo>
                  <a:lnTo>
                    <a:pt x="201368" y="779613"/>
                  </a:lnTo>
                  <a:lnTo>
                    <a:pt x="325823" y="481827"/>
                  </a:lnTo>
                  <a:lnTo>
                    <a:pt x="1" y="297786"/>
                  </a:lnTo>
                  <a:close/>
                </a:path>
              </a:pathLst>
            </a:custGeom>
            <a:noFill/>
            <a:ln w="25560">
              <a:solidFill>
                <a:srgbClr val="24bbc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5-Point Star 86"/>
            <p:cNvSpPr/>
            <p:nvPr/>
          </p:nvSpPr>
          <p:spPr>
            <a:xfrm>
              <a:off x="7057800" y="379080"/>
              <a:ext cx="284040" cy="162000"/>
            </a:xfrm>
            <a:custGeom>
              <a:avLst/>
              <a:gdLst/>
              <a:ahLst/>
              <a:rect l="l" t="t" r="r" b="b"/>
              <a:pathLst>
                <a:path w="911753" h="626149">
                  <a:moveTo>
                    <a:pt x="1" y="239167"/>
                  </a:moveTo>
                  <a:lnTo>
                    <a:pt x="348261" y="239169"/>
                  </a:lnTo>
                  <a:lnTo>
                    <a:pt x="455877" y="0"/>
                  </a:lnTo>
                  <a:lnTo>
                    <a:pt x="563492" y="239169"/>
                  </a:lnTo>
                  <a:lnTo>
                    <a:pt x="911752" y="239167"/>
                  </a:lnTo>
                  <a:lnTo>
                    <a:pt x="630003" y="386980"/>
                  </a:lnTo>
                  <a:lnTo>
                    <a:pt x="737623" y="626147"/>
                  </a:lnTo>
                  <a:lnTo>
                    <a:pt x="455877" y="478332"/>
                  </a:lnTo>
                  <a:lnTo>
                    <a:pt x="174130" y="626147"/>
                  </a:lnTo>
                  <a:lnTo>
                    <a:pt x="281750" y="386980"/>
                  </a:lnTo>
                  <a:lnTo>
                    <a:pt x="1" y="239167"/>
                  </a:lnTo>
                  <a:close/>
                </a:path>
              </a:pathLst>
            </a:custGeom>
            <a:noFill/>
            <a:ln w="255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87"/>
          <p:cNvGrpSpPr/>
          <p:nvPr/>
        </p:nvGrpSpPr>
        <p:grpSpPr>
          <a:xfrm>
            <a:off x="5041800" y="360360"/>
            <a:ext cx="595440" cy="441360"/>
            <a:chOff x="5041800" y="360360"/>
            <a:chExt cx="595440" cy="441360"/>
          </a:xfrm>
        </p:grpSpPr>
        <p:sp>
          <p:nvSpPr>
            <p:cNvPr id="130" name="5-Point Star 88"/>
            <p:cNvSpPr/>
            <p:nvPr/>
          </p:nvSpPr>
          <p:spPr>
            <a:xfrm>
              <a:off x="5041800" y="360360"/>
              <a:ext cx="595440" cy="441360"/>
            </a:xfrm>
            <a:custGeom>
              <a:avLst/>
              <a:gdLst/>
              <a:ahLst/>
              <a:rect l="l" t="t" r="r" b="b"/>
              <a:pathLst>
                <a:path w="1905000" h="1706563">
                  <a:moveTo>
                    <a:pt x="2" y="651847"/>
                  </a:moveTo>
                  <a:lnTo>
                    <a:pt x="727649" y="651852"/>
                  </a:lnTo>
                  <a:lnTo>
                    <a:pt x="952500" y="0"/>
                  </a:lnTo>
                  <a:lnTo>
                    <a:pt x="1177351" y="651852"/>
                  </a:lnTo>
                  <a:lnTo>
                    <a:pt x="1904998" y="651847"/>
                  </a:lnTo>
                  <a:lnTo>
                    <a:pt x="1316316" y="1054710"/>
                  </a:lnTo>
                  <a:lnTo>
                    <a:pt x="1541176" y="1706559"/>
                  </a:lnTo>
                  <a:lnTo>
                    <a:pt x="952500" y="1303689"/>
                  </a:lnTo>
                  <a:lnTo>
                    <a:pt x="363824" y="1706559"/>
                  </a:lnTo>
                  <a:lnTo>
                    <a:pt x="588684" y="1054710"/>
                  </a:lnTo>
                  <a:lnTo>
                    <a:pt x="2" y="651847"/>
                  </a:lnTo>
                  <a:close/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5-Point Star 89"/>
            <p:cNvSpPr/>
            <p:nvPr/>
          </p:nvSpPr>
          <p:spPr>
            <a:xfrm>
              <a:off x="5063760" y="382320"/>
              <a:ext cx="551160" cy="401760"/>
            </a:xfrm>
            <a:custGeom>
              <a:avLst/>
              <a:gdLst/>
              <a:ahLst/>
              <a:rect l="l" t="t" r="r" b="b"/>
              <a:pathLst>
                <a:path w="1762760" h="1553093">
                  <a:moveTo>
                    <a:pt x="2" y="593227"/>
                  </a:moveTo>
                  <a:lnTo>
                    <a:pt x="673318" y="593231"/>
                  </a:lnTo>
                  <a:lnTo>
                    <a:pt x="881380" y="0"/>
                  </a:lnTo>
                  <a:lnTo>
                    <a:pt x="1089442" y="593231"/>
                  </a:lnTo>
                  <a:lnTo>
                    <a:pt x="1762758" y="593227"/>
                  </a:lnTo>
                  <a:lnTo>
                    <a:pt x="1218031" y="959860"/>
                  </a:lnTo>
                  <a:lnTo>
                    <a:pt x="1426102" y="1553089"/>
                  </a:lnTo>
                  <a:lnTo>
                    <a:pt x="881380" y="1186449"/>
                  </a:lnTo>
                  <a:lnTo>
                    <a:pt x="336658" y="1553089"/>
                  </a:lnTo>
                  <a:lnTo>
                    <a:pt x="544729" y="959860"/>
                  </a:lnTo>
                  <a:lnTo>
                    <a:pt x="2" y="593227"/>
                  </a:lnTo>
                  <a:close/>
                </a:path>
              </a:pathLst>
            </a:custGeom>
            <a:noFill/>
            <a:ln w="25560">
              <a:solidFill>
                <a:srgbClr val="daf32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5-Point Star 90"/>
            <p:cNvSpPr/>
            <p:nvPr/>
          </p:nvSpPr>
          <p:spPr>
            <a:xfrm>
              <a:off x="5086080" y="404640"/>
              <a:ext cx="487440" cy="365400"/>
            </a:xfrm>
            <a:custGeom>
              <a:avLst/>
              <a:gdLst/>
              <a:ahLst/>
              <a:rect l="l" t="t" r="r" b="b"/>
              <a:pathLst>
                <a:path w="1559560" h="1411905">
                  <a:moveTo>
                    <a:pt x="2" y="539298"/>
                  </a:moveTo>
                  <a:lnTo>
                    <a:pt x="595702" y="539302"/>
                  </a:lnTo>
                  <a:lnTo>
                    <a:pt x="779780" y="0"/>
                  </a:lnTo>
                  <a:lnTo>
                    <a:pt x="963858" y="539302"/>
                  </a:lnTo>
                  <a:lnTo>
                    <a:pt x="1559558" y="539298"/>
                  </a:lnTo>
                  <a:lnTo>
                    <a:pt x="1077624" y="872602"/>
                  </a:lnTo>
                  <a:lnTo>
                    <a:pt x="1261710" y="1411901"/>
                  </a:lnTo>
                  <a:lnTo>
                    <a:pt x="779780" y="1078592"/>
                  </a:lnTo>
                  <a:lnTo>
                    <a:pt x="297850" y="1411901"/>
                  </a:lnTo>
                  <a:lnTo>
                    <a:pt x="481936" y="872602"/>
                  </a:lnTo>
                  <a:lnTo>
                    <a:pt x="2" y="539298"/>
                  </a:lnTo>
                  <a:close/>
                </a:path>
              </a:pathLst>
            </a:custGeom>
            <a:noFill/>
            <a:ln w="25560">
              <a:solidFill>
                <a:srgbClr val="b6e8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5-Point Star 91"/>
            <p:cNvSpPr/>
            <p:nvPr/>
          </p:nvSpPr>
          <p:spPr>
            <a:xfrm>
              <a:off x="5106600" y="428400"/>
              <a:ext cx="463680" cy="320760"/>
            </a:xfrm>
            <a:custGeom>
              <a:avLst/>
              <a:gdLst/>
              <a:ahLst/>
              <a:rect l="l" t="t" r="r" b="b"/>
              <a:pathLst>
                <a:path w="1483359" h="1240021">
                  <a:moveTo>
                    <a:pt x="2" y="473645"/>
                  </a:moveTo>
                  <a:lnTo>
                    <a:pt x="566596" y="473648"/>
                  </a:lnTo>
                  <a:lnTo>
                    <a:pt x="741680" y="0"/>
                  </a:lnTo>
                  <a:lnTo>
                    <a:pt x="916763" y="473648"/>
                  </a:lnTo>
                  <a:lnTo>
                    <a:pt x="1483357" y="473645"/>
                  </a:lnTo>
                  <a:lnTo>
                    <a:pt x="1024971" y="766372"/>
                  </a:lnTo>
                  <a:lnTo>
                    <a:pt x="1200062" y="1240018"/>
                  </a:lnTo>
                  <a:lnTo>
                    <a:pt x="741680" y="947285"/>
                  </a:lnTo>
                  <a:lnTo>
                    <a:pt x="283297" y="1240018"/>
                  </a:lnTo>
                  <a:lnTo>
                    <a:pt x="458388" y="766372"/>
                  </a:lnTo>
                  <a:lnTo>
                    <a:pt x="2" y="473645"/>
                  </a:lnTo>
                  <a:close/>
                </a:path>
              </a:pathLst>
            </a:custGeom>
            <a:noFill/>
            <a:ln w="25560">
              <a:solidFill>
                <a:srgbClr val="91dd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5-Point Star 92"/>
            <p:cNvSpPr/>
            <p:nvPr/>
          </p:nvSpPr>
          <p:spPr>
            <a:xfrm>
              <a:off x="5128920" y="450720"/>
              <a:ext cx="419400" cy="281160"/>
            </a:xfrm>
            <a:custGeom>
              <a:avLst/>
              <a:gdLst/>
              <a:ahLst/>
              <a:rect l="l" t="t" r="r" b="b"/>
              <a:pathLst>
                <a:path w="1341119" h="1086555">
                  <a:moveTo>
                    <a:pt x="1" y="415026"/>
                  </a:moveTo>
                  <a:lnTo>
                    <a:pt x="512265" y="415029"/>
                  </a:lnTo>
                  <a:lnTo>
                    <a:pt x="670560" y="0"/>
                  </a:lnTo>
                  <a:lnTo>
                    <a:pt x="828854" y="415029"/>
                  </a:lnTo>
                  <a:lnTo>
                    <a:pt x="1341118" y="415026"/>
                  </a:lnTo>
                  <a:lnTo>
                    <a:pt x="926686" y="671525"/>
                  </a:lnTo>
                  <a:lnTo>
                    <a:pt x="1084987" y="1086552"/>
                  </a:lnTo>
                  <a:lnTo>
                    <a:pt x="670560" y="830048"/>
                  </a:lnTo>
                  <a:lnTo>
                    <a:pt x="256132" y="1086552"/>
                  </a:lnTo>
                  <a:lnTo>
                    <a:pt x="414433" y="671525"/>
                  </a:lnTo>
                  <a:lnTo>
                    <a:pt x="1" y="415026"/>
                  </a:lnTo>
                  <a:close/>
                </a:path>
              </a:pathLst>
            </a:custGeom>
            <a:noFill/>
            <a:ln w="25560">
              <a:solidFill>
                <a:srgbClr val="6dd1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5-Point Star 93"/>
            <p:cNvSpPr/>
            <p:nvPr/>
          </p:nvSpPr>
          <p:spPr>
            <a:xfrm>
              <a:off x="5151240" y="473040"/>
              <a:ext cx="374760" cy="241200"/>
            </a:xfrm>
            <a:custGeom>
              <a:avLst/>
              <a:gdLst/>
              <a:ahLst/>
              <a:rect l="l" t="t" r="r" b="b"/>
              <a:pathLst>
                <a:path w="1198879" h="933085">
                  <a:moveTo>
                    <a:pt x="1" y="356406"/>
                  </a:moveTo>
                  <a:lnTo>
                    <a:pt x="457934" y="356408"/>
                  </a:lnTo>
                  <a:lnTo>
                    <a:pt x="599440" y="0"/>
                  </a:lnTo>
                  <a:lnTo>
                    <a:pt x="740945" y="356408"/>
                  </a:lnTo>
                  <a:lnTo>
                    <a:pt x="1198878" y="356406"/>
                  </a:lnTo>
                  <a:lnTo>
                    <a:pt x="828401" y="576676"/>
                  </a:lnTo>
                  <a:lnTo>
                    <a:pt x="969913" y="933083"/>
                  </a:lnTo>
                  <a:lnTo>
                    <a:pt x="599440" y="712809"/>
                  </a:lnTo>
                  <a:lnTo>
                    <a:pt x="228966" y="933083"/>
                  </a:lnTo>
                  <a:lnTo>
                    <a:pt x="370478" y="576676"/>
                  </a:lnTo>
                  <a:lnTo>
                    <a:pt x="1" y="356406"/>
                  </a:lnTo>
                  <a:close/>
                </a:path>
              </a:pathLst>
            </a:custGeom>
            <a:noFill/>
            <a:ln w="25560">
              <a:solidFill>
                <a:srgbClr val="48c6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5-Point Star 94"/>
            <p:cNvSpPr/>
            <p:nvPr/>
          </p:nvSpPr>
          <p:spPr>
            <a:xfrm>
              <a:off x="5173560" y="495360"/>
              <a:ext cx="330120" cy="201600"/>
            </a:xfrm>
            <a:custGeom>
              <a:avLst/>
              <a:gdLst/>
              <a:ahLst/>
              <a:rect l="l" t="t" r="r" b="b"/>
              <a:pathLst>
                <a:path w="1056639" h="779619">
                  <a:moveTo>
                    <a:pt x="1" y="297787"/>
                  </a:moveTo>
                  <a:lnTo>
                    <a:pt x="403602" y="297789"/>
                  </a:lnTo>
                  <a:lnTo>
                    <a:pt x="528320" y="0"/>
                  </a:lnTo>
                  <a:lnTo>
                    <a:pt x="653037" y="297789"/>
                  </a:lnTo>
                  <a:lnTo>
                    <a:pt x="1056638" y="297787"/>
                  </a:lnTo>
                  <a:lnTo>
                    <a:pt x="730116" y="481829"/>
                  </a:lnTo>
                  <a:lnTo>
                    <a:pt x="854838" y="779617"/>
                  </a:lnTo>
                  <a:lnTo>
                    <a:pt x="528320" y="595572"/>
                  </a:lnTo>
                  <a:lnTo>
                    <a:pt x="201801" y="779617"/>
                  </a:lnTo>
                  <a:lnTo>
                    <a:pt x="326523" y="481829"/>
                  </a:lnTo>
                  <a:lnTo>
                    <a:pt x="1" y="297787"/>
                  </a:lnTo>
                  <a:close/>
                </a:path>
              </a:pathLst>
            </a:custGeom>
            <a:noFill/>
            <a:ln w="25560">
              <a:solidFill>
                <a:srgbClr val="24bbc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5-Point Star 95"/>
            <p:cNvSpPr/>
            <p:nvPr/>
          </p:nvSpPr>
          <p:spPr>
            <a:xfrm>
              <a:off x="5195880" y="517320"/>
              <a:ext cx="285840" cy="162000"/>
            </a:xfrm>
            <a:custGeom>
              <a:avLst/>
              <a:gdLst/>
              <a:ahLst/>
              <a:rect l="l" t="t" r="r" b="b"/>
              <a:pathLst>
                <a:path w="914399" h="626149">
                  <a:moveTo>
                    <a:pt x="1" y="239167"/>
                  </a:moveTo>
                  <a:lnTo>
                    <a:pt x="349271" y="239169"/>
                  </a:lnTo>
                  <a:lnTo>
                    <a:pt x="457200" y="0"/>
                  </a:lnTo>
                  <a:lnTo>
                    <a:pt x="565128" y="239169"/>
                  </a:lnTo>
                  <a:lnTo>
                    <a:pt x="914398" y="239167"/>
                  </a:lnTo>
                  <a:lnTo>
                    <a:pt x="631831" y="386980"/>
                  </a:lnTo>
                  <a:lnTo>
                    <a:pt x="739764" y="626147"/>
                  </a:lnTo>
                  <a:lnTo>
                    <a:pt x="457200" y="478332"/>
                  </a:lnTo>
                  <a:lnTo>
                    <a:pt x="174635" y="626147"/>
                  </a:lnTo>
                  <a:lnTo>
                    <a:pt x="282568" y="386980"/>
                  </a:lnTo>
                  <a:lnTo>
                    <a:pt x="1" y="239167"/>
                  </a:lnTo>
                  <a:close/>
                </a:path>
              </a:pathLst>
            </a:custGeom>
            <a:noFill/>
            <a:ln w="255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96"/>
          <p:cNvGrpSpPr/>
          <p:nvPr/>
        </p:nvGrpSpPr>
        <p:grpSpPr>
          <a:xfrm>
            <a:off x="2146320" y="733320"/>
            <a:ext cx="595440" cy="441360"/>
            <a:chOff x="2146320" y="733320"/>
            <a:chExt cx="595440" cy="441360"/>
          </a:xfrm>
        </p:grpSpPr>
        <p:sp>
          <p:nvSpPr>
            <p:cNvPr id="139" name="5-Point Star 97"/>
            <p:cNvSpPr/>
            <p:nvPr/>
          </p:nvSpPr>
          <p:spPr>
            <a:xfrm>
              <a:off x="2146320" y="733320"/>
              <a:ext cx="595440" cy="441360"/>
            </a:xfrm>
            <a:custGeom>
              <a:avLst/>
              <a:gdLst/>
              <a:ahLst/>
              <a:rect l="l" t="t" r="r" b="b"/>
              <a:pathLst>
                <a:path w="1905000" h="1706563">
                  <a:moveTo>
                    <a:pt x="2" y="651847"/>
                  </a:moveTo>
                  <a:lnTo>
                    <a:pt x="727649" y="651852"/>
                  </a:lnTo>
                  <a:lnTo>
                    <a:pt x="952500" y="0"/>
                  </a:lnTo>
                  <a:lnTo>
                    <a:pt x="1177351" y="651852"/>
                  </a:lnTo>
                  <a:lnTo>
                    <a:pt x="1904998" y="651847"/>
                  </a:lnTo>
                  <a:lnTo>
                    <a:pt x="1316316" y="1054710"/>
                  </a:lnTo>
                  <a:lnTo>
                    <a:pt x="1541176" y="1706559"/>
                  </a:lnTo>
                  <a:lnTo>
                    <a:pt x="952500" y="1303689"/>
                  </a:lnTo>
                  <a:lnTo>
                    <a:pt x="363824" y="1706559"/>
                  </a:lnTo>
                  <a:lnTo>
                    <a:pt x="588684" y="1054710"/>
                  </a:lnTo>
                  <a:lnTo>
                    <a:pt x="2" y="651847"/>
                  </a:lnTo>
                  <a:close/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5-Point Star 98"/>
            <p:cNvSpPr/>
            <p:nvPr/>
          </p:nvSpPr>
          <p:spPr>
            <a:xfrm>
              <a:off x="2168280" y="755280"/>
              <a:ext cx="551160" cy="401760"/>
            </a:xfrm>
            <a:custGeom>
              <a:avLst/>
              <a:gdLst/>
              <a:ahLst/>
              <a:rect l="l" t="t" r="r" b="b"/>
              <a:pathLst>
                <a:path w="1762760" h="1553097">
                  <a:moveTo>
                    <a:pt x="2" y="593229"/>
                  </a:moveTo>
                  <a:lnTo>
                    <a:pt x="673318" y="593233"/>
                  </a:lnTo>
                  <a:lnTo>
                    <a:pt x="881380" y="0"/>
                  </a:lnTo>
                  <a:lnTo>
                    <a:pt x="1089442" y="593233"/>
                  </a:lnTo>
                  <a:lnTo>
                    <a:pt x="1762758" y="593229"/>
                  </a:lnTo>
                  <a:lnTo>
                    <a:pt x="1218031" y="959863"/>
                  </a:lnTo>
                  <a:lnTo>
                    <a:pt x="1426102" y="1553093"/>
                  </a:lnTo>
                  <a:lnTo>
                    <a:pt x="881380" y="1186452"/>
                  </a:lnTo>
                  <a:lnTo>
                    <a:pt x="336658" y="1553093"/>
                  </a:lnTo>
                  <a:lnTo>
                    <a:pt x="544729" y="959863"/>
                  </a:lnTo>
                  <a:lnTo>
                    <a:pt x="2" y="593229"/>
                  </a:lnTo>
                  <a:close/>
                </a:path>
              </a:pathLst>
            </a:custGeom>
            <a:noFill/>
            <a:ln w="25560">
              <a:solidFill>
                <a:srgbClr val="daf32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5-Point Star 99"/>
            <p:cNvSpPr/>
            <p:nvPr/>
          </p:nvSpPr>
          <p:spPr>
            <a:xfrm>
              <a:off x="2190600" y="777600"/>
              <a:ext cx="487440" cy="365400"/>
            </a:xfrm>
            <a:custGeom>
              <a:avLst/>
              <a:gdLst/>
              <a:ahLst/>
              <a:rect l="l" t="t" r="r" b="b"/>
              <a:pathLst>
                <a:path w="1559560" h="1411905">
                  <a:moveTo>
                    <a:pt x="2" y="539298"/>
                  </a:moveTo>
                  <a:lnTo>
                    <a:pt x="595702" y="539302"/>
                  </a:lnTo>
                  <a:lnTo>
                    <a:pt x="779780" y="0"/>
                  </a:lnTo>
                  <a:lnTo>
                    <a:pt x="963858" y="539302"/>
                  </a:lnTo>
                  <a:lnTo>
                    <a:pt x="1559558" y="539298"/>
                  </a:lnTo>
                  <a:lnTo>
                    <a:pt x="1077624" y="872602"/>
                  </a:lnTo>
                  <a:lnTo>
                    <a:pt x="1261710" y="1411901"/>
                  </a:lnTo>
                  <a:lnTo>
                    <a:pt x="779780" y="1078592"/>
                  </a:lnTo>
                  <a:lnTo>
                    <a:pt x="297850" y="1411901"/>
                  </a:lnTo>
                  <a:lnTo>
                    <a:pt x="481936" y="872602"/>
                  </a:lnTo>
                  <a:lnTo>
                    <a:pt x="2" y="539298"/>
                  </a:lnTo>
                  <a:close/>
                </a:path>
              </a:pathLst>
            </a:custGeom>
            <a:noFill/>
            <a:ln w="25560">
              <a:solidFill>
                <a:srgbClr val="b6e8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5-Point Star 100"/>
            <p:cNvSpPr/>
            <p:nvPr/>
          </p:nvSpPr>
          <p:spPr>
            <a:xfrm>
              <a:off x="2211120" y="801360"/>
              <a:ext cx="463680" cy="320760"/>
            </a:xfrm>
            <a:custGeom>
              <a:avLst/>
              <a:gdLst/>
              <a:ahLst/>
              <a:rect l="l" t="t" r="r" b="b"/>
              <a:pathLst>
                <a:path w="1483359" h="1240021">
                  <a:moveTo>
                    <a:pt x="2" y="473645"/>
                  </a:moveTo>
                  <a:lnTo>
                    <a:pt x="566596" y="473648"/>
                  </a:lnTo>
                  <a:lnTo>
                    <a:pt x="741680" y="0"/>
                  </a:lnTo>
                  <a:lnTo>
                    <a:pt x="916763" y="473648"/>
                  </a:lnTo>
                  <a:lnTo>
                    <a:pt x="1483357" y="473645"/>
                  </a:lnTo>
                  <a:lnTo>
                    <a:pt x="1024971" y="766372"/>
                  </a:lnTo>
                  <a:lnTo>
                    <a:pt x="1200062" y="1240018"/>
                  </a:lnTo>
                  <a:lnTo>
                    <a:pt x="741680" y="947285"/>
                  </a:lnTo>
                  <a:lnTo>
                    <a:pt x="283297" y="1240018"/>
                  </a:lnTo>
                  <a:lnTo>
                    <a:pt x="458388" y="766372"/>
                  </a:lnTo>
                  <a:lnTo>
                    <a:pt x="2" y="473645"/>
                  </a:lnTo>
                  <a:close/>
                </a:path>
              </a:pathLst>
            </a:custGeom>
            <a:noFill/>
            <a:ln w="25560">
              <a:solidFill>
                <a:srgbClr val="91dd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5-Point Star 101"/>
            <p:cNvSpPr/>
            <p:nvPr/>
          </p:nvSpPr>
          <p:spPr>
            <a:xfrm>
              <a:off x="2233440" y="823680"/>
              <a:ext cx="419400" cy="281160"/>
            </a:xfrm>
            <a:custGeom>
              <a:avLst/>
              <a:gdLst/>
              <a:ahLst/>
              <a:rect l="l" t="t" r="r" b="b"/>
              <a:pathLst>
                <a:path w="1341119" h="1086551">
                  <a:moveTo>
                    <a:pt x="1" y="415024"/>
                  </a:moveTo>
                  <a:lnTo>
                    <a:pt x="512265" y="415027"/>
                  </a:lnTo>
                  <a:lnTo>
                    <a:pt x="670560" y="0"/>
                  </a:lnTo>
                  <a:lnTo>
                    <a:pt x="828854" y="415027"/>
                  </a:lnTo>
                  <a:lnTo>
                    <a:pt x="1341118" y="415024"/>
                  </a:lnTo>
                  <a:lnTo>
                    <a:pt x="926686" y="671523"/>
                  </a:lnTo>
                  <a:lnTo>
                    <a:pt x="1084987" y="1086548"/>
                  </a:lnTo>
                  <a:lnTo>
                    <a:pt x="670560" y="830045"/>
                  </a:lnTo>
                  <a:lnTo>
                    <a:pt x="256132" y="1086548"/>
                  </a:lnTo>
                  <a:lnTo>
                    <a:pt x="414433" y="671523"/>
                  </a:lnTo>
                  <a:lnTo>
                    <a:pt x="1" y="415024"/>
                  </a:lnTo>
                  <a:close/>
                </a:path>
              </a:pathLst>
            </a:custGeom>
            <a:noFill/>
            <a:ln w="25560">
              <a:solidFill>
                <a:srgbClr val="6dd1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5-Point Star 102"/>
            <p:cNvSpPr/>
            <p:nvPr/>
          </p:nvSpPr>
          <p:spPr>
            <a:xfrm>
              <a:off x="2255760" y="846000"/>
              <a:ext cx="374760" cy="241200"/>
            </a:xfrm>
            <a:custGeom>
              <a:avLst/>
              <a:gdLst/>
              <a:ahLst/>
              <a:rect l="l" t="t" r="r" b="b"/>
              <a:pathLst>
                <a:path w="1198879" h="933085">
                  <a:moveTo>
                    <a:pt x="1" y="356406"/>
                  </a:moveTo>
                  <a:lnTo>
                    <a:pt x="457934" y="356408"/>
                  </a:lnTo>
                  <a:lnTo>
                    <a:pt x="599440" y="0"/>
                  </a:lnTo>
                  <a:lnTo>
                    <a:pt x="740945" y="356408"/>
                  </a:lnTo>
                  <a:lnTo>
                    <a:pt x="1198878" y="356406"/>
                  </a:lnTo>
                  <a:lnTo>
                    <a:pt x="828401" y="576676"/>
                  </a:lnTo>
                  <a:lnTo>
                    <a:pt x="969913" y="933083"/>
                  </a:lnTo>
                  <a:lnTo>
                    <a:pt x="599440" y="712809"/>
                  </a:lnTo>
                  <a:lnTo>
                    <a:pt x="228966" y="933083"/>
                  </a:lnTo>
                  <a:lnTo>
                    <a:pt x="370478" y="576676"/>
                  </a:lnTo>
                  <a:lnTo>
                    <a:pt x="1" y="356406"/>
                  </a:lnTo>
                  <a:close/>
                </a:path>
              </a:pathLst>
            </a:custGeom>
            <a:noFill/>
            <a:ln w="25560">
              <a:solidFill>
                <a:srgbClr val="48c6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5-Point Star 103"/>
            <p:cNvSpPr/>
            <p:nvPr/>
          </p:nvSpPr>
          <p:spPr>
            <a:xfrm>
              <a:off x="2278080" y="868320"/>
              <a:ext cx="330120" cy="201600"/>
            </a:xfrm>
            <a:custGeom>
              <a:avLst/>
              <a:gdLst/>
              <a:ahLst/>
              <a:rect l="l" t="t" r="r" b="b"/>
              <a:pathLst>
                <a:path w="1056639" h="779615">
                  <a:moveTo>
                    <a:pt x="1" y="297786"/>
                  </a:moveTo>
                  <a:lnTo>
                    <a:pt x="403602" y="297788"/>
                  </a:lnTo>
                  <a:lnTo>
                    <a:pt x="528320" y="0"/>
                  </a:lnTo>
                  <a:lnTo>
                    <a:pt x="653037" y="297788"/>
                  </a:lnTo>
                  <a:lnTo>
                    <a:pt x="1056638" y="297786"/>
                  </a:lnTo>
                  <a:lnTo>
                    <a:pt x="730116" y="481827"/>
                  </a:lnTo>
                  <a:lnTo>
                    <a:pt x="854838" y="779613"/>
                  </a:lnTo>
                  <a:lnTo>
                    <a:pt x="528320" y="595569"/>
                  </a:lnTo>
                  <a:lnTo>
                    <a:pt x="201801" y="779613"/>
                  </a:lnTo>
                  <a:lnTo>
                    <a:pt x="326523" y="481827"/>
                  </a:lnTo>
                  <a:lnTo>
                    <a:pt x="1" y="297786"/>
                  </a:lnTo>
                  <a:close/>
                </a:path>
              </a:pathLst>
            </a:custGeom>
            <a:noFill/>
            <a:ln w="25560">
              <a:solidFill>
                <a:srgbClr val="24bbc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5-Point Star 104"/>
            <p:cNvSpPr/>
            <p:nvPr/>
          </p:nvSpPr>
          <p:spPr>
            <a:xfrm>
              <a:off x="2300400" y="890280"/>
              <a:ext cx="285840" cy="162000"/>
            </a:xfrm>
            <a:custGeom>
              <a:avLst/>
              <a:gdLst/>
              <a:ahLst/>
              <a:rect l="l" t="t" r="r" b="b"/>
              <a:pathLst>
                <a:path w="914399" h="626149">
                  <a:moveTo>
                    <a:pt x="1" y="239167"/>
                  </a:moveTo>
                  <a:lnTo>
                    <a:pt x="349271" y="239169"/>
                  </a:lnTo>
                  <a:lnTo>
                    <a:pt x="457200" y="0"/>
                  </a:lnTo>
                  <a:lnTo>
                    <a:pt x="565128" y="239169"/>
                  </a:lnTo>
                  <a:lnTo>
                    <a:pt x="914398" y="239167"/>
                  </a:lnTo>
                  <a:lnTo>
                    <a:pt x="631831" y="386980"/>
                  </a:lnTo>
                  <a:lnTo>
                    <a:pt x="739764" y="626147"/>
                  </a:lnTo>
                  <a:lnTo>
                    <a:pt x="457200" y="478332"/>
                  </a:lnTo>
                  <a:lnTo>
                    <a:pt x="174635" y="626147"/>
                  </a:lnTo>
                  <a:lnTo>
                    <a:pt x="282568" y="386980"/>
                  </a:lnTo>
                  <a:lnTo>
                    <a:pt x="1" y="239167"/>
                  </a:lnTo>
                  <a:close/>
                </a:path>
              </a:pathLst>
            </a:custGeom>
            <a:noFill/>
            <a:ln w="255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Group 105"/>
          <p:cNvGrpSpPr/>
          <p:nvPr/>
        </p:nvGrpSpPr>
        <p:grpSpPr>
          <a:xfrm>
            <a:off x="895320" y="1182600"/>
            <a:ext cx="595440" cy="441360"/>
            <a:chOff x="895320" y="1182600"/>
            <a:chExt cx="595440" cy="441360"/>
          </a:xfrm>
        </p:grpSpPr>
        <p:sp>
          <p:nvSpPr>
            <p:cNvPr id="148" name="5-Point Star 106"/>
            <p:cNvSpPr/>
            <p:nvPr/>
          </p:nvSpPr>
          <p:spPr>
            <a:xfrm>
              <a:off x="895320" y="1182600"/>
              <a:ext cx="595440" cy="441360"/>
            </a:xfrm>
            <a:custGeom>
              <a:avLst/>
              <a:gdLst/>
              <a:ahLst/>
              <a:rect l="l" t="t" r="r" b="b"/>
              <a:pathLst>
                <a:path w="1905000" h="1706563">
                  <a:moveTo>
                    <a:pt x="2" y="651847"/>
                  </a:moveTo>
                  <a:lnTo>
                    <a:pt x="727649" y="651852"/>
                  </a:lnTo>
                  <a:lnTo>
                    <a:pt x="952500" y="0"/>
                  </a:lnTo>
                  <a:lnTo>
                    <a:pt x="1177351" y="651852"/>
                  </a:lnTo>
                  <a:lnTo>
                    <a:pt x="1904998" y="651847"/>
                  </a:lnTo>
                  <a:lnTo>
                    <a:pt x="1316316" y="1054710"/>
                  </a:lnTo>
                  <a:lnTo>
                    <a:pt x="1541176" y="1706559"/>
                  </a:lnTo>
                  <a:lnTo>
                    <a:pt x="952500" y="1303689"/>
                  </a:lnTo>
                  <a:lnTo>
                    <a:pt x="363824" y="1706559"/>
                  </a:lnTo>
                  <a:lnTo>
                    <a:pt x="588684" y="1054710"/>
                  </a:lnTo>
                  <a:lnTo>
                    <a:pt x="2" y="651847"/>
                  </a:lnTo>
                  <a:close/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5-Point Star 107"/>
            <p:cNvSpPr/>
            <p:nvPr/>
          </p:nvSpPr>
          <p:spPr>
            <a:xfrm>
              <a:off x="917280" y="1204560"/>
              <a:ext cx="551160" cy="401760"/>
            </a:xfrm>
            <a:custGeom>
              <a:avLst/>
              <a:gdLst/>
              <a:ahLst/>
              <a:rect l="l" t="t" r="r" b="b"/>
              <a:pathLst>
                <a:path w="1762760" h="1553093">
                  <a:moveTo>
                    <a:pt x="2" y="593227"/>
                  </a:moveTo>
                  <a:lnTo>
                    <a:pt x="673318" y="593231"/>
                  </a:lnTo>
                  <a:lnTo>
                    <a:pt x="881380" y="0"/>
                  </a:lnTo>
                  <a:lnTo>
                    <a:pt x="1089442" y="593231"/>
                  </a:lnTo>
                  <a:lnTo>
                    <a:pt x="1762758" y="593227"/>
                  </a:lnTo>
                  <a:lnTo>
                    <a:pt x="1218031" y="959860"/>
                  </a:lnTo>
                  <a:lnTo>
                    <a:pt x="1426102" y="1553089"/>
                  </a:lnTo>
                  <a:lnTo>
                    <a:pt x="881380" y="1186449"/>
                  </a:lnTo>
                  <a:lnTo>
                    <a:pt x="336658" y="1553089"/>
                  </a:lnTo>
                  <a:lnTo>
                    <a:pt x="544729" y="959860"/>
                  </a:lnTo>
                  <a:lnTo>
                    <a:pt x="2" y="593227"/>
                  </a:lnTo>
                  <a:close/>
                </a:path>
              </a:pathLst>
            </a:custGeom>
            <a:noFill/>
            <a:ln w="25560">
              <a:solidFill>
                <a:srgbClr val="daf32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5-Point Star 108"/>
            <p:cNvSpPr/>
            <p:nvPr/>
          </p:nvSpPr>
          <p:spPr>
            <a:xfrm>
              <a:off x="939600" y="1226880"/>
              <a:ext cx="487440" cy="365400"/>
            </a:xfrm>
            <a:custGeom>
              <a:avLst/>
              <a:gdLst/>
              <a:ahLst/>
              <a:rect l="l" t="t" r="r" b="b"/>
              <a:pathLst>
                <a:path w="1559560" h="1411905">
                  <a:moveTo>
                    <a:pt x="2" y="539298"/>
                  </a:moveTo>
                  <a:lnTo>
                    <a:pt x="595702" y="539302"/>
                  </a:lnTo>
                  <a:lnTo>
                    <a:pt x="779780" y="0"/>
                  </a:lnTo>
                  <a:lnTo>
                    <a:pt x="963858" y="539302"/>
                  </a:lnTo>
                  <a:lnTo>
                    <a:pt x="1559558" y="539298"/>
                  </a:lnTo>
                  <a:lnTo>
                    <a:pt x="1077624" y="872602"/>
                  </a:lnTo>
                  <a:lnTo>
                    <a:pt x="1261710" y="1411901"/>
                  </a:lnTo>
                  <a:lnTo>
                    <a:pt x="779780" y="1078592"/>
                  </a:lnTo>
                  <a:lnTo>
                    <a:pt x="297850" y="1411901"/>
                  </a:lnTo>
                  <a:lnTo>
                    <a:pt x="481936" y="872602"/>
                  </a:lnTo>
                  <a:lnTo>
                    <a:pt x="2" y="539298"/>
                  </a:lnTo>
                  <a:close/>
                </a:path>
              </a:pathLst>
            </a:custGeom>
            <a:noFill/>
            <a:ln w="25560">
              <a:solidFill>
                <a:srgbClr val="b6e8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5-Point Star 109"/>
            <p:cNvSpPr/>
            <p:nvPr/>
          </p:nvSpPr>
          <p:spPr>
            <a:xfrm>
              <a:off x="960120" y="1250640"/>
              <a:ext cx="463680" cy="320760"/>
            </a:xfrm>
            <a:custGeom>
              <a:avLst/>
              <a:gdLst/>
              <a:ahLst/>
              <a:rect l="l" t="t" r="r" b="b"/>
              <a:pathLst>
                <a:path w="1483359" h="1240021">
                  <a:moveTo>
                    <a:pt x="2" y="473645"/>
                  </a:moveTo>
                  <a:lnTo>
                    <a:pt x="566596" y="473648"/>
                  </a:lnTo>
                  <a:lnTo>
                    <a:pt x="741680" y="0"/>
                  </a:lnTo>
                  <a:lnTo>
                    <a:pt x="916763" y="473648"/>
                  </a:lnTo>
                  <a:lnTo>
                    <a:pt x="1483357" y="473645"/>
                  </a:lnTo>
                  <a:lnTo>
                    <a:pt x="1024971" y="766372"/>
                  </a:lnTo>
                  <a:lnTo>
                    <a:pt x="1200062" y="1240018"/>
                  </a:lnTo>
                  <a:lnTo>
                    <a:pt x="741680" y="947285"/>
                  </a:lnTo>
                  <a:lnTo>
                    <a:pt x="283297" y="1240018"/>
                  </a:lnTo>
                  <a:lnTo>
                    <a:pt x="458388" y="766372"/>
                  </a:lnTo>
                  <a:lnTo>
                    <a:pt x="2" y="473645"/>
                  </a:lnTo>
                  <a:close/>
                </a:path>
              </a:pathLst>
            </a:custGeom>
            <a:noFill/>
            <a:ln w="25560">
              <a:solidFill>
                <a:srgbClr val="91dd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5-Point Star 110"/>
            <p:cNvSpPr/>
            <p:nvPr/>
          </p:nvSpPr>
          <p:spPr>
            <a:xfrm>
              <a:off x="982440" y="1272960"/>
              <a:ext cx="419400" cy="281160"/>
            </a:xfrm>
            <a:custGeom>
              <a:avLst/>
              <a:gdLst/>
              <a:ahLst/>
              <a:rect l="l" t="t" r="r" b="b"/>
              <a:pathLst>
                <a:path w="1341119" h="1086555">
                  <a:moveTo>
                    <a:pt x="1" y="415026"/>
                  </a:moveTo>
                  <a:lnTo>
                    <a:pt x="512265" y="415029"/>
                  </a:lnTo>
                  <a:lnTo>
                    <a:pt x="670560" y="0"/>
                  </a:lnTo>
                  <a:lnTo>
                    <a:pt x="828854" y="415029"/>
                  </a:lnTo>
                  <a:lnTo>
                    <a:pt x="1341118" y="415026"/>
                  </a:lnTo>
                  <a:lnTo>
                    <a:pt x="926686" y="671525"/>
                  </a:lnTo>
                  <a:lnTo>
                    <a:pt x="1084987" y="1086552"/>
                  </a:lnTo>
                  <a:lnTo>
                    <a:pt x="670560" y="830048"/>
                  </a:lnTo>
                  <a:lnTo>
                    <a:pt x="256132" y="1086552"/>
                  </a:lnTo>
                  <a:lnTo>
                    <a:pt x="414433" y="671525"/>
                  </a:lnTo>
                  <a:lnTo>
                    <a:pt x="1" y="415026"/>
                  </a:lnTo>
                  <a:close/>
                </a:path>
              </a:pathLst>
            </a:custGeom>
            <a:noFill/>
            <a:ln w="25560">
              <a:solidFill>
                <a:srgbClr val="6dd1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5-Point Star 111"/>
            <p:cNvSpPr/>
            <p:nvPr/>
          </p:nvSpPr>
          <p:spPr>
            <a:xfrm>
              <a:off x="1004760" y="1295280"/>
              <a:ext cx="374760" cy="241200"/>
            </a:xfrm>
            <a:custGeom>
              <a:avLst/>
              <a:gdLst/>
              <a:ahLst/>
              <a:rect l="l" t="t" r="r" b="b"/>
              <a:pathLst>
                <a:path w="1198879" h="933085">
                  <a:moveTo>
                    <a:pt x="1" y="356406"/>
                  </a:moveTo>
                  <a:lnTo>
                    <a:pt x="457934" y="356408"/>
                  </a:lnTo>
                  <a:lnTo>
                    <a:pt x="599440" y="0"/>
                  </a:lnTo>
                  <a:lnTo>
                    <a:pt x="740945" y="356408"/>
                  </a:lnTo>
                  <a:lnTo>
                    <a:pt x="1198878" y="356406"/>
                  </a:lnTo>
                  <a:lnTo>
                    <a:pt x="828401" y="576676"/>
                  </a:lnTo>
                  <a:lnTo>
                    <a:pt x="969913" y="933083"/>
                  </a:lnTo>
                  <a:lnTo>
                    <a:pt x="599440" y="712809"/>
                  </a:lnTo>
                  <a:lnTo>
                    <a:pt x="228966" y="933083"/>
                  </a:lnTo>
                  <a:lnTo>
                    <a:pt x="370478" y="576676"/>
                  </a:lnTo>
                  <a:lnTo>
                    <a:pt x="1" y="356406"/>
                  </a:lnTo>
                  <a:close/>
                </a:path>
              </a:pathLst>
            </a:custGeom>
            <a:noFill/>
            <a:ln w="25560">
              <a:solidFill>
                <a:srgbClr val="48c6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5-Point Star 112"/>
            <p:cNvSpPr/>
            <p:nvPr/>
          </p:nvSpPr>
          <p:spPr>
            <a:xfrm>
              <a:off x="1027080" y="1317600"/>
              <a:ext cx="330120" cy="201600"/>
            </a:xfrm>
            <a:custGeom>
              <a:avLst/>
              <a:gdLst/>
              <a:ahLst/>
              <a:rect l="l" t="t" r="r" b="b"/>
              <a:pathLst>
                <a:path w="1056639" h="779619">
                  <a:moveTo>
                    <a:pt x="1" y="297787"/>
                  </a:moveTo>
                  <a:lnTo>
                    <a:pt x="403602" y="297789"/>
                  </a:lnTo>
                  <a:lnTo>
                    <a:pt x="528320" y="0"/>
                  </a:lnTo>
                  <a:lnTo>
                    <a:pt x="653037" y="297789"/>
                  </a:lnTo>
                  <a:lnTo>
                    <a:pt x="1056638" y="297787"/>
                  </a:lnTo>
                  <a:lnTo>
                    <a:pt x="730116" y="481829"/>
                  </a:lnTo>
                  <a:lnTo>
                    <a:pt x="854838" y="779617"/>
                  </a:lnTo>
                  <a:lnTo>
                    <a:pt x="528320" y="595572"/>
                  </a:lnTo>
                  <a:lnTo>
                    <a:pt x="201801" y="779617"/>
                  </a:lnTo>
                  <a:lnTo>
                    <a:pt x="326523" y="481829"/>
                  </a:lnTo>
                  <a:lnTo>
                    <a:pt x="1" y="297787"/>
                  </a:lnTo>
                  <a:close/>
                </a:path>
              </a:pathLst>
            </a:custGeom>
            <a:noFill/>
            <a:ln w="25560">
              <a:solidFill>
                <a:srgbClr val="24bbc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5-Point Star 113"/>
            <p:cNvSpPr/>
            <p:nvPr/>
          </p:nvSpPr>
          <p:spPr>
            <a:xfrm>
              <a:off x="1049400" y="1339560"/>
              <a:ext cx="285840" cy="162000"/>
            </a:xfrm>
            <a:custGeom>
              <a:avLst/>
              <a:gdLst/>
              <a:ahLst/>
              <a:rect l="l" t="t" r="r" b="b"/>
              <a:pathLst>
                <a:path w="914399" h="626149">
                  <a:moveTo>
                    <a:pt x="1" y="239167"/>
                  </a:moveTo>
                  <a:lnTo>
                    <a:pt x="349271" y="239169"/>
                  </a:lnTo>
                  <a:lnTo>
                    <a:pt x="457200" y="0"/>
                  </a:lnTo>
                  <a:lnTo>
                    <a:pt x="565128" y="239169"/>
                  </a:lnTo>
                  <a:lnTo>
                    <a:pt x="914398" y="239167"/>
                  </a:lnTo>
                  <a:lnTo>
                    <a:pt x="631831" y="386980"/>
                  </a:lnTo>
                  <a:lnTo>
                    <a:pt x="739764" y="626147"/>
                  </a:lnTo>
                  <a:lnTo>
                    <a:pt x="457200" y="478332"/>
                  </a:lnTo>
                  <a:lnTo>
                    <a:pt x="174635" y="626147"/>
                  </a:lnTo>
                  <a:lnTo>
                    <a:pt x="282568" y="386980"/>
                  </a:lnTo>
                  <a:lnTo>
                    <a:pt x="1" y="239167"/>
                  </a:lnTo>
                  <a:close/>
                </a:path>
              </a:pathLst>
            </a:custGeom>
            <a:noFill/>
            <a:ln w="255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2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2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8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8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0" y="-324000"/>
            <a:ext cx="1843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738360" y="409680"/>
            <a:ext cx="729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b"/>
                </a:solidFill>
                <a:latin typeface="#9Slide05 Garris"/>
              </a:rPr>
              <a:t>I. HỆ THỐNG HOÁ KIẾN THỨ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36360" y="10764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m hãy hoàn thành sơ đồ theo mẫu dưới đâ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29"/>
          <p:cNvSpPr/>
          <p:nvPr/>
        </p:nvSpPr>
        <p:spPr>
          <a:xfrm>
            <a:off x="198360" y="152280"/>
            <a:ext cx="8717040" cy="6477120"/>
          </a:xfrm>
          <a:prstGeom prst="rect">
            <a:avLst/>
          </a:prstGeom>
          <a:noFill/>
          <a:ln w="936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: Top Corners Rounded 15"/>
          <p:cNvSpPr/>
          <p:nvPr/>
        </p:nvSpPr>
        <p:spPr>
          <a:xfrm rot="5400000">
            <a:off x="-1627920" y="3258360"/>
            <a:ext cx="3597120" cy="341280"/>
          </a:xfrm>
          <a:custGeom>
            <a:avLst/>
            <a:gdLst/>
            <a:ahLst/>
            <a:rect l="l" t="t" r="r" b="b"/>
            <a:pathLst>
              <a:path w="3597275" h="341313">
                <a:moveTo>
                  <a:pt x="170657" y="0"/>
                </a:moveTo>
                <a:lnTo>
                  <a:pt x="3426619" y="0"/>
                </a:lnTo>
                <a:cubicBezTo>
                  <a:pt x="3520870" y="0"/>
                  <a:pt x="3597276" y="76406"/>
                  <a:pt x="3597276" y="170657"/>
                </a:cubicBezTo>
                <a:cubicBezTo>
                  <a:pt x="3597276" y="227542"/>
                  <a:pt x="3597275" y="284428"/>
                  <a:pt x="3597275" y="341313"/>
                </a:cubicBezTo>
                <a:lnTo>
                  <a:pt x="3597275" y="341313"/>
                </a:lnTo>
                <a:lnTo>
                  <a:pt x="0" y="341313"/>
                </a:lnTo>
                <a:lnTo>
                  <a:pt x="0" y="341313"/>
                </a:lnTo>
                <a:lnTo>
                  <a:pt x="0" y="170657"/>
                </a:lnTo>
                <a:cubicBezTo>
                  <a:pt x="0" y="76406"/>
                  <a:pt x="76406" y="0"/>
                  <a:pt x="170657" y="0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1" descr=""/>
          <p:cNvPicPr/>
          <p:nvPr/>
        </p:nvPicPr>
        <p:blipFill>
          <a:blip r:embed="rId1"/>
          <a:stretch/>
        </p:blipFill>
        <p:spPr>
          <a:xfrm>
            <a:off x="7734240" y="216000"/>
            <a:ext cx="838440" cy="893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"/>
          <p:cNvPicPr/>
          <p:nvPr/>
        </p:nvPicPr>
        <p:blipFill>
          <a:blip r:embed="rId2"/>
          <a:stretch/>
        </p:blipFill>
        <p:spPr>
          <a:xfrm>
            <a:off x="868680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"/>
          <p:cNvPicPr/>
          <p:nvPr/>
        </p:nvPicPr>
        <p:blipFill>
          <a:blip r:embed="rId3"/>
          <a:stretch/>
        </p:blipFill>
        <p:spPr>
          <a:xfrm>
            <a:off x="-30240" y="6515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"/>
          <p:cNvPicPr/>
          <p:nvPr/>
        </p:nvPicPr>
        <p:blipFill>
          <a:blip r:embed="rId4"/>
          <a:stretch/>
        </p:blipFill>
        <p:spPr>
          <a:xfrm>
            <a:off x="36360" y="-12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6" descr=""/>
          <p:cNvPicPr/>
          <p:nvPr/>
        </p:nvPicPr>
        <p:blipFill>
          <a:blip r:embed="rId5"/>
          <a:stretch/>
        </p:blipFill>
        <p:spPr>
          <a:xfrm>
            <a:off x="8645400" y="-17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6" name="Audio 2" descr=""/>
          <p:cNvPicPr/>
          <p:nvPr/>
        </p:nvPicPr>
        <p:blipFill>
          <a:blip r:embed="rId6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" descr="Screen Clipping"/>
          <p:cNvPicPr/>
          <p:nvPr/>
        </p:nvPicPr>
        <p:blipFill>
          <a:blip r:embed="rId7"/>
          <a:stretch/>
        </p:blipFill>
        <p:spPr>
          <a:xfrm>
            <a:off x="719280" y="1681200"/>
            <a:ext cx="7834320" cy="50115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2"/>
          <p:cNvSpPr/>
          <p:nvPr/>
        </p:nvSpPr>
        <p:spPr>
          <a:xfrm>
            <a:off x="738360" y="1627200"/>
            <a:ext cx="2690640" cy="65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75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75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0" y="-324000"/>
            <a:ext cx="1843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495360" y="1143000"/>
            <a:ext cx="8153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ff"/>
                </a:solidFill>
                <a:latin typeface="Times New Roman"/>
              </a:rPr>
              <a:t>Trong gia đình em có những đồ dùng điện nào? Đọc và tìm hiểu ý nghĩa của các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vi-VN" sz="2800" spc="-1" strike="noStrike">
                <a:solidFill>
                  <a:srgbClr val="0000ff"/>
                </a:solidFill>
                <a:latin typeface="Times New Roman"/>
              </a:rPr>
              <a:t>thông số kĩ thuật ghi trên những đồ dùng điện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đ</a:t>
            </a:r>
            <a:r>
              <a:rPr b="0" lang="vi-VN" sz="2800" spc="-1" strike="noStrike">
                <a:solidFill>
                  <a:srgbClr val="0000ff"/>
                </a:solidFill>
                <a:latin typeface="Times New Roman"/>
              </a:rPr>
              <a:t>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9"/>
          <p:cNvSpPr/>
          <p:nvPr/>
        </p:nvSpPr>
        <p:spPr>
          <a:xfrm>
            <a:off x="198360" y="152280"/>
            <a:ext cx="8717040" cy="6477120"/>
          </a:xfrm>
          <a:prstGeom prst="rect">
            <a:avLst/>
          </a:prstGeom>
          <a:noFill/>
          <a:ln w="936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: Top Corners Rounded 15"/>
          <p:cNvSpPr/>
          <p:nvPr/>
        </p:nvSpPr>
        <p:spPr>
          <a:xfrm rot="5400000">
            <a:off x="-1627920" y="3258360"/>
            <a:ext cx="3597120" cy="341280"/>
          </a:xfrm>
          <a:custGeom>
            <a:avLst/>
            <a:gdLst/>
            <a:ahLst/>
            <a:rect l="l" t="t" r="r" b="b"/>
            <a:pathLst>
              <a:path w="3597275" h="341313">
                <a:moveTo>
                  <a:pt x="170657" y="0"/>
                </a:moveTo>
                <a:lnTo>
                  <a:pt x="3426619" y="0"/>
                </a:lnTo>
                <a:cubicBezTo>
                  <a:pt x="3520870" y="0"/>
                  <a:pt x="3597276" y="76406"/>
                  <a:pt x="3597276" y="170657"/>
                </a:cubicBezTo>
                <a:cubicBezTo>
                  <a:pt x="3597276" y="227542"/>
                  <a:pt x="3597275" y="284428"/>
                  <a:pt x="3597275" y="341313"/>
                </a:cubicBezTo>
                <a:lnTo>
                  <a:pt x="3597275" y="341313"/>
                </a:lnTo>
                <a:lnTo>
                  <a:pt x="0" y="341313"/>
                </a:lnTo>
                <a:lnTo>
                  <a:pt x="0" y="341313"/>
                </a:lnTo>
                <a:lnTo>
                  <a:pt x="0" y="170657"/>
                </a:lnTo>
                <a:cubicBezTo>
                  <a:pt x="0" y="76406"/>
                  <a:pt x="76406" y="0"/>
                  <a:pt x="170657" y="0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1" descr=""/>
          <p:cNvPicPr/>
          <p:nvPr/>
        </p:nvPicPr>
        <p:blipFill>
          <a:blip r:embed="rId1"/>
          <a:stretch/>
        </p:blipFill>
        <p:spPr>
          <a:xfrm>
            <a:off x="7734240" y="216000"/>
            <a:ext cx="838440" cy="893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" descr=""/>
          <p:cNvPicPr/>
          <p:nvPr/>
        </p:nvPicPr>
        <p:blipFill>
          <a:blip r:embed="rId2"/>
          <a:stretch/>
        </p:blipFill>
        <p:spPr>
          <a:xfrm>
            <a:off x="9360" y="6305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"/>
          <p:cNvPicPr/>
          <p:nvPr/>
        </p:nvPicPr>
        <p:blipFill>
          <a:blip r:embed="rId3"/>
          <a:stretch/>
        </p:blipFill>
        <p:spPr>
          <a:xfrm>
            <a:off x="-44280" y="-12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5" descr=""/>
          <p:cNvPicPr/>
          <p:nvPr/>
        </p:nvPicPr>
        <p:blipFill>
          <a:blip r:embed="rId4"/>
          <a:stretch/>
        </p:blipFill>
        <p:spPr>
          <a:xfrm>
            <a:off x="8732880" y="-12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6" descr=""/>
          <p:cNvPicPr/>
          <p:nvPr/>
        </p:nvPicPr>
        <p:blipFill>
          <a:blip r:embed="rId5"/>
          <a:stretch/>
        </p:blipFill>
        <p:spPr>
          <a:xfrm>
            <a:off x="8616960" y="65660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7" descr=""/>
          <p:cNvPicPr/>
          <p:nvPr/>
        </p:nvPicPr>
        <p:blipFill>
          <a:blip r:embed="rId6"/>
          <a:stretch/>
        </p:blipFill>
        <p:spPr>
          <a:xfrm>
            <a:off x="8686800" y="-12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8"/>
          <p:cNvSpPr/>
          <p:nvPr/>
        </p:nvSpPr>
        <p:spPr>
          <a:xfrm>
            <a:off x="419040" y="36504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b"/>
                </a:solidFill>
                <a:latin typeface="#9Slide05 Garris"/>
              </a:rPr>
              <a:t>II. LUYỆN TẬP VÀ VẬN DỤ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7"/>
          <a:stretch/>
        </p:blipFill>
        <p:spPr>
          <a:xfrm>
            <a:off x="1754280" y="2817720"/>
            <a:ext cx="5635440" cy="374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75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75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0" y="-324000"/>
            <a:ext cx="1843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600120" y="1089000"/>
            <a:ext cx="8153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ff"/>
                </a:solidFill>
                <a:latin typeface="Times New Roman"/>
              </a:rPr>
              <a:t>2. Nguồn điện trong gia đình có điện áp là 220 V. Hãy chọn những đồ dùng điện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vi-VN" sz="2800" spc="-1" strike="noStrike">
                <a:solidFill>
                  <a:srgbClr val="0000ff"/>
                </a:solidFill>
                <a:latin typeface="Times New Roman"/>
              </a:rPr>
              <a:t>có thông số kĩ thuật sao cho phù hợ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ff"/>
                </a:solidFill>
                <a:latin typeface="Times New Roman"/>
              </a:rPr>
              <a:t>Đèn huỳnh quang ống 110V-40 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vi-VN" sz="2800" spc="-1" strike="noStrike">
                <a:solidFill>
                  <a:srgbClr val="0000ff"/>
                </a:solidFill>
                <a:latin typeface="Times New Roman"/>
              </a:rPr>
              <a:t>b. Bếp hồng ngoại 220 V – 1 000 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vi-VN" sz="2800" spc="-1" strike="noStrike">
                <a:solidFill>
                  <a:srgbClr val="0000ff"/>
                </a:solidFill>
                <a:latin typeface="Times New Roman"/>
              </a:rPr>
              <a:t>c. Quạt bàn 220V-45 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vi-VN" sz="2800" spc="-1" strike="noStrike">
                <a:solidFill>
                  <a:srgbClr val="0000ff"/>
                </a:solidFill>
                <a:latin typeface="Times New Roman"/>
              </a:rPr>
              <a:t>d. Máy giặt 110 V 10 k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0" lang="vi-VN" sz="2800" spc="-1" strike="noStrike">
                <a:solidFill>
                  <a:srgbClr val="0000ff"/>
                </a:solidFill>
                <a:latin typeface="Times New Roman"/>
              </a:rPr>
              <a:t>. Nồi cơm điện 220 V 2 lí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29"/>
          <p:cNvSpPr/>
          <p:nvPr/>
        </p:nvSpPr>
        <p:spPr>
          <a:xfrm>
            <a:off x="198360" y="152280"/>
            <a:ext cx="8717040" cy="6477120"/>
          </a:xfrm>
          <a:prstGeom prst="rect">
            <a:avLst/>
          </a:prstGeom>
          <a:noFill/>
          <a:ln w="936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: Top Corners Rounded 15"/>
          <p:cNvSpPr/>
          <p:nvPr/>
        </p:nvSpPr>
        <p:spPr>
          <a:xfrm rot="5400000">
            <a:off x="-1627920" y="3258360"/>
            <a:ext cx="3597120" cy="341280"/>
          </a:xfrm>
          <a:custGeom>
            <a:avLst/>
            <a:gdLst/>
            <a:ahLst/>
            <a:rect l="l" t="t" r="r" b="b"/>
            <a:pathLst>
              <a:path w="3597275" h="341313">
                <a:moveTo>
                  <a:pt x="170657" y="0"/>
                </a:moveTo>
                <a:lnTo>
                  <a:pt x="3426619" y="0"/>
                </a:lnTo>
                <a:cubicBezTo>
                  <a:pt x="3520870" y="0"/>
                  <a:pt x="3597276" y="76406"/>
                  <a:pt x="3597276" y="170657"/>
                </a:cubicBezTo>
                <a:cubicBezTo>
                  <a:pt x="3597276" y="227542"/>
                  <a:pt x="3597275" y="284428"/>
                  <a:pt x="3597275" y="341313"/>
                </a:cubicBezTo>
                <a:lnTo>
                  <a:pt x="3597275" y="341313"/>
                </a:lnTo>
                <a:lnTo>
                  <a:pt x="0" y="341313"/>
                </a:lnTo>
                <a:lnTo>
                  <a:pt x="0" y="341313"/>
                </a:lnTo>
                <a:lnTo>
                  <a:pt x="0" y="170657"/>
                </a:lnTo>
                <a:cubicBezTo>
                  <a:pt x="0" y="76406"/>
                  <a:pt x="76406" y="0"/>
                  <a:pt x="170657" y="0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11" descr=""/>
          <p:cNvPicPr/>
          <p:nvPr/>
        </p:nvPicPr>
        <p:blipFill>
          <a:blip r:embed="rId1"/>
          <a:stretch/>
        </p:blipFill>
        <p:spPr>
          <a:xfrm>
            <a:off x="7734240" y="216000"/>
            <a:ext cx="838440" cy="893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" descr=""/>
          <p:cNvPicPr/>
          <p:nvPr/>
        </p:nvPicPr>
        <p:blipFill>
          <a:blip r:embed="rId2"/>
          <a:stretch/>
        </p:blipFill>
        <p:spPr>
          <a:xfrm>
            <a:off x="9360" y="6305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"/>
          <p:cNvPicPr/>
          <p:nvPr/>
        </p:nvPicPr>
        <p:blipFill>
          <a:blip r:embed="rId3"/>
          <a:stretch/>
        </p:blipFill>
        <p:spPr>
          <a:xfrm>
            <a:off x="-44280" y="-12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5" descr=""/>
          <p:cNvPicPr/>
          <p:nvPr/>
        </p:nvPicPr>
        <p:blipFill>
          <a:blip r:embed="rId4"/>
          <a:stretch/>
        </p:blipFill>
        <p:spPr>
          <a:xfrm>
            <a:off x="8732880" y="-12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6" descr=""/>
          <p:cNvPicPr/>
          <p:nvPr/>
        </p:nvPicPr>
        <p:blipFill>
          <a:blip r:embed="rId5"/>
          <a:stretch/>
        </p:blipFill>
        <p:spPr>
          <a:xfrm>
            <a:off x="8616960" y="65660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7" descr=""/>
          <p:cNvPicPr/>
          <p:nvPr/>
        </p:nvPicPr>
        <p:blipFill>
          <a:blip r:embed="rId6"/>
          <a:stretch/>
        </p:blipFill>
        <p:spPr>
          <a:xfrm>
            <a:off x="8686800" y="-12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8"/>
          <p:cNvSpPr/>
          <p:nvPr/>
        </p:nvSpPr>
        <p:spPr>
          <a:xfrm>
            <a:off x="419040" y="36504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b"/>
                </a:solidFill>
                <a:latin typeface="#9Slide05 Garris"/>
              </a:rPr>
              <a:t>II. LUYỆN TẬP VÀ VẬN DỤ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2" descr="Điện gia dụng là gì? Vai trò của điện gia dụng trong đời sống"/>
          <p:cNvPicPr/>
          <p:nvPr/>
        </p:nvPicPr>
        <p:blipFill>
          <a:blip r:embed="rId7"/>
          <a:stretch/>
        </p:blipFill>
        <p:spPr>
          <a:xfrm>
            <a:off x="5356080" y="3556080"/>
            <a:ext cx="2762280" cy="28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0" y="-324000"/>
            <a:ext cx="1843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495360" y="1143000"/>
            <a:ext cx="8153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vi-VN" sz="2800" spc="-1" strike="noStrike">
                <a:solidFill>
                  <a:srgbClr val="0000ff"/>
                </a:solidFill>
                <a:latin typeface="Times New Roman"/>
              </a:rPr>
              <a:t>3. Trả lời các câu hỏi sa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ff"/>
                </a:solidFill>
                <a:latin typeface="Times New Roman"/>
              </a:rPr>
              <a:t>Nếu sử dụng đồ dùng điện trong gia đình với điện áp thấp hơn điện áp định | mức, có thể gây ra hậu quả gì? Cho ví dụ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ff"/>
                </a:solidFill>
                <a:latin typeface="Times New Roman"/>
              </a:rPr>
              <a:t>b. Nếu sử dụng đồ dùng điện trong gia đình vượt qua các thông số kĩ thuật, có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vi-VN" sz="2800" spc="-1" strike="noStrike">
                <a:solidFill>
                  <a:srgbClr val="0000ff"/>
                </a:solidFill>
                <a:latin typeface="Times New Roman"/>
              </a:rPr>
              <a:t>thể gây ra hậu quả gì? Cho ví dụ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ff"/>
                </a:solidFill>
                <a:latin typeface="Times New Roman"/>
              </a:rPr>
              <a:t>4. Cần làm gì để sử dụng tốt để dùng diện trong gia đìn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9"/>
          <p:cNvSpPr/>
          <p:nvPr/>
        </p:nvSpPr>
        <p:spPr>
          <a:xfrm>
            <a:off x="198360" y="152280"/>
            <a:ext cx="8717040" cy="6477120"/>
          </a:xfrm>
          <a:prstGeom prst="rect">
            <a:avLst/>
          </a:prstGeom>
          <a:noFill/>
          <a:ln w="936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: Top Corners Rounded 15"/>
          <p:cNvSpPr/>
          <p:nvPr/>
        </p:nvSpPr>
        <p:spPr>
          <a:xfrm rot="5400000">
            <a:off x="-1627920" y="3258360"/>
            <a:ext cx="3597120" cy="341280"/>
          </a:xfrm>
          <a:custGeom>
            <a:avLst/>
            <a:gdLst/>
            <a:ahLst/>
            <a:rect l="l" t="t" r="r" b="b"/>
            <a:pathLst>
              <a:path w="3597275" h="341313">
                <a:moveTo>
                  <a:pt x="170657" y="0"/>
                </a:moveTo>
                <a:lnTo>
                  <a:pt x="3426619" y="0"/>
                </a:lnTo>
                <a:cubicBezTo>
                  <a:pt x="3520870" y="0"/>
                  <a:pt x="3597276" y="76406"/>
                  <a:pt x="3597276" y="170657"/>
                </a:cubicBezTo>
                <a:cubicBezTo>
                  <a:pt x="3597276" y="227542"/>
                  <a:pt x="3597275" y="284428"/>
                  <a:pt x="3597275" y="341313"/>
                </a:cubicBezTo>
                <a:lnTo>
                  <a:pt x="3597275" y="341313"/>
                </a:lnTo>
                <a:lnTo>
                  <a:pt x="0" y="341313"/>
                </a:lnTo>
                <a:lnTo>
                  <a:pt x="0" y="341313"/>
                </a:lnTo>
                <a:lnTo>
                  <a:pt x="0" y="170657"/>
                </a:lnTo>
                <a:cubicBezTo>
                  <a:pt x="0" y="76406"/>
                  <a:pt x="76406" y="0"/>
                  <a:pt x="170657" y="0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1" descr=""/>
          <p:cNvPicPr/>
          <p:nvPr/>
        </p:nvPicPr>
        <p:blipFill>
          <a:blip r:embed="rId1"/>
          <a:stretch/>
        </p:blipFill>
        <p:spPr>
          <a:xfrm>
            <a:off x="7734240" y="216000"/>
            <a:ext cx="838440" cy="893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" descr=""/>
          <p:cNvPicPr/>
          <p:nvPr/>
        </p:nvPicPr>
        <p:blipFill>
          <a:blip r:embed="rId2"/>
          <a:stretch/>
        </p:blipFill>
        <p:spPr>
          <a:xfrm>
            <a:off x="9360" y="6305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3" descr=""/>
          <p:cNvPicPr/>
          <p:nvPr/>
        </p:nvPicPr>
        <p:blipFill>
          <a:blip r:embed="rId3"/>
          <a:stretch/>
        </p:blipFill>
        <p:spPr>
          <a:xfrm>
            <a:off x="-44280" y="-12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"/>
          <p:cNvPicPr/>
          <p:nvPr/>
        </p:nvPicPr>
        <p:blipFill>
          <a:blip r:embed="rId4"/>
          <a:stretch/>
        </p:blipFill>
        <p:spPr>
          <a:xfrm>
            <a:off x="8732880" y="-12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"/>
          <p:cNvPicPr/>
          <p:nvPr/>
        </p:nvPicPr>
        <p:blipFill>
          <a:blip r:embed="rId5"/>
          <a:stretch/>
        </p:blipFill>
        <p:spPr>
          <a:xfrm>
            <a:off x="8616960" y="65660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7" descr=""/>
          <p:cNvPicPr/>
          <p:nvPr/>
        </p:nvPicPr>
        <p:blipFill>
          <a:blip r:embed="rId6"/>
          <a:stretch/>
        </p:blipFill>
        <p:spPr>
          <a:xfrm>
            <a:off x="8686800" y="-12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8"/>
          <p:cNvSpPr/>
          <p:nvPr/>
        </p:nvSpPr>
        <p:spPr>
          <a:xfrm>
            <a:off x="419040" y="36504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b"/>
                </a:solidFill>
                <a:latin typeface="#9Slide05 Garris"/>
              </a:rPr>
              <a:t>II. LUYỆN TẬP VÀ VẬN DỤ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75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75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" descr=""/>
          <p:cNvPicPr/>
          <p:nvPr/>
        </p:nvPicPr>
        <p:blipFill>
          <a:blip r:embed="rId2"/>
          <a:stretch/>
        </p:blipFill>
        <p:spPr>
          <a:xfrm>
            <a:off x="1676520" y="152280"/>
            <a:ext cx="5565600" cy="1067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3"/>
          <a:stretch/>
        </p:blipFill>
        <p:spPr>
          <a:xfrm>
            <a:off x="5929200" y="5905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4"/>
          <a:stretch/>
        </p:blipFill>
        <p:spPr>
          <a:xfrm>
            <a:off x="7086600" y="5715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"/>
          <p:cNvPicPr/>
          <p:nvPr/>
        </p:nvPicPr>
        <p:blipFill>
          <a:blip r:embed="rId5"/>
          <a:stretch/>
        </p:blipFill>
        <p:spPr>
          <a:xfrm>
            <a:off x="2057400" y="5715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"/>
          <p:cNvPicPr/>
          <p:nvPr/>
        </p:nvPicPr>
        <p:blipFill>
          <a:blip r:embed="rId6"/>
          <a:stretch/>
        </p:blipFill>
        <p:spPr>
          <a:xfrm>
            <a:off x="1012680" y="5715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"/>
          <p:cNvPicPr/>
          <p:nvPr/>
        </p:nvPicPr>
        <p:blipFill>
          <a:blip r:embed="rId7"/>
          <a:stretch/>
        </p:blipFill>
        <p:spPr>
          <a:xfrm>
            <a:off x="3205080" y="5751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"/>
          <p:cNvPicPr/>
          <p:nvPr/>
        </p:nvPicPr>
        <p:blipFill>
          <a:blip r:embed="rId8"/>
          <a:stretch/>
        </p:blipFill>
        <p:spPr>
          <a:xfrm>
            <a:off x="4572000" y="5905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"/>
          <p:cNvPicPr/>
          <p:nvPr/>
        </p:nvPicPr>
        <p:blipFill>
          <a:blip r:embed="rId9"/>
          <a:stretch/>
        </p:blipFill>
        <p:spPr>
          <a:xfrm>
            <a:off x="2103480" y="5715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"/>
          <p:cNvPicPr/>
          <p:nvPr/>
        </p:nvPicPr>
        <p:blipFill>
          <a:blip r:embed="rId10"/>
          <a:stretch/>
        </p:blipFill>
        <p:spPr>
          <a:xfrm>
            <a:off x="1058760" y="5715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"/>
          <p:cNvPicPr/>
          <p:nvPr/>
        </p:nvPicPr>
        <p:blipFill>
          <a:blip r:embed="rId11"/>
          <a:stretch/>
        </p:blipFill>
        <p:spPr>
          <a:xfrm>
            <a:off x="5996160" y="58910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1" descr=""/>
          <p:cNvPicPr/>
          <p:nvPr/>
        </p:nvPicPr>
        <p:blipFill>
          <a:blip r:embed="rId12"/>
          <a:stretch/>
        </p:blipFill>
        <p:spPr>
          <a:xfrm>
            <a:off x="3271680" y="57373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2" descr=""/>
          <p:cNvPicPr/>
          <p:nvPr/>
        </p:nvPicPr>
        <p:blipFill>
          <a:blip r:embed="rId13"/>
          <a:stretch/>
        </p:blipFill>
        <p:spPr>
          <a:xfrm>
            <a:off x="4638600" y="58910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3" descr=""/>
          <p:cNvPicPr/>
          <p:nvPr/>
        </p:nvPicPr>
        <p:blipFill>
          <a:blip r:embed="rId14"/>
          <a:stretch/>
        </p:blipFill>
        <p:spPr>
          <a:xfrm>
            <a:off x="2171880" y="570060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4" descr=""/>
          <p:cNvPicPr/>
          <p:nvPr/>
        </p:nvPicPr>
        <p:blipFill>
          <a:blip r:embed="rId15"/>
          <a:stretch/>
        </p:blipFill>
        <p:spPr>
          <a:xfrm>
            <a:off x="1127160" y="570060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8:52:35Z</dcterms:created>
  <dc:creator>office</dc:creator>
  <dc:description/>
  <dc:language>en-US</dc:language>
  <cp:lastModifiedBy>ASUS</cp:lastModifiedBy>
  <dcterms:modified xsi:type="dcterms:W3CDTF">2021-07-30T02:14:45Z</dcterms:modified>
  <cp:revision>233</cp:revision>
  <dc:subject/>
  <dc:title>Slide 1</dc:title>
</cp:coreProperties>
</file>