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NH&#431;%20QUY&#768;NH.ppt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000" y="1025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2586a"/>
                </a:solidFill>
                <a:latin typeface="Calibri"/>
              </a:rPr>
              <a:t>ÔN TẬP - Chủ đề 1. NHÀ 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219320" y="2225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pSp>
        <p:nvGrpSpPr>
          <p:cNvPr id="39" name="Group 3"/>
          <p:cNvGrpSpPr/>
          <p:nvPr/>
        </p:nvGrpSpPr>
        <p:grpSpPr>
          <a:xfrm>
            <a:off x="762120" y="3657600"/>
            <a:ext cx="2709720" cy="2814480"/>
            <a:chOff x="762120" y="3657600"/>
            <a:chExt cx="2709720" cy="2814480"/>
          </a:xfrm>
        </p:grpSpPr>
        <p:sp>
          <p:nvSpPr>
            <p:cNvPr id="40" name="Google Shape;764;p30"/>
            <p:cNvSpPr/>
            <p:nvPr/>
          </p:nvSpPr>
          <p:spPr>
            <a:xfrm>
              <a:off x="2160720" y="3938400"/>
              <a:ext cx="544320" cy="45072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6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ffc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Google Shape;765;p30"/>
            <p:cNvSpPr/>
            <p:nvPr/>
          </p:nvSpPr>
          <p:spPr>
            <a:xfrm>
              <a:off x="2425680" y="4063680"/>
              <a:ext cx="542880" cy="449280"/>
            </a:xfrm>
            <a:custGeom>
              <a:avLst/>
              <a:gdLst/>
              <a:ahLst/>
              <a:rect l="l" t="t" r="r" b="b"/>
              <a:pathLst>
                <a:path w="535" h="598">
                  <a:moveTo>
                    <a:pt x="262" y="598"/>
                  </a:moveTo>
                  <a:lnTo>
                    <a:pt x="0" y="432"/>
                  </a:lnTo>
                  <a:lnTo>
                    <a:pt x="276" y="0"/>
                  </a:lnTo>
                  <a:lnTo>
                    <a:pt x="535" y="167"/>
                  </a:lnTo>
                  <a:lnTo>
                    <a:pt x="262" y="598"/>
                  </a:lnTo>
                  <a:close/>
                </a:path>
              </a:pathLst>
            </a:custGeom>
            <a:solidFill>
              <a:srgbClr val="ffb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Google Shape;766;p30"/>
            <p:cNvSpPr/>
            <p:nvPr/>
          </p:nvSpPr>
          <p:spPr>
            <a:xfrm>
              <a:off x="2687760" y="418932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3" y="0"/>
                  </a:lnTo>
                  <a:lnTo>
                    <a:pt x="536" y="169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faa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Google Shape;767;p30"/>
            <p:cNvSpPr/>
            <p:nvPr/>
          </p:nvSpPr>
          <p:spPr>
            <a:xfrm>
              <a:off x="2497320" y="3657600"/>
              <a:ext cx="461880" cy="34128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115" y="199"/>
                  </a:moveTo>
                  <a:cubicBezTo>
                    <a:pt x="0" y="126"/>
                    <a:pt x="0" y="126"/>
                    <a:pt x="0" y="126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78" y="5"/>
                    <a:pt x="98" y="0"/>
                    <a:pt x="113" y="10"/>
                  </a:cubicBezTo>
                  <a:cubicBezTo>
                    <a:pt x="200" y="66"/>
                    <a:pt x="200" y="66"/>
                    <a:pt x="200" y="66"/>
                  </a:cubicBezTo>
                  <a:lnTo>
                    <a:pt x="115" y="199"/>
                  </a:lnTo>
                  <a:close/>
                </a:path>
              </a:pathLst>
            </a:custGeom>
            <a:solidFill>
              <a:srgbClr val="656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Google Shape;768;p30"/>
            <p:cNvSpPr/>
            <p:nvPr/>
          </p:nvSpPr>
          <p:spPr>
            <a:xfrm>
              <a:off x="2764080" y="3770280"/>
              <a:ext cx="460080" cy="353880"/>
            </a:xfrm>
            <a:custGeom>
              <a:avLst/>
              <a:gdLst/>
              <a:ahLst/>
              <a:rect l="l" t="t" r="r" b="b"/>
              <a:pathLst>
                <a:path w="453" h="470">
                  <a:moveTo>
                    <a:pt x="259" y="470"/>
                  </a:moveTo>
                  <a:lnTo>
                    <a:pt x="0" y="304"/>
                  </a:lnTo>
                  <a:lnTo>
                    <a:pt x="193" y="0"/>
                  </a:lnTo>
                  <a:lnTo>
                    <a:pt x="453" y="167"/>
                  </a:lnTo>
                  <a:lnTo>
                    <a:pt x="259" y="470"/>
                  </a:lnTo>
                  <a:close/>
                </a:path>
              </a:pathLst>
            </a:custGeom>
            <a:solidFill>
              <a:srgbClr val="464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Google Shape;769;p30"/>
            <p:cNvSpPr/>
            <p:nvPr/>
          </p:nvSpPr>
          <p:spPr>
            <a:xfrm>
              <a:off x="3027600" y="3895560"/>
              <a:ext cx="444240" cy="353880"/>
            </a:xfrm>
            <a:custGeom>
              <a:avLst/>
              <a:gdLst/>
              <a:ahLst/>
              <a:rect l="l" t="t" r="r" b="b"/>
              <a:pathLst>
                <a:path w="192" h="206">
                  <a:moveTo>
                    <a:pt x="114" y="206"/>
                  </a:moveTo>
                  <a:cubicBezTo>
                    <a:pt x="0" y="133"/>
                    <a:pt x="0" y="133"/>
                    <a:pt x="0" y="133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173" y="56"/>
                    <a:pt x="173" y="56"/>
                    <a:pt x="173" y="56"/>
                  </a:cubicBezTo>
                  <a:cubicBezTo>
                    <a:pt x="187" y="65"/>
                    <a:pt x="192" y="85"/>
                    <a:pt x="182" y="100"/>
                  </a:cubicBezTo>
                  <a:lnTo>
                    <a:pt x="114" y="206"/>
                  </a:lnTo>
                  <a:close/>
                </a:path>
              </a:pathLst>
            </a:custGeom>
            <a:solidFill>
              <a:srgbClr val="2f2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Google Shape;770;p30"/>
            <p:cNvSpPr/>
            <p:nvPr/>
          </p:nvSpPr>
          <p:spPr>
            <a:xfrm>
              <a:off x="1881360" y="426384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2" y="598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7"/>
                  </a:lnTo>
                  <a:lnTo>
                    <a:pt x="262" y="598"/>
                  </a:lnTo>
                  <a:close/>
                </a:path>
              </a:pathLst>
            </a:custGeom>
            <a:solidFill>
              <a:srgbClr val="f0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Google Shape;771;p30"/>
            <p:cNvSpPr/>
            <p:nvPr/>
          </p:nvSpPr>
          <p:spPr>
            <a:xfrm>
              <a:off x="2146320" y="438948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7">
                  <a:moveTo>
                    <a:pt x="260" y="597"/>
                  </a:moveTo>
                  <a:lnTo>
                    <a:pt x="0" y="431"/>
                  </a:lnTo>
                  <a:lnTo>
                    <a:pt x="274" y="0"/>
                  </a:lnTo>
                  <a:lnTo>
                    <a:pt x="536" y="166"/>
                  </a:lnTo>
                  <a:lnTo>
                    <a:pt x="260" y="597"/>
                  </a:lnTo>
                  <a:close/>
                </a:path>
              </a:pathLst>
            </a:custGeom>
            <a:solidFill>
              <a:srgbClr val="e24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Google Shape;772;p30"/>
            <p:cNvSpPr/>
            <p:nvPr/>
          </p:nvSpPr>
          <p:spPr>
            <a:xfrm>
              <a:off x="2411640" y="4513320"/>
              <a:ext cx="544320" cy="45072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7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cc2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Google Shape;773;p30"/>
            <p:cNvSpPr/>
            <p:nvPr/>
          </p:nvSpPr>
          <p:spPr>
            <a:xfrm>
              <a:off x="1601640" y="458784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4" y="0"/>
                  </a:lnTo>
                  <a:lnTo>
                    <a:pt x="536" y="167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a63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Google Shape;774;p30"/>
            <p:cNvSpPr/>
            <p:nvPr/>
          </p:nvSpPr>
          <p:spPr>
            <a:xfrm>
              <a:off x="1866960" y="471312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6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8c1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Google Shape;775;p30"/>
            <p:cNvSpPr/>
            <p:nvPr/>
          </p:nvSpPr>
          <p:spPr>
            <a:xfrm>
              <a:off x="2130480" y="483876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2"/>
                  </a:lnTo>
                  <a:lnTo>
                    <a:pt x="276" y="0"/>
                  </a:lnTo>
                  <a:lnTo>
                    <a:pt x="536" y="167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7801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Google Shape;776;p30"/>
            <p:cNvSpPr/>
            <p:nvPr/>
          </p:nvSpPr>
          <p:spPr>
            <a:xfrm>
              <a:off x="1322280" y="4911480"/>
              <a:ext cx="544320" cy="449280"/>
            </a:xfrm>
            <a:custGeom>
              <a:avLst/>
              <a:gdLst/>
              <a:ahLst/>
              <a:rect l="l" t="t" r="r" b="b"/>
              <a:pathLst>
                <a:path w="535" h="598">
                  <a:moveTo>
                    <a:pt x="259" y="598"/>
                  </a:moveTo>
                  <a:lnTo>
                    <a:pt x="0" y="432"/>
                  </a:lnTo>
                  <a:lnTo>
                    <a:pt x="275" y="0"/>
                  </a:lnTo>
                  <a:lnTo>
                    <a:pt x="535" y="167"/>
                  </a:lnTo>
                  <a:lnTo>
                    <a:pt x="259" y="598"/>
                  </a:lnTo>
                  <a:close/>
                </a:path>
              </a:pathLst>
            </a:custGeom>
            <a:solidFill>
              <a:srgbClr val="91e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Google Shape;777;p30"/>
            <p:cNvSpPr/>
            <p:nvPr/>
          </p:nvSpPr>
          <p:spPr>
            <a:xfrm>
              <a:off x="1585800" y="5037120"/>
              <a:ext cx="544320" cy="45072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7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64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Google Shape;778;p30"/>
            <p:cNvSpPr/>
            <p:nvPr/>
          </p:nvSpPr>
          <p:spPr>
            <a:xfrm>
              <a:off x="1846440" y="516240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7">
                  <a:moveTo>
                    <a:pt x="263" y="597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6"/>
                  </a:lnTo>
                  <a:lnTo>
                    <a:pt x="263" y="597"/>
                  </a:lnTo>
                  <a:close/>
                </a:path>
              </a:pathLst>
            </a:custGeom>
            <a:solidFill>
              <a:srgbClr val="2c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Google Shape;779;p30"/>
            <p:cNvSpPr/>
            <p:nvPr/>
          </p:nvSpPr>
          <p:spPr>
            <a:xfrm>
              <a:off x="1042920" y="5236920"/>
              <a:ext cx="542880" cy="447480"/>
            </a:xfrm>
            <a:custGeom>
              <a:avLst/>
              <a:gdLst/>
              <a:ahLst/>
              <a:rect l="l" t="t" r="r" b="b"/>
              <a:pathLst>
                <a:path w="535" h="595">
                  <a:moveTo>
                    <a:pt x="260" y="595"/>
                  </a:moveTo>
                  <a:lnTo>
                    <a:pt x="0" y="429"/>
                  </a:lnTo>
                  <a:lnTo>
                    <a:pt x="276" y="0"/>
                  </a:lnTo>
                  <a:lnTo>
                    <a:pt x="535" y="166"/>
                  </a:lnTo>
                  <a:lnTo>
                    <a:pt x="260" y="595"/>
                  </a:lnTo>
                  <a:close/>
                </a:path>
              </a:pathLst>
            </a:custGeom>
            <a:solidFill>
              <a:srgbClr val="68c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Google Shape;780;p30"/>
            <p:cNvSpPr/>
            <p:nvPr/>
          </p:nvSpPr>
          <p:spPr>
            <a:xfrm>
              <a:off x="1306440" y="5360760"/>
              <a:ext cx="542880" cy="450720"/>
            </a:xfrm>
            <a:custGeom>
              <a:avLst/>
              <a:gdLst/>
              <a:ahLst/>
              <a:rect l="l" t="t" r="r" b="b"/>
              <a:pathLst>
                <a:path w="535" h="598">
                  <a:moveTo>
                    <a:pt x="262" y="598"/>
                  </a:moveTo>
                  <a:lnTo>
                    <a:pt x="0" y="429"/>
                  </a:lnTo>
                  <a:lnTo>
                    <a:pt x="275" y="0"/>
                  </a:lnTo>
                  <a:lnTo>
                    <a:pt x="535" y="167"/>
                  </a:lnTo>
                  <a:lnTo>
                    <a:pt x="262" y="598"/>
                  </a:lnTo>
                  <a:close/>
                </a:path>
              </a:pathLst>
            </a:custGeom>
            <a:solidFill>
              <a:srgbClr val="34b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Google Shape;781;p30"/>
            <p:cNvSpPr/>
            <p:nvPr/>
          </p:nvSpPr>
          <p:spPr>
            <a:xfrm>
              <a:off x="1484280" y="546876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3" y="0"/>
                  </a:lnTo>
                  <a:lnTo>
                    <a:pt x="536" y="166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0a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Google Shape;782;p30"/>
            <p:cNvSpPr/>
            <p:nvPr/>
          </p:nvSpPr>
          <p:spPr>
            <a:xfrm>
              <a:off x="762120" y="555948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7">
                  <a:moveTo>
                    <a:pt x="262" y="597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6"/>
                  </a:lnTo>
                  <a:lnTo>
                    <a:pt x="262" y="597"/>
                  </a:lnTo>
                  <a:close/>
                </a:path>
              </a:pathLst>
            </a:custGeom>
            <a:solidFill>
              <a:srgbClr val="207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Google Shape;783;p30"/>
            <p:cNvSpPr/>
            <p:nvPr/>
          </p:nvSpPr>
          <p:spPr>
            <a:xfrm>
              <a:off x="1028520" y="568476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4" y="0"/>
                  </a:lnTo>
                  <a:lnTo>
                    <a:pt x="536" y="169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06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Google Shape;784;p30"/>
            <p:cNvSpPr/>
            <p:nvPr/>
          </p:nvSpPr>
          <p:spPr>
            <a:xfrm>
              <a:off x="1233360" y="5780160"/>
              <a:ext cx="544320" cy="447480"/>
            </a:xfrm>
            <a:custGeom>
              <a:avLst/>
              <a:gdLst/>
              <a:ahLst/>
              <a:rect l="l" t="t" r="r" b="b"/>
              <a:pathLst>
                <a:path w="536" h="595">
                  <a:moveTo>
                    <a:pt x="260" y="595"/>
                  </a:moveTo>
                  <a:lnTo>
                    <a:pt x="0" y="429"/>
                  </a:lnTo>
                  <a:lnTo>
                    <a:pt x="276" y="0"/>
                  </a:lnTo>
                  <a:lnTo>
                    <a:pt x="536" y="167"/>
                  </a:lnTo>
                  <a:lnTo>
                    <a:pt x="260" y="595"/>
                  </a:lnTo>
                  <a:close/>
                </a:path>
              </a:pathLst>
            </a:custGeom>
            <a:solidFill>
              <a:srgbClr val="0a4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Google Shape;785;p30"/>
            <p:cNvSpPr/>
            <p:nvPr/>
          </p:nvSpPr>
          <p:spPr>
            <a:xfrm>
              <a:off x="981000" y="6134040"/>
              <a:ext cx="583920" cy="272880"/>
            </a:xfrm>
            <a:custGeom>
              <a:avLst/>
              <a:gdLst/>
              <a:ahLst/>
              <a:rect l="l" t="t" r="r" b="b"/>
              <a:pathLst>
                <a:path w="252" h="159">
                  <a:moveTo>
                    <a:pt x="26" y="159"/>
                  </a:moveTo>
                  <a:cubicBezTo>
                    <a:pt x="248" y="73"/>
                    <a:pt x="248" y="73"/>
                    <a:pt x="248" y="73"/>
                  </a:cubicBezTo>
                  <a:cubicBezTo>
                    <a:pt x="248" y="73"/>
                    <a:pt x="252" y="50"/>
                    <a:pt x="213" y="25"/>
                  </a:cubicBezTo>
                  <a:cubicBezTo>
                    <a:pt x="187" y="8"/>
                    <a:pt x="134" y="0"/>
                    <a:pt x="134" y="0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10" y="137"/>
                    <a:pt x="19" y="148"/>
                    <a:pt x="26" y="159"/>
                  </a:cubicBezTo>
                  <a:close/>
                </a:path>
              </a:pathLst>
            </a:custGeom>
            <a:solidFill>
              <a:srgbClr val="c49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Google Shape;786;p30"/>
            <p:cNvSpPr/>
            <p:nvPr/>
          </p:nvSpPr>
          <p:spPr>
            <a:xfrm>
              <a:off x="762120" y="5861160"/>
              <a:ext cx="266400" cy="450720"/>
            </a:xfrm>
            <a:custGeom>
              <a:avLst/>
              <a:gdLst/>
              <a:ahLst/>
              <a:rect l="l" t="t" r="r" b="b"/>
              <a:pathLst>
                <a:path w="115" h="262">
                  <a:moveTo>
                    <a:pt x="115" y="86"/>
                  </a:moveTo>
                  <a:cubicBezTo>
                    <a:pt x="115" y="86"/>
                    <a:pt x="115" y="86"/>
                    <a:pt x="115" y="86"/>
                  </a:cubicBezTo>
                  <a:cubicBezTo>
                    <a:pt x="115" y="86"/>
                    <a:pt x="85" y="42"/>
                    <a:pt x="59" y="25"/>
                  </a:cubicBezTo>
                  <a:cubicBezTo>
                    <a:pt x="20" y="0"/>
                    <a:pt x="0" y="13"/>
                    <a:pt x="0" y="13"/>
                  </a:cubicBezTo>
                  <a:cubicBezTo>
                    <a:pt x="16" y="251"/>
                    <a:pt x="16" y="251"/>
                    <a:pt x="16" y="251"/>
                  </a:cubicBezTo>
                  <a:cubicBezTo>
                    <a:pt x="29" y="253"/>
                    <a:pt x="42" y="256"/>
                    <a:pt x="55" y="262"/>
                  </a:cubicBezTo>
                  <a:lnTo>
                    <a:pt x="115" y="86"/>
                  </a:lnTo>
                  <a:close/>
                </a:path>
              </a:pathLst>
            </a:custGeom>
            <a:solidFill>
              <a:srgbClr val="e3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Google Shape;787;p30"/>
            <p:cNvSpPr/>
            <p:nvPr/>
          </p:nvSpPr>
          <p:spPr>
            <a:xfrm>
              <a:off x="888840" y="5994360"/>
              <a:ext cx="403200" cy="360360"/>
            </a:xfrm>
            <a:custGeom>
              <a:avLst/>
              <a:gdLst/>
              <a:ahLst/>
              <a:rect l="l" t="t" r="r" b="b"/>
              <a:pathLst>
                <a:path w="174" h="210">
                  <a:moveTo>
                    <a:pt x="0" y="185"/>
                  </a:moveTo>
                  <a:cubicBezTo>
                    <a:pt x="7" y="188"/>
                    <a:pt x="14" y="191"/>
                    <a:pt x="21" y="196"/>
                  </a:cubicBezTo>
                  <a:cubicBezTo>
                    <a:pt x="28" y="200"/>
                    <a:pt x="34" y="205"/>
                    <a:pt x="40" y="210"/>
                  </a:cubicBezTo>
                  <a:cubicBezTo>
                    <a:pt x="174" y="82"/>
                    <a:pt x="174" y="82"/>
                    <a:pt x="174" y="82"/>
                  </a:cubicBezTo>
                  <a:cubicBezTo>
                    <a:pt x="174" y="82"/>
                    <a:pt x="167" y="46"/>
                    <a:pt x="131" y="23"/>
                  </a:cubicBezTo>
                  <a:cubicBezTo>
                    <a:pt x="95" y="0"/>
                    <a:pt x="60" y="9"/>
                    <a:pt x="60" y="9"/>
                  </a:cubicBezTo>
                  <a:cubicBezTo>
                    <a:pt x="60" y="9"/>
                    <a:pt x="60" y="9"/>
                    <a:pt x="60" y="9"/>
                  </a:cubicBezTo>
                  <a:lnTo>
                    <a:pt x="0" y="185"/>
                  </a:lnTo>
                  <a:close/>
                </a:path>
              </a:pathLst>
            </a:custGeom>
            <a:solidFill>
              <a:srgbClr val="d6a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Google Shape;788;p30"/>
            <p:cNvSpPr/>
            <p:nvPr/>
          </p:nvSpPr>
          <p:spPr>
            <a:xfrm>
              <a:off x="798480" y="6292800"/>
              <a:ext cx="244440" cy="179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7" y="105"/>
                  </a:moveTo>
                  <a:cubicBezTo>
                    <a:pt x="105" y="67"/>
                    <a:pt x="105" y="67"/>
                    <a:pt x="105" y="67"/>
                  </a:cubicBezTo>
                  <a:cubicBezTo>
                    <a:pt x="98" y="56"/>
                    <a:pt x="89" y="45"/>
                    <a:pt x="79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3" y="31"/>
                    <a:pt x="67" y="26"/>
                    <a:pt x="60" y="22"/>
                  </a:cubicBezTo>
                  <a:cubicBezTo>
                    <a:pt x="53" y="17"/>
                    <a:pt x="46" y="14"/>
                    <a:pt x="39" y="11"/>
                  </a:cubicBezTo>
                  <a:cubicBezTo>
                    <a:pt x="39" y="11"/>
                    <a:pt x="39" y="11"/>
                    <a:pt x="39" y="11"/>
                  </a:cubicBezTo>
                  <a:cubicBezTo>
                    <a:pt x="26" y="5"/>
                    <a:pt x="13" y="2"/>
                    <a:pt x="0" y="0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Google Shape;789;p30"/>
            <p:cNvSpPr/>
            <p:nvPr/>
          </p:nvSpPr>
          <p:spPr>
            <a:xfrm>
              <a:off x="2441520" y="3873240"/>
              <a:ext cx="849240" cy="442800"/>
            </a:xfrm>
            <a:custGeom>
              <a:avLst/>
              <a:gdLst/>
              <a:ahLst/>
              <a:rect l="l" t="t" r="r" b="b"/>
              <a:pathLst>
                <a:path w="836" h="589">
                  <a:moveTo>
                    <a:pt x="836" y="500"/>
                  </a:moveTo>
                  <a:lnTo>
                    <a:pt x="54" y="0"/>
                  </a:lnTo>
                  <a:lnTo>
                    <a:pt x="0" y="87"/>
                  </a:lnTo>
                  <a:lnTo>
                    <a:pt x="782" y="589"/>
                  </a:lnTo>
                  <a:lnTo>
                    <a:pt x="836" y="50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Google Shape;796;p30"/>
          <p:cNvSpPr/>
          <p:nvPr/>
        </p:nvSpPr>
        <p:spPr>
          <a:xfrm>
            <a:off x="1449360" y="3313080"/>
            <a:ext cx="835200" cy="560520"/>
          </a:xfrm>
          <a:custGeom>
            <a:avLst/>
            <a:gdLst/>
            <a:ahLst/>
            <a:rect l="l" t="t" r="r" b="b"/>
            <a:pathLst>
              <a:path w="231" h="155">
                <a:moveTo>
                  <a:pt x="184" y="15"/>
                </a:moveTo>
                <a:cubicBezTo>
                  <a:pt x="205" y="69"/>
                  <a:pt x="205" y="69"/>
                  <a:pt x="205" y="69"/>
                </a:cubicBezTo>
                <a:cubicBezTo>
                  <a:pt x="178" y="80"/>
                  <a:pt x="178" y="80"/>
                  <a:pt x="178" y="80"/>
                </a:cubicBezTo>
                <a:cubicBezTo>
                  <a:pt x="164" y="68"/>
                  <a:pt x="121" y="31"/>
                  <a:pt x="117" y="30"/>
                </a:cubicBezTo>
                <a:cubicBezTo>
                  <a:pt x="114" y="30"/>
                  <a:pt x="101" y="35"/>
                  <a:pt x="99" y="36"/>
                </a:cubicBezTo>
                <a:cubicBezTo>
                  <a:pt x="99" y="36"/>
                  <a:pt x="91" y="38"/>
                  <a:pt x="84" y="38"/>
                </a:cubicBezTo>
                <a:cubicBezTo>
                  <a:pt x="80" y="38"/>
                  <a:pt x="78" y="37"/>
                  <a:pt x="76" y="36"/>
                </a:cubicBezTo>
                <a:cubicBezTo>
                  <a:pt x="74" y="35"/>
                  <a:pt x="73" y="34"/>
                  <a:pt x="74" y="33"/>
                </a:cubicBezTo>
                <a:cubicBezTo>
                  <a:pt x="74" y="30"/>
                  <a:pt x="77" y="27"/>
                  <a:pt x="78" y="26"/>
                </a:cubicBezTo>
                <a:cubicBezTo>
                  <a:pt x="90" y="20"/>
                  <a:pt x="120" y="8"/>
                  <a:pt x="124" y="8"/>
                </a:cubicBezTo>
                <a:cubicBezTo>
                  <a:pt x="124" y="8"/>
                  <a:pt x="124" y="8"/>
                  <a:pt x="124" y="8"/>
                </a:cubicBezTo>
                <a:cubicBezTo>
                  <a:pt x="131" y="8"/>
                  <a:pt x="178" y="14"/>
                  <a:pt x="184" y="15"/>
                </a:cubicBezTo>
                <a:close/>
                <a:moveTo>
                  <a:pt x="203" y="0"/>
                </a:moveTo>
                <a:cubicBezTo>
                  <a:pt x="202" y="0"/>
                  <a:pt x="201" y="0"/>
                  <a:pt x="201" y="1"/>
                </a:cubicBezTo>
                <a:cubicBezTo>
                  <a:pt x="192" y="4"/>
                  <a:pt x="192" y="4"/>
                  <a:pt x="192" y="4"/>
                </a:cubicBezTo>
                <a:cubicBezTo>
                  <a:pt x="190" y="5"/>
                  <a:pt x="189" y="6"/>
                  <a:pt x="188" y="7"/>
                </a:cubicBezTo>
                <a:cubicBezTo>
                  <a:pt x="188" y="9"/>
                  <a:pt x="188" y="10"/>
                  <a:pt x="188" y="12"/>
                </a:cubicBezTo>
                <a:cubicBezTo>
                  <a:pt x="211" y="68"/>
                  <a:pt x="211" y="68"/>
                  <a:pt x="211" y="68"/>
                </a:cubicBezTo>
                <a:cubicBezTo>
                  <a:pt x="212" y="71"/>
                  <a:pt x="215" y="73"/>
                  <a:pt x="218" y="72"/>
                </a:cubicBezTo>
                <a:cubicBezTo>
                  <a:pt x="227" y="68"/>
                  <a:pt x="227" y="68"/>
                  <a:pt x="227" y="68"/>
                </a:cubicBezTo>
                <a:cubicBezTo>
                  <a:pt x="229" y="67"/>
                  <a:pt x="230" y="66"/>
                  <a:pt x="231" y="65"/>
                </a:cubicBezTo>
                <a:cubicBezTo>
                  <a:pt x="231" y="63"/>
                  <a:pt x="231" y="62"/>
                  <a:pt x="231" y="60"/>
                </a:cubicBezTo>
                <a:cubicBezTo>
                  <a:pt x="208" y="4"/>
                  <a:pt x="208" y="4"/>
                  <a:pt x="208" y="4"/>
                </a:cubicBezTo>
                <a:cubicBezTo>
                  <a:pt x="207" y="2"/>
                  <a:pt x="205" y="0"/>
                  <a:pt x="203" y="0"/>
                </a:cubicBezTo>
                <a:close/>
                <a:moveTo>
                  <a:pt x="0" y="77"/>
                </a:moveTo>
                <a:cubicBezTo>
                  <a:pt x="0" y="79"/>
                  <a:pt x="0" y="81"/>
                  <a:pt x="1" y="82"/>
                </a:cubicBezTo>
                <a:cubicBezTo>
                  <a:pt x="2" y="83"/>
                  <a:pt x="4" y="84"/>
                  <a:pt x="5" y="84"/>
                </a:cubicBezTo>
                <a:cubicBezTo>
                  <a:pt x="15" y="85"/>
                  <a:pt x="15" y="85"/>
                  <a:pt x="15" y="85"/>
                </a:cubicBezTo>
                <a:cubicBezTo>
                  <a:pt x="18" y="85"/>
                  <a:pt x="21" y="82"/>
                  <a:pt x="21" y="79"/>
                </a:cubicBezTo>
                <a:cubicBezTo>
                  <a:pt x="26" y="16"/>
                  <a:pt x="26" y="16"/>
                  <a:pt x="26" y="16"/>
                </a:cubicBezTo>
                <a:cubicBezTo>
                  <a:pt x="26" y="14"/>
                  <a:pt x="26" y="13"/>
                  <a:pt x="25" y="11"/>
                </a:cubicBezTo>
                <a:cubicBezTo>
                  <a:pt x="24" y="10"/>
                  <a:pt x="22" y="9"/>
                  <a:pt x="21" y="9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9"/>
                  <a:pt x="11" y="9"/>
                  <a:pt x="11" y="9"/>
                </a:cubicBezTo>
                <a:cubicBezTo>
                  <a:pt x="7" y="9"/>
                  <a:pt x="5" y="11"/>
                  <a:pt x="5" y="14"/>
                </a:cubicBezTo>
                <a:lnTo>
                  <a:pt x="0" y="77"/>
                </a:lnTo>
                <a:close/>
                <a:moveTo>
                  <a:pt x="95" y="134"/>
                </a:moveTo>
                <a:cubicBezTo>
                  <a:pt x="94" y="132"/>
                  <a:pt x="93" y="130"/>
                  <a:pt x="91" y="128"/>
                </a:cubicBezTo>
                <a:cubicBezTo>
                  <a:pt x="87" y="125"/>
                  <a:pt x="83" y="125"/>
                  <a:pt x="80" y="130"/>
                </a:cubicBezTo>
                <a:cubicBezTo>
                  <a:pt x="75" y="135"/>
                  <a:pt x="75" y="135"/>
                  <a:pt x="75" y="135"/>
                </a:cubicBezTo>
                <a:cubicBezTo>
                  <a:pt x="75" y="136"/>
                  <a:pt x="75" y="136"/>
                  <a:pt x="75" y="136"/>
                </a:cubicBezTo>
                <a:cubicBezTo>
                  <a:pt x="71" y="140"/>
                  <a:pt x="71" y="140"/>
                  <a:pt x="71" y="140"/>
                </a:cubicBezTo>
                <a:cubicBezTo>
                  <a:pt x="66" y="146"/>
                  <a:pt x="71" y="151"/>
                  <a:pt x="72" y="153"/>
                </a:cubicBezTo>
                <a:cubicBezTo>
                  <a:pt x="74" y="154"/>
                  <a:pt x="76" y="155"/>
                  <a:pt x="78" y="155"/>
                </a:cubicBezTo>
                <a:cubicBezTo>
                  <a:pt x="80" y="155"/>
                  <a:pt x="82" y="154"/>
                  <a:pt x="84" y="151"/>
                </a:cubicBezTo>
                <a:cubicBezTo>
                  <a:pt x="90" y="143"/>
                  <a:pt x="90" y="143"/>
                  <a:pt x="90" y="143"/>
                </a:cubicBezTo>
                <a:cubicBezTo>
                  <a:pt x="90" y="143"/>
                  <a:pt x="90" y="143"/>
                  <a:pt x="90" y="143"/>
                </a:cubicBezTo>
                <a:cubicBezTo>
                  <a:pt x="93" y="141"/>
                  <a:pt x="93" y="141"/>
                  <a:pt x="93" y="141"/>
                </a:cubicBezTo>
                <a:cubicBezTo>
                  <a:pt x="95" y="138"/>
                  <a:pt x="95" y="136"/>
                  <a:pt x="95" y="134"/>
                </a:cubicBezTo>
                <a:close/>
                <a:moveTo>
                  <a:pt x="50" y="130"/>
                </a:moveTo>
                <a:cubicBezTo>
                  <a:pt x="47" y="134"/>
                  <a:pt x="47" y="137"/>
                  <a:pt x="52" y="141"/>
                </a:cubicBezTo>
                <a:cubicBezTo>
                  <a:pt x="56" y="145"/>
                  <a:pt x="61" y="144"/>
                  <a:pt x="64" y="140"/>
                </a:cubicBezTo>
                <a:cubicBezTo>
                  <a:pt x="75" y="127"/>
                  <a:pt x="75" y="127"/>
                  <a:pt x="75" y="127"/>
                </a:cubicBezTo>
                <a:cubicBezTo>
                  <a:pt x="80" y="120"/>
                  <a:pt x="75" y="116"/>
                  <a:pt x="74" y="114"/>
                </a:cubicBezTo>
                <a:cubicBezTo>
                  <a:pt x="70" y="111"/>
                  <a:pt x="66" y="111"/>
                  <a:pt x="62" y="116"/>
                </a:cubicBezTo>
                <a:cubicBezTo>
                  <a:pt x="56" y="123"/>
                  <a:pt x="56" y="123"/>
                  <a:pt x="56" y="123"/>
                </a:cubicBezTo>
                <a:cubicBezTo>
                  <a:pt x="56" y="123"/>
                  <a:pt x="56" y="123"/>
                  <a:pt x="56" y="123"/>
                </a:cubicBezTo>
                <a:cubicBezTo>
                  <a:pt x="55" y="124"/>
                  <a:pt x="55" y="124"/>
                  <a:pt x="55" y="124"/>
                </a:cubicBezTo>
                <a:lnTo>
                  <a:pt x="50" y="130"/>
                </a:lnTo>
                <a:close/>
                <a:moveTo>
                  <a:pt x="34" y="114"/>
                </a:moveTo>
                <a:cubicBezTo>
                  <a:pt x="32" y="116"/>
                  <a:pt x="31" y="119"/>
                  <a:pt x="32" y="121"/>
                </a:cubicBezTo>
                <a:cubicBezTo>
                  <a:pt x="32" y="123"/>
                  <a:pt x="33" y="125"/>
                  <a:pt x="35" y="127"/>
                </a:cubicBezTo>
                <a:cubicBezTo>
                  <a:pt x="39" y="130"/>
                  <a:pt x="44" y="129"/>
                  <a:pt x="47" y="125"/>
                </a:cubicBezTo>
                <a:cubicBezTo>
                  <a:pt x="59" y="111"/>
                  <a:pt x="59" y="111"/>
                  <a:pt x="59" y="111"/>
                </a:cubicBezTo>
                <a:cubicBezTo>
                  <a:pt x="61" y="108"/>
                  <a:pt x="62" y="106"/>
                  <a:pt x="61" y="104"/>
                </a:cubicBezTo>
                <a:cubicBezTo>
                  <a:pt x="61" y="102"/>
                  <a:pt x="60" y="100"/>
                  <a:pt x="58" y="98"/>
                </a:cubicBezTo>
                <a:cubicBezTo>
                  <a:pt x="54" y="95"/>
                  <a:pt x="50" y="95"/>
                  <a:pt x="46" y="100"/>
                </a:cubicBezTo>
                <a:cubicBezTo>
                  <a:pt x="40" y="107"/>
                  <a:pt x="40" y="107"/>
                  <a:pt x="40" y="107"/>
                </a:cubicBezTo>
                <a:cubicBezTo>
                  <a:pt x="40" y="107"/>
                  <a:pt x="40" y="107"/>
                  <a:pt x="40" y="107"/>
                </a:cubicBezTo>
                <a:cubicBezTo>
                  <a:pt x="39" y="108"/>
                  <a:pt x="39" y="108"/>
                  <a:pt x="39" y="108"/>
                </a:cubicBezTo>
                <a:lnTo>
                  <a:pt x="34" y="114"/>
                </a:lnTo>
                <a:close/>
                <a:moveTo>
                  <a:pt x="31" y="109"/>
                </a:moveTo>
                <a:cubicBezTo>
                  <a:pt x="43" y="95"/>
                  <a:pt x="43" y="95"/>
                  <a:pt x="43" y="95"/>
                </a:cubicBezTo>
                <a:cubicBezTo>
                  <a:pt x="48" y="89"/>
                  <a:pt x="43" y="84"/>
                  <a:pt x="42" y="82"/>
                </a:cubicBezTo>
                <a:cubicBezTo>
                  <a:pt x="38" y="79"/>
                  <a:pt x="34" y="80"/>
                  <a:pt x="30" y="84"/>
                </a:cubicBezTo>
                <a:cubicBezTo>
                  <a:pt x="26" y="89"/>
                  <a:pt x="26" y="89"/>
                  <a:pt x="26" y="89"/>
                </a:cubicBezTo>
                <a:cubicBezTo>
                  <a:pt x="26" y="89"/>
                  <a:pt x="26" y="89"/>
                  <a:pt x="26" y="89"/>
                </a:cubicBezTo>
                <a:cubicBezTo>
                  <a:pt x="26" y="90"/>
                  <a:pt x="26" y="90"/>
                  <a:pt x="26" y="90"/>
                </a:cubicBezTo>
                <a:cubicBezTo>
                  <a:pt x="20" y="96"/>
                  <a:pt x="20" y="96"/>
                  <a:pt x="20" y="96"/>
                </a:cubicBezTo>
                <a:cubicBezTo>
                  <a:pt x="18" y="98"/>
                  <a:pt x="17" y="101"/>
                  <a:pt x="17" y="103"/>
                </a:cubicBezTo>
                <a:cubicBezTo>
                  <a:pt x="18" y="105"/>
                  <a:pt x="19" y="107"/>
                  <a:pt x="20" y="108"/>
                </a:cubicBezTo>
                <a:cubicBezTo>
                  <a:pt x="22" y="109"/>
                  <a:pt x="24" y="111"/>
                  <a:pt x="27" y="111"/>
                </a:cubicBezTo>
                <a:cubicBezTo>
                  <a:pt x="28" y="111"/>
                  <a:pt x="30" y="110"/>
                  <a:pt x="31" y="109"/>
                </a:cubicBezTo>
                <a:close/>
                <a:moveTo>
                  <a:pt x="175" y="97"/>
                </a:moveTo>
                <a:cubicBezTo>
                  <a:pt x="178" y="93"/>
                  <a:pt x="180" y="89"/>
                  <a:pt x="174" y="84"/>
                </a:cubicBezTo>
                <a:cubicBezTo>
                  <a:pt x="170" y="80"/>
                  <a:pt x="170" y="80"/>
                  <a:pt x="170" y="80"/>
                </a:cubicBezTo>
                <a:cubicBezTo>
                  <a:pt x="148" y="61"/>
                  <a:pt x="122" y="40"/>
                  <a:pt x="117" y="36"/>
                </a:cubicBezTo>
                <a:cubicBezTo>
                  <a:pt x="114" y="37"/>
                  <a:pt x="107" y="39"/>
                  <a:pt x="101" y="41"/>
                </a:cubicBezTo>
                <a:cubicBezTo>
                  <a:pt x="101" y="41"/>
                  <a:pt x="101" y="41"/>
                  <a:pt x="101" y="41"/>
                </a:cubicBezTo>
                <a:cubicBezTo>
                  <a:pt x="100" y="41"/>
                  <a:pt x="92" y="44"/>
                  <a:pt x="84" y="44"/>
                </a:cubicBezTo>
                <a:cubicBezTo>
                  <a:pt x="79" y="44"/>
                  <a:pt x="76" y="43"/>
                  <a:pt x="73" y="41"/>
                </a:cubicBezTo>
                <a:cubicBezTo>
                  <a:pt x="68" y="38"/>
                  <a:pt x="68" y="34"/>
                  <a:pt x="68" y="32"/>
                </a:cubicBezTo>
                <a:cubicBezTo>
                  <a:pt x="68" y="27"/>
                  <a:pt x="72" y="23"/>
                  <a:pt x="75" y="21"/>
                </a:cubicBezTo>
                <a:cubicBezTo>
                  <a:pt x="31" y="16"/>
                  <a:pt x="31" y="16"/>
                  <a:pt x="31" y="16"/>
                </a:cubicBezTo>
                <a:cubicBezTo>
                  <a:pt x="27" y="79"/>
                  <a:pt x="27" y="79"/>
                  <a:pt x="27" y="79"/>
                </a:cubicBezTo>
                <a:cubicBezTo>
                  <a:pt x="30" y="76"/>
                  <a:pt x="34" y="75"/>
                  <a:pt x="37" y="75"/>
                </a:cubicBezTo>
                <a:cubicBezTo>
                  <a:pt x="40" y="75"/>
                  <a:pt x="43" y="76"/>
                  <a:pt x="45" y="78"/>
                </a:cubicBezTo>
                <a:cubicBezTo>
                  <a:pt x="49" y="82"/>
                  <a:pt x="51" y="86"/>
                  <a:pt x="51" y="91"/>
                </a:cubicBezTo>
                <a:cubicBezTo>
                  <a:pt x="54" y="90"/>
                  <a:pt x="58" y="91"/>
                  <a:pt x="61" y="94"/>
                </a:cubicBezTo>
                <a:cubicBezTo>
                  <a:pt x="65" y="98"/>
                  <a:pt x="67" y="102"/>
                  <a:pt x="67" y="107"/>
                </a:cubicBezTo>
                <a:cubicBezTo>
                  <a:pt x="70" y="106"/>
                  <a:pt x="74" y="107"/>
                  <a:pt x="77" y="110"/>
                </a:cubicBezTo>
                <a:cubicBezTo>
                  <a:pt x="81" y="113"/>
                  <a:pt x="83" y="117"/>
                  <a:pt x="83" y="121"/>
                </a:cubicBezTo>
                <a:cubicBezTo>
                  <a:pt x="87" y="120"/>
                  <a:pt x="91" y="121"/>
                  <a:pt x="95" y="124"/>
                </a:cubicBezTo>
                <a:cubicBezTo>
                  <a:pt x="100" y="128"/>
                  <a:pt x="102" y="134"/>
                  <a:pt x="100" y="139"/>
                </a:cubicBezTo>
                <a:cubicBezTo>
                  <a:pt x="103" y="142"/>
                  <a:pt x="103" y="142"/>
                  <a:pt x="103" y="142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6" y="144"/>
                  <a:pt x="108" y="145"/>
                  <a:pt x="109" y="145"/>
                </a:cubicBezTo>
                <a:cubicBezTo>
                  <a:pt x="112" y="145"/>
                  <a:pt x="114" y="143"/>
                  <a:pt x="115" y="141"/>
                </a:cubicBezTo>
                <a:cubicBezTo>
                  <a:pt x="118" y="138"/>
                  <a:pt x="119" y="136"/>
                  <a:pt x="116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5" y="115"/>
                  <a:pt x="95" y="114"/>
                  <a:pt x="95" y="113"/>
                </a:cubicBezTo>
                <a:cubicBezTo>
                  <a:pt x="95" y="112"/>
                  <a:pt x="95" y="112"/>
                  <a:pt x="96" y="111"/>
                </a:cubicBezTo>
                <a:cubicBezTo>
                  <a:pt x="97" y="110"/>
                  <a:pt x="99" y="110"/>
                  <a:pt x="100" y="111"/>
                </a:cubicBezTo>
                <a:cubicBezTo>
                  <a:pt x="126" y="132"/>
                  <a:pt x="126" y="132"/>
                  <a:pt x="126" y="132"/>
                </a:cubicBezTo>
                <a:cubicBezTo>
                  <a:pt x="127" y="133"/>
                  <a:pt x="129" y="134"/>
                  <a:pt x="130" y="134"/>
                </a:cubicBezTo>
                <a:cubicBezTo>
                  <a:pt x="133" y="134"/>
                  <a:pt x="135" y="132"/>
                  <a:pt x="137" y="130"/>
                </a:cubicBezTo>
                <a:cubicBezTo>
                  <a:pt x="139" y="128"/>
                  <a:pt x="139" y="126"/>
                  <a:pt x="139" y="124"/>
                </a:cubicBezTo>
                <a:cubicBezTo>
                  <a:pt x="139" y="121"/>
                  <a:pt x="138" y="119"/>
                  <a:pt x="135" y="117"/>
                </a:cubicBezTo>
                <a:cubicBezTo>
                  <a:pt x="132" y="115"/>
                  <a:pt x="132" y="115"/>
                  <a:pt x="132" y="115"/>
                </a:cubicBezTo>
                <a:cubicBezTo>
                  <a:pt x="132" y="115"/>
                  <a:pt x="132" y="115"/>
                  <a:pt x="132" y="115"/>
                </a:cubicBezTo>
                <a:cubicBezTo>
                  <a:pt x="118" y="103"/>
                  <a:pt x="118" y="103"/>
                  <a:pt x="118" y="103"/>
                </a:cubicBezTo>
                <a:cubicBezTo>
                  <a:pt x="117" y="103"/>
                  <a:pt x="117" y="102"/>
                  <a:pt x="117" y="101"/>
                </a:cubicBezTo>
                <a:cubicBezTo>
                  <a:pt x="117" y="100"/>
                  <a:pt x="117" y="100"/>
                  <a:pt x="118" y="99"/>
                </a:cubicBezTo>
                <a:cubicBezTo>
                  <a:pt x="119" y="98"/>
                  <a:pt x="121" y="97"/>
                  <a:pt x="122" y="99"/>
                </a:cubicBezTo>
                <a:cubicBezTo>
                  <a:pt x="145" y="118"/>
                  <a:pt x="145" y="118"/>
                  <a:pt x="145" y="118"/>
                </a:cubicBezTo>
                <a:cubicBezTo>
                  <a:pt x="147" y="119"/>
                  <a:pt x="149" y="120"/>
                  <a:pt x="151" y="120"/>
                </a:cubicBezTo>
                <a:cubicBezTo>
                  <a:pt x="154" y="120"/>
                  <a:pt x="157" y="118"/>
                  <a:pt x="159" y="115"/>
                </a:cubicBezTo>
                <a:cubicBezTo>
                  <a:pt x="160" y="113"/>
                  <a:pt x="161" y="111"/>
                  <a:pt x="161" y="109"/>
                </a:cubicBezTo>
                <a:cubicBezTo>
                  <a:pt x="161" y="107"/>
                  <a:pt x="160" y="105"/>
                  <a:pt x="157" y="103"/>
                </a:cubicBezTo>
                <a:cubicBezTo>
                  <a:pt x="150" y="97"/>
                  <a:pt x="150" y="97"/>
                  <a:pt x="150" y="97"/>
                </a:cubicBezTo>
                <a:cubicBezTo>
                  <a:pt x="150" y="97"/>
                  <a:pt x="150" y="97"/>
                  <a:pt x="150" y="97"/>
                </a:cubicBezTo>
                <a:cubicBezTo>
                  <a:pt x="138" y="87"/>
                  <a:pt x="138" y="87"/>
                  <a:pt x="138" y="87"/>
                </a:cubicBezTo>
                <a:cubicBezTo>
                  <a:pt x="137" y="86"/>
                  <a:pt x="137" y="84"/>
                  <a:pt x="138" y="83"/>
                </a:cubicBezTo>
                <a:cubicBezTo>
                  <a:pt x="139" y="82"/>
                  <a:pt x="141" y="82"/>
                  <a:pt x="142" y="83"/>
                </a:cubicBezTo>
                <a:cubicBezTo>
                  <a:pt x="162" y="99"/>
                  <a:pt x="162" y="99"/>
                  <a:pt x="162" y="99"/>
                </a:cubicBezTo>
                <a:cubicBezTo>
                  <a:pt x="166" y="102"/>
                  <a:pt x="171" y="101"/>
                  <a:pt x="175" y="97"/>
                </a:cubicBezTo>
                <a:close/>
              </a:path>
            </a:pathLst>
          </a:custGeom>
          <a:solidFill>
            <a:srgbClr val="ffb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Google Shape;801;p30"/>
          <p:cNvSpPr/>
          <p:nvPr/>
        </p:nvSpPr>
        <p:spPr>
          <a:xfrm>
            <a:off x="2573280" y="5165640"/>
            <a:ext cx="650880" cy="584280"/>
          </a:xfrm>
          <a:custGeom>
            <a:avLst/>
            <a:gdLst/>
            <a:ahLst/>
            <a:rect l="l" t="t" r="r" b="b"/>
            <a:pathLst>
              <a:path w="180" h="161">
                <a:moveTo>
                  <a:pt x="123" y="21"/>
                </a:moveTo>
                <a:cubicBezTo>
                  <a:pt x="112" y="21"/>
                  <a:pt x="112" y="21"/>
                  <a:pt x="112" y="21"/>
                </a:cubicBezTo>
                <a:cubicBezTo>
                  <a:pt x="111" y="15"/>
                  <a:pt x="106" y="10"/>
                  <a:pt x="100" y="10"/>
                </a:cubicBezTo>
                <a:cubicBezTo>
                  <a:pt x="80" y="10"/>
                  <a:pt x="80" y="10"/>
                  <a:pt x="80" y="10"/>
                </a:cubicBezTo>
                <a:cubicBezTo>
                  <a:pt x="74" y="10"/>
                  <a:pt x="69" y="15"/>
                  <a:pt x="69" y="21"/>
                </a:cubicBezTo>
                <a:cubicBezTo>
                  <a:pt x="58" y="21"/>
                  <a:pt x="58" y="21"/>
                  <a:pt x="58" y="21"/>
                </a:cubicBezTo>
                <a:cubicBezTo>
                  <a:pt x="58" y="9"/>
                  <a:pt x="67" y="0"/>
                  <a:pt x="77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13" y="0"/>
                  <a:pt x="122" y="9"/>
                  <a:pt x="123" y="21"/>
                </a:cubicBezTo>
                <a:close/>
                <a:moveTo>
                  <a:pt x="28" y="89"/>
                </a:moveTo>
                <a:cubicBezTo>
                  <a:pt x="73" y="89"/>
                  <a:pt x="73" y="89"/>
                  <a:pt x="73" y="89"/>
                </a:cubicBezTo>
                <a:cubicBezTo>
                  <a:pt x="73" y="83"/>
                  <a:pt x="73" y="83"/>
                  <a:pt x="73" y="83"/>
                </a:cubicBezTo>
                <a:cubicBezTo>
                  <a:pt x="73" y="78"/>
                  <a:pt x="77" y="74"/>
                  <a:pt x="81" y="74"/>
                </a:cubicBezTo>
                <a:cubicBezTo>
                  <a:pt x="99" y="74"/>
                  <a:pt x="99" y="74"/>
                  <a:pt x="99" y="74"/>
                </a:cubicBezTo>
                <a:cubicBezTo>
                  <a:pt x="104" y="74"/>
                  <a:pt x="108" y="78"/>
                  <a:pt x="108" y="83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53" y="89"/>
                  <a:pt x="153" y="89"/>
                  <a:pt x="153" y="89"/>
                </a:cubicBezTo>
                <a:cubicBezTo>
                  <a:pt x="166" y="89"/>
                  <a:pt x="178" y="78"/>
                  <a:pt x="180" y="64"/>
                </a:cubicBezTo>
                <a:cubicBezTo>
                  <a:pt x="180" y="50"/>
                  <a:pt x="180" y="50"/>
                  <a:pt x="180" y="50"/>
                </a:cubicBezTo>
                <a:cubicBezTo>
                  <a:pt x="180" y="37"/>
                  <a:pt x="171" y="26"/>
                  <a:pt x="159" y="26"/>
                </a:cubicBezTo>
                <a:cubicBezTo>
                  <a:pt x="149" y="26"/>
                  <a:pt x="149" y="26"/>
                  <a:pt x="149" y="26"/>
                </a:cubicBezTo>
                <a:cubicBezTo>
                  <a:pt x="144" y="26"/>
                  <a:pt x="144" y="26"/>
                  <a:pt x="144" y="26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29" y="26"/>
                  <a:pt x="129" y="26"/>
                  <a:pt x="129" y="26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69" y="26"/>
                  <a:pt x="69" y="26"/>
                  <a:pt x="69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42" y="26"/>
                  <a:pt x="42" y="26"/>
                  <a:pt x="42" y="26"/>
                </a:cubicBezTo>
                <a:cubicBezTo>
                  <a:pt x="35" y="26"/>
                  <a:pt x="35" y="26"/>
                  <a:pt x="35" y="26"/>
                </a:cubicBezTo>
                <a:cubicBezTo>
                  <a:pt x="28" y="26"/>
                  <a:pt x="28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10" y="26"/>
                  <a:pt x="0" y="37"/>
                  <a:pt x="0" y="50"/>
                </a:cubicBezTo>
                <a:cubicBezTo>
                  <a:pt x="0" y="64"/>
                  <a:pt x="0" y="64"/>
                  <a:pt x="0" y="64"/>
                </a:cubicBezTo>
                <a:cubicBezTo>
                  <a:pt x="3" y="78"/>
                  <a:pt x="14" y="89"/>
                  <a:pt x="28" y="89"/>
                </a:cubicBezTo>
                <a:close/>
                <a:moveTo>
                  <a:pt x="153" y="97"/>
                </a:moveTo>
                <a:cubicBezTo>
                  <a:pt x="108" y="97"/>
                  <a:pt x="108" y="97"/>
                  <a:pt x="108" y="97"/>
                </a:cubicBezTo>
                <a:cubicBezTo>
                  <a:pt x="108" y="103"/>
                  <a:pt x="108" y="103"/>
                  <a:pt x="108" y="103"/>
                </a:cubicBezTo>
                <a:cubicBezTo>
                  <a:pt x="108" y="108"/>
                  <a:pt x="104" y="112"/>
                  <a:pt x="99" y="112"/>
                </a:cubicBezTo>
                <a:cubicBezTo>
                  <a:pt x="81" y="112"/>
                  <a:pt x="81" y="112"/>
                  <a:pt x="81" y="112"/>
                </a:cubicBezTo>
                <a:cubicBezTo>
                  <a:pt x="77" y="112"/>
                  <a:pt x="73" y="108"/>
                  <a:pt x="73" y="103"/>
                </a:cubicBezTo>
                <a:cubicBezTo>
                  <a:pt x="73" y="97"/>
                  <a:pt x="73" y="97"/>
                  <a:pt x="73" y="97"/>
                </a:cubicBezTo>
                <a:cubicBezTo>
                  <a:pt x="28" y="97"/>
                  <a:pt x="28" y="97"/>
                  <a:pt x="28" y="97"/>
                </a:cubicBezTo>
                <a:cubicBezTo>
                  <a:pt x="16" y="97"/>
                  <a:pt x="6" y="91"/>
                  <a:pt x="0" y="81"/>
                </a:cubicBezTo>
                <a:cubicBezTo>
                  <a:pt x="0" y="137"/>
                  <a:pt x="0" y="137"/>
                  <a:pt x="0" y="137"/>
                </a:cubicBezTo>
                <a:cubicBezTo>
                  <a:pt x="0" y="150"/>
                  <a:pt x="10" y="161"/>
                  <a:pt x="21" y="161"/>
                </a:cubicBezTo>
                <a:cubicBezTo>
                  <a:pt x="28" y="161"/>
                  <a:pt x="28" y="161"/>
                  <a:pt x="28" y="161"/>
                </a:cubicBezTo>
                <a:cubicBezTo>
                  <a:pt x="35" y="161"/>
                  <a:pt x="35" y="161"/>
                  <a:pt x="35" y="161"/>
                </a:cubicBezTo>
                <a:cubicBezTo>
                  <a:pt x="42" y="161"/>
                  <a:pt x="42" y="161"/>
                  <a:pt x="42" y="161"/>
                </a:cubicBezTo>
                <a:cubicBezTo>
                  <a:pt x="137" y="161"/>
                  <a:pt x="137" y="161"/>
                  <a:pt x="137" y="161"/>
                </a:cubicBezTo>
                <a:cubicBezTo>
                  <a:pt x="144" y="161"/>
                  <a:pt x="144" y="161"/>
                  <a:pt x="144" y="161"/>
                </a:cubicBezTo>
                <a:cubicBezTo>
                  <a:pt x="149" y="161"/>
                  <a:pt x="149" y="161"/>
                  <a:pt x="149" y="161"/>
                </a:cubicBezTo>
                <a:cubicBezTo>
                  <a:pt x="159" y="161"/>
                  <a:pt x="159" y="161"/>
                  <a:pt x="159" y="161"/>
                </a:cubicBezTo>
                <a:cubicBezTo>
                  <a:pt x="171" y="161"/>
                  <a:pt x="180" y="150"/>
                  <a:pt x="180" y="137"/>
                </a:cubicBezTo>
                <a:cubicBezTo>
                  <a:pt x="180" y="81"/>
                  <a:pt x="180" y="81"/>
                  <a:pt x="180" y="81"/>
                </a:cubicBezTo>
                <a:cubicBezTo>
                  <a:pt x="174" y="91"/>
                  <a:pt x="164" y="97"/>
                  <a:pt x="153" y="97"/>
                </a:cubicBezTo>
                <a:close/>
                <a:moveTo>
                  <a:pt x="99" y="81"/>
                </a:moveTo>
                <a:cubicBezTo>
                  <a:pt x="82" y="81"/>
                  <a:pt x="82" y="81"/>
                  <a:pt x="82" y="81"/>
                </a:cubicBezTo>
                <a:cubicBezTo>
                  <a:pt x="80" y="81"/>
                  <a:pt x="79" y="82"/>
                  <a:pt x="79" y="84"/>
                </a:cubicBezTo>
                <a:cubicBezTo>
                  <a:pt x="79" y="88"/>
                  <a:pt x="79" y="88"/>
                  <a:pt x="79" y="88"/>
                </a:cubicBezTo>
                <a:cubicBezTo>
                  <a:pt x="79" y="91"/>
                  <a:pt x="79" y="91"/>
                  <a:pt x="79" y="91"/>
                </a:cubicBezTo>
                <a:cubicBezTo>
                  <a:pt x="79" y="96"/>
                  <a:pt x="79" y="96"/>
                  <a:pt x="79" y="96"/>
                </a:cubicBezTo>
                <a:cubicBezTo>
                  <a:pt x="79" y="98"/>
                  <a:pt x="79" y="98"/>
                  <a:pt x="79" y="98"/>
                </a:cubicBezTo>
                <a:cubicBezTo>
                  <a:pt x="79" y="103"/>
                  <a:pt x="79" y="103"/>
                  <a:pt x="79" y="103"/>
                </a:cubicBezTo>
                <a:cubicBezTo>
                  <a:pt x="79" y="104"/>
                  <a:pt x="80" y="106"/>
                  <a:pt x="82" y="106"/>
                </a:cubicBezTo>
                <a:cubicBezTo>
                  <a:pt x="99" y="106"/>
                  <a:pt x="99" y="106"/>
                  <a:pt x="99" y="106"/>
                </a:cubicBezTo>
                <a:cubicBezTo>
                  <a:pt x="100" y="106"/>
                  <a:pt x="102" y="104"/>
                  <a:pt x="102" y="103"/>
                </a:cubicBezTo>
                <a:cubicBezTo>
                  <a:pt x="102" y="98"/>
                  <a:pt x="102" y="98"/>
                  <a:pt x="102" y="98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102" y="91"/>
                  <a:pt x="102" y="91"/>
                  <a:pt x="102" y="91"/>
                </a:cubicBezTo>
                <a:cubicBezTo>
                  <a:pt x="102" y="88"/>
                  <a:pt x="102" y="88"/>
                  <a:pt x="102" y="88"/>
                </a:cubicBezTo>
                <a:cubicBezTo>
                  <a:pt x="102" y="84"/>
                  <a:pt x="102" y="84"/>
                  <a:pt x="102" y="84"/>
                </a:cubicBezTo>
                <a:cubicBezTo>
                  <a:pt x="102" y="82"/>
                  <a:pt x="100" y="81"/>
                  <a:pt x="99" y="81"/>
                </a:cubicBezTo>
                <a:close/>
              </a:path>
            </a:pathLst>
          </a:custGeom>
          <a:solidFill>
            <a:srgbClr val="34b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33"/>
          <p:cNvGrpSpPr/>
          <p:nvPr/>
        </p:nvGrpSpPr>
        <p:grpSpPr>
          <a:xfrm>
            <a:off x="166680" y="228600"/>
            <a:ext cx="595440" cy="441360"/>
            <a:chOff x="166680" y="228600"/>
            <a:chExt cx="595440" cy="441360"/>
          </a:xfrm>
        </p:grpSpPr>
        <p:sp>
          <p:nvSpPr>
            <p:cNvPr id="69" name="5-Point Star 34"/>
            <p:cNvSpPr/>
            <p:nvPr/>
          </p:nvSpPr>
          <p:spPr>
            <a:xfrm>
              <a:off x="166680" y="228600"/>
              <a:ext cx="5954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5-Point Star 35"/>
            <p:cNvSpPr/>
            <p:nvPr/>
          </p:nvSpPr>
          <p:spPr>
            <a:xfrm>
              <a:off x="188640" y="250560"/>
              <a:ext cx="551160" cy="401760"/>
            </a:xfrm>
            <a:custGeom>
              <a:avLst/>
              <a:gdLst/>
              <a:ahLst/>
              <a:rect l="l" t="t" r="r" b="b"/>
              <a:pathLst>
                <a:path w="1762760" h="1553097">
                  <a:moveTo>
                    <a:pt x="2" y="593229"/>
                  </a:moveTo>
                  <a:lnTo>
                    <a:pt x="673318" y="593233"/>
                  </a:lnTo>
                  <a:lnTo>
                    <a:pt x="881380" y="0"/>
                  </a:lnTo>
                  <a:lnTo>
                    <a:pt x="1089442" y="593233"/>
                  </a:lnTo>
                  <a:lnTo>
                    <a:pt x="1762758" y="593229"/>
                  </a:lnTo>
                  <a:lnTo>
                    <a:pt x="1218031" y="959863"/>
                  </a:lnTo>
                  <a:lnTo>
                    <a:pt x="1426102" y="1553093"/>
                  </a:lnTo>
                  <a:lnTo>
                    <a:pt x="881380" y="1186452"/>
                  </a:lnTo>
                  <a:lnTo>
                    <a:pt x="336658" y="1553093"/>
                  </a:lnTo>
                  <a:lnTo>
                    <a:pt x="544729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5-Point Star 36"/>
            <p:cNvSpPr/>
            <p:nvPr/>
          </p:nvSpPr>
          <p:spPr>
            <a:xfrm>
              <a:off x="210960" y="27288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5-Point Star 37"/>
            <p:cNvSpPr/>
            <p:nvPr/>
          </p:nvSpPr>
          <p:spPr>
            <a:xfrm>
              <a:off x="231480" y="296640"/>
              <a:ext cx="463680" cy="320760"/>
            </a:xfrm>
            <a:custGeom>
              <a:avLst/>
              <a:gdLst/>
              <a:ahLst/>
              <a:rect l="l" t="t" r="r" b="b"/>
              <a:pathLst>
                <a:path w="1483361" h="1240021">
                  <a:moveTo>
                    <a:pt x="2" y="473645"/>
                  </a:moveTo>
                  <a:lnTo>
                    <a:pt x="566597" y="473648"/>
                  </a:lnTo>
                  <a:lnTo>
                    <a:pt x="741681" y="0"/>
                  </a:lnTo>
                  <a:lnTo>
                    <a:pt x="916764" y="473648"/>
                  </a:lnTo>
                  <a:lnTo>
                    <a:pt x="1483359" y="473645"/>
                  </a:lnTo>
                  <a:lnTo>
                    <a:pt x="1024972" y="766372"/>
                  </a:lnTo>
                  <a:lnTo>
                    <a:pt x="1200063" y="1240018"/>
                  </a:lnTo>
                  <a:lnTo>
                    <a:pt x="741681" y="947285"/>
                  </a:lnTo>
                  <a:lnTo>
                    <a:pt x="283298" y="1240018"/>
                  </a:lnTo>
                  <a:lnTo>
                    <a:pt x="458389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5-Point Star 38"/>
            <p:cNvSpPr/>
            <p:nvPr/>
          </p:nvSpPr>
          <p:spPr>
            <a:xfrm>
              <a:off x="253800" y="318960"/>
              <a:ext cx="419400" cy="281160"/>
            </a:xfrm>
            <a:custGeom>
              <a:avLst/>
              <a:gdLst/>
              <a:ahLst/>
              <a:rect l="l" t="t" r="r" b="b"/>
              <a:pathLst>
                <a:path w="1341121" h="1086551">
                  <a:moveTo>
                    <a:pt x="1" y="415024"/>
                  </a:moveTo>
                  <a:lnTo>
                    <a:pt x="512265" y="415027"/>
                  </a:lnTo>
                  <a:lnTo>
                    <a:pt x="670561" y="0"/>
                  </a:lnTo>
                  <a:lnTo>
                    <a:pt x="828856" y="415027"/>
                  </a:lnTo>
                  <a:lnTo>
                    <a:pt x="1341120" y="415024"/>
                  </a:lnTo>
                  <a:lnTo>
                    <a:pt x="926687" y="671523"/>
                  </a:lnTo>
                  <a:lnTo>
                    <a:pt x="1084989" y="1086548"/>
                  </a:lnTo>
                  <a:lnTo>
                    <a:pt x="670561" y="830045"/>
                  </a:lnTo>
                  <a:lnTo>
                    <a:pt x="256132" y="1086548"/>
                  </a:lnTo>
                  <a:lnTo>
                    <a:pt x="414434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5-Point Star 39"/>
            <p:cNvSpPr/>
            <p:nvPr/>
          </p:nvSpPr>
          <p:spPr>
            <a:xfrm>
              <a:off x="276120" y="341280"/>
              <a:ext cx="374760" cy="241200"/>
            </a:xfrm>
            <a:custGeom>
              <a:avLst/>
              <a:gdLst/>
              <a:ahLst/>
              <a:rect l="l" t="t" r="r" b="b"/>
              <a:pathLst>
                <a:path w="1198881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1" y="0"/>
                  </a:lnTo>
                  <a:lnTo>
                    <a:pt x="740947" y="356408"/>
                  </a:lnTo>
                  <a:lnTo>
                    <a:pt x="1198880" y="356406"/>
                  </a:lnTo>
                  <a:lnTo>
                    <a:pt x="828402" y="576676"/>
                  </a:lnTo>
                  <a:lnTo>
                    <a:pt x="969914" y="933083"/>
                  </a:lnTo>
                  <a:lnTo>
                    <a:pt x="599441" y="712809"/>
                  </a:lnTo>
                  <a:lnTo>
                    <a:pt x="228967" y="933083"/>
                  </a:lnTo>
                  <a:lnTo>
                    <a:pt x="370479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5-Point Star 40"/>
            <p:cNvSpPr/>
            <p:nvPr/>
          </p:nvSpPr>
          <p:spPr>
            <a:xfrm>
              <a:off x="298440" y="36360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41" h="779615">
                  <a:moveTo>
                    <a:pt x="1" y="297786"/>
                  </a:moveTo>
                  <a:lnTo>
                    <a:pt x="403603" y="297788"/>
                  </a:lnTo>
                  <a:lnTo>
                    <a:pt x="528321" y="0"/>
                  </a:lnTo>
                  <a:lnTo>
                    <a:pt x="653038" y="297788"/>
                  </a:lnTo>
                  <a:lnTo>
                    <a:pt x="1056640" y="297786"/>
                  </a:lnTo>
                  <a:lnTo>
                    <a:pt x="730117" y="481827"/>
                  </a:lnTo>
                  <a:lnTo>
                    <a:pt x="854840" y="779613"/>
                  </a:lnTo>
                  <a:lnTo>
                    <a:pt x="528321" y="595569"/>
                  </a:lnTo>
                  <a:lnTo>
                    <a:pt x="201801" y="779613"/>
                  </a:lnTo>
                  <a:lnTo>
                    <a:pt x="326524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5-Point Star 41"/>
            <p:cNvSpPr/>
            <p:nvPr/>
          </p:nvSpPr>
          <p:spPr>
            <a:xfrm>
              <a:off x="320760" y="385560"/>
              <a:ext cx="285840" cy="162000"/>
            </a:xfrm>
            <a:custGeom>
              <a:avLst/>
              <a:gdLst/>
              <a:ahLst/>
              <a:rect l="l" t="t" r="r" b="b"/>
              <a:pathLst>
                <a:path w="914401" h="626149">
                  <a:moveTo>
                    <a:pt x="1" y="239167"/>
                  </a:moveTo>
                  <a:lnTo>
                    <a:pt x="349272" y="239169"/>
                  </a:lnTo>
                  <a:lnTo>
                    <a:pt x="457201" y="0"/>
                  </a:lnTo>
                  <a:lnTo>
                    <a:pt x="565129" y="239169"/>
                  </a:lnTo>
                  <a:lnTo>
                    <a:pt x="914400" y="239167"/>
                  </a:lnTo>
                  <a:lnTo>
                    <a:pt x="631832" y="386980"/>
                  </a:lnTo>
                  <a:lnTo>
                    <a:pt x="739765" y="626147"/>
                  </a:lnTo>
                  <a:lnTo>
                    <a:pt x="457201" y="478332"/>
                  </a:lnTo>
                  <a:lnTo>
                    <a:pt x="174636" y="626147"/>
                  </a:lnTo>
                  <a:lnTo>
                    <a:pt x="282569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42"/>
          <p:cNvGrpSpPr/>
          <p:nvPr/>
        </p:nvGrpSpPr>
        <p:grpSpPr>
          <a:xfrm>
            <a:off x="1730520" y="326880"/>
            <a:ext cx="595080" cy="441360"/>
            <a:chOff x="1730520" y="326880"/>
            <a:chExt cx="595080" cy="441360"/>
          </a:xfrm>
        </p:grpSpPr>
        <p:sp>
          <p:nvSpPr>
            <p:cNvPr id="78" name="5-Point Star 43"/>
            <p:cNvSpPr/>
            <p:nvPr/>
          </p:nvSpPr>
          <p:spPr>
            <a:xfrm>
              <a:off x="1730520" y="326880"/>
              <a:ext cx="59508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5-Point Star 44"/>
            <p:cNvSpPr/>
            <p:nvPr/>
          </p:nvSpPr>
          <p:spPr>
            <a:xfrm>
              <a:off x="1752480" y="348840"/>
              <a:ext cx="550800" cy="401760"/>
            </a:xfrm>
            <a:custGeom>
              <a:avLst/>
              <a:gdLst/>
              <a:ahLst/>
              <a:rect l="l" t="t" r="r" b="b"/>
              <a:pathLst>
                <a:path w="1762760" h="1553097">
                  <a:moveTo>
                    <a:pt x="2" y="593229"/>
                  </a:moveTo>
                  <a:lnTo>
                    <a:pt x="673318" y="593233"/>
                  </a:lnTo>
                  <a:lnTo>
                    <a:pt x="881380" y="0"/>
                  </a:lnTo>
                  <a:lnTo>
                    <a:pt x="1089442" y="593233"/>
                  </a:lnTo>
                  <a:lnTo>
                    <a:pt x="1762758" y="593229"/>
                  </a:lnTo>
                  <a:lnTo>
                    <a:pt x="1218031" y="959863"/>
                  </a:lnTo>
                  <a:lnTo>
                    <a:pt x="1426102" y="1553093"/>
                  </a:lnTo>
                  <a:lnTo>
                    <a:pt x="881380" y="1186452"/>
                  </a:lnTo>
                  <a:lnTo>
                    <a:pt x="336658" y="1553093"/>
                  </a:lnTo>
                  <a:lnTo>
                    <a:pt x="544729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5-Point Star 45"/>
            <p:cNvSpPr/>
            <p:nvPr/>
          </p:nvSpPr>
          <p:spPr>
            <a:xfrm>
              <a:off x="1774800" y="37116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5-Point Star 46"/>
            <p:cNvSpPr/>
            <p:nvPr/>
          </p:nvSpPr>
          <p:spPr>
            <a:xfrm>
              <a:off x="1795320" y="394920"/>
              <a:ext cx="46332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5-Point Star 47"/>
            <p:cNvSpPr/>
            <p:nvPr/>
          </p:nvSpPr>
          <p:spPr>
            <a:xfrm>
              <a:off x="1817640" y="417240"/>
              <a:ext cx="419040" cy="281160"/>
            </a:xfrm>
            <a:custGeom>
              <a:avLst/>
              <a:gdLst/>
              <a:ahLst/>
              <a:rect l="l" t="t" r="r" b="b"/>
              <a:pathLst>
                <a:path w="1341119" h="1086551">
                  <a:moveTo>
                    <a:pt x="1" y="415024"/>
                  </a:moveTo>
                  <a:lnTo>
                    <a:pt x="512265" y="415027"/>
                  </a:lnTo>
                  <a:lnTo>
                    <a:pt x="670560" y="0"/>
                  </a:lnTo>
                  <a:lnTo>
                    <a:pt x="828854" y="415027"/>
                  </a:lnTo>
                  <a:lnTo>
                    <a:pt x="1341118" y="415024"/>
                  </a:lnTo>
                  <a:lnTo>
                    <a:pt x="926686" y="671523"/>
                  </a:lnTo>
                  <a:lnTo>
                    <a:pt x="1084987" y="1086548"/>
                  </a:lnTo>
                  <a:lnTo>
                    <a:pt x="670560" y="830045"/>
                  </a:lnTo>
                  <a:lnTo>
                    <a:pt x="256132" y="1086548"/>
                  </a:lnTo>
                  <a:lnTo>
                    <a:pt x="414433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5-Point Star 48"/>
            <p:cNvSpPr/>
            <p:nvPr/>
          </p:nvSpPr>
          <p:spPr>
            <a:xfrm>
              <a:off x="1839960" y="439560"/>
              <a:ext cx="37440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5-Point Star 49"/>
            <p:cNvSpPr/>
            <p:nvPr/>
          </p:nvSpPr>
          <p:spPr>
            <a:xfrm>
              <a:off x="1862280" y="46188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5">
                  <a:moveTo>
                    <a:pt x="1" y="297786"/>
                  </a:moveTo>
                  <a:lnTo>
                    <a:pt x="403602" y="297788"/>
                  </a:lnTo>
                  <a:lnTo>
                    <a:pt x="528320" y="0"/>
                  </a:lnTo>
                  <a:lnTo>
                    <a:pt x="653037" y="297788"/>
                  </a:lnTo>
                  <a:lnTo>
                    <a:pt x="1056638" y="297786"/>
                  </a:lnTo>
                  <a:lnTo>
                    <a:pt x="730116" y="481827"/>
                  </a:lnTo>
                  <a:lnTo>
                    <a:pt x="854838" y="779613"/>
                  </a:lnTo>
                  <a:lnTo>
                    <a:pt x="528320" y="595569"/>
                  </a:lnTo>
                  <a:lnTo>
                    <a:pt x="201801" y="779613"/>
                  </a:lnTo>
                  <a:lnTo>
                    <a:pt x="326523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5-Point Star 50"/>
            <p:cNvSpPr/>
            <p:nvPr/>
          </p:nvSpPr>
          <p:spPr>
            <a:xfrm>
              <a:off x="1884240" y="483840"/>
              <a:ext cx="28548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51"/>
          <p:cNvGrpSpPr/>
          <p:nvPr/>
        </p:nvGrpSpPr>
        <p:grpSpPr>
          <a:xfrm>
            <a:off x="3844800" y="512640"/>
            <a:ext cx="594000" cy="441360"/>
            <a:chOff x="3844800" y="512640"/>
            <a:chExt cx="594000" cy="441360"/>
          </a:xfrm>
        </p:grpSpPr>
        <p:sp>
          <p:nvSpPr>
            <p:cNvPr id="87" name="5-Point Star 52"/>
            <p:cNvSpPr/>
            <p:nvPr/>
          </p:nvSpPr>
          <p:spPr>
            <a:xfrm>
              <a:off x="3844800" y="512640"/>
              <a:ext cx="59400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5-Point Star 53"/>
            <p:cNvSpPr/>
            <p:nvPr/>
          </p:nvSpPr>
          <p:spPr>
            <a:xfrm>
              <a:off x="3866760" y="534600"/>
              <a:ext cx="549720" cy="401760"/>
            </a:xfrm>
            <a:custGeom>
              <a:avLst/>
              <a:gdLst/>
              <a:ahLst/>
              <a:rect l="l" t="t" r="r" b="b"/>
              <a:pathLst>
                <a:path w="1762380" h="1553093">
                  <a:moveTo>
                    <a:pt x="2" y="593227"/>
                  </a:moveTo>
                  <a:lnTo>
                    <a:pt x="673173" y="593231"/>
                  </a:lnTo>
                  <a:lnTo>
                    <a:pt x="881190" y="0"/>
                  </a:lnTo>
                  <a:lnTo>
                    <a:pt x="1089207" y="593231"/>
                  </a:lnTo>
                  <a:lnTo>
                    <a:pt x="1762378" y="593227"/>
                  </a:lnTo>
                  <a:lnTo>
                    <a:pt x="1217769" y="959860"/>
                  </a:lnTo>
                  <a:lnTo>
                    <a:pt x="1425794" y="1553089"/>
                  </a:lnTo>
                  <a:lnTo>
                    <a:pt x="881190" y="1186449"/>
                  </a:lnTo>
                  <a:lnTo>
                    <a:pt x="336586" y="1553089"/>
                  </a:lnTo>
                  <a:lnTo>
                    <a:pt x="544611" y="959860"/>
                  </a:lnTo>
                  <a:lnTo>
                    <a:pt x="2" y="593227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5-Point Star 54"/>
            <p:cNvSpPr/>
            <p:nvPr/>
          </p:nvSpPr>
          <p:spPr>
            <a:xfrm>
              <a:off x="3889080" y="556920"/>
              <a:ext cx="487800" cy="365400"/>
            </a:xfrm>
            <a:custGeom>
              <a:avLst/>
              <a:gdLst/>
              <a:ahLst/>
              <a:rect l="l" t="t" r="r" b="b"/>
              <a:pathLst>
                <a:path w="1563732" h="1411905">
                  <a:moveTo>
                    <a:pt x="2" y="539298"/>
                  </a:moveTo>
                  <a:lnTo>
                    <a:pt x="597296" y="539302"/>
                  </a:lnTo>
                  <a:lnTo>
                    <a:pt x="781866" y="0"/>
                  </a:lnTo>
                  <a:lnTo>
                    <a:pt x="966436" y="539302"/>
                  </a:lnTo>
                  <a:lnTo>
                    <a:pt x="1563730" y="539298"/>
                  </a:lnTo>
                  <a:lnTo>
                    <a:pt x="1080507" y="872602"/>
                  </a:lnTo>
                  <a:lnTo>
                    <a:pt x="1265085" y="1411901"/>
                  </a:lnTo>
                  <a:lnTo>
                    <a:pt x="781866" y="1078592"/>
                  </a:lnTo>
                  <a:lnTo>
                    <a:pt x="298647" y="1411901"/>
                  </a:lnTo>
                  <a:lnTo>
                    <a:pt x="483225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5-Point Star 55"/>
            <p:cNvSpPr/>
            <p:nvPr/>
          </p:nvSpPr>
          <p:spPr>
            <a:xfrm>
              <a:off x="3909600" y="580680"/>
              <a:ext cx="462240" cy="320760"/>
            </a:xfrm>
            <a:custGeom>
              <a:avLst/>
              <a:gdLst/>
              <a:ahLst/>
              <a:rect l="l" t="t" r="r" b="b"/>
              <a:pathLst>
                <a:path w="1482231" h="1240021">
                  <a:moveTo>
                    <a:pt x="2" y="473645"/>
                  </a:moveTo>
                  <a:lnTo>
                    <a:pt x="566165" y="473648"/>
                  </a:lnTo>
                  <a:lnTo>
                    <a:pt x="741116" y="0"/>
                  </a:lnTo>
                  <a:lnTo>
                    <a:pt x="916066" y="473648"/>
                  </a:lnTo>
                  <a:lnTo>
                    <a:pt x="1482229" y="473645"/>
                  </a:lnTo>
                  <a:lnTo>
                    <a:pt x="1024191" y="766372"/>
                  </a:lnTo>
                  <a:lnTo>
                    <a:pt x="1199149" y="1240018"/>
                  </a:lnTo>
                  <a:lnTo>
                    <a:pt x="741116" y="947285"/>
                  </a:lnTo>
                  <a:lnTo>
                    <a:pt x="283082" y="1240018"/>
                  </a:lnTo>
                  <a:lnTo>
                    <a:pt x="458040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5-Point Star 56"/>
            <p:cNvSpPr/>
            <p:nvPr/>
          </p:nvSpPr>
          <p:spPr>
            <a:xfrm>
              <a:off x="3931920" y="603000"/>
              <a:ext cx="417600" cy="281160"/>
            </a:xfrm>
            <a:custGeom>
              <a:avLst/>
              <a:gdLst/>
              <a:ahLst/>
              <a:rect l="l" t="t" r="r" b="b"/>
              <a:pathLst>
                <a:path w="1339611" h="1086555">
                  <a:moveTo>
                    <a:pt x="1" y="415026"/>
                  </a:moveTo>
                  <a:lnTo>
                    <a:pt x="511689" y="415029"/>
                  </a:lnTo>
                  <a:lnTo>
                    <a:pt x="669806" y="0"/>
                  </a:lnTo>
                  <a:lnTo>
                    <a:pt x="827922" y="415029"/>
                  </a:lnTo>
                  <a:lnTo>
                    <a:pt x="1339610" y="415026"/>
                  </a:lnTo>
                  <a:lnTo>
                    <a:pt x="925644" y="671525"/>
                  </a:lnTo>
                  <a:lnTo>
                    <a:pt x="1083767" y="1086552"/>
                  </a:lnTo>
                  <a:lnTo>
                    <a:pt x="669806" y="830048"/>
                  </a:lnTo>
                  <a:lnTo>
                    <a:pt x="255844" y="1086552"/>
                  </a:lnTo>
                  <a:lnTo>
                    <a:pt x="413967" y="671525"/>
                  </a:lnTo>
                  <a:lnTo>
                    <a:pt x="1" y="415026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5-Point Star 57"/>
            <p:cNvSpPr/>
            <p:nvPr/>
          </p:nvSpPr>
          <p:spPr>
            <a:xfrm>
              <a:off x="3954240" y="625320"/>
              <a:ext cx="373320" cy="241200"/>
            </a:xfrm>
            <a:custGeom>
              <a:avLst/>
              <a:gdLst/>
              <a:ahLst/>
              <a:rect l="l" t="t" r="r" b="b"/>
              <a:pathLst>
                <a:path w="1196990" h="933085">
                  <a:moveTo>
                    <a:pt x="1" y="356406"/>
                  </a:moveTo>
                  <a:lnTo>
                    <a:pt x="457212" y="356408"/>
                  </a:lnTo>
                  <a:lnTo>
                    <a:pt x="598495" y="0"/>
                  </a:lnTo>
                  <a:lnTo>
                    <a:pt x="739778" y="356408"/>
                  </a:lnTo>
                  <a:lnTo>
                    <a:pt x="1196989" y="356406"/>
                  </a:lnTo>
                  <a:lnTo>
                    <a:pt x="827096" y="576676"/>
                  </a:lnTo>
                  <a:lnTo>
                    <a:pt x="968384" y="933083"/>
                  </a:lnTo>
                  <a:lnTo>
                    <a:pt x="598495" y="712809"/>
                  </a:lnTo>
                  <a:lnTo>
                    <a:pt x="228606" y="933083"/>
                  </a:lnTo>
                  <a:lnTo>
                    <a:pt x="369894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5-Point Star 58"/>
            <p:cNvSpPr/>
            <p:nvPr/>
          </p:nvSpPr>
          <p:spPr>
            <a:xfrm>
              <a:off x="3976560" y="647640"/>
              <a:ext cx="328680" cy="201600"/>
            </a:xfrm>
            <a:custGeom>
              <a:avLst/>
              <a:gdLst/>
              <a:ahLst/>
              <a:rect l="l" t="t" r="r" b="b"/>
              <a:pathLst>
                <a:path w="1054370" h="779619">
                  <a:moveTo>
                    <a:pt x="1" y="297787"/>
                  </a:moveTo>
                  <a:lnTo>
                    <a:pt x="402736" y="297789"/>
                  </a:lnTo>
                  <a:lnTo>
                    <a:pt x="527185" y="0"/>
                  </a:lnTo>
                  <a:lnTo>
                    <a:pt x="651634" y="297789"/>
                  </a:lnTo>
                  <a:lnTo>
                    <a:pt x="1054369" y="297787"/>
                  </a:lnTo>
                  <a:lnTo>
                    <a:pt x="728548" y="481829"/>
                  </a:lnTo>
                  <a:lnTo>
                    <a:pt x="853003" y="779617"/>
                  </a:lnTo>
                  <a:lnTo>
                    <a:pt x="527185" y="595572"/>
                  </a:lnTo>
                  <a:lnTo>
                    <a:pt x="201367" y="779617"/>
                  </a:lnTo>
                  <a:lnTo>
                    <a:pt x="325822" y="481829"/>
                  </a:lnTo>
                  <a:lnTo>
                    <a:pt x="1" y="297787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5-Point Star 59"/>
            <p:cNvSpPr/>
            <p:nvPr/>
          </p:nvSpPr>
          <p:spPr>
            <a:xfrm>
              <a:off x="3998880" y="669600"/>
              <a:ext cx="284400" cy="162000"/>
            </a:xfrm>
            <a:custGeom>
              <a:avLst/>
              <a:gdLst/>
              <a:ahLst/>
              <a:rect l="l" t="t" r="r" b="b"/>
              <a:pathLst>
                <a:path w="911750" h="626149">
                  <a:moveTo>
                    <a:pt x="1" y="239167"/>
                  </a:moveTo>
                  <a:lnTo>
                    <a:pt x="348259" y="239169"/>
                  </a:lnTo>
                  <a:lnTo>
                    <a:pt x="455875" y="0"/>
                  </a:lnTo>
                  <a:lnTo>
                    <a:pt x="563491" y="239169"/>
                  </a:lnTo>
                  <a:lnTo>
                    <a:pt x="911749" y="239167"/>
                  </a:lnTo>
                  <a:lnTo>
                    <a:pt x="630001" y="386980"/>
                  </a:lnTo>
                  <a:lnTo>
                    <a:pt x="737621" y="626147"/>
                  </a:lnTo>
                  <a:lnTo>
                    <a:pt x="455875" y="478332"/>
                  </a:lnTo>
                  <a:lnTo>
                    <a:pt x="174129" y="626147"/>
                  </a:lnTo>
                  <a:lnTo>
                    <a:pt x="281749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60"/>
          <p:cNvGrpSpPr/>
          <p:nvPr/>
        </p:nvGrpSpPr>
        <p:grpSpPr>
          <a:xfrm>
            <a:off x="6095880" y="565200"/>
            <a:ext cx="595440" cy="441360"/>
            <a:chOff x="6095880" y="565200"/>
            <a:chExt cx="595440" cy="441360"/>
          </a:xfrm>
        </p:grpSpPr>
        <p:sp>
          <p:nvSpPr>
            <p:cNvPr id="96" name="5-Point Star 61"/>
            <p:cNvSpPr/>
            <p:nvPr/>
          </p:nvSpPr>
          <p:spPr>
            <a:xfrm>
              <a:off x="6095880" y="565200"/>
              <a:ext cx="5954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5-Point Star 62"/>
            <p:cNvSpPr/>
            <p:nvPr/>
          </p:nvSpPr>
          <p:spPr>
            <a:xfrm>
              <a:off x="6117840" y="587160"/>
              <a:ext cx="551160" cy="401760"/>
            </a:xfrm>
            <a:custGeom>
              <a:avLst/>
              <a:gdLst/>
              <a:ahLst/>
              <a:rect l="l" t="t" r="r" b="b"/>
              <a:pathLst>
                <a:path w="1762760" h="1553097">
                  <a:moveTo>
                    <a:pt x="2" y="593229"/>
                  </a:moveTo>
                  <a:lnTo>
                    <a:pt x="673318" y="593233"/>
                  </a:lnTo>
                  <a:lnTo>
                    <a:pt x="881380" y="0"/>
                  </a:lnTo>
                  <a:lnTo>
                    <a:pt x="1089442" y="593233"/>
                  </a:lnTo>
                  <a:lnTo>
                    <a:pt x="1762758" y="593229"/>
                  </a:lnTo>
                  <a:lnTo>
                    <a:pt x="1218031" y="959863"/>
                  </a:lnTo>
                  <a:lnTo>
                    <a:pt x="1426102" y="1553093"/>
                  </a:lnTo>
                  <a:lnTo>
                    <a:pt x="881380" y="1186452"/>
                  </a:lnTo>
                  <a:lnTo>
                    <a:pt x="336658" y="1553093"/>
                  </a:lnTo>
                  <a:lnTo>
                    <a:pt x="544729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5-Point Star 63"/>
            <p:cNvSpPr/>
            <p:nvPr/>
          </p:nvSpPr>
          <p:spPr>
            <a:xfrm>
              <a:off x="6140160" y="60948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5-Point Star 64"/>
            <p:cNvSpPr/>
            <p:nvPr/>
          </p:nvSpPr>
          <p:spPr>
            <a:xfrm>
              <a:off x="6160680" y="633240"/>
              <a:ext cx="46368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5-Point Star 65"/>
            <p:cNvSpPr/>
            <p:nvPr/>
          </p:nvSpPr>
          <p:spPr>
            <a:xfrm>
              <a:off x="6183000" y="655560"/>
              <a:ext cx="419400" cy="281160"/>
            </a:xfrm>
            <a:custGeom>
              <a:avLst/>
              <a:gdLst/>
              <a:ahLst/>
              <a:rect l="l" t="t" r="r" b="b"/>
              <a:pathLst>
                <a:path w="1341119" h="1086551">
                  <a:moveTo>
                    <a:pt x="1" y="415024"/>
                  </a:moveTo>
                  <a:lnTo>
                    <a:pt x="512265" y="415027"/>
                  </a:lnTo>
                  <a:lnTo>
                    <a:pt x="670560" y="0"/>
                  </a:lnTo>
                  <a:lnTo>
                    <a:pt x="828854" y="415027"/>
                  </a:lnTo>
                  <a:lnTo>
                    <a:pt x="1341118" y="415024"/>
                  </a:lnTo>
                  <a:lnTo>
                    <a:pt x="926686" y="671523"/>
                  </a:lnTo>
                  <a:lnTo>
                    <a:pt x="1084987" y="1086548"/>
                  </a:lnTo>
                  <a:lnTo>
                    <a:pt x="670560" y="830045"/>
                  </a:lnTo>
                  <a:lnTo>
                    <a:pt x="256132" y="1086548"/>
                  </a:lnTo>
                  <a:lnTo>
                    <a:pt x="414433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5-Point Star 66"/>
            <p:cNvSpPr/>
            <p:nvPr/>
          </p:nvSpPr>
          <p:spPr>
            <a:xfrm>
              <a:off x="6205320" y="677880"/>
              <a:ext cx="37476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5-Point Star 67"/>
            <p:cNvSpPr/>
            <p:nvPr/>
          </p:nvSpPr>
          <p:spPr>
            <a:xfrm>
              <a:off x="6227640" y="70020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5">
                  <a:moveTo>
                    <a:pt x="1" y="297786"/>
                  </a:moveTo>
                  <a:lnTo>
                    <a:pt x="403602" y="297788"/>
                  </a:lnTo>
                  <a:lnTo>
                    <a:pt x="528320" y="0"/>
                  </a:lnTo>
                  <a:lnTo>
                    <a:pt x="653037" y="297788"/>
                  </a:lnTo>
                  <a:lnTo>
                    <a:pt x="1056638" y="297786"/>
                  </a:lnTo>
                  <a:lnTo>
                    <a:pt x="730116" y="481827"/>
                  </a:lnTo>
                  <a:lnTo>
                    <a:pt x="854838" y="779613"/>
                  </a:lnTo>
                  <a:lnTo>
                    <a:pt x="528320" y="595569"/>
                  </a:lnTo>
                  <a:lnTo>
                    <a:pt x="201801" y="779613"/>
                  </a:lnTo>
                  <a:lnTo>
                    <a:pt x="326523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5-Point Star 68"/>
            <p:cNvSpPr/>
            <p:nvPr/>
          </p:nvSpPr>
          <p:spPr>
            <a:xfrm>
              <a:off x="6249960" y="722160"/>
              <a:ext cx="28584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69"/>
          <p:cNvGrpSpPr/>
          <p:nvPr/>
        </p:nvGrpSpPr>
        <p:grpSpPr>
          <a:xfrm>
            <a:off x="7848720" y="1066680"/>
            <a:ext cx="595080" cy="441360"/>
            <a:chOff x="7848720" y="1066680"/>
            <a:chExt cx="595080" cy="441360"/>
          </a:xfrm>
        </p:grpSpPr>
        <p:sp>
          <p:nvSpPr>
            <p:cNvPr id="105" name="5-Point Star 70"/>
            <p:cNvSpPr/>
            <p:nvPr/>
          </p:nvSpPr>
          <p:spPr>
            <a:xfrm>
              <a:off x="7848720" y="1066680"/>
              <a:ext cx="59508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5-Point Star 71"/>
            <p:cNvSpPr/>
            <p:nvPr/>
          </p:nvSpPr>
          <p:spPr>
            <a:xfrm>
              <a:off x="7870680" y="1088640"/>
              <a:ext cx="550800" cy="401760"/>
            </a:xfrm>
            <a:custGeom>
              <a:avLst/>
              <a:gdLst/>
              <a:ahLst/>
              <a:rect l="l" t="t" r="r" b="b"/>
              <a:pathLst>
                <a:path w="1762760" h="1553097">
                  <a:moveTo>
                    <a:pt x="2" y="593229"/>
                  </a:moveTo>
                  <a:lnTo>
                    <a:pt x="673318" y="593233"/>
                  </a:lnTo>
                  <a:lnTo>
                    <a:pt x="881380" y="0"/>
                  </a:lnTo>
                  <a:lnTo>
                    <a:pt x="1089442" y="593233"/>
                  </a:lnTo>
                  <a:lnTo>
                    <a:pt x="1762758" y="593229"/>
                  </a:lnTo>
                  <a:lnTo>
                    <a:pt x="1218031" y="959863"/>
                  </a:lnTo>
                  <a:lnTo>
                    <a:pt x="1426102" y="1553093"/>
                  </a:lnTo>
                  <a:lnTo>
                    <a:pt x="881380" y="1186452"/>
                  </a:lnTo>
                  <a:lnTo>
                    <a:pt x="336658" y="1553093"/>
                  </a:lnTo>
                  <a:lnTo>
                    <a:pt x="544729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5-Point Star 72"/>
            <p:cNvSpPr/>
            <p:nvPr/>
          </p:nvSpPr>
          <p:spPr>
            <a:xfrm>
              <a:off x="7893000" y="111096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5-Point Star 73"/>
            <p:cNvSpPr/>
            <p:nvPr/>
          </p:nvSpPr>
          <p:spPr>
            <a:xfrm>
              <a:off x="7913520" y="1134720"/>
              <a:ext cx="46332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5-Point Star 74"/>
            <p:cNvSpPr/>
            <p:nvPr/>
          </p:nvSpPr>
          <p:spPr>
            <a:xfrm>
              <a:off x="7935840" y="1157040"/>
              <a:ext cx="419040" cy="281160"/>
            </a:xfrm>
            <a:custGeom>
              <a:avLst/>
              <a:gdLst/>
              <a:ahLst/>
              <a:rect l="l" t="t" r="r" b="b"/>
              <a:pathLst>
                <a:path w="1341119" h="1086551">
                  <a:moveTo>
                    <a:pt x="1" y="415024"/>
                  </a:moveTo>
                  <a:lnTo>
                    <a:pt x="512265" y="415027"/>
                  </a:lnTo>
                  <a:lnTo>
                    <a:pt x="670560" y="0"/>
                  </a:lnTo>
                  <a:lnTo>
                    <a:pt x="828854" y="415027"/>
                  </a:lnTo>
                  <a:lnTo>
                    <a:pt x="1341118" y="415024"/>
                  </a:lnTo>
                  <a:lnTo>
                    <a:pt x="926686" y="671523"/>
                  </a:lnTo>
                  <a:lnTo>
                    <a:pt x="1084987" y="1086548"/>
                  </a:lnTo>
                  <a:lnTo>
                    <a:pt x="670560" y="830045"/>
                  </a:lnTo>
                  <a:lnTo>
                    <a:pt x="256132" y="1086548"/>
                  </a:lnTo>
                  <a:lnTo>
                    <a:pt x="414433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5-Point Star 75"/>
            <p:cNvSpPr/>
            <p:nvPr/>
          </p:nvSpPr>
          <p:spPr>
            <a:xfrm>
              <a:off x="7958160" y="1179360"/>
              <a:ext cx="37440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5-Point Star 76"/>
            <p:cNvSpPr/>
            <p:nvPr/>
          </p:nvSpPr>
          <p:spPr>
            <a:xfrm>
              <a:off x="7980480" y="120168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5">
                  <a:moveTo>
                    <a:pt x="1" y="297786"/>
                  </a:moveTo>
                  <a:lnTo>
                    <a:pt x="403602" y="297788"/>
                  </a:lnTo>
                  <a:lnTo>
                    <a:pt x="528320" y="0"/>
                  </a:lnTo>
                  <a:lnTo>
                    <a:pt x="653037" y="297788"/>
                  </a:lnTo>
                  <a:lnTo>
                    <a:pt x="1056638" y="297786"/>
                  </a:lnTo>
                  <a:lnTo>
                    <a:pt x="730116" y="481827"/>
                  </a:lnTo>
                  <a:lnTo>
                    <a:pt x="854838" y="779613"/>
                  </a:lnTo>
                  <a:lnTo>
                    <a:pt x="528320" y="595569"/>
                  </a:lnTo>
                  <a:lnTo>
                    <a:pt x="201801" y="779613"/>
                  </a:lnTo>
                  <a:lnTo>
                    <a:pt x="326523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5-Point Star 77"/>
            <p:cNvSpPr/>
            <p:nvPr/>
          </p:nvSpPr>
          <p:spPr>
            <a:xfrm>
              <a:off x="8002440" y="1223640"/>
              <a:ext cx="28548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78"/>
          <p:cNvGrpSpPr/>
          <p:nvPr/>
        </p:nvGrpSpPr>
        <p:grpSpPr>
          <a:xfrm>
            <a:off x="6904080" y="222120"/>
            <a:ext cx="593640" cy="441360"/>
            <a:chOff x="6904080" y="222120"/>
            <a:chExt cx="593640" cy="441360"/>
          </a:xfrm>
        </p:grpSpPr>
        <p:sp>
          <p:nvSpPr>
            <p:cNvPr id="114" name="5-Point Star 79"/>
            <p:cNvSpPr/>
            <p:nvPr/>
          </p:nvSpPr>
          <p:spPr>
            <a:xfrm>
              <a:off x="6904080" y="222120"/>
              <a:ext cx="5936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5-Point Star 80"/>
            <p:cNvSpPr/>
            <p:nvPr/>
          </p:nvSpPr>
          <p:spPr>
            <a:xfrm>
              <a:off x="6926040" y="244080"/>
              <a:ext cx="549360" cy="401760"/>
            </a:xfrm>
            <a:custGeom>
              <a:avLst/>
              <a:gdLst/>
              <a:ahLst/>
              <a:rect l="l" t="t" r="r" b="b"/>
              <a:pathLst>
                <a:path w="1762380" h="1553097">
                  <a:moveTo>
                    <a:pt x="2" y="593229"/>
                  </a:moveTo>
                  <a:lnTo>
                    <a:pt x="673173" y="593233"/>
                  </a:lnTo>
                  <a:lnTo>
                    <a:pt x="881190" y="0"/>
                  </a:lnTo>
                  <a:lnTo>
                    <a:pt x="1089207" y="593233"/>
                  </a:lnTo>
                  <a:lnTo>
                    <a:pt x="1762378" y="593229"/>
                  </a:lnTo>
                  <a:lnTo>
                    <a:pt x="1217769" y="959863"/>
                  </a:lnTo>
                  <a:lnTo>
                    <a:pt x="1425794" y="1553093"/>
                  </a:lnTo>
                  <a:lnTo>
                    <a:pt x="881190" y="1186452"/>
                  </a:lnTo>
                  <a:lnTo>
                    <a:pt x="336586" y="1553093"/>
                  </a:lnTo>
                  <a:lnTo>
                    <a:pt x="544611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5-Point Star 81"/>
            <p:cNvSpPr/>
            <p:nvPr/>
          </p:nvSpPr>
          <p:spPr>
            <a:xfrm>
              <a:off x="6948360" y="266400"/>
              <a:ext cx="487440" cy="365400"/>
            </a:xfrm>
            <a:custGeom>
              <a:avLst/>
              <a:gdLst/>
              <a:ahLst/>
              <a:rect l="l" t="t" r="r" b="b"/>
              <a:pathLst>
                <a:path w="1563728" h="1411905">
                  <a:moveTo>
                    <a:pt x="2" y="539298"/>
                  </a:moveTo>
                  <a:lnTo>
                    <a:pt x="597294" y="539302"/>
                  </a:lnTo>
                  <a:lnTo>
                    <a:pt x="781864" y="0"/>
                  </a:lnTo>
                  <a:lnTo>
                    <a:pt x="966434" y="539302"/>
                  </a:lnTo>
                  <a:lnTo>
                    <a:pt x="1563726" y="539298"/>
                  </a:lnTo>
                  <a:lnTo>
                    <a:pt x="1080504" y="872602"/>
                  </a:lnTo>
                  <a:lnTo>
                    <a:pt x="1265082" y="1411901"/>
                  </a:lnTo>
                  <a:lnTo>
                    <a:pt x="781864" y="1078592"/>
                  </a:lnTo>
                  <a:lnTo>
                    <a:pt x="298646" y="1411901"/>
                  </a:lnTo>
                  <a:lnTo>
                    <a:pt x="483224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5-Point Star 82"/>
            <p:cNvSpPr/>
            <p:nvPr/>
          </p:nvSpPr>
          <p:spPr>
            <a:xfrm>
              <a:off x="6968880" y="290160"/>
              <a:ext cx="461880" cy="320760"/>
            </a:xfrm>
            <a:custGeom>
              <a:avLst/>
              <a:gdLst/>
              <a:ahLst/>
              <a:rect l="l" t="t" r="r" b="b"/>
              <a:pathLst>
                <a:path w="1482234" h="1240021">
                  <a:moveTo>
                    <a:pt x="2" y="473645"/>
                  </a:moveTo>
                  <a:lnTo>
                    <a:pt x="566166" y="473648"/>
                  </a:lnTo>
                  <a:lnTo>
                    <a:pt x="741117" y="0"/>
                  </a:lnTo>
                  <a:lnTo>
                    <a:pt x="916068" y="473648"/>
                  </a:lnTo>
                  <a:lnTo>
                    <a:pt x="1482232" y="473645"/>
                  </a:lnTo>
                  <a:lnTo>
                    <a:pt x="1024193" y="766372"/>
                  </a:lnTo>
                  <a:lnTo>
                    <a:pt x="1199152" y="1240018"/>
                  </a:lnTo>
                  <a:lnTo>
                    <a:pt x="741117" y="947285"/>
                  </a:lnTo>
                  <a:lnTo>
                    <a:pt x="283082" y="1240018"/>
                  </a:lnTo>
                  <a:lnTo>
                    <a:pt x="458041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5-Point Star 83"/>
            <p:cNvSpPr/>
            <p:nvPr/>
          </p:nvSpPr>
          <p:spPr>
            <a:xfrm>
              <a:off x="6991200" y="312480"/>
              <a:ext cx="417600" cy="281160"/>
            </a:xfrm>
            <a:custGeom>
              <a:avLst/>
              <a:gdLst/>
              <a:ahLst/>
              <a:rect l="l" t="t" r="r" b="b"/>
              <a:pathLst>
                <a:path w="1339614" h="1086551">
                  <a:moveTo>
                    <a:pt x="1" y="415024"/>
                  </a:moveTo>
                  <a:lnTo>
                    <a:pt x="511690" y="415027"/>
                  </a:lnTo>
                  <a:lnTo>
                    <a:pt x="669807" y="0"/>
                  </a:lnTo>
                  <a:lnTo>
                    <a:pt x="827924" y="415027"/>
                  </a:lnTo>
                  <a:lnTo>
                    <a:pt x="1339613" y="415024"/>
                  </a:lnTo>
                  <a:lnTo>
                    <a:pt x="925646" y="671523"/>
                  </a:lnTo>
                  <a:lnTo>
                    <a:pt x="1083770" y="1086548"/>
                  </a:lnTo>
                  <a:lnTo>
                    <a:pt x="669807" y="830045"/>
                  </a:lnTo>
                  <a:lnTo>
                    <a:pt x="255844" y="1086548"/>
                  </a:lnTo>
                  <a:lnTo>
                    <a:pt x="413968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5-Point Star 84"/>
            <p:cNvSpPr/>
            <p:nvPr/>
          </p:nvSpPr>
          <p:spPr>
            <a:xfrm>
              <a:off x="7013520" y="334800"/>
              <a:ext cx="372960" cy="241200"/>
            </a:xfrm>
            <a:custGeom>
              <a:avLst/>
              <a:gdLst/>
              <a:ahLst/>
              <a:rect l="l" t="t" r="r" b="b"/>
              <a:pathLst>
                <a:path w="1196994" h="933085">
                  <a:moveTo>
                    <a:pt x="1" y="356406"/>
                  </a:moveTo>
                  <a:lnTo>
                    <a:pt x="457214" y="356408"/>
                  </a:lnTo>
                  <a:lnTo>
                    <a:pt x="598497" y="0"/>
                  </a:lnTo>
                  <a:lnTo>
                    <a:pt x="739780" y="356408"/>
                  </a:lnTo>
                  <a:lnTo>
                    <a:pt x="1196993" y="356406"/>
                  </a:lnTo>
                  <a:lnTo>
                    <a:pt x="827098" y="576676"/>
                  </a:lnTo>
                  <a:lnTo>
                    <a:pt x="968388" y="933083"/>
                  </a:lnTo>
                  <a:lnTo>
                    <a:pt x="598497" y="712809"/>
                  </a:lnTo>
                  <a:lnTo>
                    <a:pt x="228606" y="933083"/>
                  </a:lnTo>
                  <a:lnTo>
                    <a:pt x="369896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5-Point Star 85"/>
            <p:cNvSpPr/>
            <p:nvPr/>
          </p:nvSpPr>
          <p:spPr>
            <a:xfrm>
              <a:off x="7035840" y="357120"/>
              <a:ext cx="328680" cy="201600"/>
            </a:xfrm>
            <a:custGeom>
              <a:avLst/>
              <a:gdLst/>
              <a:ahLst/>
              <a:rect l="l" t="t" r="r" b="b"/>
              <a:pathLst>
                <a:path w="1054373" h="779615">
                  <a:moveTo>
                    <a:pt x="1" y="297786"/>
                  </a:moveTo>
                  <a:lnTo>
                    <a:pt x="402737" y="297788"/>
                  </a:lnTo>
                  <a:lnTo>
                    <a:pt x="527187" y="0"/>
                  </a:lnTo>
                  <a:lnTo>
                    <a:pt x="651636" y="297788"/>
                  </a:lnTo>
                  <a:lnTo>
                    <a:pt x="1054372" y="297786"/>
                  </a:lnTo>
                  <a:lnTo>
                    <a:pt x="728550" y="481827"/>
                  </a:lnTo>
                  <a:lnTo>
                    <a:pt x="853005" y="779613"/>
                  </a:lnTo>
                  <a:lnTo>
                    <a:pt x="527187" y="595569"/>
                  </a:lnTo>
                  <a:lnTo>
                    <a:pt x="201368" y="779613"/>
                  </a:lnTo>
                  <a:lnTo>
                    <a:pt x="325823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5-Point Star 86"/>
            <p:cNvSpPr/>
            <p:nvPr/>
          </p:nvSpPr>
          <p:spPr>
            <a:xfrm>
              <a:off x="7057800" y="379080"/>
              <a:ext cx="284040" cy="162000"/>
            </a:xfrm>
            <a:custGeom>
              <a:avLst/>
              <a:gdLst/>
              <a:ahLst/>
              <a:rect l="l" t="t" r="r" b="b"/>
              <a:pathLst>
                <a:path w="911753" h="626149">
                  <a:moveTo>
                    <a:pt x="1" y="239167"/>
                  </a:moveTo>
                  <a:lnTo>
                    <a:pt x="348261" y="239169"/>
                  </a:lnTo>
                  <a:lnTo>
                    <a:pt x="455877" y="0"/>
                  </a:lnTo>
                  <a:lnTo>
                    <a:pt x="563492" y="239169"/>
                  </a:lnTo>
                  <a:lnTo>
                    <a:pt x="911752" y="239167"/>
                  </a:lnTo>
                  <a:lnTo>
                    <a:pt x="630003" y="386980"/>
                  </a:lnTo>
                  <a:lnTo>
                    <a:pt x="737623" y="626147"/>
                  </a:lnTo>
                  <a:lnTo>
                    <a:pt x="455877" y="478332"/>
                  </a:lnTo>
                  <a:lnTo>
                    <a:pt x="174130" y="626147"/>
                  </a:lnTo>
                  <a:lnTo>
                    <a:pt x="281750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87"/>
          <p:cNvGrpSpPr/>
          <p:nvPr/>
        </p:nvGrpSpPr>
        <p:grpSpPr>
          <a:xfrm>
            <a:off x="5041800" y="360360"/>
            <a:ext cx="595440" cy="441360"/>
            <a:chOff x="5041800" y="360360"/>
            <a:chExt cx="595440" cy="441360"/>
          </a:xfrm>
        </p:grpSpPr>
        <p:sp>
          <p:nvSpPr>
            <p:cNvPr id="123" name="5-Point Star 88"/>
            <p:cNvSpPr/>
            <p:nvPr/>
          </p:nvSpPr>
          <p:spPr>
            <a:xfrm>
              <a:off x="5041800" y="360360"/>
              <a:ext cx="5954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5-Point Star 89"/>
            <p:cNvSpPr/>
            <p:nvPr/>
          </p:nvSpPr>
          <p:spPr>
            <a:xfrm>
              <a:off x="5063760" y="382320"/>
              <a:ext cx="551160" cy="401760"/>
            </a:xfrm>
            <a:custGeom>
              <a:avLst/>
              <a:gdLst/>
              <a:ahLst/>
              <a:rect l="l" t="t" r="r" b="b"/>
              <a:pathLst>
                <a:path w="1762760" h="1553093">
                  <a:moveTo>
                    <a:pt x="2" y="593227"/>
                  </a:moveTo>
                  <a:lnTo>
                    <a:pt x="673318" y="593231"/>
                  </a:lnTo>
                  <a:lnTo>
                    <a:pt x="881380" y="0"/>
                  </a:lnTo>
                  <a:lnTo>
                    <a:pt x="1089442" y="593231"/>
                  </a:lnTo>
                  <a:lnTo>
                    <a:pt x="1762758" y="593227"/>
                  </a:lnTo>
                  <a:lnTo>
                    <a:pt x="1218031" y="959860"/>
                  </a:lnTo>
                  <a:lnTo>
                    <a:pt x="1426102" y="1553089"/>
                  </a:lnTo>
                  <a:lnTo>
                    <a:pt x="881380" y="1186449"/>
                  </a:lnTo>
                  <a:lnTo>
                    <a:pt x="336658" y="1553089"/>
                  </a:lnTo>
                  <a:lnTo>
                    <a:pt x="544729" y="959860"/>
                  </a:lnTo>
                  <a:lnTo>
                    <a:pt x="2" y="593227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5-Point Star 90"/>
            <p:cNvSpPr/>
            <p:nvPr/>
          </p:nvSpPr>
          <p:spPr>
            <a:xfrm>
              <a:off x="5086080" y="40464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5-Point Star 91"/>
            <p:cNvSpPr/>
            <p:nvPr/>
          </p:nvSpPr>
          <p:spPr>
            <a:xfrm>
              <a:off x="5106600" y="428400"/>
              <a:ext cx="46368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5-Point Star 92"/>
            <p:cNvSpPr/>
            <p:nvPr/>
          </p:nvSpPr>
          <p:spPr>
            <a:xfrm>
              <a:off x="5128920" y="450720"/>
              <a:ext cx="419400" cy="281160"/>
            </a:xfrm>
            <a:custGeom>
              <a:avLst/>
              <a:gdLst/>
              <a:ahLst/>
              <a:rect l="l" t="t" r="r" b="b"/>
              <a:pathLst>
                <a:path w="1341119" h="1086555">
                  <a:moveTo>
                    <a:pt x="1" y="415026"/>
                  </a:moveTo>
                  <a:lnTo>
                    <a:pt x="512265" y="415029"/>
                  </a:lnTo>
                  <a:lnTo>
                    <a:pt x="670560" y="0"/>
                  </a:lnTo>
                  <a:lnTo>
                    <a:pt x="828854" y="415029"/>
                  </a:lnTo>
                  <a:lnTo>
                    <a:pt x="1341118" y="415026"/>
                  </a:lnTo>
                  <a:lnTo>
                    <a:pt x="926686" y="671525"/>
                  </a:lnTo>
                  <a:lnTo>
                    <a:pt x="1084987" y="1086552"/>
                  </a:lnTo>
                  <a:lnTo>
                    <a:pt x="670560" y="830048"/>
                  </a:lnTo>
                  <a:lnTo>
                    <a:pt x="256132" y="1086552"/>
                  </a:lnTo>
                  <a:lnTo>
                    <a:pt x="414433" y="671525"/>
                  </a:lnTo>
                  <a:lnTo>
                    <a:pt x="1" y="415026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5-Point Star 93"/>
            <p:cNvSpPr/>
            <p:nvPr/>
          </p:nvSpPr>
          <p:spPr>
            <a:xfrm>
              <a:off x="5151240" y="473040"/>
              <a:ext cx="37476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5-Point Star 94"/>
            <p:cNvSpPr/>
            <p:nvPr/>
          </p:nvSpPr>
          <p:spPr>
            <a:xfrm>
              <a:off x="5173560" y="49536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9">
                  <a:moveTo>
                    <a:pt x="1" y="297787"/>
                  </a:moveTo>
                  <a:lnTo>
                    <a:pt x="403602" y="297789"/>
                  </a:lnTo>
                  <a:lnTo>
                    <a:pt x="528320" y="0"/>
                  </a:lnTo>
                  <a:lnTo>
                    <a:pt x="653037" y="297789"/>
                  </a:lnTo>
                  <a:lnTo>
                    <a:pt x="1056638" y="297787"/>
                  </a:lnTo>
                  <a:lnTo>
                    <a:pt x="730116" y="481829"/>
                  </a:lnTo>
                  <a:lnTo>
                    <a:pt x="854838" y="779617"/>
                  </a:lnTo>
                  <a:lnTo>
                    <a:pt x="528320" y="595572"/>
                  </a:lnTo>
                  <a:lnTo>
                    <a:pt x="201801" y="779617"/>
                  </a:lnTo>
                  <a:lnTo>
                    <a:pt x="326523" y="481829"/>
                  </a:lnTo>
                  <a:lnTo>
                    <a:pt x="1" y="297787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5-Point Star 95"/>
            <p:cNvSpPr/>
            <p:nvPr/>
          </p:nvSpPr>
          <p:spPr>
            <a:xfrm>
              <a:off x="5195880" y="517320"/>
              <a:ext cx="28584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96"/>
          <p:cNvGrpSpPr/>
          <p:nvPr/>
        </p:nvGrpSpPr>
        <p:grpSpPr>
          <a:xfrm>
            <a:off x="2146320" y="733320"/>
            <a:ext cx="595440" cy="441360"/>
            <a:chOff x="2146320" y="733320"/>
            <a:chExt cx="595440" cy="441360"/>
          </a:xfrm>
        </p:grpSpPr>
        <p:sp>
          <p:nvSpPr>
            <p:cNvPr id="132" name="5-Point Star 97"/>
            <p:cNvSpPr/>
            <p:nvPr/>
          </p:nvSpPr>
          <p:spPr>
            <a:xfrm>
              <a:off x="2146320" y="733320"/>
              <a:ext cx="5954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5-Point Star 98"/>
            <p:cNvSpPr/>
            <p:nvPr/>
          </p:nvSpPr>
          <p:spPr>
            <a:xfrm>
              <a:off x="2168280" y="755280"/>
              <a:ext cx="551160" cy="401760"/>
            </a:xfrm>
            <a:custGeom>
              <a:avLst/>
              <a:gdLst/>
              <a:ahLst/>
              <a:rect l="l" t="t" r="r" b="b"/>
              <a:pathLst>
                <a:path w="1762760" h="1553097">
                  <a:moveTo>
                    <a:pt x="2" y="593229"/>
                  </a:moveTo>
                  <a:lnTo>
                    <a:pt x="673318" y="593233"/>
                  </a:lnTo>
                  <a:lnTo>
                    <a:pt x="881380" y="0"/>
                  </a:lnTo>
                  <a:lnTo>
                    <a:pt x="1089442" y="593233"/>
                  </a:lnTo>
                  <a:lnTo>
                    <a:pt x="1762758" y="593229"/>
                  </a:lnTo>
                  <a:lnTo>
                    <a:pt x="1218031" y="959863"/>
                  </a:lnTo>
                  <a:lnTo>
                    <a:pt x="1426102" y="1553093"/>
                  </a:lnTo>
                  <a:lnTo>
                    <a:pt x="881380" y="1186452"/>
                  </a:lnTo>
                  <a:lnTo>
                    <a:pt x="336658" y="1553093"/>
                  </a:lnTo>
                  <a:lnTo>
                    <a:pt x="544729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5-Point Star 99"/>
            <p:cNvSpPr/>
            <p:nvPr/>
          </p:nvSpPr>
          <p:spPr>
            <a:xfrm>
              <a:off x="2190600" y="77760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5-Point Star 100"/>
            <p:cNvSpPr/>
            <p:nvPr/>
          </p:nvSpPr>
          <p:spPr>
            <a:xfrm>
              <a:off x="2211120" y="801360"/>
              <a:ext cx="46368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5-Point Star 101"/>
            <p:cNvSpPr/>
            <p:nvPr/>
          </p:nvSpPr>
          <p:spPr>
            <a:xfrm>
              <a:off x="2233440" y="823680"/>
              <a:ext cx="419400" cy="281160"/>
            </a:xfrm>
            <a:custGeom>
              <a:avLst/>
              <a:gdLst/>
              <a:ahLst/>
              <a:rect l="l" t="t" r="r" b="b"/>
              <a:pathLst>
                <a:path w="1341119" h="1086551">
                  <a:moveTo>
                    <a:pt x="1" y="415024"/>
                  </a:moveTo>
                  <a:lnTo>
                    <a:pt x="512265" y="415027"/>
                  </a:lnTo>
                  <a:lnTo>
                    <a:pt x="670560" y="0"/>
                  </a:lnTo>
                  <a:lnTo>
                    <a:pt x="828854" y="415027"/>
                  </a:lnTo>
                  <a:lnTo>
                    <a:pt x="1341118" y="415024"/>
                  </a:lnTo>
                  <a:lnTo>
                    <a:pt x="926686" y="671523"/>
                  </a:lnTo>
                  <a:lnTo>
                    <a:pt x="1084987" y="1086548"/>
                  </a:lnTo>
                  <a:lnTo>
                    <a:pt x="670560" y="830045"/>
                  </a:lnTo>
                  <a:lnTo>
                    <a:pt x="256132" y="1086548"/>
                  </a:lnTo>
                  <a:lnTo>
                    <a:pt x="414433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5-Point Star 102"/>
            <p:cNvSpPr/>
            <p:nvPr/>
          </p:nvSpPr>
          <p:spPr>
            <a:xfrm>
              <a:off x="2255760" y="846000"/>
              <a:ext cx="37476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5-Point Star 103"/>
            <p:cNvSpPr/>
            <p:nvPr/>
          </p:nvSpPr>
          <p:spPr>
            <a:xfrm>
              <a:off x="2278080" y="86832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5">
                  <a:moveTo>
                    <a:pt x="1" y="297786"/>
                  </a:moveTo>
                  <a:lnTo>
                    <a:pt x="403602" y="297788"/>
                  </a:lnTo>
                  <a:lnTo>
                    <a:pt x="528320" y="0"/>
                  </a:lnTo>
                  <a:lnTo>
                    <a:pt x="653037" y="297788"/>
                  </a:lnTo>
                  <a:lnTo>
                    <a:pt x="1056638" y="297786"/>
                  </a:lnTo>
                  <a:lnTo>
                    <a:pt x="730116" y="481827"/>
                  </a:lnTo>
                  <a:lnTo>
                    <a:pt x="854838" y="779613"/>
                  </a:lnTo>
                  <a:lnTo>
                    <a:pt x="528320" y="595569"/>
                  </a:lnTo>
                  <a:lnTo>
                    <a:pt x="201801" y="779613"/>
                  </a:lnTo>
                  <a:lnTo>
                    <a:pt x="326523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5-Point Star 104"/>
            <p:cNvSpPr/>
            <p:nvPr/>
          </p:nvSpPr>
          <p:spPr>
            <a:xfrm>
              <a:off x="2300400" y="890280"/>
              <a:ext cx="28584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05"/>
          <p:cNvGrpSpPr/>
          <p:nvPr/>
        </p:nvGrpSpPr>
        <p:grpSpPr>
          <a:xfrm>
            <a:off x="895320" y="1182600"/>
            <a:ext cx="595440" cy="441360"/>
            <a:chOff x="895320" y="1182600"/>
            <a:chExt cx="595440" cy="441360"/>
          </a:xfrm>
        </p:grpSpPr>
        <p:sp>
          <p:nvSpPr>
            <p:cNvPr id="141" name="5-Point Star 106"/>
            <p:cNvSpPr/>
            <p:nvPr/>
          </p:nvSpPr>
          <p:spPr>
            <a:xfrm>
              <a:off x="895320" y="1182600"/>
              <a:ext cx="5954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5-Point Star 107"/>
            <p:cNvSpPr/>
            <p:nvPr/>
          </p:nvSpPr>
          <p:spPr>
            <a:xfrm>
              <a:off x="917280" y="1204560"/>
              <a:ext cx="551160" cy="401760"/>
            </a:xfrm>
            <a:custGeom>
              <a:avLst/>
              <a:gdLst/>
              <a:ahLst/>
              <a:rect l="l" t="t" r="r" b="b"/>
              <a:pathLst>
                <a:path w="1762760" h="1553093">
                  <a:moveTo>
                    <a:pt x="2" y="593227"/>
                  </a:moveTo>
                  <a:lnTo>
                    <a:pt x="673318" y="593231"/>
                  </a:lnTo>
                  <a:lnTo>
                    <a:pt x="881380" y="0"/>
                  </a:lnTo>
                  <a:lnTo>
                    <a:pt x="1089442" y="593231"/>
                  </a:lnTo>
                  <a:lnTo>
                    <a:pt x="1762758" y="593227"/>
                  </a:lnTo>
                  <a:lnTo>
                    <a:pt x="1218031" y="959860"/>
                  </a:lnTo>
                  <a:lnTo>
                    <a:pt x="1426102" y="1553089"/>
                  </a:lnTo>
                  <a:lnTo>
                    <a:pt x="881380" y="1186449"/>
                  </a:lnTo>
                  <a:lnTo>
                    <a:pt x="336658" y="1553089"/>
                  </a:lnTo>
                  <a:lnTo>
                    <a:pt x="544729" y="959860"/>
                  </a:lnTo>
                  <a:lnTo>
                    <a:pt x="2" y="593227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5-Point Star 108"/>
            <p:cNvSpPr/>
            <p:nvPr/>
          </p:nvSpPr>
          <p:spPr>
            <a:xfrm>
              <a:off x="939600" y="122688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5-Point Star 109"/>
            <p:cNvSpPr/>
            <p:nvPr/>
          </p:nvSpPr>
          <p:spPr>
            <a:xfrm>
              <a:off x="960120" y="1250640"/>
              <a:ext cx="46368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5-Point Star 110"/>
            <p:cNvSpPr/>
            <p:nvPr/>
          </p:nvSpPr>
          <p:spPr>
            <a:xfrm>
              <a:off x="982440" y="1272960"/>
              <a:ext cx="419400" cy="281160"/>
            </a:xfrm>
            <a:custGeom>
              <a:avLst/>
              <a:gdLst/>
              <a:ahLst/>
              <a:rect l="l" t="t" r="r" b="b"/>
              <a:pathLst>
                <a:path w="1341119" h="1086555">
                  <a:moveTo>
                    <a:pt x="1" y="415026"/>
                  </a:moveTo>
                  <a:lnTo>
                    <a:pt x="512265" y="415029"/>
                  </a:lnTo>
                  <a:lnTo>
                    <a:pt x="670560" y="0"/>
                  </a:lnTo>
                  <a:lnTo>
                    <a:pt x="828854" y="415029"/>
                  </a:lnTo>
                  <a:lnTo>
                    <a:pt x="1341118" y="415026"/>
                  </a:lnTo>
                  <a:lnTo>
                    <a:pt x="926686" y="671525"/>
                  </a:lnTo>
                  <a:lnTo>
                    <a:pt x="1084987" y="1086552"/>
                  </a:lnTo>
                  <a:lnTo>
                    <a:pt x="670560" y="830048"/>
                  </a:lnTo>
                  <a:lnTo>
                    <a:pt x="256132" y="1086552"/>
                  </a:lnTo>
                  <a:lnTo>
                    <a:pt x="414433" y="671525"/>
                  </a:lnTo>
                  <a:lnTo>
                    <a:pt x="1" y="415026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5-Point Star 111"/>
            <p:cNvSpPr/>
            <p:nvPr/>
          </p:nvSpPr>
          <p:spPr>
            <a:xfrm>
              <a:off x="1004760" y="1295280"/>
              <a:ext cx="37476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5-Point Star 112"/>
            <p:cNvSpPr/>
            <p:nvPr/>
          </p:nvSpPr>
          <p:spPr>
            <a:xfrm>
              <a:off x="1027080" y="131760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9">
                  <a:moveTo>
                    <a:pt x="1" y="297787"/>
                  </a:moveTo>
                  <a:lnTo>
                    <a:pt x="403602" y="297789"/>
                  </a:lnTo>
                  <a:lnTo>
                    <a:pt x="528320" y="0"/>
                  </a:lnTo>
                  <a:lnTo>
                    <a:pt x="653037" y="297789"/>
                  </a:lnTo>
                  <a:lnTo>
                    <a:pt x="1056638" y="297787"/>
                  </a:lnTo>
                  <a:lnTo>
                    <a:pt x="730116" y="481829"/>
                  </a:lnTo>
                  <a:lnTo>
                    <a:pt x="854838" y="779617"/>
                  </a:lnTo>
                  <a:lnTo>
                    <a:pt x="528320" y="595572"/>
                  </a:lnTo>
                  <a:lnTo>
                    <a:pt x="201801" y="779617"/>
                  </a:lnTo>
                  <a:lnTo>
                    <a:pt x="326523" y="481829"/>
                  </a:lnTo>
                  <a:lnTo>
                    <a:pt x="1" y="297787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5-Point Star 113"/>
            <p:cNvSpPr/>
            <p:nvPr/>
          </p:nvSpPr>
          <p:spPr>
            <a:xfrm>
              <a:off x="1049400" y="1339560"/>
              <a:ext cx="28584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-324000"/>
            <a:ext cx="18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55560" y="398520"/>
            <a:ext cx="71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b"/>
                </a:solidFill>
                <a:latin typeface="#9Slide05 Garris"/>
              </a:rPr>
              <a:t>I. HỆ THỐNG HOÁ KIẾN THỨ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9"/>
          <p:cNvSpPr/>
          <p:nvPr/>
        </p:nvSpPr>
        <p:spPr>
          <a:xfrm>
            <a:off x="198360" y="152280"/>
            <a:ext cx="8717040" cy="6477120"/>
          </a:xfrm>
          <a:prstGeom prst="rect">
            <a:avLst/>
          </a:prstGeom>
          <a:noFill/>
          <a:ln w="936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: Top Corners Rounded 15"/>
          <p:cNvSpPr/>
          <p:nvPr/>
        </p:nvSpPr>
        <p:spPr>
          <a:xfrm rot="5400000">
            <a:off x="-1627920" y="3258360"/>
            <a:ext cx="3597120" cy="341280"/>
          </a:xfrm>
          <a:custGeom>
            <a:avLst/>
            <a:gdLst/>
            <a:ahLst/>
            <a:rect l="l" t="t" r="r" b="b"/>
            <a:pathLst>
              <a:path w="3597275" h="341313">
                <a:moveTo>
                  <a:pt x="170657" y="0"/>
                </a:moveTo>
                <a:lnTo>
                  <a:pt x="3426619" y="0"/>
                </a:lnTo>
                <a:cubicBezTo>
                  <a:pt x="3520870" y="0"/>
                  <a:pt x="3597276" y="76406"/>
                  <a:pt x="3597276" y="170657"/>
                </a:cubicBezTo>
                <a:cubicBezTo>
                  <a:pt x="3597276" y="227542"/>
                  <a:pt x="3597275" y="284428"/>
                  <a:pt x="3597275" y="341313"/>
                </a:cubicBezTo>
                <a:lnTo>
                  <a:pt x="3597275" y="341313"/>
                </a:lnTo>
                <a:lnTo>
                  <a:pt x="0" y="341313"/>
                </a:lnTo>
                <a:lnTo>
                  <a:pt x="0" y="341313"/>
                </a:lnTo>
                <a:lnTo>
                  <a:pt x="0" y="170657"/>
                </a:lnTo>
                <a:cubicBezTo>
                  <a:pt x="0" y="76406"/>
                  <a:pt x="76406" y="0"/>
                  <a:pt x="17065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7734240" y="216000"/>
            <a:ext cx="838440" cy="893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"/>
          <p:cNvPicPr/>
          <p:nvPr/>
        </p:nvPicPr>
        <p:blipFill>
          <a:blip r:embed="rId3"/>
          <a:stretch/>
        </p:blipFill>
        <p:spPr>
          <a:xfrm>
            <a:off x="-30240" y="651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4"/>
          <a:stretch/>
        </p:blipFill>
        <p:spPr>
          <a:xfrm>
            <a:off x="3636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5"/>
          <a:stretch/>
        </p:blipFill>
        <p:spPr>
          <a:xfrm>
            <a:off x="8645400" y="-17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Audio 2" descr=""/>
          <p:cNvPicPr/>
          <p:nvPr/>
        </p:nvPicPr>
        <p:blipFill>
          <a:blip r:embed="rId6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0" y="-324000"/>
            <a:ext cx="18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409760" y="3650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535040" y="2221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 hãy hoàn thành sơ đồ theo mẫu dưới đâ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198360" y="152280"/>
            <a:ext cx="8717040" cy="6477120"/>
          </a:xfrm>
          <a:prstGeom prst="rect">
            <a:avLst/>
          </a:prstGeom>
          <a:noFill/>
          <a:ln w="936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: Top Corners Rounded 15"/>
          <p:cNvSpPr/>
          <p:nvPr/>
        </p:nvSpPr>
        <p:spPr>
          <a:xfrm rot="5400000">
            <a:off x="-1627920" y="3258360"/>
            <a:ext cx="3597120" cy="341280"/>
          </a:xfrm>
          <a:custGeom>
            <a:avLst/>
            <a:gdLst/>
            <a:ahLst/>
            <a:rect l="l" t="t" r="r" b="b"/>
            <a:pathLst>
              <a:path w="3597275" h="341313">
                <a:moveTo>
                  <a:pt x="170657" y="0"/>
                </a:moveTo>
                <a:lnTo>
                  <a:pt x="3426619" y="0"/>
                </a:lnTo>
                <a:cubicBezTo>
                  <a:pt x="3520870" y="0"/>
                  <a:pt x="3597276" y="76406"/>
                  <a:pt x="3597276" y="170657"/>
                </a:cubicBezTo>
                <a:cubicBezTo>
                  <a:pt x="3597276" y="227542"/>
                  <a:pt x="3597275" y="284428"/>
                  <a:pt x="3597275" y="341313"/>
                </a:cubicBezTo>
                <a:lnTo>
                  <a:pt x="3597275" y="341313"/>
                </a:lnTo>
                <a:lnTo>
                  <a:pt x="0" y="341313"/>
                </a:lnTo>
                <a:lnTo>
                  <a:pt x="0" y="341313"/>
                </a:lnTo>
                <a:lnTo>
                  <a:pt x="0" y="170657"/>
                </a:lnTo>
                <a:cubicBezTo>
                  <a:pt x="0" y="76406"/>
                  <a:pt x="76406" y="0"/>
                  <a:pt x="17065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2"/>
          <a:stretch/>
        </p:blipFill>
        <p:spPr>
          <a:xfrm>
            <a:off x="-30240" y="651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"/>
          <p:cNvPicPr/>
          <p:nvPr/>
        </p:nvPicPr>
        <p:blipFill>
          <a:blip r:embed="rId3"/>
          <a:stretch/>
        </p:blipFill>
        <p:spPr>
          <a:xfrm>
            <a:off x="3636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"/>
          <p:cNvPicPr/>
          <p:nvPr/>
        </p:nvPicPr>
        <p:blipFill>
          <a:blip r:embed="rId4"/>
          <a:stretch/>
        </p:blipFill>
        <p:spPr>
          <a:xfrm>
            <a:off x="8645400" y="-17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Audio 2" descr=""/>
          <p:cNvPicPr/>
          <p:nvPr/>
        </p:nvPicPr>
        <p:blipFill>
          <a:blip r:embed="rId5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Screen Clipping"/>
          <p:cNvPicPr/>
          <p:nvPr/>
        </p:nvPicPr>
        <p:blipFill>
          <a:blip r:embed="rId6"/>
          <a:stretch/>
        </p:blipFill>
        <p:spPr>
          <a:xfrm>
            <a:off x="571680" y="76320"/>
            <a:ext cx="761760" cy="771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Screen Clipping"/>
          <p:cNvPicPr/>
          <p:nvPr/>
        </p:nvPicPr>
        <p:blipFill>
          <a:blip r:embed="rId7"/>
          <a:stretch/>
        </p:blipFill>
        <p:spPr>
          <a:xfrm>
            <a:off x="493560" y="1023840"/>
            <a:ext cx="8418600" cy="560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-324000"/>
            <a:ext cx="18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88880" y="295200"/>
            <a:ext cx="72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b"/>
                </a:solidFill>
                <a:latin typeface="#9Slide05 Garris"/>
              </a:rPr>
              <a:t>II. LUYỆN TẬP VÀ VẬN DỤ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39640" y="114948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ãy nêu vai trò của ngôi nhà đối với gia đình em, tên các khu vực hoặc phòng trong nhà và kiểu kiến trúc nhà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198360" y="152280"/>
            <a:ext cx="8717040" cy="6477120"/>
          </a:xfrm>
          <a:prstGeom prst="rect">
            <a:avLst/>
          </a:prstGeom>
          <a:noFill/>
          <a:ln w="936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: Top Corners Rounded 15"/>
          <p:cNvSpPr/>
          <p:nvPr/>
        </p:nvSpPr>
        <p:spPr>
          <a:xfrm rot="5400000">
            <a:off x="-1627920" y="3258360"/>
            <a:ext cx="3597120" cy="341280"/>
          </a:xfrm>
          <a:custGeom>
            <a:avLst/>
            <a:gdLst/>
            <a:ahLst/>
            <a:rect l="l" t="t" r="r" b="b"/>
            <a:pathLst>
              <a:path w="3597275" h="341313">
                <a:moveTo>
                  <a:pt x="170657" y="0"/>
                </a:moveTo>
                <a:lnTo>
                  <a:pt x="3426619" y="0"/>
                </a:lnTo>
                <a:cubicBezTo>
                  <a:pt x="3520870" y="0"/>
                  <a:pt x="3597276" y="76406"/>
                  <a:pt x="3597276" y="170657"/>
                </a:cubicBezTo>
                <a:cubicBezTo>
                  <a:pt x="3597276" y="227542"/>
                  <a:pt x="3597275" y="284428"/>
                  <a:pt x="3597275" y="341313"/>
                </a:cubicBezTo>
                <a:lnTo>
                  <a:pt x="3597275" y="341313"/>
                </a:lnTo>
                <a:lnTo>
                  <a:pt x="0" y="341313"/>
                </a:lnTo>
                <a:lnTo>
                  <a:pt x="0" y="341313"/>
                </a:lnTo>
                <a:lnTo>
                  <a:pt x="0" y="170657"/>
                </a:lnTo>
                <a:cubicBezTo>
                  <a:pt x="0" y="76406"/>
                  <a:pt x="76406" y="0"/>
                  <a:pt x="17065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"/>
          <p:cNvPicPr/>
          <p:nvPr/>
        </p:nvPicPr>
        <p:blipFill>
          <a:blip r:embed="rId1"/>
          <a:stretch/>
        </p:blipFill>
        <p:spPr>
          <a:xfrm>
            <a:off x="7734240" y="216000"/>
            <a:ext cx="838440" cy="893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3"/>
          <a:stretch/>
        </p:blipFill>
        <p:spPr>
          <a:xfrm>
            <a:off x="-30240" y="651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"/>
          <p:cNvPicPr/>
          <p:nvPr/>
        </p:nvPicPr>
        <p:blipFill>
          <a:blip r:embed="rId4"/>
          <a:stretch/>
        </p:blipFill>
        <p:spPr>
          <a:xfrm>
            <a:off x="3636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"/>
          <p:cNvPicPr/>
          <p:nvPr/>
        </p:nvPicPr>
        <p:blipFill>
          <a:blip r:embed="rId5"/>
          <a:stretch/>
        </p:blipFill>
        <p:spPr>
          <a:xfrm>
            <a:off x="8645400" y="-17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1" name="Audio 2" descr=""/>
          <p:cNvPicPr/>
          <p:nvPr/>
        </p:nvPicPr>
        <p:blipFill>
          <a:blip r:embed="rId6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"/>
          <p:cNvPicPr/>
          <p:nvPr/>
        </p:nvPicPr>
        <p:blipFill>
          <a:blip r:embed="rId7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0" y="-324000"/>
            <a:ext cx="18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88880" y="295200"/>
            <a:ext cx="72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b"/>
                </a:solidFill>
                <a:latin typeface="#9Slide05 Garris"/>
              </a:rPr>
              <a:t>II. LUYỆN TẬP VÀ VẬN DỤ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39640" y="1149480"/>
            <a:ext cx="815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. Chọn các cụm từ: làm móng, xây tường, làm mái, chuẩn bị, thiết kế, xây dựng phần thô, lắp hệ thống điện nước, hoàn thiện để hoàn thành các bước xây dựng nhà ở cho phù hợp với sơ đồ dưới đâ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9"/>
          <p:cNvSpPr/>
          <p:nvPr/>
        </p:nvSpPr>
        <p:spPr>
          <a:xfrm>
            <a:off x="198360" y="152280"/>
            <a:ext cx="8717040" cy="6477120"/>
          </a:xfrm>
          <a:prstGeom prst="rect">
            <a:avLst/>
          </a:prstGeom>
          <a:noFill/>
          <a:ln w="936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: Top Corners Rounded 15"/>
          <p:cNvSpPr/>
          <p:nvPr/>
        </p:nvSpPr>
        <p:spPr>
          <a:xfrm rot="5400000">
            <a:off x="-1627920" y="3258360"/>
            <a:ext cx="3597120" cy="341280"/>
          </a:xfrm>
          <a:custGeom>
            <a:avLst/>
            <a:gdLst/>
            <a:ahLst/>
            <a:rect l="l" t="t" r="r" b="b"/>
            <a:pathLst>
              <a:path w="3597275" h="341313">
                <a:moveTo>
                  <a:pt x="170657" y="0"/>
                </a:moveTo>
                <a:lnTo>
                  <a:pt x="3426619" y="0"/>
                </a:lnTo>
                <a:cubicBezTo>
                  <a:pt x="3520870" y="0"/>
                  <a:pt x="3597276" y="76406"/>
                  <a:pt x="3597276" y="170657"/>
                </a:cubicBezTo>
                <a:cubicBezTo>
                  <a:pt x="3597276" y="227542"/>
                  <a:pt x="3597275" y="284428"/>
                  <a:pt x="3597275" y="341313"/>
                </a:cubicBezTo>
                <a:lnTo>
                  <a:pt x="3597275" y="341313"/>
                </a:lnTo>
                <a:lnTo>
                  <a:pt x="0" y="341313"/>
                </a:lnTo>
                <a:lnTo>
                  <a:pt x="0" y="341313"/>
                </a:lnTo>
                <a:lnTo>
                  <a:pt x="0" y="170657"/>
                </a:lnTo>
                <a:cubicBezTo>
                  <a:pt x="0" y="76406"/>
                  <a:pt x="76406" y="0"/>
                  <a:pt x="17065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1" descr=""/>
          <p:cNvPicPr/>
          <p:nvPr/>
        </p:nvPicPr>
        <p:blipFill>
          <a:blip r:embed="rId1"/>
          <a:stretch/>
        </p:blipFill>
        <p:spPr>
          <a:xfrm>
            <a:off x="7734240" y="216000"/>
            <a:ext cx="838440" cy="893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/>
          <p:cNvPicPr/>
          <p:nvPr/>
        </p:nvPicPr>
        <p:blipFill>
          <a:blip r:embed="rId3"/>
          <a:stretch/>
        </p:blipFill>
        <p:spPr>
          <a:xfrm>
            <a:off x="-30240" y="651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"/>
          <p:cNvPicPr/>
          <p:nvPr/>
        </p:nvPicPr>
        <p:blipFill>
          <a:blip r:embed="rId4"/>
          <a:stretch/>
        </p:blipFill>
        <p:spPr>
          <a:xfrm>
            <a:off x="3636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6" descr=""/>
          <p:cNvPicPr/>
          <p:nvPr/>
        </p:nvPicPr>
        <p:blipFill>
          <a:blip r:embed="rId5"/>
          <a:stretch/>
        </p:blipFill>
        <p:spPr>
          <a:xfrm>
            <a:off x="8645400" y="-17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3" name="Audio 2" descr=""/>
          <p:cNvPicPr/>
          <p:nvPr/>
        </p:nvPicPr>
        <p:blipFill>
          <a:blip r:embed="rId6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" descr="Screen Clipping"/>
          <p:cNvPicPr/>
          <p:nvPr/>
        </p:nvPicPr>
        <p:blipFill>
          <a:blip r:embed="rId7"/>
          <a:stretch/>
        </p:blipFill>
        <p:spPr>
          <a:xfrm>
            <a:off x="593640" y="4878360"/>
            <a:ext cx="7392960" cy="14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0" y="-324000"/>
            <a:ext cx="18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41360" y="160200"/>
            <a:ext cx="815328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3. Mô tả dưới đây thuộc đặc điểm nào của ngôi nhà thông min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Khi nằm vào giường ngủ, sau 15 phút đèn sẽ giảm ánh sá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b. Màn hình chuông cửa cho biết có khách đang đứng đợi ở cửa ra và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. Có hệ thống pin năng lượng mặt trời đặt trên mái nhà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d. Xem lại hoạt động đã diễn ra trong ngôi nhà nhiều ngày trước đ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e. Hệ thống âm thanh tự động giảm độ lớn khi đêm về khuy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g. Cửa nhà để xe mở khi nhận diện đúng biển số xe đã cài đặt trong hệ thố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h. Cửa được mở hoặc đóng khi nhận được yêu cầu bằng giọng nói của chủ nhà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i. Tự động phun nước tại nơi cần chữa chá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198360" y="152280"/>
            <a:ext cx="8717040" cy="6477120"/>
          </a:xfrm>
          <a:prstGeom prst="rect">
            <a:avLst/>
          </a:prstGeom>
          <a:noFill/>
          <a:ln w="936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: Top Corners Rounded 15"/>
          <p:cNvSpPr/>
          <p:nvPr/>
        </p:nvSpPr>
        <p:spPr>
          <a:xfrm rot="5400000">
            <a:off x="-1627920" y="3258360"/>
            <a:ext cx="3597120" cy="341280"/>
          </a:xfrm>
          <a:custGeom>
            <a:avLst/>
            <a:gdLst/>
            <a:ahLst/>
            <a:rect l="l" t="t" r="r" b="b"/>
            <a:pathLst>
              <a:path w="3597275" h="341313">
                <a:moveTo>
                  <a:pt x="170657" y="0"/>
                </a:moveTo>
                <a:lnTo>
                  <a:pt x="3426619" y="0"/>
                </a:lnTo>
                <a:cubicBezTo>
                  <a:pt x="3520870" y="0"/>
                  <a:pt x="3597276" y="76406"/>
                  <a:pt x="3597276" y="170657"/>
                </a:cubicBezTo>
                <a:cubicBezTo>
                  <a:pt x="3597276" y="227542"/>
                  <a:pt x="3597275" y="284428"/>
                  <a:pt x="3597275" y="341313"/>
                </a:cubicBezTo>
                <a:lnTo>
                  <a:pt x="3597275" y="341313"/>
                </a:lnTo>
                <a:lnTo>
                  <a:pt x="0" y="341313"/>
                </a:lnTo>
                <a:lnTo>
                  <a:pt x="0" y="341313"/>
                </a:lnTo>
                <a:lnTo>
                  <a:pt x="0" y="170657"/>
                </a:lnTo>
                <a:cubicBezTo>
                  <a:pt x="0" y="76406"/>
                  <a:pt x="76406" y="0"/>
                  <a:pt x="17065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1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-30240" y="651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"/>
          <p:cNvPicPr/>
          <p:nvPr/>
        </p:nvPicPr>
        <p:blipFill>
          <a:blip r:embed="rId3"/>
          <a:stretch/>
        </p:blipFill>
        <p:spPr>
          <a:xfrm>
            <a:off x="3636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"/>
          <p:cNvPicPr/>
          <p:nvPr/>
        </p:nvPicPr>
        <p:blipFill>
          <a:blip r:embed="rId4"/>
          <a:stretch/>
        </p:blipFill>
        <p:spPr>
          <a:xfrm>
            <a:off x="8645400" y="-17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3" name="Audio 2" descr=""/>
          <p:cNvPicPr/>
          <p:nvPr/>
        </p:nvPicPr>
        <p:blipFill>
          <a:blip r:embed="rId5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-324000"/>
            <a:ext cx="18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88880" y="295200"/>
            <a:ext cx="72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b"/>
                </a:solidFill>
                <a:latin typeface="#9Slide05 Garris"/>
              </a:rPr>
              <a:t>II. LUYỆN TẬP VÀ VẬN DỤ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539640" y="114948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. Nêu ví dụ cụ thể của các biện pháp giúp tiết kiệm năng lượng trong gia đình em theo gợi ý trong mẫu Bảng 4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9"/>
          <p:cNvSpPr/>
          <p:nvPr/>
        </p:nvSpPr>
        <p:spPr>
          <a:xfrm>
            <a:off x="198360" y="152280"/>
            <a:ext cx="8717040" cy="6477120"/>
          </a:xfrm>
          <a:prstGeom prst="rect">
            <a:avLst/>
          </a:prstGeom>
          <a:noFill/>
          <a:ln w="936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: Top Corners Rounded 15"/>
          <p:cNvSpPr/>
          <p:nvPr/>
        </p:nvSpPr>
        <p:spPr>
          <a:xfrm rot="5400000">
            <a:off x="-1627920" y="3258360"/>
            <a:ext cx="3597120" cy="341280"/>
          </a:xfrm>
          <a:custGeom>
            <a:avLst/>
            <a:gdLst/>
            <a:ahLst/>
            <a:rect l="l" t="t" r="r" b="b"/>
            <a:pathLst>
              <a:path w="3597275" h="341313">
                <a:moveTo>
                  <a:pt x="170657" y="0"/>
                </a:moveTo>
                <a:lnTo>
                  <a:pt x="3426619" y="0"/>
                </a:lnTo>
                <a:cubicBezTo>
                  <a:pt x="3520870" y="0"/>
                  <a:pt x="3597276" y="76406"/>
                  <a:pt x="3597276" y="170657"/>
                </a:cubicBezTo>
                <a:cubicBezTo>
                  <a:pt x="3597276" y="227542"/>
                  <a:pt x="3597275" y="284428"/>
                  <a:pt x="3597275" y="341313"/>
                </a:cubicBezTo>
                <a:lnTo>
                  <a:pt x="3597275" y="341313"/>
                </a:lnTo>
                <a:lnTo>
                  <a:pt x="0" y="341313"/>
                </a:lnTo>
                <a:lnTo>
                  <a:pt x="0" y="341313"/>
                </a:lnTo>
                <a:lnTo>
                  <a:pt x="0" y="170657"/>
                </a:lnTo>
                <a:cubicBezTo>
                  <a:pt x="0" y="76406"/>
                  <a:pt x="76406" y="0"/>
                  <a:pt x="17065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1" descr=""/>
          <p:cNvPicPr/>
          <p:nvPr/>
        </p:nvPicPr>
        <p:blipFill>
          <a:blip r:embed="rId1"/>
          <a:stretch/>
        </p:blipFill>
        <p:spPr>
          <a:xfrm>
            <a:off x="7734240" y="216000"/>
            <a:ext cx="838440" cy="893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"/>
          <p:cNvPicPr/>
          <p:nvPr/>
        </p:nvPicPr>
        <p:blipFill>
          <a:blip r:embed="rId3"/>
          <a:stretch/>
        </p:blipFill>
        <p:spPr>
          <a:xfrm>
            <a:off x="-30240" y="651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3636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645400" y="-17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Audio 2" descr=""/>
          <p:cNvPicPr/>
          <p:nvPr/>
        </p:nvPicPr>
        <p:blipFill>
          <a:blip r:embed="rId6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" descr="Screen Clipping"/>
          <p:cNvPicPr/>
          <p:nvPr/>
        </p:nvPicPr>
        <p:blipFill>
          <a:blip r:embed="rId7"/>
          <a:stretch/>
        </p:blipFill>
        <p:spPr>
          <a:xfrm>
            <a:off x="826920" y="2666880"/>
            <a:ext cx="78663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EJ14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2286000" y="22096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ÀI HỌC KẾT THÚ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676520" y="3824280"/>
            <a:ext cx="6095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6">
            <a:hlinkClick r:id="rId2"/>
          </p:cNvPr>
          <p:cNvSpPr/>
          <p:nvPr/>
        </p:nvSpPr>
        <p:spPr>
          <a:xfrm>
            <a:off x="8763120" y="655308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0" y="0"/>
            <a:ext cx="228600" cy="7010280"/>
          </a:xfrm>
          <a:custGeom>
            <a:avLst/>
            <a:gdLst/>
            <a:ahLst/>
            <a:rect l="l" t="t" r="r" b="b"/>
            <a:pathLst>
              <a:path w="304800" h="3202316">
                <a:moveTo>
                  <a:pt x="0" y="0"/>
                </a:moveTo>
                <a:lnTo>
                  <a:pt x="304800" y="145143"/>
                </a:lnTo>
                <a:cubicBezTo>
                  <a:pt x="299962" y="1164201"/>
                  <a:pt x="295123" y="2183258"/>
                  <a:pt x="290285" y="3202316"/>
                </a:cubicBezTo>
                <a:lnTo>
                  <a:pt x="0" y="2946400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"/>
          <p:cNvSpPr/>
          <p:nvPr/>
        </p:nvSpPr>
        <p:spPr>
          <a:xfrm flipH="1">
            <a:off x="8935920" y="-14400"/>
            <a:ext cx="208080" cy="7010640"/>
          </a:xfrm>
          <a:custGeom>
            <a:avLst/>
            <a:gdLst/>
            <a:ahLst/>
            <a:rect l="l" t="t" r="r" b="b"/>
            <a:pathLst>
              <a:path w="304800" h="3202316">
                <a:moveTo>
                  <a:pt x="0" y="0"/>
                </a:moveTo>
                <a:lnTo>
                  <a:pt x="304800" y="145143"/>
                </a:lnTo>
                <a:cubicBezTo>
                  <a:pt x="299962" y="1164201"/>
                  <a:pt x="295123" y="2183258"/>
                  <a:pt x="290285" y="3202316"/>
                </a:cubicBezTo>
                <a:lnTo>
                  <a:pt x="0" y="2946400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3"/>
          <a:stretch/>
        </p:blipFill>
        <p:spPr>
          <a:xfrm>
            <a:off x="3848040" y="3060720"/>
            <a:ext cx="1752840" cy="1527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4"/>
          <a:stretch/>
        </p:blipFill>
        <p:spPr>
          <a:xfrm>
            <a:off x="1571760" y="3505320"/>
            <a:ext cx="165708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8:52:35Z</dcterms:created>
  <dc:creator>office</dc:creator>
  <dc:description/>
  <dc:language>en-US</dc:language>
  <cp:lastModifiedBy>ASUS</cp:lastModifiedBy>
  <dcterms:modified xsi:type="dcterms:W3CDTF">2021-07-30T02:05:01Z</dcterms:modified>
  <cp:revision>237</cp:revision>
  <dc:subject/>
  <dc:title>Slide 1</dc:title>
</cp:coreProperties>
</file>