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EC7-F7A6-411E-BE1D-698B114F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FCE-8E7E-4DD6-8850-5034E3EF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1F41-D485-428F-BF96-5B3E187C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C08-9063-4B4F-BE47-9202E787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8FC-26F7-4490-9972-15CC3735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6962-C5C6-409D-8C0D-F53EC893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681-C600-499B-BC9C-49D75BF6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D6FE-1834-40CB-8E2C-507C9F2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174D-ED41-4EE0-B79C-0073F27B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F3DD-96FF-4E6F-A8E2-32E0D10D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96F0-7217-444A-95C0-C944524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CF9-01D0-4A0F-9383-791BF30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8B4-69DD-4990-9D78-BA4AA9B2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6384-47C4-44F1-B176-21580AE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8757-BCF7-4D34-86B0-59691C84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382E-0FEB-4E3B-A727-A62B6C99B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2070-7261-4A3B-86B9-3FDCD612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2C24-1CDD-4655-8CEC-12C927A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57B-747B-4025-8757-E54A567F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2B7-A26A-46F1-AB0D-444D824C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AA8-73E6-4B37-84C9-9E9BB31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570-5E8E-44B0-AE2F-250A1BDF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A03-DCC6-47A4-924A-85ED491E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A5D-0029-4CF6-8CEA-2BB9BA80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A6D6-3027-4FF8-BB5B-154B48E378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0EF-B7B6-4C4D-8AEB-5B57069C54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3720" y="9144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Bài 12  Tiết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1828800"/>
            <a:ext cx="403848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Bếp lửa</a:t>
            </a:r>
            <a:endParaRPr b="1" lang="en-US" sz="66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>
                  <a:alpha val="7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191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Bằng V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76520" y="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hói hun nhèm mắt ch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ghĩ lại đến giờ sống mũi còn 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184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Hồi tưởng những kỉ niệm tuổi thơ sống bên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733920"/>
            <a:ext cx="8381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ủa ấu thơ: + mùi khói( 4 tuổi đã quen mùi khói), khói hun nhèm mắt cháu, sống  mũi còn c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 Cuộc sống nghèo khó với cái đói mòn mỏi của năm Ất dậ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516564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ọng thơ trĩu xuống nao lò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181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hó quê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3341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198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Hồi tưởng những kỉ niệm tuổi thơ sống bên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7339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ời niên thiếu: 8 năm dòng cháu cùng bà nhóm l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4343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ếng Tu hú kê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4343400"/>
            <a:ext cx="67816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Âm thanh quen thuộc, hình ảnh sáng tạo của Bằng Việt xa quê nhớ nhà, nhớ quê nhớ tiếng tu 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hắn gửi nhớ thương đến an ủi b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 hú ơi! chẳng đến ở cùng b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êu chi hoài trên những cánh đồng 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3341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212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217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Hồi tưởng những kỉ niệm tuổi thơ sống bên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6576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ời niên thiếu: 8 năm dòng cháu cùng bà nhóm l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03848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ếng Tu hú kê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441972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à bảo cháu nghe, bà dạy cháu làm, bà chăm cháu họ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51055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ình cảm bà cháu quấn quýt, tấm lòng đôn hậu, tình thương bao la của bà đối với chá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495680"/>
            <a:ext cx="0" cy="6098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4572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Động từ nối: Bà, ch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257800"/>
            <a:ext cx="304560" cy="76320"/>
          </a:xfrm>
          <a:prstGeom prst="rightArrow">
            <a:avLst>
              <a:gd name="adj1" fmla="val 50000"/>
              <a:gd name="adj2" fmla="val 99764"/>
            </a:avLst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234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Hồi tưởng những kỉ niệm tuổi thơ sống bên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662360"/>
            <a:ext cx="3505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à vẫn vững lòng trước mọi tai hoạ thử th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191120"/>
            <a:ext cx="4267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ăm giặc đốt làng cháy tàn cháy rụi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ẫn vững lòng bà dặn cháu đinh ninh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ứ bảo nhà vẫn được bình yên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4343400"/>
            <a:ext cx="0" cy="1143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4267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ời dẫn trực tiế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48006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9436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7754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ình ảnh người bà kháng chiến, giàu đức hi sinh, là chỗ dựa tinh thần vững chắc cho chá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37339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Trong những năm gian kh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252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51055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hen l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733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à lận đ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3733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 nắng mư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37479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ói quen dậy sớ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3962520"/>
            <a:ext cx="3049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3962520"/>
            <a:ext cx="30492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267080"/>
            <a:ext cx="4419720" cy="20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óm bếp lửa ấp iu nồng đượ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hóm niềm yêu thương khoai sắn ngọt bù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hóm nồi sôi gạo mới sẻ chung v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hóm dậy cả những tâm tình tuổi nh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Ôi kì lạ và thiêng liêng - bếp l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4343400"/>
            <a:ext cx="0" cy="19051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33526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Cảm nghĩ về bà và cuộc đời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4120" y="4419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ử dụng điệp ng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5105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hóm l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791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ữ l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5791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yền l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601992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601992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277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276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Tự cảm của người ch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3733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ờ cháu đã đi xa. Không gian, thời gia xa cách, cuộc sống đổi thay, vẫn luôn nhắc nhở tình thương nhớ về bà luôn mãnh liệ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288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304920" y="14479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19051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3623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I. TỔNG KẾ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28600" y="2860560"/>
            <a:ext cx="8686800" cy="3826080"/>
            <a:chOff x="228600" y="2860560"/>
            <a:chExt cx="8686800" cy="3826080"/>
          </a:xfrm>
        </p:grpSpPr>
        <p:sp>
          <p:nvSpPr>
            <p:cNvPr id="296" name=""/>
            <p:cNvSpPr/>
            <p:nvPr/>
          </p:nvSpPr>
          <p:spPr>
            <a:xfrm>
              <a:off x="5791320" y="2860560"/>
              <a:ext cx="1447560" cy="1008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y nghĩ về bà và cuộc đời b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43600" y="4946760"/>
              <a:ext cx="1467000" cy="173988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Bà không chỉ là người nhóm lửa, giữ lửa mà còn là người truyền lử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3165480"/>
              <a:ext cx="1447920" cy="703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ình ảnh bếp l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920" y="4952880"/>
              <a:ext cx="1218960" cy="100872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Hình ảnh quen thuộ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28800" y="3105000"/>
              <a:ext cx="1676520" cy="764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hơi nguồn cảm hứn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4952880"/>
              <a:ext cx="1371600" cy="131364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Times New Roman"/>
                </a:rPr>
                <a:t>Nhớ về bà và tình cảm của 2 bà chá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57600" y="3165480"/>
              <a:ext cx="1905120" cy="7038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ồi tưởng kỷ niệm bên b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3920" y="4946760"/>
              <a:ext cx="1523880" cy="1739880"/>
            </a:xfrm>
            <a:prstGeom prst="rect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KN năm 4 tuổi,những năm đói khổ rồi những năm k/c của đất nước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91520" y="2860560"/>
              <a:ext cx="1523880" cy="10087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áu ở xa không nguôi nhớ b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8080" y="3886200"/>
              <a:ext cx="0" cy="10666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6880" y="3886200"/>
              <a:ext cx="0" cy="10666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3886200"/>
              <a:ext cx="0" cy="10666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29400" y="3886200"/>
              <a:ext cx="0" cy="10666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29600" y="3886200"/>
              <a:ext cx="0" cy="10666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3880" y="5410080"/>
              <a:ext cx="53352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29000" y="5410080"/>
              <a:ext cx="30492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7800" y="5410080"/>
              <a:ext cx="6858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91520" y="5410080"/>
              <a:ext cx="4572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520" y="3505320"/>
              <a:ext cx="1522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3505320"/>
              <a:ext cx="1522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62720" y="3429000"/>
              <a:ext cx="228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3429000"/>
              <a:ext cx="152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848720" y="4952880"/>
              <a:ext cx="106668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Hình ản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Bà gắ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liền vớ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bếp l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5105520" y="2286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ạch cảm xúc của bài th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2362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Ghi nhớ: sgk T1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67ff"/>
                </a:solidFill>
                <a:latin typeface="Arial"/>
              </a:rPr>
              <a:t>Hướng dẫn về nh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ọc thuộc lòng bài th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ắm được  cấu trúc của bài theo dòng hồi tưởng của tác giả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ạn tiếp phần còn lại và xem trước bài thơ “ Khúc hát ru những em bé lớn trên lưng mẹ”để chuẩn bị cho tiết s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14400" y="0"/>
            <a:ext cx="6400800" cy="1295280"/>
            <a:chOff x="914400" y="0"/>
            <a:chExt cx="6400800" cy="1295280"/>
          </a:xfrm>
        </p:grpSpPr>
        <p:sp>
          <p:nvSpPr>
            <p:cNvPr id="100" name=""/>
            <p:cNvSpPr txBox="1"/>
            <p:nvPr/>
          </p:nvSpPr>
          <p:spPr>
            <a:xfrm>
              <a:off x="251460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4300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1440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ác giả - tác ph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67080" y="1295280"/>
            <a:ext cx="4876920" cy="518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971800" y="182880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914400" y="0"/>
            <a:ext cx="6400800" cy="1295280"/>
            <a:chOff x="914400" y="0"/>
            <a:chExt cx="6400800" cy="1295280"/>
          </a:xfrm>
        </p:grpSpPr>
        <p:sp>
          <p:nvSpPr>
            <p:cNvPr id="109" name=""/>
            <p:cNvSpPr txBox="1"/>
            <p:nvPr/>
          </p:nvSpPr>
          <p:spPr>
            <a:xfrm>
              <a:off x="251460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4300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5288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905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ác giả - tác ph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438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Đọc, tìm hiểu từ khó, thể thơ, bố cụ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ách đọ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Đọc với giọng tình cảm chậm rãi và lắng đọ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iải thích từ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inh ninh: nhắc lại cho người khác nắm chắc, nhớ chắ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ến khu: vùng căn cứ của lực lượng cách mạng hay lực lượng kháng chiế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Ấp iu: là sự kết hợp của 2 từ ấp ủ và nâng 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914400" y="0"/>
            <a:ext cx="6400800" cy="1295280"/>
            <a:chOff x="914400" y="0"/>
            <a:chExt cx="6400800" cy="1295280"/>
          </a:xfrm>
        </p:grpSpPr>
        <p:sp>
          <p:nvSpPr>
            <p:cNvPr id="118" name=""/>
            <p:cNvSpPr txBox="1"/>
            <p:nvPr/>
          </p:nvSpPr>
          <p:spPr>
            <a:xfrm>
              <a:off x="251460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300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5288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905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ác giả - tác ph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438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Đọc, tìm hiểu từ khó, thể thơ, bố cụ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844800"/>
            <a:ext cx="8382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Khổ 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ếp lửa khơi nguồn kỉ niệ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 Năm khổ tiế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ồi tưởng những kỉ niệm tuổi thơ sống bên bà v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hình ảnh bà gắn liền với hình ảnh bếp l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 Khổ 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y nghĩ về bà và cuộc đời b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Khổ cuố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ỗi niềm thương nhớ bà của người cháu xa qu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Thể thơ: Tám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ố cụ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129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43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5029200" cy="4038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28600" y="3581280"/>
            <a:ext cx="44956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ột bếp lửa chờn vờn sương sớ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ột bếp lửa ấp iu nồng đượ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962520" y="2819520"/>
            <a:ext cx="5181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140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895480"/>
            <a:ext cx="4496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ột bếp lửa chờn vờn sương sớ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ột bếp lửa ấp iu nồng đượ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áu thương bà biết mấy nắng mư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20040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4114800"/>
            <a:ext cx="2057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048120"/>
            <a:ext cx="0" cy="1143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5053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ừ láy, hình ảnh ẩn d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5720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ình cảm bà cháu gắn liền với bếp lửa, bền bỉ và sâu nặ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47242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33cc3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156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049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9051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819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2767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Hồi tưởng những kỉ niệm tuổi thơ sống bên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733920"/>
            <a:ext cx="8381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ủa ấu thơ: + mùi khói( 4 tuổi đã quen mùi khói), khói hun nhèm mắt cháu, sống  mũi còn c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 Cuộc sống nghèo khó với cái đói mòn mỏi của năm Ất dậ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1295280" y="0"/>
            <a:ext cx="6400800" cy="1295280"/>
            <a:chOff x="1295280" y="0"/>
            <a:chExt cx="6400800" cy="1295280"/>
          </a:xfrm>
        </p:grpSpPr>
        <p:sp>
          <p:nvSpPr>
            <p:cNvPr id="167" name=""/>
            <p:cNvSpPr txBox="1"/>
            <p:nvPr/>
          </p:nvSpPr>
          <p:spPr>
            <a:xfrm>
              <a:off x="2895480" y="0"/>
              <a:ext cx="35812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12600">
                    <a:solidFill>
                      <a:srgbClr val="0000ff"/>
                    </a:solidFill>
                    <a:miter/>
                  </a:ln>
                  <a:solidFill>
                    <a:srgbClr val="ff0000">
                      <a:alpha val="74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Bếp lửa</a:t>
              </a:r>
              <a:endParaRPr b="1" lang="en-US" sz="6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>
                    <a:alpha val="7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3880" y="152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iết 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33760" y="609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Times New Roman"/>
                </a:rPr>
                <a:t>Bằng Việ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1143000"/>
              <a:ext cx="6400800" cy="1522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04920" y="1219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 ĐỌC – TÌM HIỂU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. ĐỌC – TÌM HIỂU CHI T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Bếp lửa gợi nỗi nhớ thương b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ảm nghĩ về bà và bếp l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0481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 Hồi tưởng những kỉ niệm tuổi thơ sống bên b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572000" cy="4648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752480" y="6019920"/>
            <a:ext cx="536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ăm ấy là năm đói mòn đói mỏ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ố đi đánh xe, khô rạc ngựa gầ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4:10:32Z</dcterms:created>
  <dc:creator>Administrator</dc:creator>
  <dc:description/>
  <dc:language>en-US</dc:language>
  <cp:lastModifiedBy>User</cp:lastModifiedBy>
  <dcterms:modified xsi:type="dcterms:W3CDTF">2010-10-12T15:03:38Z</dcterms:modified>
  <cp:revision>4</cp:revision>
  <dc:subject/>
  <dc:title>Slide 1</dc:title>
</cp:coreProperties>
</file>