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BEA-0ABE-46BA-82AE-9D05AF48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516-4BAB-4E40-B46C-93675146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E82-31F8-49E5-8859-A63C1D2E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1E5-C715-4ABB-A4FC-C5C63B6D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31F-5285-43CF-A065-7C843DD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4DC-5141-4A09-8BD5-D72F869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6CD-CC7F-4772-A33E-1B566DE9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7F3-2A20-4B5E-BB72-6F1D2715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AB3-30D1-4F35-B698-B9A2281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51B-000B-40C0-8FF6-99F942D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18C-C048-4B70-A4BE-9E40E07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4C7-6457-451D-AC22-922A6CF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1700-7B42-4A54-83E4-B692E5846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ài 4: TRUNG QUỐC PHONG KIẾN (tiết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440" y="-233280"/>
            <a:ext cx="9524880" cy="73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g động ở Đôn Hoàng  thời nhà Đường là bộ sưu tập các hoạ phẩm về Phật giáo lớn nhất thế giới đã được công nhận là di sản của UN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Xã hội Trung Quốc thời Tần-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Nhà Tần: Năm 221 trước Công nguyên Tần Thuỷ Hoàng thống nhất Trung Q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73280" y="2690640"/>
            <a:ext cx="205128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ối nội:     - Chia đất nước thành quận huyện, cử quan cai trị, bắt nhân dân lao dịch nặng n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- Thống nhất tiền tệ, đo lườ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ối ngoại: - Tìm cách bành trướng ra bên ngoà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sách cai trị khắc nghiệ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ân Tần bắt dân chúng đi xây Vạn Lý Trường Thà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ượng đất nung trong lăng mộ Tần Thuỷ Ho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Nhà H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Xoá bỏ pháp luật hà khắc của nhà Tần, khuyến khích sản xuấ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Xã hội ổn đị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00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ướng nhà Hán Hoắc Khứ Bệnh đánh đuổi quân Hung Nô thời Hán Vũ Đế (156-87 T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ảnh buôn bán tấp nập tại 1 thị trấn trên con đường tơ lụa nối liền Trung Hoa với La Mã ở phương Tây thời H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48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Sự thịnh vượng của Trung Quốc dưới thời Đườ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ối nội: Mở khoa thi tuyển chọn nhân tài, thi hành chính sách quân điền =&gt; Bộ máy nhà nước hoàn thiện, vững mạ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ối ngoại: Xâm chiếm các nước láng giềng =&gt; Trung Quốc trở thành quốc gia hùng mạ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ình minh hoạ : Một dàn nhạc thời Đường chứng tỏ văn hoá, nghệ thuật thời kỳ này rất phát tri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38:45Z</dcterms:created>
  <dc:creator>tiengbuoc</dc:creator>
  <dc:description/>
  <dc:language>en-US</dc:language>
  <cp:lastModifiedBy>tiengbuoc</cp:lastModifiedBy>
  <dcterms:modified xsi:type="dcterms:W3CDTF">2009-06-10T00:59:34Z</dcterms:modified>
  <cp:revision>8</cp:revision>
  <dc:subject/>
  <dc:title>Bài 4: TRUNG QUỐC PHONG KIẾN</dc:title>
</cp:coreProperties>
</file>