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16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89E-BA83-47E8-B8E8-23A35AC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F0C-8380-431E-9B47-A366C3CC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8FE-6C0D-4BE4-A6BD-08155EE4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FC7-D497-45B6-8659-F7402815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96D-8309-470A-A7F2-2D1CBDE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2BF-D95B-41A2-807C-51F5FE5C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682-9CC3-4BB4-9AED-9935D10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7C1-AF4B-4B6F-B005-736BB44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688-56E6-40B2-BD40-E1600F2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8A1-4B92-4FCC-BCD5-6A905B0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BBA-B6AE-4D4E-8DD1-E3CEE6C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B7D-B7A0-4D0D-BE2C-A364202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7DE-9754-4925-AA52-24224DFD1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0" y="5054760"/>
            <a:ext cx="12015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5: PHÒNG TRÁNH CONG VẸO CỘT SỐNG (TIẾT 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4528" t="5203" r="2475" b="29404"/>
          <a:stretch/>
        </p:blipFill>
        <p:spPr>
          <a:xfrm>
            <a:off x="549360" y="274680"/>
            <a:ext cx="1130148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7274" t="81681" r="0" b="5424"/>
          <a:stretch/>
        </p:blipFill>
        <p:spPr>
          <a:xfrm>
            <a:off x="476280" y="219240"/>
            <a:ext cx="115063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5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Ủ TỊCH HĐTQ TỔ CHỨC LỚP CHƠI TRÒ CHƠI “TẬP LÀM NGƯỜI MẪ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s://lh6.googleusercontent.com/5QghE1t6Y25f9tfXQWo0tdQ0PCWZQWvYcqlYceKAxFsiuNm09YY0XHZmsv9cydmtfZE8UWvTRSpap8ZuTGTKBjX3KZL3-6aEtNIH8gegAqp6mhv8r5XaXs7441KKyUub0YtTEc8"/>
          <p:cNvPicPr/>
          <p:nvPr/>
        </p:nvPicPr>
        <p:blipFill>
          <a:blip r:embed="rId1"/>
          <a:srcRect l="16254" t="41480" r="2851" b="11435"/>
          <a:stretch/>
        </p:blipFill>
        <p:spPr>
          <a:xfrm>
            <a:off x="274680" y="1554120"/>
            <a:ext cx="11539440" cy="5008680"/>
          </a:xfrm>
          <a:prstGeom prst="rect">
            <a:avLst/>
          </a:prstGeom>
          <a:ln w="0">
            <a:noFill/>
          </a:ln>
        </p:spPr>
      </p:pic>
      <p:pic>
        <p:nvPicPr>
          <p:cNvPr id="50" name="Vui Đến Trường - Nhóm Hoa Tay - Nhạc Thiếu Nhi Sôi Động Remix.mp4" descr=""/>
          <p:cNvPicPr/>
          <p:nvPr/>
        </p:nvPicPr>
        <p:blipFill>
          <a:blip r:embed="rId2"/>
          <a:stretch/>
        </p:blipFill>
        <p:spPr>
          <a:xfrm>
            <a:off x="8994600" y="1755720"/>
            <a:ext cx="25210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4" descr=""/>
          <p:cNvPicPr/>
          <p:nvPr/>
        </p:nvPicPr>
        <p:blipFill>
          <a:blip r:embed="rId4"/>
          <a:stretch/>
        </p:blipFill>
        <p:spPr>
          <a:xfrm>
            <a:off x="4529160" y="1914480"/>
            <a:ext cx="4518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5691" t="16868" r="66774" b="55253"/>
          <a:stretch/>
        </p:blipFill>
        <p:spPr>
          <a:xfrm>
            <a:off x="274680" y="438120"/>
            <a:ext cx="2797200" cy="585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33716" t="15815" r="47595" b="55957"/>
          <a:stretch/>
        </p:blipFill>
        <p:spPr>
          <a:xfrm>
            <a:off x="2816280" y="328680"/>
            <a:ext cx="2743200" cy="596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14541" t="5657" r="34998" b="84713"/>
          <a:stretch/>
        </p:blipFill>
        <p:spPr>
          <a:xfrm>
            <a:off x="5084640" y="712800"/>
            <a:ext cx="6912000" cy="32367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2"/>
          <p:cNvSpPr/>
          <p:nvPr/>
        </p:nvSpPr>
        <p:spPr>
          <a:xfrm>
            <a:off x="1407960" y="177336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50760" y="1773360"/>
            <a:ext cx="10242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3913200" y="1828800"/>
            <a:ext cx="185760" cy="1407960"/>
          </a:xfrm>
          <a:custGeom>
            <a:avLst/>
            <a:gdLst/>
            <a:ahLst/>
            <a:rect l="l" t="t" r="r" b="b"/>
            <a:pathLst>
              <a:path w="185661" h="1408176">
                <a:moveTo>
                  <a:pt x="128016" y="0"/>
                </a:moveTo>
                <a:cubicBezTo>
                  <a:pt x="114052" y="181526"/>
                  <a:pt x="127028" y="186338"/>
                  <a:pt x="91440" y="310896"/>
                </a:cubicBezTo>
                <a:cubicBezTo>
                  <a:pt x="86144" y="329432"/>
                  <a:pt x="81129" y="348211"/>
                  <a:pt x="73152" y="365760"/>
                </a:cubicBezTo>
                <a:cubicBezTo>
                  <a:pt x="50590" y="415397"/>
                  <a:pt x="0" y="512064"/>
                  <a:pt x="0" y="512064"/>
                </a:cubicBezTo>
                <a:cubicBezTo>
                  <a:pt x="6096" y="579120"/>
                  <a:pt x="8766" y="646576"/>
                  <a:pt x="18288" y="713232"/>
                </a:cubicBezTo>
                <a:cubicBezTo>
                  <a:pt x="21014" y="732315"/>
                  <a:pt x="31280" y="749560"/>
                  <a:pt x="36576" y="768096"/>
                </a:cubicBezTo>
                <a:cubicBezTo>
                  <a:pt x="43481" y="792263"/>
                  <a:pt x="47959" y="817081"/>
                  <a:pt x="54864" y="841248"/>
                </a:cubicBezTo>
                <a:cubicBezTo>
                  <a:pt x="60160" y="859784"/>
                  <a:pt x="67856" y="877576"/>
                  <a:pt x="73152" y="896112"/>
                </a:cubicBezTo>
                <a:cubicBezTo>
                  <a:pt x="80057" y="920279"/>
                  <a:pt x="85988" y="944728"/>
                  <a:pt x="91440" y="969264"/>
                </a:cubicBezTo>
                <a:cubicBezTo>
                  <a:pt x="98183" y="999607"/>
                  <a:pt x="98814" y="1031599"/>
                  <a:pt x="109728" y="1060704"/>
                </a:cubicBezTo>
                <a:cubicBezTo>
                  <a:pt x="117445" y="1081284"/>
                  <a:pt x="136474" y="1095909"/>
                  <a:pt x="146304" y="1115568"/>
                </a:cubicBezTo>
                <a:cubicBezTo>
                  <a:pt x="154925" y="1132810"/>
                  <a:pt x="159296" y="1151896"/>
                  <a:pt x="164592" y="1170432"/>
                </a:cubicBezTo>
                <a:cubicBezTo>
                  <a:pt x="196186" y="1281013"/>
                  <a:pt x="182880" y="1252932"/>
                  <a:pt x="182880" y="1408176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9"/>
          <p:cNvSpPr/>
          <p:nvPr/>
        </p:nvSpPr>
        <p:spPr>
          <a:xfrm>
            <a:off x="3548160" y="1828800"/>
            <a:ext cx="1243080" cy="0"/>
          </a:xfrm>
          <a:prstGeom prst="line">
            <a:avLst/>
          </a:prstGeom>
          <a:ln w="7632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0176" t="15991" r="12284" b="37367"/>
          <a:stretch/>
        </p:blipFill>
        <p:spPr>
          <a:xfrm>
            <a:off x="785880" y="328680"/>
            <a:ext cx="10863360" cy="611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63526" t="25438" r="26816" b="49434"/>
          <a:stretch/>
        </p:blipFill>
        <p:spPr>
          <a:xfrm>
            <a:off x="8412120" y="1554120"/>
            <a:ext cx="1354320" cy="329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75537" t="23902" r="13374" b="49154"/>
          <a:stretch/>
        </p:blipFill>
        <p:spPr>
          <a:xfrm>
            <a:off x="10094760" y="1298520"/>
            <a:ext cx="1554480" cy="352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27440" y="512640"/>
            <a:ext cx="3071880" cy="38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084400" y="2048040"/>
            <a:ext cx="6164280" cy="41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23218" t="69792" r="59801" b="9979"/>
          <a:stretch/>
        </p:blipFill>
        <p:spPr>
          <a:xfrm>
            <a:off x="2084400" y="1736640"/>
            <a:ext cx="6164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212760" y="1920960"/>
            <a:ext cx="8218440" cy="46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41971" t="69971" r="40185" b="15304"/>
          <a:stretch/>
        </p:blipFill>
        <p:spPr>
          <a:xfrm>
            <a:off x="622440" y="2084400"/>
            <a:ext cx="76262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4:51:22Z</dcterms:modified>
  <cp:revision>27</cp:revision>
  <dc:subject/>
  <dc:title>PowerPoint Presentation</dc:title>
</cp:coreProperties>
</file>