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31B-4499-4609-82CD-8D1D5DD7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DA2-6E0A-4677-A2CF-ADD3629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1AF-344A-4CC1-AF90-5F011800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BF4-FF8C-4075-94B8-67044B3F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680-BF40-45FD-81E5-3FD9801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8B8-DA08-4B10-B861-797A5DC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39E-D160-43DB-AFFD-B83FE89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627-7751-4E56-A2E3-FCE97CC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68D-15D8-4DFC-A70E-A1EB8AD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BB8-8C59-4908-AE88-8739F6B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EF9-C37C-4AA1-AFDF-574AA95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593-3DEF-448D-AA7C-0DD8BA1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08B-EFAE-42D0-ACFC-6A6F1F5F6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809720" y="5054760"/>
            <a:ext cx="983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4: CƠ QUAN VẬN ĐỘNG (TIẾT 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0" t="6641" r="4225" b="42175"/>
          <a:stretch/>
        </p:blipFill>
        <p:spPr>
          <a:xfrm>
            <a:off x="193680" y="73080"/>
            <a:ext cx="6719760" cy="6199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5834160" y="622440"/>
            <a:ext cx="6218280" cy="445140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000" spc="-1" strike="noStrike">
                <a:solidFill>
                  <a:srgbClr val="ff0000"/>
                </a:solidFill>
                <a:latin typeface="Times New Roman"/>
              </a:rPr>
              <a:t>Chúng ta có thể biểu lộ các cảm xúc trên khuôn mặt nhờ bộ phận cơ  mặt cùng xương đầu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328680" y="98748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ệ cơ cùng với  bộ xương giúp cơ thể vận động được và tạo ra cho mỗi người một hình dáng riêng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07880" y="348156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ãy nhớ chăm sóc, bảo vệ cơ quan vận động và phòng tránh gãy xương các bạn nh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1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Ủ TỊCH HĐTQ TỔ CHỨC LỚP HÁT BÀ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VUI ĐẾN TRƯỜ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Vui Đến Trường - Nhóm Hoa Tay - Nhạc Thiếu Nhi Sôi Động Remix.mp4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10936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4"/>
          <a:stretch/>
        </p:blipFill>
        <p:spPr>
          <a:xfrm>
            <a:off x="4578480" y="1914480"/>
            <a:ext cx="4419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2"/>
          <a:srcRect l="6948" t="30998" r="3737" b="6880"/>
          <a:stretch/>
        </p:blipFill>
        <p:spPr>
          <a:xfrm>
            <a:off x="676440" y="182520"/>
            <a:ext cx="11191680" cy="643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3"/>
          <a:srcRect l="8654" t="39058" r="64645" b="33766"/>
          <a:stretch/>
        </p:blipFill>
        <p:spPr>
          <a:xfrm>
            <a:off x="1042920" y="1170000"/>
            <a:ext cx="3346560" cy="281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4"/>
          <a:srcRect l="36530" t="39058" r="4955" b="35354"/>
          <a:stretch/>
        </p:blipFill>
        <p:spPr>
          <a:xfrm>
            <a:off x="4389480" y="1079640"/>
            <a:ext cx="7332480" cy="265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5"/>
          <a:srcRect l="8654" t="66238" r="63475" b="6880"/>
          <a:stretch/>
        </p:blipFill>
        <p:spPr>
          <a:xfrm>
            <a:off x="1042920" y="3986280"/>
            <a:ext cx="349272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6"/>
          <a:srcRect l="36530" t="66238" r="3737" b="6880"/>
          <a:stretch/>
        </p:blipFill>
        <p:spPr>
          <a:xfrm>
            <a:off x="4535640" y="3986280"/>
            <a:ext cx="7484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5925" t="12646" r="56149" b="68221"/>
          <a:stretch/>
        </p:blipFill>
        <p:spPr>
          <a:xfrm>
            <a:off x="384120" y="95400"/>
            <a:ext cx="11668320" cy="6397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4973760" y="5430960"/>
            <a:ext cx="30733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u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13021" r="25952" b="68006"/>
          <a:stretch/>
        </p:blipFill>
        <p:spPr>
          <a:xfrm>
            <a:off x="109440" y="55440"/>
            <a:ext cx="11960280" cy="6674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4095720" y="5467320"/>
            <a:ext cx="47372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ồ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6122" t="34866" r="52993" b="45522"/>
          <a:stretch/>
        </p:blipFill>
        <p:spPr>
          <a:xfrm>
            <a:off x="476280" y="122400"/>
            <a:ext cx="11466360" cy="6534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243320" y="5578560"/>
            <a:ext cx="38768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ạc nhiê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35184" r="25947" b="45822"/>
          <a:stretch/>
        </p:blipFill>
        <p:spPr>
          <a:xfrm>
            <a:off x="291960" y="101520"/>
            <a:ext cx="11576160" cy="6410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4846680" y="5394240"/>
            <a:ext cx="387648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ức giậ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3:32:02Z</dcterms:modified>
  <cp:revision>22</cp:revision>
  <dc:subject/>
  <dc:title>PowerPoint Presentation</dc:title>
</cp:coreProperties>
</file>