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wmf" ContentType="image/x-wmf"/>
  <Override PartName="/ppt/media/image8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9.wmf" ContentType="image/x-wmf"/>
  <Override PartName="/ppt/media/image20.jpeg" ContentType="image/jpeg"/>
  <Override PartName="/ppt/media/image21.gif" ContentType="image/gif"/>
  <Override PartName="/ppt/media/image19.gif" ContentType="image/gif"/>
  <Override PartName="/ppt/media/image17.png" ContentType="image/png"/>
  <Override PartName="/ppt/media/image16.jpeg" ContentType="image/jpeg"/>
  <Override PartName="/ppt/media/image6.jpeg" ContentType="image/jpeg"/>
  <Override PartName="/ppt/media/applause.wav" ContentType="audio/x-wav"/>
  <Override PartName="/ppt/media/image18.png" ContentType="image/png"/>
  <Override PartName="/ppt/media/image15.gif" ContentType="image/gif"/>
  <Override PartName="/ppt/media/image14.jpeg" ContentType="image/jpeg"/>
  <Override PartName="/ppt/media/image13.jpeg" ContentType="image/jpeg"/>
  <Override PartName="/ppt/media/image2.jpeg" ContentType="image/jpeg"/>
  <Override PartName="/ppt/media/image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2722-5DEC-41EC-A7E6-ACF7D1666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344C-6ACF-430E-91CE-CD560465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2B29-9E3E-47F4-BCE9-0E0865C5F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20FD-A90F-4EC6-8FCC-3DA8D4901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E915-4336-4E29-9881-BFF9767E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715C-B40B-4B97-A61E-04394D0D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CA79-15BB-4AAB-BCF0-A599EDB7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A6EB-7A8B-42DD-BFFF-A4A9FAC1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E7B2-CD03-44C5-A456-435E6EA3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BDE2-51AB-4761-BC10-28F02605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CFD8-ABB8-4917-AAA8-6931A163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5902-BFC3-4419-B838-3F39D325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E0D0-B3B3-4798-9078-AA59511B1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hyperlink" Target="http://images.google.com.vn/imgres?imgurl=http://www.vietco.com/images/stores/preview/radiopen01.jpg&amp;imgrefurl=http://www.vietco.com/store_product_list.php%3Fcategory_id%3D74&amp;h=80&amp;w=80&amp;sz=3&amp;hl=vi&amp;start=4&amp;tbnid=Mf1kZT6M6G6CeM:&amp;tbnh=74&amp;tbnw=74&amp;prev=/images%3Fq%3Dc%25C3%25A2y%2Bvi%25E1%25BA%25BFt%26gbv%3D2%26svnum%3D10%26hl%3Dvi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21.gi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hyperlink" Target="http://images.google.com.vn/imgres?imgurl=http://www.vietco.com/images/stores/preview/radiopen01.jpg&amp;imgrefurl=http://www.vietco.com/store_product_list.php%3Fcategory_id%3D74&amp;h=80&amp;w=80&amp;sz=3&amp;hl=vi&amp;start=4&amp;tbnid=Mf1kZT6M6G6CeM:&amp;tbnh=74&amp;tbnw=74&amp;prev=/images%3Fq%3Dc%25C3%25A2y%2Bvi%25E1%25BA%25BFt%26gbv%3D2%26svnum%3D10%26hl%3Dvi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1.wmf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hyperlink" Target="http://images.google.com.vn/imgres?imgurl=http://www.vietco.com/images/stores/preview/radiopen01.jpg&amp;imgrefurl=http://www.vietco.com/store_product_list.php%3Fcategory_id%3D74&amp;h=80&amp;w=80&amp;sz=3&amp;hl=vi&amp;start=4&amp;tbnid=Mf1kZT6M6G6CeM:&amp;tbnh=74&amp;tbnw=74&amp;prev=/images%3Fq%3Dc%25C3%25A2y%2Bvi%25E1%25BA%25BFt%26gbv%3D2%26svnum%3D10%26hl%3Dvi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hyperlink" Target="http://images.google.com.vn/imgres?imgurl=http://www.vietco.com/images/stores/preview/radiopen01.jpg&amp;imgrefurl=http://www.vietco.com/store_product_list.php%3Fcategory_id%3D74&amp;h=80&amp;w=80&amp;sz=3&amp;hl=vi&amp;start=4&amp;tbnid=Mf1kZT6M6G6CeM:&amp;tbnh=74&amp;tbnw=74&amp;prev=/images%3Fq%3Dc%25C3%25A2y%2Bvi%25E1%25BA%25BFt%26gbv%3D2%26svnum%3D10%26hl%3Dvi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image" Target="../media/image15.gif"/><Relationship Id="rId8" Type="http://schemas.openxmlformats.org/officeDocument/2006/relationships/image" Target="../media/image15.gi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0"/>
            <a:ext cx="7562880" cy="6858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37587" dir="7421404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00200" y="4419720"/>
            <a:ext cx="6019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solidFill>
                  <a:srgbClr val="0000ff"/>
                </a:solidFill>
                <a:latin typeface="Times New Roman"/>
              </a:rPr>
              <a:t>Lịch sử lớp 7</a:t>
            </a:r>
            <a:endParaRPr b="1" lang="en-US" sz="9600" spc="1" strike="noStrike">
              <a:ln w="0">
                <a:noFill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335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7000"/>
                            </p:stCondLst>
                            <p:childTnLst>
                              <p:par>
                                <p:cTn id="2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70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500"/>
                            </p:stCondLst>
                            <p:childTnLst>
                              <p:par>
                                <p:cTn id="38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23343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99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57200" y="0"/>
            <a:ext cx="1752480" cy="10666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ẾT 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rot="16182000">
            <a:off x="-382680" y="1676880"/>
            <a:ext cx="5562720" cy="47991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371600" y="1295280"/>
            <a:ext cx="1447920" cy="5335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286000" y="228600"/>
            <a:ext cx="6553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Bài 22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Ự SUY YẾU CỦA NHÀ NƯỚC PHONG KiẾ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TẬP QUYỀN (THẾ KỈ XVI-XVIII)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19051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I/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Tình hình chính trị- xã hội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21337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/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Triều đình nhà Lê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182880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/>
          <p:nvPr/>
        </p:nvCxnSpPr>
        <p:spPr>
          <a:xfrm>
            <a:off x="6552720" y="26665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6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9000">
            <a:off x="228240" y="1142640"/>
            <a:ext cx="992160" cy="8380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33520" y="2362320"/>
            <a:ext cx="350496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2/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Phong trào khởi nghĩa nông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dân ở đầu thế kỉ XVI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: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a.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Nguyên nhân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3124080"/>
            <a:ext cx="3429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b.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Các cuộc khởi nghĩa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95680" y="2286000"/>
            <a:ext cx="4343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 có nhận xét gì về qui mô  phong  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trào đấu tranh của nông dân ở đầu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thế kỉ XVI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95680" y="3276720"/>
            <a:ext cx="4114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Quy mô rộng lớn nhưng nổ ra lẻ  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 tẻ, chưa đồng loạ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3475080"/>
            <a:ext cx="35053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c.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Kết quả, ý nghĩa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2286000"/>
            <a:ext cx="4343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Nêu kết quả và ý nghĩa của phong trào nông dân thế kỉ XVI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3733920"/>
            <a:ext cx="38098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- Các cuộc khởi nghĩa trước sau      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đều bị dập tắt, nhưng đã góp phần            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làm cho triều đình nhà Lê mau  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chóng sụp đổ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2362320"/>
            <a:ext cx="4800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Vì sao các cuộc khởi nghĩa đều bị thất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bại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trips(downLeft)" transition="out">
                                      <p:cBhvr additive="repl">
                                        <p:cTn id="49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trips(downLeft)" transition="out">
                                      <p:cBhvr additive="repl">
                                        <p:cTn id="4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17518 -3.33333E-006 L -0.42518 -3.33333E-006 E">
                                      <p:cBhvr>
                                        <p:cTn id="520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trips(downLeft)" transition="out">
                                      <p:cBhvr additive="repl">
                                        <p:cTn id="52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99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80880" y="2286000"/>
            <a:ext cx="8229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Đầu thế kỉ XVI, triều đình nhà Lê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át triển hoàn chỉnh, hùng mạnh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ước vào thời kì thịnh trị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ắt đầu suy thoái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ếp tục ổn địn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43000" y="4876920"/>
            <a:ext cx="762120" cy="609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352680" y="990720"/>
            <a:ext cx="17528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ÀI TẬP:( 1)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Hãy chọn câu trả lời đúng nhấ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228600"/>
            <a:ext cx="8305560" cy="220968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5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99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Vì sao nhà nước thời Lê đầu thế kỉ XV rất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thinh trị mà sang thế kỉ XVI lại bị suy thoái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nhanh chóng như vậy ?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ua quan ăn chơi xa xỉ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B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ội bộ “chia bè kéo cánh”, tranh giành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quyền lực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an lại địa phương “cậy quyền thế ức 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hiếp dân”, “dùng của như bùn đất”, “coi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dân như cỏ rác”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D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ác câu trên đều đú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5562720"/>
            <a:ext cx="762120" cy="609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2000"/>
                            </p:stCondLst>
                            <p:childTnLst>
                              <p:par>
                                <p:cTn id="5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3657600" y="0"/>
            <a:ext cx="38577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Hướng dẫn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8" name="j0318069" descr=""/>
          <p:cNvPicPr/>
          <p:nvPr/>
        </p:nvPicPr>
        <p:blipFill>
          <a:blip r:embed="rId2"/>
          <a:stretch/>
        </p:blipFill>
        <p:spPr>
          <a:xfrm>
            <a:off x="304920" y="0"/>
            <a:ext cx="1736640" cy="1295280"/>
          </a:xfrm>
          <a:prstGeom prst="rect">
            <a:avLst/>
          </a:prstGeom>
          <a:ln w="0">
            <a:noFill/>
          </a:ln>
        </p:spPr>
      </p:pic>
      <p:pic>
        <p:nvPicPr>
          <p:cNvPr id="189" name="BD21332_" descr=""/>
          <p:cNvPicPr/>
          <p:nvPr/>
        </p:nvPicPr>
        <p:blipFill>
          <a:blip r:embed="rId3"/>
          <a:stretch/>
        </p:blipFill>
        <p:spPr>
          <a:xfrm>
            <a:off x="0" y="1295280"/>
            <a:ext cx="3352680" cy="15264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81240" y="9144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ọc kĩ bài cũ.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Đọc trước phaàn 2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ff"/>
                </a:solidFill>
                <a:latin typeface="VNI-Times"/>
              </a:rPr>
              <a:t>soaïn baøi tieáp the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0" y="3581280"/>
            <a:ext cx="446040" cy="4572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228600" y="2362320"/>
            <a:ext cx="453960" cy="4651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228600" y="3048120"/>
            <a:ext cx="379440" cy="388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remove" presetClass="path" presetID="6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.25 0 E">
                                      <p:cBhvr>
                                        <p:cTn id="588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-114480"/>
            <a:ext cx="9144000" cy="70869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 rot="21122400">
            <a:off x="2972880" y="2981160"/>
            <a:ext cx="3033720" cy="189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Times New Roman"/>
              </a:rPr>
              <a:t>Xin chào tạm biệt. 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Times New Roman"/>
              </a:rPr>
              <a:t>Hẹn gặp lại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6"/>
          <a:stretch/>
        </p:blipFill>
        <p:spPr>
          <a:xfrm>
            <a:off x="44197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4" dur="162088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85800" y="1219320"/>
            <a:ext cx="792468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ff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Xin gởi đến quý thầy cô và các em học sinh</a:t>
            </a:r>
            <a:endParaRPr b="1" lang="en-US" sz="1800" spc="1" strike="noStrike">
              <a:ln w="12600">
                <a:solidFill>
                  <a:srgbClr val="cc0000"/>
                </a:solidFill>
                <a:miter/>
              </a:ln>
              <a:solidFill>
                <a:srgbClr val="ff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3505320"/>
            <a:ext cx="784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Lời chào thân ái và trân trọng nh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21092400">
            <a:off x="0" y="579132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3399"/>
                </a:solidFill>
                <a:latin typeface="Times New Roman"/>
              </a:rPr>
              <a:t>GV: Lê Thọ Đạt- Trường</a:t>
            </a:r>
            <a:r>
              <a:rPr b="1" i="1" lang="en-US" sz="25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3399"/>
                </a:solidFill>
                <a:latin typeface="Times New Roman"/>
              </a:rPr>
              <a:t>THCS</a:t>
            </a:r>
            <a:r>
              <a:rPr b="1" i="1" lang="en-US" sz="2500" spc="-1" strike="noStrike">
                <a:solidFill>
                  <a:srgbClr val="ff0066"/>
                </a:solidFill>
                <a:latin typeface="Times New Roman"/>
              </a:rPr>
              <a:t> Thị Trấn – Tây Ninh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9250"/>
                            </p:stCondLst>
                            <p:childTnLst>
                              <p:par>
                                <p:cTn id="64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6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250"/>
                            </p:stCondLst>
                            <p:childTnLst>
                              <p:par>
                                <p:cTn id="6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9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hương v</a:t>
            </a:r>
            <a:br>
              <a:rPr sz="2800"/>
            </a:b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ĐẠI VIỆT Ở CÁC THẾ KỈ XVI-XVI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990720"/>
            <a:ext cx="8610480" cy="0"/>
          </a:xfrm>
          <a:prstGeom prst="line">
            <a:avLst/>
          </a:prstGeom>
          <a:ln w="127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685800"/>
            <a:ext cx="0" cy="2743200"/>
          </a:xfrm>
          <a:prstGeom prst="line">
            <a:avLst/>
          </a:prstGeom>
          <a:ln w="1015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133720" y="2819520"/>
            <a:ext cx="4952880" cy="35049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2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2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9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57200" y="0"/>
            <a:ext cx="1752480" cy="10666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ẾT 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rot="16182000">
            <a:off x="-762840" y="1677240"/>
            <a:ext cx="5562720" cy="47988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ời Lê Thái Tổ, triều đìn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ong kiến </a:t>
            </a:r>
            <a:r>
              <a:rPr b="1" lang="en-US" sz="1800" spc="-1" strike="noStrike">
                <a:solidFill>
                  <a:srgbClr val="0000ff"/>
                </a:solidFill>
                <a:latin typeface="VNI-Times"/>
              </a:rPr>
              <a:t>vöõng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vàng, kinh t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ổn địn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ời Lê Thánh Tông, chế đ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ong kiến đạt  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 đến cực thịnh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295280" y="1295280"/>
            <a:ext cx="1447920" cy="533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86000" y="228600"/>
            <a:ext cx="6553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Bài 2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Ự SUY YẾU CỦA NHÀ NƯỚC PHONG KIẾ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TẬP QUYỀN ( THẾ KỈ XVI-XVIII)  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9051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I/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Tình hình chính trị- xã hội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25909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1/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Triều đình nhà Lê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182880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/>
          <p:nvPr/>
        </p:nvCxnSpPr>
        <p:spPr>
          <a:xfrm>
            <a:off x="6552720" y="26665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5257800" y="3048120"/>
            <a:ext cx="3505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9000">
            <a:off x="228240" y="1142640"/>
            <a:ext cx="992160" cy="83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038480" y="2209680"/>
            <a:ext cx="426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*Em hãy cho biết tình hình thời Lê Thái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Tổ, Lê Thánh Tông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62520" y="3048120"/>
            <a:ext cx="5181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Thời Lê Thái Tổ, triều đình phong kiến vững  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    vàng, kinh tế ổn định.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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Thời Lê Thánh Tông, chế độ phong kiến đạt  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   đến cực thịnh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81280" y="4419720"/>
            <a:ext cx="4724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Đến đời Lê Uy Mục, Lê Tương Dực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thì tình hình nhà Lê thay đổi thế nào 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5181480"/>
            <a:ext cx="4648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Nhà Lê suy yếu dần</a:t>
            </a: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1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368 0.02222 L -0.54653 0.2 E">
                                      <p:cBhvr>
                                        <p:cTn id="139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680"/>
                            </p:stCondLst>
                            <p:childTnLst>
                              <p:par>
                                <p:cTn id="17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trips(downLeft)" transition="out">
                                      <p:cBhvr additive="repl">
                                        <p:cTn id="17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180"/>
                            </p:stCondLst>
                            <p:childTnLst>
                              <p:par>
                                <p:cTn id="17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trips(downLeft)" transition="out">
                                      <p:cBhvr additive="repl">
                                        <p:cTn id="17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680"/>
                            </p:stCondLst>
                            <p:childTnLst>
                              <p:par>
                                <p:cTn id="179" nodeType="afterEffect" fill="hold" presetClass="exit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arn(inHorizontal)" transition="out">
                                      <p:cBhvr additive="repl">
                                        <p:cTn id="18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9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7200" y="0"/>
            <a:ext cx="1752480" cy="10666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ẾT 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rot="16182000">
            <a:off x="-382680" y="1676880"/>
            <a:ext cx="5562720" cy="47991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371600" y="1295280"/>
            <a:ext cx="1447920" cy="5335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286000" y="228600"/>
            <a:ext cx="6553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Bài 22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Ự SUY YẾU CỦA NHÀ NƯỚC PHONG KiẾ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TẬP QUYỀN (THẾ KỈ XVI-XVIII)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9051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I/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Tình hình chính trị- xã hội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25909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1/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Triều đình nhà Lê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182880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/>
          <p:nvPr/>
        </p:nvCxnSpPr>
        <p:spPr>
          <a:xfrm>
            <a:off x="6552720" y="26665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 rot="9000">
            <a:off x="228240" y="1142640"/>
            <a:ext cx="992160" cy="838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43400" y="1523880"/>
            <a:ext cx="4876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THẢO LUẬN NHÓM: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1905120"/>
            <a:ext cx="4038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*Vì sao nhà nước thời Lê ở thể kỉ XV rất thịnh trị mà sang thế kỉ XVI lại bị suy thoái nhanh chóng như vậy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3657600"/>
            <a:ext cx="43434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hà Lê ngày càng suy yếu đứng trướ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guy cơ sụp đ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396252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2027160"/>
            <a:ext cx="4572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*Em có nhận xét gì về các vua Lê thế kỉ XVI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so với vua Lê Thánh Tông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952880" y="2743200"/>
            <a:ext cx="35816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Kém về năng lực và nhân cách,  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 đẩy chính quyền và đất nước  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 vào thế tự suy v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2865600"/>
            <a:ext cx="35049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-Vua quan chỉ lo hưởng lạc không   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quan tâm đến việc nướ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3398760"/>
            <a:ext cx="35049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-Xây dựng lâu đài, cung điện tốn 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k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19720" y="4038480"/>
            <a:ext cx="35049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-Nội bộ triều đình rối loạn, đánh  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giết lẫn nhau tranh giành quyền  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lự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343400" y="4724280"/>
          <a:ext cx="2100240" cy="1295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43400" y="4724280"/>
                    <a:ext cx="210024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6553080" y="4572000"/>
          <a:ext cx="1447920" cy="1523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553080" y="4572000"/>
                    <a:ext cx="14479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8153280" y="4800600"/>
          <a:ext cx="990720" cy="1219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153280" y="4800600"/>
                    <a:ext cx="99072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" descr=""/>
          <p:cNvPicPr/>
          <p:nvPr/>
        </p:nvPicPr>
        <p:blipFill>
          <a:blip r:embed="rId10"/>
          <a:stretch/>
        </p:blipFill>
        <p:spPr>
          <a:xfrm>
            <a:off x="4724280" y="4114800"/>
            <a:ext cx="4191120" cy="2743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1"/>
          <a:srcRect l="0" t="0" r="0" b="12202"/>
          <a:stretch/>
        </p:blipFill>
        <p:spPr>
          <a:xfrm>
            <a:off x="5105520" y="4495680"/>
            <a:ext cx="3809880" cy="23623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840"/>
                            </p:stCondLst>
                            <p:childTnLst>
                              <p:par>
                                <p:cTn id="20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16667 -0.00879 L -0.41667 -0.00879 E">
                                      <p:cBhvr>
                                        <p:cTn id="222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16667 -0.00879 L -0.41667 -0.00879 E">
                                      <p:cBhvr>
                                        <p:cTn id="245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4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16667 -0.00879 L -0.41667 -0.00879 E">
                                      <p:cBhvr>
                                        <p:cTn id="262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6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trips(downLeft)" transition="out">
                                      <p:cBhvr additive="repl">
                                        <p:cTn id="27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9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 rot="16182000">
            <a:off x="-382680" y="1676880"/>
            <a:ext cx="5562720" cy="47991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371600" y="1295280"/>
            <a:ext cx="1447920" cy="533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57200" y="0"/>
            <a:ext cx="1752480" cy="10666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ẾT 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 rot="9000">
            <a:off x="228240" y="1142640"/>
            <a:ext cx="992160" cy="838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029200" y="137160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THẢO LUẬN NHÓM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228600"/>
            <a:ext cx="6553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Bài 22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Ự SUY YẾU CỦA NHÀ NƯỚC PHONG KiẾ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TẬP QUYỀN (THẾ KỈ XVI-XVIII)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9051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I/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Tình hình chính trị -xã hội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214776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/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Triều đình nhà Lê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2514600"/>
            <a:ext cx="37339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Vua quan chỉ lo hưởng lạc không  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quan tâm đến việc nước.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-Xây dựng lâu đài, cung điện tốn  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kém.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-Nội bộ triều đình rối loạn, đánh 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giết lẫn nhau tranh  giành quyền 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lực.</a:t>
            </a:r>
            <a:br>
              <a:rPr sz="1800"/>
            </a:br>
            <a:br>
              <a:rPr sz="1800"/>
            </a:b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4343400"/>
            <a:ext cx="350532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2/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Phong trào khởi nghĩa nông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dân ở đầu thế kỉ XVI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: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 a.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Nguyên nhân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617220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b.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Các cuộc khởi nghĩa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8320" y="3657600"/>
            <a:ext cx="3657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-Đời sống nhân dân hết sức cơ cực  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-Mâu thuẫn giữa nông dân với địa  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chủ, giữa nhân dân với nhà nước  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phong kiến gay gắ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1981080"/>
            <a:ext cx="4648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*Sự suy yếu của triều đình nhà Lê dẫn đế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hậu qu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ì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19051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*Vì sao đời sống nhân dân cực khổ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2743200"/>
            <a:ext cx="4114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Nguyên nhân dẫn đến phong trà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khởi nghĩa của nông dân ở đầu thế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kỉ XV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trips(downLeft)" transition="out">
                                      <p:cBhvr additive="repl">
                                        <p:cTn id="32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trips(downLeft)" transition="out">
                                      <p:cBhvr additive="repl">
                                        <p:cTn id="33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path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33333E-006 -3.33333E-006 L -0.43333 0.23889 E">
                                      <p:cBhvr>
                                        <p:cTn id="358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9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57200" y="0"/>
            <a:ext cx="1752480" cy="10666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ẾT 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rot="16182000">
            <a:off x="-382680" y="1676880"/>
            <a:ext cx="5562720" cy="47991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371600" y="1295280"/>
            <a:ext cx="1447920" cy="533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286000" y="228600"/>
            <a:ext cx="6553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Bài 22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Ự SUY YẾU CỦA NHÀ NƯỚC PHONG KiẾ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TẬP QUYỀN (THẾ KỈ XVI-XVIII)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18432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I/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Tình hình chính trị- xã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hội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20718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1/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Triều đình nhà Lê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182880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/>
          <p:nvPr/>
        </p:nvCxnSpPr>
        <p:spPr>
          <a:xfrm>
            <a:off x="6552720" y="26665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9000">
            <a:off x="228240" y="1142640"/>
            <a:ext cx="992160" cy="838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33520" y="2301840"/>
            <a:ext cx="350496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2/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Phong trào khởi nghĩa nông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dân ở đầu thế kỉ XVI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: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 a.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Nguyên nhân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4114800"/>
            <a:ext cx="3429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b.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Các cuộc khởi nghĩa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3200400"/>
            <a:ext cx="3657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-Đời sống nhân dân hết sức cơ cực  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-Mâu thuẫn giữa nông dân với địa chủ, giữa nhân dân với nhà nước phong kiến  gay gắ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19720" y="1905120"/>
            <a:ext cx="4419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 hãy kể tên các cuộc khởi nghĩa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nông dân đầu  thế kỉ XVI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99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57200" y="0"/>
            <a:ext cx="1752480" cy="10666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ẾT 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rot="16182000">
            <a:off x="-382680" y="1676880"/>
            <a:ext cx="5562720" cy="47991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371600" y="1295280"/>
            <a:ext cx="1447920" cy="5335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286000" y="228600"/>
            <a:ext cx="6553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Bài 22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Ự SUY YẾU CỦA NHÀ NƯỚC PHONG KiẾ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TẬP QUYỀN (THẾ KỈ XVI-XVIII)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19051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I/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Tình hình chính trị- xã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hội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21337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/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Triều đình nhà Lê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05520" y="182880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/>
          <p:nvPr/>
        </p:nvCxnSpPr>
        <p:spPr>
          <a:xfrm>
            <a:off x="6552720" y="26665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3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9000">
            <a:off x="228240" y="1142640"/>
            <a:ext cx="992160" cy="838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33520" y="2362320"/>
            <a:ext cx="350496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2/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Phong trào khởi nghĩa nông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dân ở đầu thế kỉ XVI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: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 a.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Nguyên nhân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4191120"/>
            <a:ext cx="3429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b.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Các cuộc khởi nghĩa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3276720"/>
            <a:ext cx="3657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-Mâu thuẫn giữa nông dân với địa  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chủ, giữa nhân dân với nhà nước  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phong kiến gay gắ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4724280"/>
            <a:ext cx="3657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-Trần Tuân (1511) ở Hưng Hóa,  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Sơn Tây đến Từ Liêm ( Hà Nội)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-Lê Hy, Trịnh Hưng (1512) ở 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Nghệ An đến Thanh Hóa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-PhùngChương (1515) ởTam Đảo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-Trần Cảo (1516) ở Đông Triều 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                            (Quảng Nin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828800" y="304920"/>
            <a:ext cx="5410080" cy="6248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>
            <a:lum bright="-6000"/>
          </a:blip>
          <a:srcRect l="11965" t="228" r="0" b="0"/>
          <a:stretch/>
        </p:blipFill>
        <p:spPr>
          <a:xfrm>
            <a:off x="1828800" y="304920"/>
            <a:ext cx="5467320" cy="62625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057400" y="1752480"/>
            <a:ext cx="1143000" cy="457200"/>
          </a:xfrm>
          <a:prstGeom prst="wedgeRectCallout">
            <a:avLst>
              <a:gd name="adj1" fmla="val 58194"/>
              <a:gd name="adj2" fmla="val -145138"/>
            </a:avLst>
          </a:prstGeom>
          <a:solidFill>
            <a:srgbClr val="bbe0e3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NI-Times"/>
              </a:rPr>
              <a:t>Traàn Tuaân                          </a:t>
            </a:r>
            <a:r>
              <a:rPr b="1" lang="en-US" sz="1400" spc="-1" strike="noStrike">
                <a:solidFill>
                  <a:srgbClr val="000099"/>
                </a:solidFill>
                <a:latin typeface="VNI-Times"/>
              </a:rPr>
              <a:t>15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1828800"/>
            <a:ext cx="1066680" cy="533520"/>
          </a:xfrm>
          <a:prstGeom prst="wedgeRectCallout">
            <a:avLst>
              <a:gd name="adj1" fmla="val -1041"/>
              <a:gd name="adj2" fmla="val -160712"/>
            </a:avLst>
          </a:prstGeom>
          <a:solidFill>
            <a:srgbClr val="bbe0e3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VNI-Times"/>
              </a:rPr>
              <a:t>Phuøng Chöông 15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62520" y="4114800"/>
            <a:ext cx="1143000" cy="457200"/>
          </a:xfrm>
          <a:prstGeom prst="wedgeRectCallout">
            <a:avLst>
              <a:gd name="adj1" fmla="val -52916"/>
              <a:gd name="adj2" fmla="val -114583"/>
            </a:avLst>
          </a:prstGeom>
          <a:solidFill>
            <a:srgbClr val="bbe0e3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VNI-Times"/>
              </a:rPr>
              <a:t>Leâ Hy,  Trònh Höng 15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19720" y="1905120"/>
            <a:ext cx="990360" cy="609480"/>
          </a:xfrm>
          <a:prstGeom prst="wedgeRectCallout">
            <a:avLst>
              <a:gd name="adj1" fmla="val 76282"/>
              <a:gd name="adj2" fmla="val -132550"/>
            </a:avLst>
          </a:prstGeom>
          <a:solidFill>
            <a:srgbClr val="bbe0e3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VNI-Times"/>
              </a:rPr>
              <a:t>Traàn Caûo                           15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997360" y="1066680"/>
            <a:ext cx="203040" cy="2095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3352680" y="1295280"/>
            <a:ext cx="220680" cy="228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3809880" y="1371600"/>
            <a:ext cx="220680" cy="2286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3581280" y="990720"/>
            <a:ext cx="203400" cy="2095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4952880" y="1219320"/>
            <a:ext cx="220680" cy="2286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3429000" y="2514600"/>
            <a:ext cx="220680" cy="2286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8"/>
          <a:stretch/>
        </p:blipFill>
        <p:spPr>
          <a:xfrm>
            <a:off x="3683160" y="3733920"/>
            <a:ext cx="203040" cy="2095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 rot="14068800">
            <a:off x="4678200" y="1112760"/>
            <a:ext cx="743040" cy="803160"/>
          </a:xfrm>
          <a:custGeom>
            <a:avLst/>
            <a:gdLst/>
            <a:ahLst/>
            <a:rect l="l" t="t" r="r" b="b"/>
            <a:pathLst>
              <a:path w="1248" h="864">
                <a:moveTo>
                  <a:pt x="0" y="576"/>
                </a:moveTo>
                <a:lnTo>
                  <a:pt x="1008" y="96"/>
                </a:lnTo>
                <a:lnTo>
                  <a:pt x="864" y="48"/>
                </a:lnTo>
                <a:lnTo>
                  <a:pt x="1248" y="0"/>
                </a:lnTo>
                <a:lnTo>
                  <a:pt x="1104" y="240"/>
                </a:lnTo>
                <a:lnTo>
                  <a:pt x="1056" y="144"/>
                </a:lnTo>
                <a:lnTo>
                  <a:pt x="0" y="864"/>
                </a:lnTo>
                <a:lnTo>
                  <a:pt x="96" y="672"/>
                </a:lnTo>
                <a:lnTo>
                  <a:pt x="0" y="576"/>
                </a:lnTo>
                <a:close/>
              </a:path>
            </a:pathLst>
          </a:custGeom>
          <a:gradFill rotWithShape="0">
            <a:gsLst>
              <a:gs pos="0">
                <a:srgbClr val="f80404"/>
              </a:gs>
              <a:gs pos="100000">
                <a:srgbClr val="ffff00"/>
              </a:gs>
            </a:gsLst>
            <a:lin ang="18330000"/>
          </a:gra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95800" y="1695600"/>
            <a:ext cx="819000" cy="56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9721200">
            <a:off x="4267080" y="837720"/>
            <a:ext cx="533520" cy="571680"/>
          </a:xfrm>
          <a:custGeom>
            <a:avLst/>
            <a:gdLst/>
            <a:ahLst/>
            <a:rect l="l" t="t" r="r" b="b"/>
            <a:pathLst>
              <a:path w="1248" h="864">
                <a:moveTo>
                  <a:pt x="0" y="576"/>
                </a:moveTo>
                <a:lnTo>
                  <a:pt x="1008" y="96"/>
                </a:lnTo>
                <a:lnTo>
                  <a:pt x="864" y="48"/>
                </a:lnTo>
                <a:lnTo>
                  <a:pt x="1248" y="0"/>
                </a:lnTo>
                <a:lnTo>
                  <a:pt x="1104" y="240"/>
                </a:lnTo>
                <a:lnTo>
                  <a:pt x="1056" y="144"/>
                </a:lnTo>
                <a:lnTo>
                  <a:pt x="0" y="864"/>
                </a:lnTo>
                <a:lnTo>
                  <a:pt x="96" y="672"/>
                </a:lnTo>
                <a:lnTo>
                  <a:pt x="0" y="576"/>
                </a:lnTo>
                <a:close/>
              </a:path>
            </a:pathLst>
          </a:custGeom>
          <a:gradFill rotWithShape="0">
            <a:gsLst>
              <a:gs pos="0">
                <a:srgbClr val="f80404"/>
              </a:gs>
              <a:gs pos="100000">
                <a:srgbClr val="ffff00"/>
              </a:gs>
            </a:gsLst>
            <a:lin ang="1080000"/>
          </a:gra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038480" y="1733400"/>
            <a:ext cx="152640" cy="4194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733560" y="2286000"/>
            <a:ext cx="75960" cy="38088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28800" y="304920"/>
            <a:ext cx="0" cy="624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6599160"/>
            <a:ext cx="82296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Lược đồ phong trào nông dân khởi nghĩa thế kỉ X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22" presetSubtype="1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500"/>
                            </p:stCondLst>
                            <p:childTnLst>
                              <p:par>
                                <p:cTn id="4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4500"/>
                            </p:stCondLst>
                            <p:childTnLst>
                              <p:par>
                                <p:cTn id="45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500"/>
                            </p:stCondLst>
                            <p:childTnLst>
                              <p:par>
                                <p:cTn id="4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6500"/>
                            </p:stCondLst>
                            <p:childTnLst>
                              <p:par>
                                <p:cTn id="46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7500"/>
                            </p:stCondLst>
                            <p:childTnLst>
                              <p:par>
                                <p:cTn id="4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14:51:54Z</dcterms:created>
  <dc:creator>Minh Hoang</dc:creator>
  <dc:description/>
  <dc:language>en-US</dc:language>
  <cp:lastModifiedBy>Root</cp:lastModifiedBy>
  <dcterms:modified xsi:type="dcterms:W3CDTF">2011-02-08T02:53:04Z</dcterms:modified>
  <cp:revision>34</cp:revision>
  <dc:subject/>
  <dc:title>Slide 1</dc:title>
</cp:coreProperties>
</file>