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10.png" ContentType="image/png"/>
  <Override PartName="/ppt/media/applause.wav" ContentType="audio/x-wav"/>
  <Override PartName="/ppt/media/image9.png" ContentType="image/png"/>
  <Override PartName="/ppt/media/image6.gif" ContentType="image/gif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2.gif" ContentType="image/gif"/>
  <Override PartName="/ppt/media/image23.gif" ContentType="image/gif"/>
  <Override PartName="/ppt/media/image20.gif" ContentType="image/gif"/>
  <Override PartName="/ppt/media/image19.png" ContentType="image/png"/>
  <Override PartName="/ppt/media/image15.png" ContentType="image/png"/>
  <Override PartName="/ppt/media/image3.jpeg" ContentType="image/jpeg"/>
  <Override PartName="/ppt/media/image17.gif" ContentType="image/gif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1E1-412F-4583-9638-107C4208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F66-381E-46AD-9B7E-B707C4BD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D92-43A5-4D60-8EDF-99495A3C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3DC-CA6F-46DE-9AE6-56F52EC1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3006-2841-47BC-8F8D-79B3A0FF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C815-815B-4348-A87E-3C89EF9E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206C-924D-486E-8C47-0A43FDE9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3E1-CDF9-40A6-AD5A-7912F507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2C7F-37C7-4846-9EEF-D63437D1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5183-8DE2-4230-AE6C-CDC03C26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3697-DABE-403B-BDCB-6EF118A7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282-CED6-4412-BDF6-1B9BDB62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A0C8-F1A0-4B11-A92E-58232F0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EBED-1230-46AE-BD8A-B59CE848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ED5A-DE4F-488B-9268-BE27C08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949C-8FA2-47E2-81C5-65D8ABA2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B417-D16A-4D9C-BFE7-1D65D87F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A99A-D5FC-47B8-AE59-4E5ACAAE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EA0E-8B71-4C6E-8C2A-092BFBB1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664B-0A47-4891-A057-C1A5E303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BCDF-6934-4699-9D93-622071FF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DEF0-DB9D-45DB-9779-47C6135B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0BE-D223-448F-8A09-C099DD94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9BA9-F61C-47BC-9CA9-C983980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E09D-6CA9-4F18-818A-CB4C11B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FF02-E8D5-4F85-98D3-85373E95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FA48-645C-4092-AB8F-DA186E25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3C64-283E-4A40-89E6-E7C138D3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1D7D-1330-4D1F-9BA6-466C00FE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362C-0D37-4BDD-841A-B078D509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979C1-4950-41CE-BA84-F75FF5DC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ECBFE-2CC9-4EFF-95D9-476712A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A0DFB-CD73-4E07-B177-B693227A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6DA-9F82-4B17-A6E8-210B6BDB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94D67-D7C5-45FB-B5E2-EBCC4FD6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5EAD3-8E89-45BC-B340-8627EDBB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8A1FF-3982-49BF-A737-8A0CA7BA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2ABD7-4299-4883-9228-F1A2F9D8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E69E5-99E1-47A0-8555-787B90B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9F274-5344-497F-B31F-85CB2C0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210BD-419A-4939-B19F-0C7C5BBB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29EE5-B832-4F83-8F5C-D633262A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899DB-0FCD-4BD0-AE87-DCF40974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CDB-7953-4002-B760-E0CFC07A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84B-7184-427E-985D-D2130F1D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C66-864A-4B7D-A7A1-F8B75A3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5D5-A130-4038-9874-BD118B3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3BC-2CF4-42E1-B831-584E165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A1E0-6B87-4E41-838C-55F1FE8DE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69A-9AF5-441C-B0C0-7837D9205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3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0716-C1EE-497A-AB86-15AC56807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1400-AD57-4486-BF70-4B120CBCAD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eer.WAV" TargetMode="External"/><Relationship Id="rId2" Type="http://schemas.microsoft.com/office/2007/relationships/media" Target="file:///tmp/home/.config/libreoffice/4/user/gallery/Cheer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image" Target="../media/image18.png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audio" Target="../media/applause.wav"/><Relationship Id="rId22" Type="http://schemas.openxmlformats.org/officeDocument/2006/relationships/audio" Target="../media/applause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audio" Target="../media/applause.wav"/><Relationship Id="rId28" Type="http://schemas.openxmlformats.org/officeDocument/2006/relationships/audio" Target="../media/applause.wav"/><Relationship Id="rId29" Type="http://schemas.openxmlformats.org/officeDocument/2006/relationships/audio" Target="../media/applause.wav"/><Relationship Id="rId30" Type="http://schemas.openxmlformats.org/officeDocument/2006/relationships/audio" Target="../media/applause.wav"/><Relationship Id="rId31" Type="http://schemas.openxmlformats.org/officeDocument/2006/relationships/audio" Target="../media/applause.wav"/><Relationship Id="rId32" Type="http://schemas.openxmlformats.org/officeDocument/2006/relationships/audio" Target="../media/applause.wav"/><Relationship Id="rId33" Type="http://schemas.openxmlformats.org/officeDocument/2006/relationships/audio" Target="../media/applause.wav"/><Relationship Id="rId34" Type="http://schemas.openxmlformats.org/officeDocument/2006/relationships/audio" Target="../media/applause.wav"/><Relationship Id="rId35" Type="http://schemas.openxmlformats.org/officeDocument/2006/relationships/audio" Target="../media/applause.wav"/><Relationship Id="rId3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676520" y="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TRƯỜNG THCS CỐC PÀI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0880" y="1981080"/>
            <a:ext cx="8610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HÀO MỪNG CÁC THẦY CÔ VÀ CÁC EM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ĐẾN VỚI TIẾT HỌ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47920" y="4114800"/>
            <a:ext cx="6781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99"/>
                  </a:solidFill>
                  <a:miter/>
                </a:ln>
                <a:solidFill>
                  <a:srgbClr val="ff3300"/>
                </a:solidFill>
                <a:latin typeface="VNI-OngDoHL"/>
              </a:rPr>
              <a:t>Moân; Lòch Söû 7</a:t>
            </a:r>
            <a:endParaRPr b="1" lang="en-US" sz="1800" spc="1" strike="noStrike">
              <a:ln w="28440">
                <a:solidFill>
                  <a:srgbClr val="ffcc99"/>
                </a:solidFill>
                <a:miter/>
              </a:ln>
              <a:solidFill>
                <a:srgbClr val="ff3300"/>
              </a:solidFill>
              <a:latin typeface="VNI-OngDoHL"/>
              <a:ea typeface="VNI-OngDoH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505320" y="6400800"/>
            <a:ext cx="38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GV: Nguyễn Thị Hồng Minh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3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12337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8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990720"/>
            <a:ext cx="914400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. Kinh tế: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. Nông nghiệp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ông thương nghiệp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 Thủ công nghiệp: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Garamond"/>
              </a:rPr>
              <a:t>Tiết 41Bài 20: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000"/>
            </a:b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2666880"/>
            <a:ext cx="6400800" cy="3200400"/>
          </a:xfrm>
          <a:prstGeom prst="cloudCallout">
            <a:avLst>
              <a:gd name="adj1" fmla="val -54166"/>
              <a:gd name="adj2" fmla="val 4216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m hãy cho biết ở nước ta thời kì Lê sơ có những ngành thủ công nào tiêu biểu?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1324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Tiết 41- Bài 20: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ƯỚC ĐẠI VIỆT THỜI LÊ SƠ (1428-1527) (tiếp)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-TÌNH HÌNH KINH TẾ - XÃ HỘI</a:t>
            </a:r>
            <a:br>
              <a:rPr sz="4000"/>
            </a:b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. Kinh tế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. Nông nghiệ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. Công thương nghiệ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* Thủ công nghiệ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523880" y="2209680"/>
            <a:ext cx="6171840" cy="4627080"/>
            <a:chOff x="1523880" y="2209680"/>
            <a:chExt cx="6171840" cy="462708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1523880" y="2209680"/>
              <a:ext cx="6171840" cy="41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3484080" y="6316200"/>
              <a:ext cx="344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f-ZA" sz="2800" spc="-1" strike="noStrike">
                  <a:solidFill>
                    <a:srgbClr val="ff0000"/>
                  </a:solidFill>
                  <a:latin typeface="Arial"/>
                </a:rPr>
                <a:t>Nuôi tằm</a:t>
              </a:r>
              <a:endParaRPr b="0" lang="en-US" sz="2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Tiết 41- Bài 20: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ƯỚC ĐẠI VIỆT THỜI LÊ SƠ (1428-1527) (tiếp)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-TÌNH HÌNH KINH TẾ - XÃ HỘI</a:t>
            </a:r>
            <a:br>
              <a:rPr sz="4000"/>
            </a:b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1. Kinh tế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. Nông nghiệ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. Công thương nghiệ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* Thủ công nghiệ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495680" cy="3657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4648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1. Kinh tế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. Nông nghiệ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. Công thương nghiệ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Thủ công nghiệ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 Các ngành nghề thủ công truyền thống ở các làng, xã phát triển: Kéo tơ, dệt lụa, đúc đồ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152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. Kinh tế:</a:t>
            </a:r>
            <a:br>
              <a:rPr sz="1800"/>
            </a:b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. Nông nghiệp: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. Công thương nghiệp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* Thủ công nghiệp:</a:t>
            </a:r>
            <a:br>
              <a:rPr sz="1800"/>
            </a:b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22600" y="-30492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Garamond"/>
              </a:rPr>
              <a:t>Tiết 41- Bài 20: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1800"/>
            </a:b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1371600"/>
            <a:ext cx="9144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1. Kinh tế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. Nông nghiệp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b. Công thương nghiệp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* Thủ công nghiệp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 Nhiều làng thủ công chuyên nghiệp ra đời: Bát Tràng làm gốm; Làng Vân Chàng rèn sắt…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763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6624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1371600"/>
            <a:ext cx="9144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1. Kinh tế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. Nông nghiệp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b. Công thương nghiệp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* Thủ công nghiệp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ác xưởng thủ công do nhà nước quản lý (Cục bách tác)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ghề khai mỏ được đẩy mạnh: Mỏ đồng, vàng…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763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6624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1219320"/>
            <a:ext cx="4114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a. Nông nghiệp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. Công thương nghiệp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* Thủ công nghiệp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200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luận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962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uy mô sản xuất của ngành thủ công nghiệp mở rộng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4256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5257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Trình độ kỹ thuật cao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066680"/>
            <a:ext cx="4114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a. Nông nghiệp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. Công thương nghiệp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* Thủ công nghiệp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* Thương nghiệp: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624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76520" y="2666880"/>
            <a:ext cx="5943600" cy="3200400"/>
          </a:xfrm>
          <a:prstGeom prst="cloudCallout">
            <a:avLst>
              <a:gd name="adj1" fmla="val -44203"/>
              <a:gd name="adj2" fmla="val 50050"/>
            </a:avLst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hời Lê sơ đã có những biện pháp gì để phát triển buôn bán trong và ngoại nước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1324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52280" y="1066680"/>
            <a:ext cx="4114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a. Nông nghiệp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. Công thương nghiệp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* Thủ công nghiệp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* Thương nghiệp: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9040" y="-22860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2280" y="3505320"/>
            <a:ext cx="6477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rong nước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+ Khuyến khích họp chợ, mở chợ mới.</a:t>
            </a:r>
            <a:endParaRPr b="0" lang="en-US" sz="30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+ Đúc tiền đồ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248520" y="1752480"/>
            <a:ext cx="2895120" cy="3142080"/>
            <a:chOff x="6248520" y="1752480"/>
            <a:chExt cx="2895120" cy="314208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6400800" y="1752480"/>
              <a:ext cx="27428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248520" y="4495680"/>
              <a:ext cx="281916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Tiền đồng thời Lê sơ</a:t>
              </a:r>
              <a:endParaRPr b="0" lang="en-US" sz="20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2860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8" dur="1" fill="hold"/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6320" y="380880"/>
            <a:ext cx="4952880" cy="1143000"/>
          </a:xfrm>
          <a:custGeom>
            <a:avLst/>
            <a:gdLst>
              <a:gd name="textAreaLeft" fmla="*/ 1238040 w 4952880"/>
              <a:gd name="textAreaRight" fmla="*/ 3714840 w 4952880"/>
              <a:gd name="textAreaTop" fmla="*/ 1429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iểm tra bài cũ: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93528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52280" y="3429000"/>
            <a:ext cx="42674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? Em hãy cho biết quân đội thời Lê Sơ được tổ chức như thế nào?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680000" y="76320"/>
            <a:ext cx="43876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52280" y="1066680"/>
            <a:ext cx="4114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a. Nông nghiệp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. Công thương nghiệp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* Thủ công nghiệp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* Thương nghiệp: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9040" y="-22860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248520" y="1752480"/>
            <a:ext cx="2895120" cy="3142080"/>
            <a:chOff x="6248520" y="1752480"/>
            <a:chExt cx="2895120" cy="3142080"/>
          </a:xfrm>
        </p:grpSpPr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6400800" y="1752480"/>
              <a:ext cx="27428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248520" y="4495680"/>
              <a:ext cx="281916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Tiền đồng thời Lê sơ</a:t>
              </a:r>
              <a:endParaRPr b="0" lang="en-US" sz="20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=&gt;  Hàng hóa, tiền tệ dễ dàng lưu thô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429000"/>
            <a:ext cx="60199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Ngoài nước: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+ Duy trì việc buôn bán với nước ngoài</a:t>
            </a:r>
            <a:endParaRPr b="0" lang="en-US" sz="30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+ Một số của khẩu kiểm soát chặt chẽ.</a:t>
            </a:r>
            <a:endParaRPr b="0" lang="en-US" sz="30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16765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6624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76520" y="3124080"/>
            <a:ext cx="5943600" cy="3200400"/>
          </a:xfrm>
          <a:prstGeom prst="cloudCallout">
            <a:avLst>
              <a:gd name="adj1" fmla="val -58467"/>
              <a:gd name="adj2" fmla="val 45388"/>
            </a:avLst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Xã hội thời Lê sơ có những giai cấp nào? Quyền lợi của các giai cấp đó?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132372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13716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9028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2362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ó hai giai cấp chính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-Giai cấp địa chủ pho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kiế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vua, quan và địa chủ)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ống xa hoa sung sướng, nắm quyền thống trị đất nước.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13716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9028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2280" y="2362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ó hai giai cấp chính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33526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- Giai cấp nông dâ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đông, làm thuê và nộp tô thuế, đi phu dịch cho nhà nước =&gt; Cuộc sống nghèo khổ nhất.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52280" y="17524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94840" y="-15228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00200" y="3429000"/>
            <a:ext cx="5943600" cy="2209680"/>
          </a:xfrm>
          <a:prstGeom prst="cloudCallout">
            <a:avLst>
              <a:gd name="adj1" fmla="val -58305"/>
              <a:gd name="adj2" fmla="val 62425"/>
            </a:avLst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Xã hội thời Lê sơ có những tầng lớp nào? 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1324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52280" y="13716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764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3124080"/>
            <a:ext cx="85010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ầng lớp thị dân, thương nhân, thợ thủ công ngày càng đông: phải nộp thuế cho nhà nước, không được coi trọng.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ô tì số lượng giảm dần.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1066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764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2666880"/>
            <a:ext cx="6933960" cy="2362320"/>
          </a:xfrm>
          <a:prstGeom prst="cloudCallout">
            <a:avLst>
              <a:gd name="adj1" fmla="val -34912"/>
              <a:gd name="adj2" fmla="val 65120"/>
            </a:avLst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8000"/>
                </a:solidFill>
                <a:latin typeface="Times New Roman"/>
              </a:rPr>
              <a:t>? Em có nhận xét gì về chủ trương hạn chế việc nuôi và mua bán nô tì của nhà nước Lê sơ?  </a:t>
            </a:r>
            <a:endParaRPr b="0" lang="en-US" sz="3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1324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1447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hằm: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 Tăng nhân khẩu lao động.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 Thỏa mãn phần nào yêu cầu của nhân dân, giảm bớt bất cô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=&gt; Nền độc lập và thống nhất của đất nước được củng cố.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0"/>
            <a:ext cx="672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12193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9028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666880"/>
            <a:ext cx="7619760" cy="3200400"/>
          </a:xfrm>
          <a:prstGeom prst="cloudCallout">
            <a:avLst>
              <a:gd name="adj1" fmla="val -44643"/>
              <a:gd name="adj2" fmla="val 52875"/>
            </a:avLst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ff"/>
                </a:solidFill>
                <a:uFillTx/>
                <a:latin typeface="Times New Roman"/>
              </a:rPr>
              <a:t>Thảo luận nhóm</a:t>
            </a:r>
            <a:endParaRPr b="0" lang="en-US" sz="30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8000"/>
                </a:solidFill>
                <a:latin typeface="Times New Roman"/>
              </a:rPr>
              <a:t>? Em hãy điền tên các giai cấp, tầng lớp vào sơ đồ các giai cấp, tầng lớp trong xã hội thời Lê sơ?  </a:t>
            </a:r>
            <a:endParaRPr b="0" lang="en-US" sz="3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1324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838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1.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Kinh tế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Garamond"/>
              </a:rPr>
              <a:t>2. Xã hội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3960" y="0"/>
            <a:ext cx="72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Tiết 41 -Bài 20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ƯỚC ĐẠI VIỆT THỜI LÊ SƠ (1428-1527) (tiếp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I-TÌNH HÌNH KINH TẾ - XÃ HỘI</a:t>
            </a:r>
            <a:br>
              <a:rPr sz="2400"/>
            </a:b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447920" y="3352680"/>
            <a:ext cx="109512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571640" y="3352680"/>
            <a:ext cx="21366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05720" y="3352680"/>
            <a:ext cx="175248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943240" y="3352680"/>
            <a:ext cx="762120" cy="582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52760" y="3352680"/>
            <a:ext cx="304920" cy="579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05720" y="3352680"/>
            <a:ext cx="6858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666880" y="1981080"/>
            <a:ext cx="10670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334120" y="19051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705720" y="1905120"/>
            <a:ext cx="144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6688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21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" y="2286000"/>
            <a:ext cx="89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809880" y="1600200"/>
          <a:ext cx="1523880" cy="6444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ã hội</a:t>
                      </a:r>
                      <a:endParaRPr b="0" lang="en-US" sz="2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-360" y="2444040"/>
            <a:ext cx="30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.VnTime"/>
                <a:ea typeface="Times New Roman"/>
              </a:rPr>
              <a:t>   </a:t>
            </a:r>
            <a:endParaRPr b="0" lang="en-US" sz="13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cc99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752480" y="2666880"/>
          <a:ext cx="6019920" cy="650880"/>
        </p:xfrm>
        <a:graphic>
          <a:graphicData uri="http://schemas.openxmlformats.org/drawingml/2006/table">
            <a:tbl>
              <a:tblPr/>
              <a:tblGrid>
                <a:gridCol w="1602000"/>
                <a:gridCol w="2816280"/>
                <a:gridCol w="160164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Giai cấp</a:t>
                      </a:r>
                      <a:endParaRPr b="0" lang="en-US" sz="2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Tầng lớp</a:t>
                      </a:r>
                      <a:endParaRPr b="0" lang="en-US" sz="2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>
            <a:off x="0" y="348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2280" y="332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85800" y="3962520"/>
          <a:ext cx="8157960" cy="1795320"/>
        </p:xfrm>
        <a:graphic>
          <a:graphicData uri="http://schemas.openxmlformats.org/drawingml/2006/table">
            <a:tbl>
              <a:tblPr/>
              <a:tblGrid>
                <a:gridCol w="1422720"/>
                <a:gridCol w="216000"/>
                <a:gridCol w="1092240"/>
                <a:gridCol w="216000"/>
                <a:gridCol w="1257480"/>
                <a:gridCol w="216000"/>
                <a:gridCol w="1676880"/>
                <a:gridCol w="216000"/>
                <a:gridCol w="920160"/>
                <a:gridCol w="239040"/>
                <a:gridCol w="685440"/>
              </a:tblGrid>
              <a:tr h="210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Địa chủ phong kiến </a:t>
                      </a:r>
                      <a:endParaRPr b="0" lang="en-US" sz="24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( Vua, quan, địa chủ)</a:t>
                      </a:r>
                      <a:endParaRPr b="0" lang="en-US" sz="20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Nông dân</a:t>
                      </a:r>
                      <a:endParaRPr b="0" lang="en-US" sz="24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Thị dân</a:t>
                      </a:r>
                      <a:endParaRPr b="0" lang="en-US" sz="24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Thương nhân</a:t>
                      </a:r>
                      <a:endParaRPr b="0" lang="en-US" sz="24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Thợ thủ công</a:t>
                      </a:r>
                      <a:endParaRPr b="0" lang="en-US" sz="24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Nô tì</a:t>
                      </a:r>
                      <a:endParaRPr b="0" lang="en-US" sz="24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0" y="41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9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429000" y="60948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.VnArabia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.VnArabia"/>
              </a:rPr>
              <a:t>« ch÷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.VnArabia"/>
              <a:ea typeface=".VnArabi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362320" y="228600"/>
            <a:ext cx="114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Arabia"/>
              </a:rPr>
              <a:t>Trß ch¬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Arabia"/>
              <a:ea typeface=".VnArabia"/>
            </a:endParaRPr>
          </a:p>
        </p:txBody>
      </p:sp>
      <p:pic>
        <p:nvPicPr>
          <p:cNvPr id="503" name="Oval 4" descr=""/>
          <p:cNvPicPr/>
          <p:nvPr/>
        </p:nvPicPr>
        <p:blipFill>
          <a:blip r:embed="rId1"/>
          <a:stretch/>
        </p:blipFill>
        <p:spPr>
          <a:xfrm>
            <a:off x="111240" y="1447920"/>
            <a:ext cx="803160" cy="733320"/>
          </a:xfrm>
          <a:prstGeom prst="rect">
            <a:avLst/>
          </a:prstGeom>
          <a:ln w="0">
            <a:noFill/>
          </a:ln>
        </p:spPr>
      </p:pic>
      <p:pic>
        <p:nvPicPr>
          <p:cNvPr id="504" name="Oval 144" descr=""/>
          <p:cNvPicPr/>
          <p:nvPr/>
        </p:nvPicPr>
        <p:blipFill>
          <a:blip r:embed="rId2"/>
          <a:stretch/>
        </p:blipFill>
        <p:spPr>
          <a:xfrm>
            <a:off x="76320" y="2085840"/>
            <a:ext cx="761760" cy="733680"/>
          </a:xfrm>
          <a:prstGeom prst="rect">
            <a:avLst/>
          </a:prstGeom>
          <a:ln w="0">
            <a:noFill/>
          </a:ln>
        </p:spPr>
      </p:pic>
      <p:pic>
        <p:nvPicPr>
          <p:cNvPr id="505" name="Oval 157" descr=""/>
          <p:cNvPicPr/>
          <p:nvPr/>
        </p:nvPicPr>
        <p:blipFill>
          <a:blip r:embed="rId3"/>
          <a:stretch/>
        </p:blipFill>
        <p:spPr>
          <a:xfrm>
            <a:off x="76320" y="2763720"/>
            <a:ext cx="761760" cy="741600"/>
          </a:xfrm>
          <a:prstGeom prst="rect">
            <a:avLst/>
          </a:prstGeom>
          <a:ln w="0">
            <a:noFill/>
          </a:ln>
        </p:spPr>
      </p:pic>
      <p:pic>
        <p:nvPicPr>
          <p:cNvPr id="506" name="Oval 169" descr=""/>
          <p:cNvPicPr/>
          <p:nvPr/>
        </p:nvPicPr>
        <p:blipFill>
          <a:blip r:embed="rId4"/>
          <a:stretch/>
        </p:blipFill>
        <p:spPr>
          <a:xfrm>
            <a:off x="76320" y="3460680"/>
            <a:ext cx="761760" cy="730440"/>
          </a:xfrm>
          <a:prstGeom prst="rect">
            <a:avLst/>
          </a:prstGeom>
          <a:ln w="0">
            <a:noFill/>
          </a:ln>
        </p:spPr>
      </p:pic>
      <p:pic>
        <p:nvPicPr>
          <p:cNvPr id="507" name="Oval 183" descr=""/>
          <p:cNvPicPr/>
          <p:nvPr/>
        </p:nvPicPr>
        <p:blipFill>
          <a:blip r:embed="rId5"/>
          <a:stretch/>
        </p:blipFill>
        <p:spPr>
          <a:xfrm>
            <a:off x="66600" y="4137120"/>
            <a:ext cx="771480" cy="739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117880" y="2846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27360" y="2846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Ọ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336840" y="2846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46680" y="2846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56160" y="2846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65640" y="2846520"/>
            <a:ext cx="704880" cy="609480"/>
          </a:xfrm>
          <a:custGeom>
            <a:avLst/>
            <a:gdLst>
              <a:gd name="textAreaLeft" fmla="*/ 39240 w 704880"/>
              <a:gd name="textAreaRight" fmla="*/ 665640 w 704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979" h="21600">
                <a:moveTo>
                  <a:pt x="0" y="0"/>
                </a:moveTo>
                <a:lnTo>
                  <a:pt x="24979" y="0"/>
                </a:lnTo>
                <a:lnTo>
                  <a:pt x="24979" y="21600"/>
                </a:lnTo>
                <a:lnTo>
                  <a:pt x="0" y="21600"/>
                </a:lnTo>
                <a:close/>
              </a:path>
              <a:path fill="lightenLess" w="24979" h="21600">
                <a:moveTo>
                  <a:pt x="0" y="0"/>
                </a:moveTo>
                <a:lnTo>
                  <a:pt x="24979" y="0"/>
                </a:lnTo>
                <a:lnTo>
                  <a:pt x="23579" y="1400"/>
                </a:lnTo>
                <a:lnTo>
                  <a:pt x="1400" y="1400"/>
                </a:lnTo>
                <a:close/>
              </a:path>
              <a:path fill="darken" w="24979" h="21600">
                <a:moveTo>
                  <a:pt x="24979" y="0"/>
                </a:moveTo>
                <a:lnTo>
                  <a:pt x="24979" y="21600"/>
                </a:lnTo>
                <a:lnTo>
                  <a:pt x="23579" y="20200"/>
                </a:lnTo>
                <a:lnTo>
                  <a:pt x="23579" y="1400"/>
                </a:lnTo>
                <a:close/>
              </a:path>
              <a:path fill="darkenLess" w="24979" h="21600">
                <a:moveTo>
                  <a:pt x="2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9" y="20200"/>
                </a:lnTo>
                <a:close/>
              </a:path>
              <a:path fill="lighten" w="2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Ợ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3816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2712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36600" y="16002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4644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5592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5400" y="16002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524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8472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94200" y="16002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54120" y="2209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Đ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43080" y="2209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Ồ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52560" y="22096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62400" y="2209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Đ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71880" y="2209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81360" y="22096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Ề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191200" y="2209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94200" y="22096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04040" y="2209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Ứ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17640" y="3505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27120" y="3505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À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6600" y="35053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Đ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6440" y="3505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Ê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55920" y="3505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65400" y="35053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Ứ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6"/>
          <a:stretch/>
        </p:blipFill>
        <p:spPr>
          <a:xfrm rot="16200000">
            <a:off x="6819840" y="2856960"/>
            <a:ext cx="3429000" cy="7621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91440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238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Ệ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3526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Ả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Ụ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913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112840" y="285444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22680" y="285444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32160" y="285444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41640" y="285444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51480" y="285444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60960" y="2854440"/>
            <a:ext cx="704880" cy="609480"/>
          </a:xfrm>
          <a:custGeom>
            <a:avLst/>
            <a:gdLst>
              <a:gd name="textAreaLeft" fmla="*/ 39240 w 704880"/>
              <a:gd name="textAreaRight" fmla="*/ 665640 w 704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979" h="21600">
                <a:moveTo>
                  <a:pt x="0" y="0"/>
                </a:moveTo>
                <a:lnTo>
                  <a:pt x="24979" y="0"/>
                </a:lnTo>
                <a:lnTo>
                  <a:pt x="24979" y="21600"/>
                </a:lnTo>
                <a:lnTo>
                  <a:pt x="0" y="21600"/>
                </a:lnTo>
                <a:close/>
              </a:path>
              <a:path fill="lightenLess" w="24979" h="21600">
                <a:moveTo>
                  <a:pt x="0" y="0"/>
                </a:moveTo>
                <a:lnTo>
                  <a:pt x="24979" y="0"/>
                </a:lnTo>
                <a:lnTo>
                  <a:pt x="23579" y="1400"/>
                </a:lnTo>
                <a:lnTo>
                  <a:pt x="1400" y="1400"/>
                </a:lnTo>
                <a:close/>
              </a:path>
              <a:path fill="darken" w="24979" h="21600">
                <a:moveTo>
                  <a:pt x="24979" y="0"/>
                </a:moveTo>
                <a:lnTo>
                  <a:pt x="24979" y="21600"/>
                </a:lnTo>
                <a:lnTo>
                  <a:pt x="23579" y="20200"/>
                </a:lnTo>
                <a:lnTo>
                  <a:pt x="23579" y="1400"/>
                </a:lnTo>
                <a:close/>
              </a:path>
              <a:path fill="darkenLess" w="24979" h="21600">
                <a:moveTo>
                  <a:pt x="2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9" y="20200"/>
                </a:lnTo>
                <a:close/>
              </a:path>
              <a:path fill="lighten" w="2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4400" y="3505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35053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33720" y="3505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3505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352680" y="35053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505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238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337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4320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625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13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3e3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5216400"/>
            <a:ext cx="7924680" cy="825480"/>
          </a:xfrm>
          <a:prstGeom prst="rect">
            <a:avLst/>
          </a:prstGeom>
          <a:solidFill>
            <a:srgbClr val="808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âu 1 .( 9 chữ cái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Đây là nơi tập trung nhiều nghành nghề thủ công nhất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0336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12840" y="16002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2268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3216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41640" y="16002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5148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60960" y="1600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70440" y="16002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391520" y="16002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30480" y="221616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41520" y="221616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739960" y="221616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349800" y="221616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59280" y="221616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68760" y="221616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78600" y="221616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81600" y="221616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91440" y="221616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5257800"/>
            <a:ext cx="7924680" cy="825480"/>
          </a:xfrm>
          <a:prstGeom prst="rect">
            <a:avLst/>
          </a:prstGeom>
          <a:solidFill>
            <a:srgbClr val="808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Câu 2 .( 9 chữ cái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đây là chức quan phụ trách công việc khai hoang lúc bấy giờ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391520" y="2209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5257800"/>
            <a:ext cx="8229600" cy="1008720"/>
          </a:xfrm>
          <a:prstGeom prst="rect">
            <a:avLst/>
          </a:prstGeom>
          <a:solidFill>
            <a:srgbClr val="808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âu 3( 6 chữ cái)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đây là điều lệ của nhà vua ban hành để tránh tình trạng tranh giành khách hàng giữa chợ mới và chợ cũ: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2805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Ợ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5257800"/>
            <a:ext cx="8229600" cy="825480"/>
          </a:xfrm>
          <a:prstGeom prst="rect">
            <a:avLst/>
          </a:prstGeom>
          <a:solidFill>
            <a:srgbClr val="808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Câu 4 ( 6 chữ cái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đây là chức quan phụ trách việc đê điều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412040" y="3505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Ê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5257800"/>
            <a:ext cx="8229600" cy="703800"/>
          </a:xfrm>
          <a:prstGeom prst="rect">
            <a:avLst/>
          </a:prstGeom>
          <a:solidFill>
            <a:srgbClr val="808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âu 5 ( 9 chữ cái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đây là nghề nổi tiếng của phường Nghi Tàm ở Thăng Long: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412040" y="41148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91520" y="1614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91520" y="22240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Ê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391520" y="2909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3519360"/>
            <a:ext cx="685800" cy="747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47720"/>
              <a:gd name="textAreaBottom" fmla="*/ 703440 h 747720"/>
            </a:gdLst>
            <a:ahLst/>
            <a:rect l="textAreaLeft" t="textAreaTop" r="textAreaRight" b="textAreaBottom"/>
            <a:pathLst>
              <a:path w="21600" h="23549">
                <a:moveTo>
                  <a:pt x="0" y="0"/>
                </a:moveTo>
                <a:lnTo>
                  <a:pt x="21600" y="0"/>
                </a:lnTo>
                <a:lnTo>
                  <a:pt x="21600" y="23549"/>
                </a:lnTo>
                <a:lnTo>
                  <a:pt x="0" y="23549"/>
                </a:lnTo>
                <a:close/>
              </a:path>
              <a:path fill="lightenLess" w="21600" h="23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9">
                <a:moveTo>
                  <a:pt x="21600" y="0"/>
                </a:moveTo>
                <a:lnTo>
                  <a:pt x="21600" y="23549"/>
                </a:lnTo>
                <a:lnTo>
                  <a:pt x="20200" y="22149"/>
                </a:lnTo>
                <a:lnTo>
                  <a:pt x="20200" y="1400"/>
                </a:lnTo>
                <a:close/>
              </a:path>
              <a:path fill="darkenLess" w="21600" h="23549">
                <a:moveTo>
                  <a:pt x="21600" y="23549"/>
                </a:moveTo>
                <a:lnTo>
                  <a:pt x="0" y="23549"/>
                </a:lnTo>
                <a:lnTo>
                  <a:pt x="1400" y="22149"/>
                </a:lnTo>
                <a:lnTo>
                  <a:pt x="20200" y="22149"/>
                </a:lnTo>
                <a:close/>
              </a:path>
              <a:path fill="lighten" w="21600" h="23549">
                <a:moveTo>
                  <a:pt x="0" y="23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Ợ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391520" y="42670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13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28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9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2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23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2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2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3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3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3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4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4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7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7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8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8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8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7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42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42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42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42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pplaus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43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pplaus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43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3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5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7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7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7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9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9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9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8" dur="1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4572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e3e3ff"/>
                </a:solidFill>
                <a:latin typeface="Times New Roman"/>
              </a:rPr>
              <a:t>DẶN DÒ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19320" y="13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990720" y="304920"/>
            <a:ext cx="7924320" cy="6553080"/>
            <a:chOff x="990720" y="304920"/>
            <a:chExt cx="7924320" cy="6553080"/>
          </a:xfrm>
        </p:grpSpPr>
        <p:sp>
          <p:nvSpPr>
            <p:cNvPr id="606" name=""/>
            <p:cNvSpPr/>
            <p:nvPr/>
          </p:nvSpPr>
          <p:spPr>
            <a:xfrm>
              <a:off x="990720" y="2286000"/>
              <a:ext cx="7924320" cy="4572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00cc00"/>
                </a:gs>
                <a:gs pos="50000">
                  <a:srgbClr val="ffffcc"/>
                </a:gs>
                <a:gs pos="100000">
                  <a:srgbClr val="00cc00"/>
                </a:gs>
              </a:gsLst>
              <a:lin ang="5400000"/>
            </a:gra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9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cc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cc99"/>
                </a:solidFill>
                <a:latin typeface="Arial"/>
              </a:endParaRPr>
            </a:p>
          </p:txBody>
        </p:sp>
        <p:pic>
          <p:nvPicPr>
            <p:cNvPr id="607" name="" descr=""/>
            <p:cNvPicPr/>
            <p:nvPr/>
          </p:nvPicPr>
          <p:blipFill>
            <a:blip r:embed="rId2"/>
            <a:stretch/>
          </p:blipFill>
          <p:spPr>
            <a:xfrm>
              <a:off x="3872160" y="304920"/>
              <a:ext cx="30416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flipV="1">
              <a:off x="1390680" y="1524240"/>
              <a:ext cx="3361680" cy="129528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4752720" y="1523880"/>
              <a:ext cx="3841920" cy="106668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752480" y="304812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Soạn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- Câu 1 trang 101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Times New Roman"/>
              </a:rPr>
              <a:t>-Sưu tầm tranh ảnh văn hoá thời Lê Sơ.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838080" y="1371600"/>
            <a:ext cx="7391520" cy="1752480"/>
          </a:xfrm>
          <a:prstGeom prst="roundRect">
            <a:avLst>
              <a:gd name="adj" fmla="val 16667"/>
            </a:avLst>
          </a:prstGeom>
          <a:solidFill>
            <a:srgbClr val="80e81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ẢM ƠN QUÝ THẦY CÔ ĐÃ VỀ DỰ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IẾT HỌC HÔM NA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32464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KÍNH CHÚC QUÝ THẦY CÔ  VÀ CÁC EM SỨC KHỎE, HẠNH PHÚC!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362320" y="5257800"/>
            <a:ext cx="4341960" cy="1522800"/>
            <a:chOff x="2362320" y="5257800"/>
            <a:chExt cx="4341960" cy="152280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3488040" y="5664600"/>
              <a:ext cx="289404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2"/>
            <a:stretch/>
          </p:blipFill>
          <p:spPr>
            <a:xfrm>
              <a:off x="2362320" y="5257800"/>
              <a:ext cx="2895840" cy="11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3"/>
            <a:stretch/>
          </p:blipFill>
          <p:spPr>
            <a:xfrm>
              <a:off x="3810240" y="5333760"/>
              <a:ext cx="2894040" cy="11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 rot="10003200">
            <a:off x="2666160" y="4667400"/>
            <a:ext cx="1219320" cy="14284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09480" y="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RƯỜNG THCS PHÙ ĐỔNG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6"/>
          <a:stretch/>
        </p:blipFill>
        <p:spPr>
          <a:xfrm>
            <a:off x="57150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000"/>
                            </p:stCondLst>
                            <p:childTnLst>
                              <p:par>
                                <p:cTn id="57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7619E-006 C -0.04479 -0.00116 -0.12483 0.00577 -0.1757 -0.0148 C -0.19618 -0.02312 -0.21233 -0.03792 -0.23125 -0.0504 C -0.24427 -0.05895 -0.25833 -0.06519 -0.27118 -0.07398 C -0.27969 -0.07976 -0.28663 -0.08785 -0.29566 -0.09178 C -0.31406 -0.10957 -0.3059 -0.10148 -0.32014 -0.11535 C -0.32309 -0.11836 -0.32413 -0.12368 -0.32674 -0.12714 C -0.33889 -0.14356 -0.32778 -0.12113 -0.34011 -0.14194 C -0.34514 -0.15049 -0.34896 -0.15974 -0.35347 -0.16875 C -0.36024 -0.18239 -0.36146 -0.19302 -0.36458 -0.21013 C -0.36528 -0.21406 -0.36667 -0.22215 -0.36667 -0.22192 C -0.36597 -0.27624 -0.36597 -0.33033 -0.36458 -0.38466 C -0.36424 -0.40176 -0.35747 -0.42603 -0.35122 -0.44083 C -0.34861 -0.44707 -0.34531 -0.45262 -0.34236 -0.45863 C -0.3408 -0.46163 -0.33785 -0.46741 -0.33785 -0.46718 C -0.33195 -0.46649 -0.32587 -0.46672 -0.32014 -0.46464 C -0.31129 -0.4614 -0.30955 -0.44175 -0.30452 -0.43204 C -0.29202 -0.38281 -0.30122 -0.32848 -0.30677 -0.27809 C -0.30608 -0.2455 -0.3066 -0.2129 -0.30452 -0.18054 C -0.30347 -0.16552 -0.26372 -0.15766 -0.25781 -0.15673 C -0.22014 -0.15858 -0.17986 -0.15927 -0.14236 -0.16875 C -0.10399 -0.17846 -0.06563 -0.18956 -0.02674 -0.19534 C 0.0934 -0.23602 0.2526 -0.21776 0.35989 -0.21891 C 0.38246 -0.22238 0.40451 -0.22955 0.42656 -0.23694 C 0.42951 -0.23764 0.43246 -0.23856 0.43542 -0.23972 C 0.43993 -0.2418 0.44878 -0.2455 0.44878 -0.24527 C 0.45694 -0.25289 0.46476 -0.25428 0.47326 -0.26029 C 0.47934 -0.26468 0.49062 -0.27509 0.49774 -0.28133 C 0.50295 -0.28572 0.50798 -0.29104 0.51319 -0.29589 C 0.51614 -0.2989 0.51996 -0.30098 0.52222 -0.30467 C 0.53003 -0.31901 0.53733 -0.32548 0.54878 -0.33426 C 0.57344 -0.37795 0.53489 -0.31276 0.56667 -0.35507 C 0.57673 -0.36847 0.58455 -0.38466 0.59323 -0.39945 C 0.59548 -0.40338 0.59861 -0.40662 0.6 -0.41124 C 0.60555 -0.42973 0.61111 -0.44822 0.61545 -0.46741 C 0.61719 -0.47527 0.61996 -0.49122 0.61996 -0.49099 C 0.62326 -0.53468 0.6342 -0.60264 0.6066 -0.63616 C 0.59323 -0.65234 0.5816 -0.65812 0.56441 -0.66274 C 0.55555 -0.66505 0.53767 -0.66875 0.53767 -0.66852 C 0.37951 -0.66528 0.44548 -0.67153 0.37552 -0.65696 C 0.35851 -0.64933 0.36684 -0.65211 0.35104 -0.64795 C 0.33524 -0.63408 0.35555 -0.65049 0.33333 -0.63916 C 0.33073 -0.63778 0.32899 -0.63477 0.32656 -0.63315 C 0.32292 -0.63084 0.31892 -0.63015 0.31545 -0.62737 C 0.28212 -0.60148 0.3151 -0.62067 0.28889 -0.60657 C 0.27951 -0.59432 0.27014 -0.58276 0.25764 -0.57721 C 0.24653 -0.56589 0.23559 -0.55756 0.22222 -0.5534 C 0.20364 -0.55433 0.18524 -0.55456 0.16667 -0.55618 C 0.14045 -0.55849 0.11267 -0.57467 0.08663 -0.57999 C 0.06094 -0.5853 0.03437 -0.58785 0.00885 -0.59478 C -0.0099 -0.59987 -0.02778 -0.61235 -0.0467 -0.61535 C -0.06215 -0.6179 -0.0934 -0.62136 -0.0934 -0.62113 C -0.12604 -0.62044 -0.1809 -0.62853 -0.22014 -0.61258 C -0.22986 -0.6038 -0.24028 -0.60264 -0.25122 -0.59779 C -0.27726 -0.58623 -0.29809 -0.5645 -0.30677 -0.52959 C -0.30139 -0.50185 -0.29549 -0.51041 -0.27778 -0.5 C -0.26181 -0.49053 -0.24358 -0.48683 -0.22674 -0.47943 C -0.20417 -0.46972 -0.1842 -0.45655 -0.16007 -0.45562 C -0.12083 -0.454 -0.0816 -0.45354 -0.04236 -0.45262 C 0.00816 -0.43181 0.06302 -0.42973 0.11545 -0.42603 C 0.12066 -0.42511 0.12587 -0.42349 0.13108 -0.42303 C 0.14583 -0.42164 0.16076 -0.42257 0.17552 -0.42025 C 0.18628 -0.41864 0.20173 -0.41078 0.21319 -0.40823 C 0.22396 -0.39899 0.23628 -0.39182 0.24878 -0.38766 C 0.2559 -0.38119 0.26319 -0.37795 0.27101 -0.37287 C 0.27257 -0.36986 0.275 -0.36732 0.27552 -0.36385 C 0.27639 -0.35761 0.26944 -0.34859 0.26667 -0.34628 C 0.25694 -0.33819 0.24219 -0.33496 0.23108 -0.33149 C 0.18437 -0.33241 0.13767 -0.33264 0.09097 -0.33426 C 0.08281 -0.33449 0.07465 -0.33588 0.06667 -0.33727 C 0.05764 -0.33889 0.03993 -0.34328 0.03993 -0.34305 C 0.01614 -0.35553 -0.00816 -0.36362 -0.03333 -0.36986 C -0.04445 -0.37264 -0.05538 -0.37772 -0.06667 -0.37865 C -0.08524 -0.38026 -0.10365 -0.38073 -0.12222 -0.38165 C -0.17431 -0.37957 -0.18837 -0.37911 -0.22899 -0.36986 C -0.24011 -0.36246 -0.25261 -0.35599 -0.26458 -0.35206 C -0.27292 -0.34374 -0.28004 -0.34097 -0.28889 -0.33426 C -0.3007 -0.32548 -0.30625 -0.31392 -0.32014 -0.30768 C -0.32969 -0.29843 -0.33611 -0.28641 -0.34445 -0.27509 C -0.34722 -0.26052 -0.35504 -0.24827 -0.35781 -0.23371 C -0.35938 -0.22585 -0.36233 -0.21013 -0.36233 -0.2099 C -0.36146 -0.14356 -0.38976 -0.01896 -0.32222 0.00878 C -0.30226 0.00785 -0.28229 0.00762 -0.26233 0.00601 C -0.25295 0.00508 -0.24254 -0.0037 -0.23333 -0.00601 C -0.22483 -0.0081 -0.21493 -0.01064 -0.20677 -0.0148 C -0.20365 -0.01642 -0.20122 -0.01965 -0.19792 -0.02081 C -0.18837 -0.02381 -0.17847 -0.02405 -0.16892 -0.02659 C -0.12899 -0.02566 -0.08889 -0.02798 -0.04896 -0.02358 C -0.04358 -0.02289 -0.03559 -0.01179 -0.03559 -0.01156 C -0.02952 0.00046 -0.02899 0.00577 -0.02899 0.0208 E">
                                      <p:cBhvr>
                                        <p:cTn id="576" dur="9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2.83403E-006 C 0.07413 -0.00323 0.04479 0.00278 0.08888 -0.00878 C 0.10052 -0.01179 0.11145 -0.02057 0.12222 -0.02658 C 0.13645 -0.03467 0.15312 -0.04276 0.16666 -0.05316 C 0.17725 -0.06149 0.18628 -0.0779 0.19774 -0.08275 C 0.21041 -0.10818 0.19374 -0.07882 0.20885 -0.09477 C 0.21093 -0.09708 0.21145 -0.10101 0.21336 -0.10356 C 0.21527 -0.1061 0.2177 -0.10749 0.21996 -0.10957 C 0.22152 -0.11257 0.22256 -0.11581 0.22447 -0.11835 C 0.22708 -0.12182 0.2309 -0.12344 0.23333 -0.12713 C 0.23489 -0.12991 0.2342 -0.13361 0.23559 -0.13615 C 0.23732 -0.13962 0.24027 -0.1417 0.24218 -0.14493 C 0.2493 -0.15695 0.25503 -0.1699 0.25989 -0.18354 C 0.26406 -0.16689 0.26753 -0.15349 0.27552 -0.13939 C 0.28107 -0.11719 0.27795 -0.1269 0.28437 -0.10957 C 0.28923 -0.0772 0.29513 -0.03629 0.27777 -0.00878 C 0.24982 0.03583 0.27204 -0.00161 0.25555 0.01757 C 0.2401 0.03606 0.25069 0.02982 0.23767 0.0356 C 0.2309 0.04231 0.22152 0.05271 0.21336 0.05618 C 0.20902 0.05802 0.20434 0.05779 0.19999 0.05918 C 0.19774 0.05987 0.19548 0.06103 0.19322 0.06219 C 0.19027 0.0638 0.18749 0.06704 0.18437 0.06796 C 0.17777 0.06981 0.171 0.06981 0.1644 0.07097 C 0.11163 0.09501 0.05486 0.08415 -8.05556E-006 0.08576 C -0.01771 0.08646 -0.03577 0.08623 -0.0533 0.08877 C -0.05608 0.089 -0.05747 0.09339 -0.06007 0.09478 C -0.07501 0.10241 -0.09566 0.11235 -0.11112 0.11512 C -0.1191 0.11882 -0.1356 0.12437 -0.1356 0.12437 C -0.16424 0.1209 -0.16007 0.12691 -0.17119 0.09755 C -0.17431 0.05756 -0.17709 -0.01572 -0.15782 -0.05316 C -0.14948 -0.08622 -0.13681 -0.11327 -0.12223 -0.14193 C -0.11841 -0.14979 -0.11632 -0.1595 -0.11112 -0.16574 C -0.1007 -0.17845 -0.08959 -0.18862 -0.0757 -0.19232 C -0.06685 -0.19463 -0.05747 -0.19486 -0.04896 -0.19833 C -0.03872 -0.20249 -0.03073 -0.20434 -0.01997 -0.20712 C 0.02013 -0.21706 0.05711 -0.24156 0.09774 -0.24849 C 0.1467 -0.27092 0.09583 -0.24849 0.23767 -0.2545 C 0.24809 -0.25497 0.26076 -0.26098 0.271 -0.26329 C 0.27326 -0.26537 0.27517 -0.26814 0.27777 -0.2693 C 0.2835 -0.27207 0.29548 -0.27508 0.29548 -0.27508 C 0.29236 -0.25474 0.29131 -0.23347 0.28211 -0.2159 C 0.26788 -0.18839 0.25329 -0.17337 0.23333 -0.15395 C 0.22951 -0.15025 0.22552 -0.14655 0.22222 -0.14193 C 0.21961 -0.13846 0.21857 -0.13291 0.21545 -0.13014 C 0.21284 -0.1276 0.18194 -0.10494 0.17552 -0.10055 C 0.1651 -0.10263 0.15451 -0.10263 0.14444 -0.10656 C 0.1394 -0.10864 0.13576 -0.11511 0.13107 -0.11835 C 0.11128 -0.13176 0.0993 -0.15002 0.08663 -0.17452 C 0.08246 -0.1907 0.07986 -0.20226 0.07777 -0.21891 C 0.07847 -0.24549 0.07881 -0.2723 0.08003 -0.29889 C 0.0809 -0.31484 0.09444 -0.3405 0.09999 -0.35205 C 0.10677 -0.36639 0.11475 -0.37956 0.12222 -0.39343 C 0.12517 -0.39875 0.12569 -0.40615 0.12881 -0.41123 C 0.13541 -0.4221 0.14461 -0.42972 0.15104 -0.44082 C 0.15329 -0.44475 0.15503 -0.44937 0.15781 -0.45261 C 0.16249 -0.45816 0.16874 -0.46139 0.17326 -0.4674 C 0.18072 -0.47734 0.18749 -0.48659 0.19774 -0.49121 C 0.2059 -0.4993 0.21319 -0.50578 0.22222 -0.51179 C 0.22934 -0.52149 0.23802 -0.52496 0.24444 -0.5356 C 0.24843 -0.54207 0.25555 -0.55617 0.25555 -0.55617 C 0.25902 -0.57882 0.26006 -0.57836 0.25555 -0.60957 C 0.25399 -0.61997 0.24166 -0.62667 0.23559 -0.63014 C 0.22725 -0.63476 0.22795 -0.63245 0.2177 -0.63615 C 0.19565 -0.64424 0.18454 -0.64794 0.15989 -0.65094 C 0.13263 -0.65048 0.02829 -0.65418 -0.029 -0.64493 C -0.04202 -0.64285 -0.054 -0.63615 -0.06685 -0.63315 C -0.07535 -0.62737 -0.08438 -0.62251 -0.09341 -0.61835 C -0.10209 -0.6098 -0.10816 -0.60101 -0.11789 -0.59477 C -0.12344 -0.58321 -0.12223 -0.57905 -0.13108 -0.57096 C -0.13403 -0.56125 -0.13872 -0.53421 -0.14445 -0.52658 C -0.14619 -0.52427 -0.14896 -0.52473 -0.15122 -0.52381 C -0.17188 -0.52473 -0.19271 -0.52473 -0.21337 -0.52658 C -0.22518 -0.5275 -0.23195 -0.54276 -0.24219 -0.54738 C -0.24584 -0.55131 -0.24931 -0.55594 -0.2533 -0.55917 C -0.25539 -0.56079 -0.25816 -0.56033 -0.26007 -0.56218 C -0.27744 -0.58021 -0.26789 -0.57928 -0.28664 -0.59177 C -0.28959 -0.59385 -0.29254 -0.59616 -0.29566 -0.59778 C -0.30001 -0.60009 -0.30886 -0.60356 -0.30886 -0.60356 C -0.35955 -0.60194 -0.40712 -0.60517 -0.45556 -0.58876 C -0.46476 -0.57674 -0.46771 -0.56542 -0.47344 -0.55039 C -0.47778 -0.52612 -0.4823 -0.49468 -0.46893 -0.47341 C -0.46146 -0.46162 -0.45087 -0.45353 -0.44445 -0.44082 C -0.43577 -0.42325 -0.42431 -0.39875 -0.40886 -0.39066 C -0.37865 -0.37471 -0.34514 -0.37401 -0.31337 -0.37286 C -0.27414 -0.37147 -0.2349 -0.37078 -0.19566 -0.36985 C -0.18369 -0.36199 -0.1816 -0.36246 -0.17553 -0.34627 C -0.17223 -0.32709 -0.17049 -0.30027 -0.18664 -0.29288 C -0.20469 -0.2693 -0.22726 -0.25312 -0.25122 -0.24272 C -0.26198 -0.23185 -0.27188 -0.22769 -0.28455 -0.22191 C -0.29289 -0.21428 -0.30122 -0.21035 -0.31112 -0.20712 C -0.32205 -0.19741 -0.33612 -0.19579 -0.34896 -0.19232 C -0.35851 -0.18354 -0.36997 -0.17891 -0.38004 -0.17152 C -0.4073 -0.15118 -0.38056 -0.16643 -0.40452 -0.15395 C -0.40678 -0.15094 -0.40834 -0.14701 -0.41112 -0.14493 C -0.41372 -0.14285 -0.41754 -0.14424 -0.41997 -0.14193 C -0.42518 -0.13707 -0.43334 -0.12436 -0.43334 -0.12436 C -0.44098 -0.09385 -0.43907 -0.10934 -0.4356 -0.06218 C -0.43421 -0.04207 -0.43629 -0.04715 -0.42674 -0.03837 C -0.35521 -0.04022 -0.28438 -0.03976 -0.21337 -0.05039 C -0.19862 -0.05501 -0.18403 -0.05848 -0.16893 -0.06218 C -0.16146 -0.06403 -0.14671 -0.06796 -0.14671 -0.06796 C -0.14219 -0.06703 -0.13542 -0.0705 -0.13334 -0.06518 C -0.13039 -0.05709 -0.13316 -0.04669 -0.1356 -0.03837 C -0.13751 -0.03143 -0.15504 -0.00346 -0.16007 -2.83403E-006 C -0.17032 0.00694 -0.17813 0.02173 -0.18889 0.02659 C -0.19705 0.03029 -0.20348 0.03699 -0.21112 0.04138 C -0.21615 0.04416 -0.22171 0.04462 -0.22674 0.04739 C -0.2382 0.05386 -0.23386 0.05225 -0.24445 0.06219 C -0.25938 0.07606 -0.27396 0.0853 -0.28004 0.10957 C -0.26945 0.13038 -0.25869 0.12044 -0.23785 0.11836 C -0.23299 0.11397 -0.22935 0.10772 -0.22448 0.10356 C -0.21667 0.09686 -0.20816 0.09177 -0.20001 0.08576 C -0.19428 0.0816 -0.18698 0.08022 -0.1823 0.07397 C -0.17066 0.05895 -0.15191 0.03953 -0.13785 0.02659 C -0.13126 0.00948 -0.11876 -0.00393 -0.10678 -0.01479 C -0.10209 -0.02704 -0.09705 -0.03837 -0.08889 -0.04738 C -0.07917 -0.05802 -0.08473 -0.04762 -0.0757 -0.06218 C -0.06893 -0.07304 -0.06164 -0.08391 -0.05139 -0.08876 C -0.03976 -0.10402 -0.03334 -0.11142 -0.01789 -0.11835 C -0.01216 -0.12089 -8.05556E-006 -0.12436 -8.05556E-006 -0.12436 C 0.01336 -0.12344 0.0269 -0.12505 0.03993 -0.12136 C 0.04218 -0.12066 0.04218 -0.11558 0.04218 -0.11234 C 0.04218 -0.09662 0.04114 -0.0809 0.03993 -0.06518 C 0.03819 -0.04299 0.01041 -0.02635 -0.00226 -0.01479 C -0.00539 -0.01202 -0.0007 -0.00485 -8.05556E-006 -2.83403E-006 Z">
                                      <p:cBhvr>
                                        <p:cTn id="578" dur="9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760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4920" y="380880"/>
            <a:ext cx="86104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Tiết 41- Bài 20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NƯỚC ĐẠI VIỆT THỜI LÊ SƠ  (1428-1527)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( Tiếp theo)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.TÌNH HÌNH KINH TẾ - XÃ HỘI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Kinh tế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. Nông nghiệp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295280" y="3581280"/>
            <a:ext cx="8229240" cy="3123720"/>
            <a:chOff x="1295280" y="3581280"/>
            <a:chExt cx="8229240" cy="3123720"/>
          </a:xfrm>
        </p:grpSpPr>
        <p:sp>
          <p:nvSpPr>
            <p:cNvPr id="367" name=""/>
            <p:cNvSpPr/>
            <p:nvPr/>
          </p:nvSpPr>
          <p:spPr>
            <a:xfrm>
              <a:off x="2470680" y="3581280"/>
              <a:ext cx="7053840" cy="2307240"/>
            </a:xfrm>
            <a:prstGeom prst="cloudCallout">
              <a:avLst>
                <a:gd name="adj1" fmla="val -51175"/>
                <a:gd name="adj2" fmla="val 57814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? Để phục hồi và phát triển kinh tế nông nghiệp, nhà nước Lê sơ đã thực hiện những biện pháp gì?</a:t>
              </a:r>
              <a:endParaRPr b="0" lang="en-US" sz="2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295280" y="6117120"/>
              <a:ext cx="1742040" cy="587880"/>
              <a:chOff x="1295280" y="6117120"/>
              <a:chExt cx="1742040" cy="587880"/>
            </a:xfrm>
          </p:grpSpPr>
          <p:sp>
            <p:nvSpPr>
              <p:cNvPr id="369" name=""/>
              <p:cNvSpPr/>
              <p:nvPr/>
            </p:nvSpPr>
            <p:spPr>
              <a:xfrm>
                <a:off x="1295280" y="6128640"/>
                <a:ext cx="451800" cy="2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1787600">
                <a:off x="2560680" y="6175800"/>
                <a:ext cx="45180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75640" y="6224760"/>
                <a:ext cx="1265760" cy="48024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463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</p:grp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838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914400"/>
            <a:ext cx="91440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Kinh tế: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Nông nghiệp: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* Biện pháp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o 25 vạn lính về quê làm ruộng, còn 10 vạn chia làm 5 phiên thay nhau về quê sản xuất.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Kêu gọi dân phiêu tán về quê làm ruộng.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Tiết 41Bài 20: 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ƯỚC ĐẠI VIỆT THỜI LÊ SƠ (1428-1527) (tiếp)</a:t>
            </a: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I-TÌNH HÌNH KINH TẾ- XÃ HỘI</a:t>
            </a: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24480" y="28954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51240" y="63658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811" y="17685"/>
                </a:moveTo>
                <a:lnTo>
                  <a:pt x="11811" y="1768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Tiết 41Bài 20: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ƯỚC ĐẠI VIỆT THỜI LÊ SƠ (1428-1527) (tiếp)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I-TÌNH HÌNH KINH TẾ - XÃ HỘI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1323720" cy="10573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04920" y="1600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1. Kinh tế: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a. Nông nghiệp: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2819520"/>
            <a:ext cx="5486400" cy="2438280"/>
          </a:xfrm>
          <a:prstGeom prst="wedgeEllipseCallout">
            <a:avLst>
              <a:gd name="adj1" fmla="val -45486"/>
              <a:gd name="adj2" fmla="val 52472"/>
            </a:avLst>
          </a:prstGeom>
          <a:solidFill>
            <a:srgbClr val="ff99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? Để chăm lo cho kinh tế nông nghiệp, nhà Lê đã làm gì?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ết 41Bài 20: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ƯỚC ĐẠI VIỆT THỜI LÊ SƠ (1428-1527) (tiếp)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I-TÌNH HÌNH KINH TẾ-  XÃ HỘI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 Kinh tế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. Nông nghiệ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Đặt các chức quan chuyên lo về nông nghiệp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Khuyến nông s</a:t>
            </a:r>
            <a:r>
              <a:rPr b="1" i="1" lang="en-US" sz="3200" spc="-1" strike="noStrike">
                <a:solidFill>
                  <a:srgbClr val="ffffff"/>
                </a:solidFill>
                <a:latin typeface=".VnTime"/>
              </a:rPr>
              <a:t>ứ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, Hà đê sứ, Đồn điền s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ực hiện phép quân điề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ú trọng việc khai hoa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Cấm gi</a:t>
            </a:r>
            <a:r>
              <a:rPr b="1" lang="en-US" sz="3200" spc="-1" strike="noStrike">
                <a:solidFill>
                  <a:srgbClr val="ffffff"/>
                </a:solidFill>
                <a:latin typeface="VnTimes"/>
              </a:rPr>
              <a:t>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 trâu, bò; điều động dân phu mùa cấy gặ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ết 41Bài 20: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ƯỚC ĐẠI VIỆT THỜI LÊ SƠ (1428-1527) (tiếp)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I-TÌNH HÌNH KINH TẾ - XÃ HỘI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2666880"/>
            <a:ext cx="7467480" cy="3276720"/>
          </a:xfrm>
          <a:prstGeom prst="cloudCallout">
            <a:avLst>
              <a:gd name="adj1" fmla="val -54912"/>
              <a:gd name="adj2" fmla="val 3687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?Thảo luận nhóm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Em có nhận xét gì về những biện pháp của Nhà nước Lê sơ đối với nền kinh tế nông nghiệp?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132408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Tiết 41- Bài 20: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ƯỚC ĐẠI VIỆT THỜI LÊ SƠ (1428-1527) (tiếp)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I-TÌNH HÌNH KINH TẾ - XÃ HỘI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Đáp á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Lực lượng sản xuấ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đảm b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ân có ruộ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 Nông nghiệp đã nhanh chóng phục hồi và phát triể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Đời sống nhân dân ổn định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449568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Đời vua Thái Tổ, Thái Tông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óc lúa đầy đồng trâu chẳng buồn ăn.”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4:28:47Z</dcterms:created>
  <dc:creator>User</dc:creator>
  <dc:description/>
  <dc:language>en-US</dc:language>
  <cp:lastModifiedBy>User</cp:lastModifiedBy>
  <dcterms:modified xsi:type="dcterms:W3CDTF">2010-01-18T08:39:48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